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9281-0757-46CB-A1BB-8FC0848B05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egnaposto numero diapositiva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DE6B-8955-464F-8555-538C15E765B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AA8-F569-49B6-B9A9-3807E2AB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DED-6071-46A3-873C-1CD10113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80B-930A-43C4-9BDC-288F26E6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9A3-937F-4043-9732-B17EC6B1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A39-55CD-4DFF-B5E5-7E73AE69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8E7-ABD1-4C2F-B861-98B54DE8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366-A350-4221-9E7F-4194B8B3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A81-9B54-4A1F-A92B-0DBCE270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495-7550-473E-88A5-FEBF437B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EC5-728F-475D-8D47-94A2AB8E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CC2-0E3E-408D-89CE-186261F5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394-A07A-48F6-BD88-E57AE48F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tretch/>
        </p:blipFill>
        <p:spPr>
          <a:xfrm>
            <a:off x="7004160" y="6319800"/>
            <a:ext cx="1854000" cy="41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magine 6" descr=""/>
          <p:cNvPicPr/>
          <p:nvPr/>
        </p:nvPicPr>
        <p:blipFill>
          <a:blip r:embed="rId2"/>
          <a:stretch/>
        </p:blipFill>
        <p:spPr>
          <a:xfrm>
            <a:off x="7004160" y="6319800"/>
            <a:ext cx="1854000" cy="415800"/>
          </a:xfrm>
          <a:prstGeom prst="rect">
            <a:avLst/>
          </a:prstGeom>
          <a:ln w="0">
            <a:noFill/>
          </a:ln>
        </p:spPr>
      </p:pic>
      <p:pic>
        <p:nvPicPr>
          <p:cNvPr id="40" name="Immagine 4" descr=""/>
          <p:cNvPicPr/>
          <p:nvPr/>
        </p:nvPicPr>
        <p:blipFill>
          <a:blip r:embed="rId3"/>
          <a:stretch/>
        </p:blipFill>
        <p:spPr>
          <a:xfrm>
            <a:off x="1898640" y="768240"/>
            <a:ext cx="5346720" cy="1203480"/>
          </a:xfrm>
          <a:prstGeom prst="rect">
            <a:avLst/>
          </a:prstGeom>
          <a:ln w="0">
            <a:noFill/>
          </a:ln>
        </p:spPr>
      </p:pic>
      <p:sp>
        <p:nvSpPr>
          <p:cNvPr id="41" name="Rettangolo 5"/>
          <p:cNvSpPr/>
          <p:nvPr/>
        </p:nvSpPr>
        <p:spPr>
          <a:xfrm>
            <a:off x="0" y="6211800"/>
            <a:ext cx="9144000" cy="646200"/>
          </a:xfrm>
          <a:prstGeom prst="rect">
            <a:avLst/>
          </a:prstGeom>
          <a:solidFill>
            <a:srgbClr val="007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C0C4-E2FE-4766-91C3-2FAB26434CD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ttangolo 4"/>
          <p:cNvSpPr/>
          <p:nvPr/>
        </p:nvSpPr>
        <p:spPr>
          <a:xfrm>
            <a:off x="0" y="6440400"/>
            <a:ext cx="9144000" cy="417600"/>
          </a:xfrm>
          <a:prstGeom prst="rect">
            <a:avLst/>
          </a:prstGeom>
          <a:solidFill>
            <a:srgbClr val="007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2367000" y="519120"/>
            <a:ext cx="4410000" cy="893880"/>
          </a:xfrm>
          <a:prstGeom prst="rect">
            <a:avLst/>
          </a:prstGeom>
          <a:ln w="0">
            <a:noFill/>
          </a:ln>
        </p:spPr>
      </p:pic>
      <p:sp>
        <p:nvSpPr>
          <p:cNvPr id="130" name="Titolo 1"/>
          <p:cNvSpPr/>
          <p:nvPr/>
        </p:nvSpPr>
        <p:spPr>
          <a:xfrm>
            <a:off x="0" y="2397240"/>
            <a:ext cx="9055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ITALIAN CITRUS FR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PREVIOUS AND FUTURE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ottotitolo 2"/>
          <p:cNvSpPr/>
          <p:nvPr/>
        </p:nvSpPr>
        <p:spPr>
          <a:xfrm>
            <a:off x="0" y="388764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ERARDO DI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rket Observatory - subgroup cit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Lim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ggetto 3"/>
          <p:cNvGraphicFramePr/>
          <p:nvPr/>
        </p:nvGraphicFramePr>
        <p:xfrm>
          <a:off x="1679400" y="2128680"/>
          <a:ext cx="5635800" cy="11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ggetto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9400" y="2128680"/>
                    <a:ext cx="5635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Ovale 4"/>
          <p:cNvSpPr/>
          <p:nvPr/>
        </p:nvSpPr>
        <p:spPr>
          <a:xfrm>
            <a:off x="4319640" y="4581360"/>
            <a:ext cx="4619520" cy="19227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blemi di malse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iccità – frutto pic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aturazione in rit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lima s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tangolo 6"/>
          <p:cNvSpPr/>
          <p:nvPr/>
        </p:nvSpPr>
        <p:spPr>
          <a:xfrm>
            <a:off x="368280" y="3416400"/>
            <a:ext cx="5397480" cy="1073160"/>
          </a:xfrm>
          <a:prstGeom prst="rect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La produzione è concentrata nelle seguenti regio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89% Si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5% Camp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5%  Calab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83988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2° LOCKDOWN - ATTUALE SITUAZIONE ITALIA</a:t>
            </a:r>
            <a:br>
              <a:rPr sz="2800"/>
            </a:b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18 novembre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magine 1" descr=""/>
          <p:cNvPicPr/>
          <p:nvPr/>
        </p:nvPicPr>
        <p:blipFill>
          <a:blip r:embed="rId2"/>
          <a:stretch/>
        </p:blipFill>
        <p:spPr>
          <a:xfrm>
            <a:off x="0" y="1644480"/>
            <a:ext cx="914400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Agrumi – indicazioni campagna in c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ttangolo 2"/>
          <p:cNvSpPr/>
          <p:nvPr/>
        </p:nvSpPr>
        <p:spPr>
          <a:xfrm>
            <a:off x="942840" y="3835440"/>
            <a:ext cx="7258320" cy="2816280"/>
          </a:xfrm>
          <a:prstGeom prst="rect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alibri"/>
              </a:rPr>
              <a:t>problema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cremento costi di produzione: maggiore irrigazione causa siccità, difficoltà reperimento manodopera, maggiori costi di raccolta, minore produttività (lavoro su turni, distanziamento, etc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blemi di pezz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allentamento dei consumi (alte temperature ed incertezza Cov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.il segmento è in difficol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e 4"/>
          <p:cNvSpPr/>
          <p:nvPr/>
        </p:nvSpPr>
        <p:spPr>
          <a:xfrm>
            <a:off x="503280" y="1981080"/>
            <a:ext cx="3751200" cy="109224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+30% di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e 9"/>
          <p:cNvSpPr/>
          <p:nvPr/>
        </p:nvSpPr>
        <p:spPr>
          <a:xfrm>
            <a:off x="5057640" y="1981080"/>
            <a:ext cx="3749760" cy="109224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lemen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+20% di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7c3b"/>
                </a:solidFill>
                <a:latin typeface="Arial"/>
              </a:rPr>
              <a:t>Cosa si può fare per i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mmagine 8" descr=""/>
          <p:cNvPicPr/>
          <p:nvPr/>
        </p:nvPicPr>
        <p:blipFill>
          <a:blip r:embed="rId2"/>
          <a:stretch/>
        </p:blipFill>
        <p:spPr>
          <a:xfrm>
            <a:off x="576360" y="1981080"/>
            <a:ext cx="1006200" cy="1008360"/>
          </a:xfrm>
          <a:prstGeom prst="rect">
            <a:avLst/>
          </a:prstGeom>
          <a:ln w="0">
            <a:noFill/>
          </a:ln>
        </p:spPr>
      </p:pic>
      <p:sp>
        <p:nvSpPr>
          <p:cNvPr id="193" name="Ovale 1"/>
          <p:cNvSpPr/>
          <p:nvPr/>
        </p:nvSpPr>
        <p:spPr>
          <a:xfrm>
            <a:off x="4124160" y="4497480"/>
            <a:ext cx="3732480" cy="152064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Garantire regole di mercato uguali per tu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e 2"/>
          <p:cNvSpPr/>
          <p:nvPr/>
        </p:nvSpPr>
        <p:spPr>
          <a:xfrm>
            <a:off x="1446120" y="2205000"/>
            <a:ext cx="5141880" cy="212400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afforzare i controlli per evitare l’ingresso nel territorio europeo di problematiche fitosanitarie come CBS - Citrus Black Spot e G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96" name="Titolo 1"/>
          <p:cNvSpPr/>
          <p:nvPr/>
        </p:nvSpPr>
        <p:spPr>
          <a:xfrm>
            <a:off x="395280" y="2133720"/>
            <a:ext cx="8497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c3b"/>
                </a:solidFill>
                <a:latin typeface="Arial"/>
              </a:rPr>
              <a:t>Grazie per l’att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egnaposto contenuto 2"/>
          <p:cNvSpPr/>
          <p:nvPr/>
        </p:nvSpPr>
        <p:spPr>
          <a:xfrm>
            <a:off x="468360" y="3867120"/>
            <a:ext cx="823104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Corso Vittorio Emanuele II, 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00186 R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Tel.: 06/6852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E-mail: info@confagricoltura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Sito web: www.confagricoltura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      </a:t>
            </a: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facebook.com/Conf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      </a:t>
            </a: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@conf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mmagine 6" descr="fb.png"/>
          <p:cNvPicPr/>
          <p:nvPr/>
        </p:nvPicPr>
        <p:blipFill>
          <a:blip r:embed="rId2"/>
          <a:stretch/>
        </p:blipFill>
        <p:spPr>
          <a:xfrm>
            <a:off x="563400" y="5167440"/>
            <a:ext cx="222480" cy="215640"/>
          </a:xfrm>
          <a:prstGeom prst="rect">
            <a:avLst/>
          </a:prstGeom>
          <a:ln w="0">
            <a:noFill/>
          </a:ln>
        </p:spPr>
      </p:pic>
      <p:pic>
        <p:nvPicPr>
          <p:cNvPr id="199" name="Immagine 12" descr="Twitter_Logo_Volt.png"/>
          <p:cNvPicPr/>
          <p:nvPr/>
        </p:nvPicPr>
        <p:blipFill>
          <a:blip r:embed="rId3"/>
          <a:stretch/>
        </p:blipFill>
        <p:spPr>
          <a:xfrm>
            <a:off x="542880" y="5433840"/>
            <a:ext cx="220680" cy="1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Superfici e produzioni agrumi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ggetto 3"/>
          <p:cNvGraphicFramePr/>
          <p:nvPr/>
        </p:nvGraphicFramePr>
        <p:xfrm>
          <a:off x="1763640" y="2230560"/>
          <a:ext cx="528156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ggetto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230560"/>
                    <a:ext cx="52815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Arancio – evoluzione superfici in produzione </a:t>
            </a:r>
            <a:r>
              <a:rPr b="0" i="1" lang="it-IT" sz="2800" spc="-1" strike="noStrike">
                <a:solidFill>
                  <a:srgbClr val="007c3b"/>
                </a:solidFill>
                <a:latin typeface="Arial"/>
              </a:rPr>
              <a:t>(in etta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ggetto 2"/>
          <p:cNvGraphicFramePr/>
          <p:nvPr/>
        </p:nvGraphicFramePr>
        <p:xfrm>
          <a:off x="1757520" y="1800360"/>
          <a:ext cx="5628960" cy="245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ggetto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7520" y="1800360"/>
                    <a:ext cx="562896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itolo 1"/>
          <p:cNvSpPr/>
          <p:nvPr/>
        </p:nvSpPr>
        <p:spPr>
          <a:xfrm>
            <a:off x="235080" y="4478400"/>
            <a:ext cx="84978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ati sulle superfici coltivate confermano la tendenza strutturale alla riduzione degli investimenti, ascrivibili, in gran parte ai danni del virus della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ristez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gli aranceti siciliani. Come è noto, l’unica soluzione per gli agrumeti colpiti da questa malattia è l’espianto e il successivo reimpianto con portainnesti resistenti. Le rilevazioni più recenti confermano che in Sicilia è in atto questo processo di riconversione anche se, al momento, una parte delle superfici reimpiantate non è ancora entrata in produ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5mila ettari sono già stati reimpian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ra 30mila e 50mila ettari verranno reimpiantati nei prossimi 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7c3b"/>
                </a:solidFill>
                <a:latin typeface="Arial"/>
              </a:rPr>
              <a:t>Arance – superfici e produzioni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ggetto 1"/>
          <p:cNvGraphicFramePr/>
          <p:nvPr/>
        </p:nvGraphicFramePr>
        <p:xfrm>
          <a:off x="1309680" y="2266920"/>
          <a:ext cx="6183360" cy="266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ggetto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9680" y="2266920"/>
                    <a:ext cx="618336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Ovale 2"/>
          <p:cNvSpPr/>
          <p:nvPr/>
        </p:nvSpPr>
        <p:spPr>
          <a:xfrm>
            <a:off x="3079800" y="5224320"/>
            <a:ext cx="3619440" cy="87804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Valore della produzione 544 ml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7c3b"/>
                </a:solidFill>
                <a:latin typeface="Arial"/>
              </a:rPr>
              <a:t>Campagna arance 2019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ttangolo 5"/>
          <p:cNvSpPr/>
          <p:nvPr/>
        </p:nvSpPr>
        <p:spPr>
          <a:xfrm>
            <a:off x="466560" y="1719360"/>
            <a:ext cx="7548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campagna 2019-2020 ha presentato una flessione delle quantità prodotte di arance nazionali stimata tra il 20-30% rispetto all’anno preced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dotto presentava un’ottima qualità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libro medio-gran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ona pigmentazione della pol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orto equilibrato tra acidi e zucch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riduzione dell’offerta nazionale ha determinato un aumento generalizzato dei prezzi all’origine rispetto alla campagna precede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ggetto 7"/>
          <p:cNvGraphicFramePr/>
          <p:nvPr/>
        </p:nvGraphicFramePr>
        <p:xfrm>
          <a:off x="1522440" y="4414680"/>
          <a:ext cx="5672160" cy="193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ggetto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440" y="4414680"/>
                    <a:ext cx="567216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Consumi: pre-Covid</a:t>
            </a:r>
            <a:br>
              <a:rPr sz="2800"/>
            </a:br>
            <a:r>
              <a:rPr b="0" i="1" lang="it-IT" sz="1800" spc="-1" strike="noStrike">
                <a:solidFill>
                  <a:srgbClr val="007c3b"/>
                </a:solidFill>
                <a:latin typeface="Arial"/>
              </a:rPr>
              <a:t>(informazioni e dati Ism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olo 1"/>
          <p:cNvSpPr/>
          <p:nvPr/>
        </p:nvSpPr>
        <p:spPr>
          <a:xfrm>
            <a:off x="160200" y="2224080"/>
            <a:ext cx="8498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c3b"/>
                </a:solidFill>
                <a:latin typeface="Arial"/>
              </a:rPr>
              <a:t>Periodo ottobre-dicembre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egnaposto contenuto 2"/>
          <p:cNvSpPr/>
          <p:nvPr/>
        </p:nvSpPr>
        <p:spPr>
          <a:xfrm>
            <a:off x="160200" y="3030480"/>
            <a:ext cx="8498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trimestre ottobre-dicembre 2019 è stato registrato un generale rallentamento delle vendite di arance. I dati relativi alle vendite di prodotto confezionato presso la GDO hanno evidenziato una flessione dell’8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Consumi durante il Covid</a:t>
            </a:r>
            <a:br>
              <a:rPr sz="2800"/>
            </a:br>
            <a:r>
              <a:rPr b="0" i="1" lang="it-IT" sz="1800" spc="-1" strike="noStrike">
                <a:solidFill>
                  <a:srgbClr val="007c3b"/>
                </a:solidFill>
                <a:latin typeface="Arial"/>
              </a:rPr>
              <a:t>(informazioni e dati Ism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egnaposto contenuto 2"/>
          <p:cNvSpPr/>
          <p:nvPr/>
        </p:nvSpPr>
        <p:spPr>
          <a:xfrm>
            <a:off x="201600" y="2427120"/>
            <a:ext cx="8740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omparto della frutta ha fatturato alla distribuzione l’11,1% in più rispetto al primo semestre 2019, trainato da una crescente domanda per gli agrumi (che nel semestre hanno rappresentato il 21% del valore) per i quali le vendite sono aumentate del 20% in valore.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ttangolo 1"/>
          <p:cNvSpPr/>
          <p:nvPr/>
        </p:nvSpPr>
        <p:spPr>
          <a:xfrm>
            <a:off x="230040" y="196524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c3b"/>
                </a:solidFill>
                <a:latin typeface="Arial"/>
              </a:rPr>
              <a:t>Periodo gennaio-giugno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magine 8" descr=""/>
          <p:cNvPicPr/>
          <p:nvPr/>
        </p:nvPicPr>
        <p:blipFill>
          <a:blip r:embed="rId2"/>
          <a:stretch/>
        </p:blipFill>
        <p:spPr>
          <a:xfrm>
            <a:off x="622440" y="448776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160" name="Rettangolo 8"/>
          <p:cNvSpPr/>
          <p:nvPr/>
        </p:nvSpPr>
        <p:spPr>
          <a:xfrm>
            <a:off x="1595520" y="448776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c3b"/>
                </a:solidFill>
                <a:latin typeface="Arial"/>
              </a:rPr>
              <a:t>Quali motiv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e 2"/>
          <p:cNvSpPr/>
          <p:nvPr/>
        </p:nvSpPr>
        <p:spPr>
          <a:xfrm>
            <a:off x="5813280" y="4159080"/>
            <a:ext cx="2854440" cy="113832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aggiore disponibilità di tempo da dedicare alla c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e 10"/>
          <p:cNvSpPr/>
          <p:nvPr/>
        </p:nvSpPr>
        <p:spPr>
          <a:xfrm>
            <a:off x="2457360" y="5106960"/>
            <a:ext cx="2497320" cy="12477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otivi di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Vitamina C alleata della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e 11"/>
          <p:cNvSpPr/>
          <p:nvPr/>
        </p:nvSpPr>
        <p:spPr>
          <a:xfrm>
            <a:off x="5278320" y="5381640"/>
            <a:ext cx="2847960" cy="12477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aura di rimanere senza ci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Ma cosa ha significato il Covid per le azie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e 2"/>
          <p:cNvSpPr/>
          <p:nvPr/>
        </p:nvSpPr>
        <p:spPr>
          <a:xfrm>
            <a:off x="1978200" y="1844640"/>
            <a:ext cx="2855880" cy="113832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ifficoltà a reperire la manodo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e 10"/>
          <p:cNvSpPr/>
          <p:nvPr/>
        </p:nvSpPr>
        <p:spPr>
          <a:xfrm>
            <a:off x="250920" y="3106800"/>
            <a:ext cx="2496960" cy="12459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aggiori regole da rispet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e 11"/>
          <p:cNvSpPr/>
          <p:nvPr/>
        </p:nvSpPr>
        <p:spPr>
          <a:xfrm>
            <a:off x="2979720" y="3218040"/>
            <a:ext cx="3184560" cy="12459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iduzione della produ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e 12"/>
          <p:cNvSpPr/>
          <p:nvPr/>
        </p:nvSpPr>
        <p:spPr>
          <a:xfrm>
            <a:off x="250920" y="4533840"/>
            <a:ext cx="3735360" cy="13971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ifficoltà di programmazione dell’offerta a causa di richieste avanzate sempre all’ultimo min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e 13"/>
          <p:cNvSpPr/>
          <p:nvPr/>
        </p:nvSpPr>
        <p:spPr>
          <a:xfrm>
            <a:off x="5489640" y="1969920"/>
            <a:ext cx="3184560" cy="124812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cremento dei costi di produzione per raccolta, lavorazione, san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e 14"/>
          <p:cNvSpPr/>
          <p:nvPr/>
        </p:nvSpPr>
        <p:spPr>
          <a:xfrm>
            <a:off x="6037200" y="3782880"/>
            <a:ext cx="2911680" cy="124632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oom delle vendite di prossim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e 15"/>
          <p:cNvSpPr/>
          <p:nvPr/>
        </p:nvSpPr>
        <p:spPr>
          <a:xfrm>
            <a:off x="3592440" y="5307120"/>
            <a:ext cx="5356440" cy="124596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nonostante tutto le aziende agricole hanno sempre garantito gli approvvigiona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Clemen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egnaposto contenuto 2"/>
          <p:cNvSpPr/>
          <p:nvPr/>
        </p:nvSpPr>
        <p:spPr>
          <a:xfrm>
            <a:off x="468360" y="1844640"/>
            <a:ext cx="823104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produzione di clementine è concentrata in pochissime region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labria 6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glia 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cilia 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asilicata 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media si tratta di poco più di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26mila etta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er una produzione che super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600mila tonnell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09:22:43Z</dcterms:created>
  <dc:creator>Sara Tomasini</dc:creator>
  <dc:description/>
  <dc:language>en-US</dc:language>
  <cp:lastModifiedBy>Marta Fiordalisi</cp:lastModifiedBy>
  <cp:lastPrinted>2020-11-18T13:58:58Z</cp:lastPrinted>
  <dcterms:modified xsi:type="dcterms:W3CDTF">2020-11-18T15:35:33Z</dcterms:modified>
  <cp:revision>40</cp:revision>
  <dc:subject/>
  <dc:title>Presentazione standard di PowerPoint</dc:title>
</cp:coreProperties>
</file>