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4F56-8D8E-48B2-A3ED-A0A64CE5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A195-0C9D-45B2-A990-7FAE709A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F5BE8-CE94-408C-8FA9-CCC86EE7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1F32B-DC31-4471-BEB2-B3E804C5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0BC99-6C85-44E7-BCEB-18F39B0D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BD266-8832-4CEA-9EA5-E6A7BFF4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5C0B5-F2E7-4B68-82C4-B8A3E857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B5D73-7681-407C-9BCC-FBEE85BA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AF3B2-9597-479F-B054-08637B81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C4BF4-DAB0-4FFC-9047-3EF43B4E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23F06-7D75-4B4D-932F-F2EFA0F4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EAD88-DC58-48F4-ACC0-E7C6D6E38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B1DB-97F5-41C1-B9AA-84127C033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656E9-2519-41FE-9648-DDEF253C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123D0-CFC7-41D7-96DC-900A4E5A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738899-350C-4A5F-B3A7-0E9636B4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E0BAB-62EF-4331-ABF5-77C9B5D6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5DF01-BAC1-4171-9502-033E0D71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8DB7A-1202-4158-A6DC-D67F233A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56BE6-7E06-4CAF-B748-C87C22F6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2F027-5229-47EF-9102-8DFDC993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3F05F-C78D-4056-9258-27D2DFDC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4D40F-375E-46A2-B748-472179732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1B84-A568-48CA-BDF8-84AAB8B69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4E3493-0A8C-4D1B-AB09-95146FC1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314A9-6C35-4132-A65A-0C4D82658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66ADE-3475-47F0-B6C0-7E329BF0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E2A39-E0E6-407D-8D76-1681CD98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30CBD-1831-4808-ABAE-498DC249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509B7-CEC7-487C-BA07-D2085680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D5A5E-1A99-43C9-892A-DE20F8D2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E903E-AB27-48D0-ADD7-163E2956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B7CFF-C392-40A1-8320-0F939F48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F7CB6-450C-4454-91A4-E83C6D6C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58DD-C483-4BF2-8490-0BAFEB83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C9EC5-73BD-4ED9-83DD-B9B32166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A66A3-0DD4-4D43-9179-45D55254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0CF3F-94C3-49D6-8362-07BB90C94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05578-E029-48CE-BFE9-E1EC0822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BBFA7-B50C-486D-8916-EC030183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3213F6-6677-43DD-980D-E517F2E5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3A327-C268-4EA5-9449-69C6A15F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671E80-1D9D-41DF-B5B3-19F14B97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E4434-533E-4667-B2D0-3E83E9FB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20D7F-69B7-4C6E-BC7C-2461E439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0A92-26FC-4568-8313-943184D8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CDD07-8663-4501-9F5F-13311A3D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58E5B0-3108-4673-A9C5-B76C1DCB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4C48E-5C99-412D-B33E-056BCF99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68792-A581-41A9-BF54-35303FC2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F3664A-5834-402D-A448-C489D4C1C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CDF4-2564-4CAD-B803-D0739F83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4557-C661-4999-88A2-097E37E2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D3A5-C092-4B52-B1A1-4932C191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44E0-8073-4684-A880-97A81714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99F8-2858-4A81-8C6B-711AC5E8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8F4B-0D8D-4C92-982F-C5934B96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5513-B4A8-4B9E-95C8-BEDF2C36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A489-21B3-482A-95D7-F088DAFD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E978-D809-4FA5-8D47-01B7E8CD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CCE5-FAAE-40B9-ACB9-B475CFD8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F76B-8084-4582-8123-334E36E6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9EC52-C689-4F8A-AC7E-A414831E4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95FBE-18E1-4679-9463-3BD63BF8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B88D3-EBA0-4825-9482-AD387979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98E91-5451-49D3-A6F1-8C9BF133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0DAC1-D321-4939-8037-FABC1CE2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64D9-6487-4AE9-AF17-D66E15B8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8D3A3-818E-4831-AFDD-23DEBCF8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56D47-790D-409F-AB85-3653E004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0268E-5889-48B3-9692-4022E9B0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61CA2-24B5-49D2-95F5-DF7A5AF6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4150F-B000-480A-A9D6-E2F16F19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051E2-CE8C-4554-B7CE-F4A06695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65B53-A247-45A2-A484-9312BE2B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AED7E-3A19-428E-9B52-A265727B7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DD8F3-A0EB-421D-85DD-CB0A3E32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61560-91C0-4FFD-BEBB-D5242B96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DE52-4A63-4B77-B41E-34E67153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04634-3A1F-4D5D-86C3-0E067A4E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C04BB-109D-40BE-AA30-E39A4B5D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41185-0B90-46FF-9B47-31C8BF6F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2AEB4-9403-43DA-9D23-18C158F6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17E05-94A9-4AB8-A609-CA275D7C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A269E-4607-472C-930C-9953A5E2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B0DB2-8D1D-4CC7-B43D-6E635D84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B3739-89AA-49FE-996C-5F4600C1F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BC26F-36EC-49E2-AD11-E459D972A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D90C6-C110-407E-8BCF-F2B278F65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D2CB-2681-48CB-BE47-F91B44D1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50162-478F-4A19-83E8-F9DCD97B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158D9-67C9-4125-ABFB-72635AAC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9FA45-F200-4343-A773-55579E65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E209E-EC2F-4050-AA17-B2DAF7A9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17379-258E-4DC5-B957-74EF275B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D00C9-46D8-4F52-887C-F96957E4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A4F87-285F-48B2-8B9E-495131CB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2E791-20D4-48E0-A014-5E1874A5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B5461-BEE1-4EA2-8996-8B3529D1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B7E93-6590-483D-B200-87FFF8A6C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009F-ABB1-4049-905B-B63A444E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278FE-6057-4F1B-8BB7-68134977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E30A2-ACCF-46DB-989D-04E384A64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1B4A0-C47D-4901-B679-50B62154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0E98C-1BDD-4C5E-9DBE-CC230B8D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AE1E8-5BE0-4ADB-AAE6-6B8CAE84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F208E-04C7-481A-BC2A-0717CB2E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4D480-31CE-4EBE-B33E-2EEE61AB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3A2C1-2B5F-45D3-9317-C7076438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FAC29-9DE9-4EBA-8527-BE006F60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099CE-91A6-4521-BB79-0DDC9C0C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BB50-2005-4A4A-B3BF-30890B8A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89E22-3D3B-409F-8A6D-2D5BFBCC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1F774-90DE-4475-BE72-CCEF7E5E4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3DF85-7955-43C2-871E-57C65C127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627D2-7BB5-4123-A902-8BAEB64A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977DD-7DA7-47A7-B32B-E6614873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6ABDE-2374-4CE6-B98D-0BA3F1E4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4D412-9686-4E79-959B-DF794032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5907A-0DE1-407D-90E2-8E63A674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8B3DA-E25F-4453-9A9C-9B275449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461AB-29FA-4826-9E6B-B4E51856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EDF0-7F9E-4E6C-B021-E1462F60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FAFCC-35F8-4BBD-8BA7-760C7DE5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CA252-5D20-4D2D-8F11-950C69FD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FE9C8-B958-43AF-B4C7-4858ABD6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0AAD2-4B4A-4714-BD68-C713AF0E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3E539-DDF1-4109-AD9B-826EDD91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F5340-BD9C-4435-A6C7-319765294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536D2-9987-49E5-87C4-C5B5AFCE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1CD14-1030-4A2D-979B-167D2080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4B9C5-D130-481E-8824-3ADCFCFC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49569-83BC-4A8B-8B22-F840044E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D0B3-6D57-46C8-990D-9681DE84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05A7E-D3D9-4646-96AB-D13F63D8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B95DB-90AF-4933-828C-A6DC1C02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4BC45-C546-4681-ADA2-EA8F852C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37839-0CF7-47C2-9ABD-A7B9B84A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78B0B-E359-4270-B40F-02FCB9B1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7FBC1-CA62-4EAA-BF3D-BE80F96B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71D36-A759-4CD4-BA03-F5539F8C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582E8-088B-474A-82AB-92D02417A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6CE28-DC8F-4E97-958F-9B7311E1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4583C-DFB0-415B-BBC3-ADE86A40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0633-8DCF-4AA1-97DC-E266CB0B1A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6628-C95C-4446-AB5C-24D4F4E7D5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2E18-E279-4ABF-9C6F-510381C6EA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49CB-42EF-4C0A-AEBC-34FC497010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4219560" y="6437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8DEE-FEA5-4E4A-ADD8-663469B1727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3780000" y="40464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B10F-001D-4241-AFCF-6A1DE7C4FD9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6307-A2BE-4C73-BAF3-82F017A870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5B08-3935-4083-929E-EE2D8E1453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0EAA-30AE-4799-A37C-87F044CC800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830B-7C61-499E-B970-5F73B5F7B6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7C48-5351-465E-90F5-10F8A5BDCB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3648-A1AD-4149-AFE7-530669332D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50560" y="1557360"/>
            <a:ext cx="8785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Fruit &amp; Vegetable Market Observator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Sub-Group Citru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9" name="TextBox 1"/>
          <p:cNvSpPr/>
          <p:nvPr/>
        </p:nvSpPr>
        <p:spPr>
          <a:xfrm>
            <a:off x="539640" y="337644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2a62a"/>
                </a:solidFill>
                <a:latin typeface="Verdana"/>
              </a:rPr>
              <a:t>Data collection of EU citrus production data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1835280" y="4724280"/>
            <a:ext cx="67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95320" indent="-895320">
              <a:spcBef>
                <a:spcPts val="300"/>
              </a:spcBef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Unit G.2. - Wine, spirits, and horticultural products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 marL="895320" indent="-895320">
              <a:spcBef>
                <a:spcPts val="300"/>
              </a:spcBef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DG Agriculture and Rural Development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 marL="895320" indent="-895320">
              <a:spcBef>
                <a:spcPts val="300"/>
              </a:spcBef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European Commission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1" name="TextBox 2"/>
          <p:cNvSpPr/>
          <p:nvPr/>
        </p:nvSpPr>
        <p:spPr>
          <a:xfrm>
            <a:off x="755640" y="5950080"/>
            <a:ext cx="80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200" spc="-1" strike="noStrike">
                <a:solidFill>
                  <a:srgbClr val="ffff66"/>
                </a:solidFill>
                <a:latin typeface="Verdana"/>
              </a:rPr>
              <a:t>23 November 2020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f5494"/>
                </a:solidFill>
                <a:latin typeface="Verdana"/>
              </a:rPr>
              <a:t>Context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E5CE-A1ED-434F-8DA0-E2604706F5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2565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urostat updating its 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Statistics on Agricultural Input and Output Regulation, known as “SAIO”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Aft>
                <a:spcPts val="601"/>
              </a:spcAft>
              <a:buClr>
                <a:srgbClr val="0f5494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Regulation (EC) No 543/2009 of the European Parliament and of the Council of 18 June 2009 concerning crop statistic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Will notably include organic area and production for a number of f&amp;v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Aft>
                <a:spcPts val="601"/>
              </a:spcAft>
              <a:buClr>
                <a:srgbClr val="0f5494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Citrus fruit as a whole, oranges as a whole, strawberries, stone fruits, pip fruits, cherries, plums, berries, grapes, etc.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orrectional adjustments to f&amp;v sub-categories also proposed, notably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ITRUS…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f5494"/>
                </a:solidFill>
                <a:latin typeface="Verdana"/>
              </a:rPr>
              <a:t>Current framework for citrus fruit:</a:t>
            </a:r>
            <a:br>
              <a:rPr sz="2800"/>
            </a:br>
            <a:r>
              <a:rPr b="1" lang="fr-BE" sz="2800" spc="-1" strike="noStrike">
                <a:solidFill>
                  <a:srgbClr val="0f5494"/>
                </a:solidFill>
                <a:latin typeface="Verdana"/>
              </a:rPr>
              <a:t>mandatory data transmission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A35A-D82E-4DFF-B37C-C57B9B71D0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507" name="Content Placeholder 1" descr=""/>
          <p:cNvPicPr/>
          <p:nvPr/>
        </p:nvPicPr>
        <p:blipFill>
          <a:blip r:embed="rId1"/>
          <a:stretch/>
        </p:blipFill>
        <p:spPr>
          <a:xfrm>
            <a:off x="874800" y="2325600"/>
            <a:ext cx="7416720" cy="19735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" descr=""/>
          <p:cNvPicPr/>
          <p:nvPr/>
        </p:nvPicPr>
        <p:blipFill>
          <a:blip r:embed="rId2"/>
          <a:stretch/>
        </p:blipFill>
        <p:spPr>
          <a:xfrm>
            <a:off x="860400" y="4319640"/>
            <a:ext cx="7445520" cy="1993680"/>
          </a:xfrm>
          <a:prstGeom prst="rect">
            <a:avLst/>
          </a:prstGeom>
          <a:ln w="0">
            <a:noFill/>
          </a:ln>
        </p:spPr>
      </p:pic>
      <p:pic>
        <p:nvPicPr>
          <p:cNvPr id="509" name="Content Placeholder 4" descr=""/>
          <p:cNvPicPr/>
          <p:nvPr/>
        </p:nvPicPr>
        <p:blipFill>
          <a:blip r:embed="rId3"/>
          <a:stretch/>
        </p:blipFill>
        <p:spPr>
          <a:xfrm>
            <a:off x="250920" y="81000"/>
            <a:ext cx="1836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f5494"/>
                </a:solidFill>
                <a:latin typeface="Verdana"/>
              </a:rPr>
              <a:t>Current framework for citrus fruit:</a:t>
            </a:r>
            <a:br>
              <a:rPr sz="2800"/>
            </a:br>
            <a:r>
              <a:rPr b="1" lang="fr-BE" sz="2800" spc="-1" strike="noStrike">
                <a:solidFill>
                  <a:srgbClr val="0f5494"/>
                </a:solidFill>
                <a:latin typeface="Verdana"/>
              </a:rPr>
              <a:t>voluntary data transmission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2EB9-A98C-4B5D-AE63-2DFEA6AA2E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512" name="Content Placeholder 4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6943680" cy="11718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"/>
          <p:cNvPicPr/>
          <p:nvPr/>
        </p:nvPicPr>
        <p:blipFill>
          <a:blip r:embed="rId2"/>
          <a:stretch/>
        </p:blipFill>
        <p:spPr>
          <a:xfrm>
            <a:off x="919080" y="3716280"/>
            <a:ext cx="6905880" cy="1363680"/>
          </a:xfrm>
          <a:prstGeom prst="rect">
            <a:avLst/>
          </a:prstGeom>
          <a:ln w="0">
            <a:noFill/>
          </a:ln>
        </p:spPr>
      </p:pic>
      <p:pic>
        <p:nvPicPr>
          <p:cNvPr id="514" name="Content Placeholder 4" descr=""/>
          <p:cNvPicPr/>
          <p:nvPr/>
        </p:nvPicPr>
        <p:blipFill>
          <a:blip r:embed="rId3"/>
          <a:stretch/>
        </p:blipFill>
        <p:spPr>
          <a:xfrm>
            <a:off x="250920" y="136440"/>
            <a:ext cx="1836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76280" y="1412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Current framework for citrus fruit: </a:t>
            </a:r>
            <a:br>
              <a:rPr sz="2400"/>
            </a:b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combined nomenclature for trade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16" name="Content Placeholder 4" descr=""/>
          <p:cNvPicPr/>
          <p:nvPr/>
        </p:nvPicPr>
        <p:blipFill>
          <a:blip r:embed="rId1"/>
          <a:stretch/>
        </p:blipFill>
        <p:spPr>
          <a:xfrm>
            <a:off x="2536920" y="2349360"/>
            <a:ext cx="4110120" cy="4435560"/>
          </a:xfrm>
          <a:prstGeom prst="rect">
            <a:avLst/>
          </a:prstGeom>
          <a:ln w="0">
            <a:noFill/>
          </a:ln>
        </p:spPr>
      </p:pic>
      <p:sp>
        <p:nvSpPr>
          <p:cNvPr id="51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6107-EA3E-4247-8E12-B11F68C4C9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518" name="Content Placeholder 4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836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76280" y="1412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Proposed new mandatory data transmission for produ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58DB-36C4-4D56-A03F-4CC2A63675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521" name="Content Placeholder 4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1836720" cy="1225440"/>
          </a:xfrm>
          <a:prstGeom prst="rect">
            <a:avLst/>
          </a:prstGeom>
          <a:ln w="0">
            <a:noFill/>
          </a:ln>
        </p:spPr>
      </p:pic>
      <p:pic>
        <p:nvPicPr>
          <p:cNvPr id="522" name="Content Placeholder 6" descr=""/>
          <p:cNvPicPr/>
          <p:nvPr/>
        </p:nvPicPr>
        <p:blipFill>
          <a:blip r:embed="rId2"/>
          <a:stretch/>
        </p:blipFill>
        <p:spPr>
          <a:xfrm>
            <a:off x="806400" y="2421000"/>
            <a:ext cx="756936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76280" y="1412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Proposed new mandatory data transmission for produ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8CF5-51BA-4A58-A319-B436DF720A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525" name="Content Placeholder 4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1836720" cy="122544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Remove sub-categories of oranges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mall citrus fruit category with 3 sub-categories (satsumas, clementines, others incl. mandarines)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Rename lemons without “yellow”?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Remove separate category for limes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1" lang="en-GB" sz="4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GB" sz="3600" spc="-1" strike="noStrike">
                <a:solidFill>
                  <a:srgbClr val="0f5494"/>
                </a:solidFill>
                <a:latin typeface="Verdana"/>
              </a:rPr>
              <a:t>Have your say!</a:t>
            </a:r>
            <a:endParaRPr b="0" i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DE ANGELIS Antonio (AGRI)</dc:creator>
  <dc:description/>
  <dc:language>en-US</dc:language>
  <cp:lastModifiedBy>KEIDEL Celine (AGRI)</cp:lastModifiedBy>
  <cp:lastPrinted>2020-06-11T07:45:49Z</cp:lastPrinted>
  <dcterms:modified xsi:type="dcterms:W3CDTF">2020-11-19T10:54:40Z</dcterms:modified>
  <cp:revision>669</cp:revision>
  <dc:subject>European Commission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Is Document Visible">
    <vt:lpwstr>0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</Properties>
</file>