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119-6297-4F2D-87AD-0835411A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CB1B-0F03-4302-B9D2-3C48A7E9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66AF5-F89A-469F-92A4-756243AC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F62F1-071F-4B19-9DF4-569441FC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A401D-46DD-47C3-BB0D-1810D6F4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93AB6-FB60-44AC-B55E-25536131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DA73E-D843-4591-BFDF-634B6982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34CBD-1DAE-457D-B60C-CF96C310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88624-86D9-4D9C-BE34-A90424D5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3E6E8-BA29-4B23-B1D2-80FB9E52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4F263-100C-46E2-86BC-089101DE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7B11B-745B-4FB5-BD0F-AB0380C2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195-6079-4C13-A2F3-1CC23302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03B70-B3A1-4769-BF76-0F738072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2637E-BD24-4805-8681-FA59563C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B7C85-161C-47AF-BBDA-D7DD25C1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F516E-5D22-4024-A9BD-DDA9E779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A2FB7-C96F-48FB-B68D-8E03826A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0140E-FA3B-43C1-92BA-111B7BC0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FB1EF-1255-4801-A2A6-D681CB84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D5B5B-A2E6-4D2C-8337-9B62B5F8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E8F2B-CB8C-49E3-B4F6-C332E8EA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957F7-A96B-4CF0-A856-51219BC2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DB3-C8DB-45EC-BDE1-23AA0ED3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CB41C-DA00-4A0C-B501-7C43DB60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556F2-3586-47B3-A5C0-7CD0BDC1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14544-26E5-49F4-A6B6-098C2FA1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886E4-F0E1-4271-B462-14B75C4D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65D41-DF64-44E9-AB66-15231E3A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67F17-DB6E-4969-8A50-47A0093C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40F98-C298-4684-AAAC-62AE940F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37B1F-C09C-4F2D-A22F-B236C287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D2F67-D1F3-4558-AD75-81A4EDB7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982FA-2B94-4A3D-A3D6-54284535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3FA9-E9AA-4330-B009-F8E66A6F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8DBA3-1BEC-4FE2-92CB-8F22F41B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D7894-E4B8-4A9F-BBAE-04CA16B7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1115F-F157-4C82-BA1F-C78B2217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CC599-B0D2-4EC7-9CE9-C1EC633C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EB1D3-0791-4B52-B59B-5CBF1205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309CE-A3CC-4A13-B0B4-6A1BCA7F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CEDD7-995B-4A54-82F1-A25997A8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446B1-9EEC-41E6-86E6-4E5683DC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16790-18CC-4939-8ADA-5526BCC0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D22AE-AAE9-48C6-98BA-BFB6A8AB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DC8D-E8D7-4BA0-A4D5-8BB85424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6DF93-5424-4B17-B157-F2FC9BFF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0E68F-40F2-48FD-AB85-A2382AAE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4F7AF-8D9B-4DDD-B6C6-92A4C026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2D22E-C6D5-4908-9200-9BD6079A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67EB1-8734-4F43-8D6E-032094B9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0B11-1024-4D4F-8032-7A921CFB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FD7A-2873-4C36-B066-B73A4450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0252-D4FB-4BCC-8151-7B2C4E27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26FF-508C-4D24-AE80-D7E6CA12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6796-B035-4E22-8011-6BE2DB8B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C61-987F-4134-9D8E-83B73BCC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67DC-A37D-41CB-B6FF-72B927C8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FFF4-D259-47DF-9454-683004AF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BD4D-C86C-4A99-8E17-F762DC32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171F-C591-47AF-86D6-63B8525B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D549-6649-465B-90C5-F6F11997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26272-BFEE-4D03-A9DD-D0DA2B4B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AEA82-B489-4BC4-9CE0-3ADD8421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E063-B3A2-4ACB-8176-21DC2797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B0527-3AB5-471D-BA6A-0E61B2E1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50921-7D41-431C-877C-9B8D3D86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47E-2466-4495-9338-E3F830EE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AA01E-C153-465A-9402-EFFFE879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735F9-9A08-4761-AFDB-95D9789E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FA951-B447-42C8-91B8-B0096A2B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E1AB7-BDA8-4E0C-AA6F-B06FEDCF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F078A-0330-4040-8ACD-77A318D5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F7462-9101-4293-966B-A685AD9C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1723-2509-48D2-95C2-290E0DD5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DD0E6-F850-411A-BD81-8E20FD22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A0AC1-C702-4D03-AB28-524E955D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8AEC0-5549-4616-AC3C-1C2D7AC5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D8A-1103-450B-BC08-A9F94159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679D6-1801-46F0-A593-022EF6C3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18287-E126-4653-82A4-B7CC4F38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81FE1-DE59-408F-82AC-B6B5D079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FA4AB-4F5F-4445-AD3E-1AA2018A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09038-B273-4647-8FF0-BB7D8BA4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8DBA3-363C-4F9C-B749-61926EB5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5806F-2F97-4B50-99AA-882823F4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527E4-B10A-48AD-B865-E408E829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1B8AF-DB85-445B-872D-9F8FDC6C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469A3-8EBD-466B-99B7-D52F948B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FAE-0D92-45DF-B257-E8F45845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4EBF2-421F-4152-B31D-D1E86D43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A6BD3-C874-4DCF-8F4C-E78F6BEA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0FF20-EE61-4F8C-922C-B8D732B9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833FB-D9F1-4035-A050-FBC36419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D9B26-BA3C-47E6-AF1A-3880D3DD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F7742-BE26-464C-A8C7-93E48573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E86B0-1703-4C7B-B01B-5CBFEF2C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B83FE-14C8-42BD-A9AC-696E4399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F6ADB-3295-4544-81CF-49F6D3F5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3DC95-B8D4-40D9-B8EA-AD7CD62A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B73-7B22-431B-9718-48075AFA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C3491-9BAC-4A07-8A08-ADC7C530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EEC75-FBB7-4B9F-B1DA-59DD446D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E9C58-D95B-4B5B-84E1-52CF07F7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1640F-2BB4-4E3C-A60C-064C1577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72A55-77F1-486C-9C5A-3050F990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43470-DADD-4F83-9D27-01EAF7F6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DA635-F424-4DA7-8AF4-092D638B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584B8-0052-4933-ABA0-C0F4E474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9D24C-A7DB-4368-9564-634BC09A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8BE15-AAA8-4120-911A-188E5326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5AB-1E9E-41DB-A821-09DBFA07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D1EAD-0FA0-47ED-BEF4-97B2C65B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5BB3E-3435-42E4-8DCF-79AD63B2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972FC-C941-4222-B7AC-4B7F81CC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CFBB7-0DF7-4490-A1E2-D47FB240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6F9B4-1906-45BE-97E6-09211F66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346A5-677B-4E0D-818F-9E91B3DE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82B89-79F9-4363-8123-B26FA9AC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E9832-0771-474F-AE1E-277E9C91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3A44C-43B9-40CA-AFAE-3CB0C67F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BAB74-6EF1-4A96-9781-B4BF54DB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8FC-219F-4CE7-914D-0C5613A0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68017-3762-4E00-BDA8-87484F5A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0B7B3-DE59-448C-A0CD-91AB5D8A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0B2D8-04D7-4D00-AFA1-3006A0A1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25959-EE9A-4D72-A6F3-69E853CD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0C1CF-5B1A-40DA-BC5A-AF0E8A45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63ABE-2F4E-423A-B9A3-3CE293BF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AC2A2-3C5C-43E1-8839-E328CD7F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4AF5A-1E92-4885-83C9-7D72D316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33ED0-11C2-45A2-A0A7-0EA9AE24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F86E7-6295-48D2-9BAE-242D086F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45A-0B75-405E-84F2-B38C54EF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B4DC9-1F63-4F87-9C1F-5A57DDF2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059C8-B8D3-4213-9D76-2053CCC9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5770B-0407-4E5B-99B9-278198C9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8BEA1-E187-4A0E-BC46-67B6935C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0707B-8A78-4E38-A510-2BB8C6F4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15836-36BE-4FD8-A085-730B6566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4A62B-B778-492D-B663-29EEB33A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FD5DF-9641-4643-8E12-8791F1CC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3EE86-DD4E-430D-800E-7EB86913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23C70-45D5-453E-9688-759FFA49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F0CA-324D-4F9F-AF61-82E9CD9260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EB69-BDBB-4262-9B24-3B7BC001C9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F6E6-EA32-42A3-9919-4CC1B496C2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42B1-6548-4A98-8757-8B3BF3D7B6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F6EB-33C7-4DC0-963D-17E796D56D9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CFE9-ACC4-4395-9B12-51D013886E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35EB-6E6C-4E8D-83E3-2A072B89B8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0DC5-2DBC-4369-8FD0-4C1C79170B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74A3-A344-4A19-AC7D-8B2ECBB8C0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7000-13D5-4A81-ACB7-65EB9711BA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DCC3-0B8E-4437-9365-7385B32038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261E-89A5-45C4-90A3-BDD3C5D449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50560" y="1557360"/>
            <a:ext cx="8785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Fruit &amp; Vegetable Market Observator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Sub-Group Citru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9" name="TextBox 1"/>
          <p:cNvSpPr/>
          <p:nvPr/>
        </p:nvSpPr>
        <p:spPr>
          <a:xfrm>
            <a:off x="539640" y="33764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a62a"/>
                </a:solidFill>
                <a:latin typeface="Verdana"/>
              </a:rPr>
              <a:t>Data collection of EU citrus production data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1835280" y="4724280"/>
            <a:ext cx="67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Unit G.2. - Wine, spirits, and horticultural product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DG Agriculture and Rural Development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1" name="TextBox 2"/>
          <p:cNvSpPr/>
          <p:nvPr/>
        </p:nvSpPr>
        <p:spPr>
          <a:xfrm>
            <a:off x="755640" y="595008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200" spc="-1" strike="noStrike">
                <a:solidFill>
                  <a:srgbClr val="ffff66"/>
                </a:solidFill>
                <a:latin typeface="Verdana"/>
              </a:rPr>
              <a:t>23 November 2020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Context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93E9-0294-4841-AF9C-83A22735F4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stat updating its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Statistics on Agricultural Input and Output Regulation, known as “SAIO”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Regulation (EC) No 543/2009 of the European Parliament and of the Council of 18 June 2009 concerning crop statistic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Will notably include organic area and production for a number of f&amp;v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Citrus fruit as a whole, oranges as a whole, strawberries, stone fruits, pip fruits, cherries, plums, berries, grapes, etc.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rrectional adjustments to f&amp;v sub-categories also proposed, notably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ITRUS…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Current framework for citrus fruit:</a:t>
            </a:r>
            <a:br>
              <a:rPr sz="2800"/>
            </a:b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mandatory data transmission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2631-AC5D-4260-95CF-0AC4F58566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07" name="Content Placeholder 1" descr=""/>
          <p:cNvPicPr/>
          <p:nvPr/>
        </p:nvPicPr>
        <p:blipFill>
          <a:blip r:embed="rId1"/>
          <a:stretch/>
        </p:blipFill>
        <p:spPr>
          <a:xfrm>
            <a:off x="874800" y="2325600"/>
            <a:ext cx="7416720" cy="1973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" descr=""/>
          <p:cNvPicPr/>
          <p:nvPr/>
        </p:nvPicPr>
        <p:blipFill>
          <a:blip r:embed="rId2"/>
          <a:stretch/>
        </p:blipFill>
        <p:spPr>
          <a:xfrm>
            <a:off x="860400" y="4319640"/>
            <a:ext cx="7445520" cy="1993680"/>
          </a:xfrm>
          <a:prstGeom prst="rect">
            <a:avLst/>
          </a:prstGeom>
          <a:ln w="0">
            <a:noFill/>
          </a:ln>
        </p:spPr>
      </p:pic>
      <p:pic>
        <p:nvPicPr>
          <p:cNvPr id="509" name="Content Placeholder 4" descr=""/>
          <p:cNvPicPr/>
          <p:nvPr/>
        </p:nvPicPr>
        <p:blipFill>
          <a:blip r:embed="rId3"/>
          <a:stretch/>
        </p:blipFill>
        <p:spPr>
          <a:xfrm>
            <a:off x="250920" y="81000"/>
            <a:ext cx="1836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Current framework for citrus fruit:</a:t>
            </a:r>
            <a:br>
              <a:rPr sz="2800"/>
            </a:b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voluntary data transmission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DAB9-A47C-4790-9A10-978F6FA427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12" name="Content Placeholder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943680" cy="11718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2"/>
          <a:stretch/>
        </p:blipFill>
        <p:spPr>
          <a:xfrm>
            <a:off x="919080" y="3716280"/>
            <a:ext cx="6905880" cy="1363680"/>
          </a:xfrm>
          <a:prstGeom prst="rect">
            <a:avLst/>
          </a:prstGeom>
          <a:ln w="0">
            <a:noFill/>
          </a:ln>
        </p:spPr>
      </p:pic>
      <p:pic>
        <p:nvPicPr>
          <p:cNvPr id="514" name="Content Placeholder 4" descr=""/>
          <p:cNvPicPr/>
          <p:nvPr/>
        </p:nvPicPr>
        <p:blipFill>
          <a:blip r:embed="rId3"/>
          <a:stretch/>
        </p:blipFill>
        <p:spPr>
          <a:xfrm>
            <a:off x="250920" y="136440"/>
            <a:ext cx="1836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7628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urrent framework for citrus fruit: </a:t>
            </a:r>
            <a:br>
              <a:rPr sz="24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ombined nomenclature for trad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6" name="Content Placeholder 4" descr=""/>
          <p:cNvPicPr/>
          <p:nvPr/>
        </p:nvPicPr>
        <p:blipFill>
          <a:blip r:embed="rId1"/>
          <a:stretch/>
        </p:blipFill>
        <p:spPr>
          <a:xfrm>
            <a:off x="2536920" y="2349360"/>
            <a:ext cx="4110120" cy="4435560"/>
          </a:xfrm>
          <a:prstGeom prst="rect">
            <a:avLst/>
          </a:prstGeom>
          <a:ln w="0">
            <a:noFill/>
          </a:ln>
        </p:spPr>
      </p:pic>
      <p:sp>
        <p:nvSpPr>
          <p:cNvPr id="51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D27F-18F2-4A32-8B38-9E6FBD6DC9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18" name="Content Placeholder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36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7628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posed new mandatory data transmission for produ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6513-3C2A-496C-A35B-03DD622EF2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21" name="Content Placeholder 4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836720" cy="1225440"/>
          </a:xfrm>
          <a:prstGeom prst="rect">
            <a:avLst/>
          </a:prstGeom>
          <a:ln w="0">
            <a:noFill/>
          </a:ln>
        </p:spPr>
      </p:pic>
      <p:pic>
        <p:nvPicPr>
          <p:cNvPr id="522" name="Content Placeholder 6" descr=""/>
          <p:cNvPicPr/>
          <p:nvPr/>
        </p:nvPicPr>
        <p:blipFill>
          <a:blip r:embed="rId2"/>
          <a:stretch/>
        </p:blipFill>
        <p:spPr>
          <a:xfrm>
            <a:off x="806400" y="2421000"/>
            <a:ext cx="756936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7628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posed new mandatory data transmission for produ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A88D-E5C2-469E-97C9-745F6F5859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25" name="Content Placeholder 4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836720" cy="122544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move sub-categories of orange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mall citrus fruit category with 3 sub-categories (satsumas, clementines, others incl. mandarines)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Rename lemons without “yellow”?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Remove separate category for lime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1" lang="en-GB" sz="4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Have your say!</a:t>
            </a: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DE ANGELIS Antonio (AGRI)</dc:creator>
  <dc:description/>
  <dc:language>en-US</dc:language>
  <cp:lastModifiedBy>KEIDEL Celine (AGRI)</cp:lastModifiedBy>
  <cp:lastPrinted>2020-06-11T07:45:49Z</cp:lastPrinted>
  <dcterms:modified xsi:type="dcterms:W3CDTF">2020-11-19T10:54:40Z</dcterms:modified>
  <cp:revision>669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