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3"/>
          </p:nvPr>
        </p:nvSpPr>
        <p:spPr>
          <a:xfrm>
            <a:off x="3833640" y="0"/>
            <a:ext cx="29340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907560" y="742680"/>
            <a:ext cx="4954680" cy="37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4"/>
          </p:nvPr>
        </p:nvSpPr>
        <p:spPr>
          <a:xfrm>
            <a:off x="-360" y="940752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5"/>
          </p:nvPr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5C09-1C5B-4C5A-80E1-1FBEA479F1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E685-78EF-4EA0-A84D-DA57D01A8E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8725652-EFE5-4214-A386-5B67F40FF125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1D42-A825-4BAC-84AD-98FFC5A5C0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34CC3C8-DC6F-4E35-94E4-7B4713684952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3562E19C-32BF-4353-B1AB-1DCEB2035B2A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F7CF75F9-F971-42D2-ACD2-74358231554A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1A56437-E830-4E52-BAD1-53AAE726A211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EA1635BA-7AFA-4E98-9A1F-028DDE58FAA6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681120" indent="0">
              <a:spcBef>
                <a:spcPts val="751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spcBef>
                <a:spcPts val="751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spcBef>
                <a:spcPts val="751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7201DA76-6CAE-40C6-81B7-9EC0308B89C9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D60CD7EF-3AC6-40A4-B868-92A16C07B48D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8FD-FF5D-4FDA-B765-DF5F720D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8D35-E6A5-4381-9894-6F2094C1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1ED-752F-433D-B564-445A5101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894-7F05-41C7-995A-98D0B334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8D39-19C8-488E-B0CA-3DCBC1BA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BEB5-5BC8-4C95-B7E4-0CE9CCEF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8A63-3005-4E4B-A194-73847643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3A36-89EB-4A65-8A84-5CC54389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866D-361B-4D90-B459-C6293CEF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E2FB-DCB6-44C2-8E48-7B1C62E4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6AEF-5232-42B1-98E6-8939F70F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45E-4F71-49BC-BD49-2D64E64E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80D4-9563-4563-93DE-09806098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3EF7-F601-4200-B93F-F472D119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F27E-98A6-4A61-82CF-6572CD72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96BD-D65A-4198-A4C1-9E562155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A538-E5BA-44D8-BE1A-42FF4F72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63C16-DE68-42D0-9148-4601E801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D903E-0EFA-4460-BC46-EA2E0713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67940-78C9-4327-B0B2-44AD1A94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4825D-4B32-4821-8ECF-79721717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12D3D-9EB5-4DF5-9EBE-FEC63D50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841-43BC-4D9D-92D7-09A810FC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DF163-696C-4AAF-B2D4-DEB6A4A7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360DA-42BC-4B54-8159-A4140C37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49C96-3D1E-47A1-B6E3-F75F627C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070A0-68AD-4753-8A7B-2C8FBF07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150C0-F7FE-439B-968B-BE3DFCF2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13731-81F2-4149-A471-42D1D526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427EA-B3A8-4BAA-BF49-4E0A9B09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67AC1-8EAB-403C-9AF8-6334BF80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3ED7F-4E6E-4C4B-89B9-669756F4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D3024-9442-4C89-B777-4314C4C9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905-57F7-4B0D-8791-812F8D78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7A951-2938-4C89-BE3F-D9AD5F69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40B1C-5A66-4070-B7F5-11427F77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0CBC6-184F-40EC-A4F7-0C7BD4D8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CB3AE-1505-4FC0-BF6E-2AF332D6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89F88-96AF-4B8D-A8DC-83D6A53A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36643-7B0D-4CD7-A672-849B6DDA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B0262-732A-412B-B45E-2FA73F4E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D8B62-DB2D-4508-A9C2-118E0D78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0F5A4-F653-4B44-9D6E-D0B54706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B57-3114-45EC-99E3-06FE8E77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D12-F02D-4912-821A-D2420961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6D1-0B6B-4406-AC1E-13A86D11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812-86A9-4D9D-A6E6-34545E9C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5514-C210-4F3B-AD6B-F9D2B9DF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97D8-AEC3-459F-BF33-7FC7B1535ED7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EBCA-C4A0-4232-9E21-702C9C12219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7DF0-74C6-4B98-B4AA-46633D4FC7D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658C-49C5-47DF-A25E-413EFD13B52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4067280" y="1123920"/>
            <a:ext cx="5219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lang="fr-BE" sz="2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1" lang="fr-BE" sz="2400" spc="-1" strike="noStrike">
                <a:solidFill>
                  <a:srgbClr val="ffc000"/>
                </a:solidFill>
                <a:latin typeface="Verdana"/>
              </a:rPr>
              <a:t>Simplification of the CAP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c000"/>
                </a:solidFill>
                <a:latin typeface="Verdana"/>
              </a:rPr>
              <a:t>Direct support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c000"/>
                </a:solidFill>
                <a:latin typeface="Verdana"/>
              </a:rPr>
              <a:t>State of play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ffffff"/>
                </a:solidFill>
                <a:latin typeface="Verdana"/>
              </a:rPr>
              <a:t>10 November 2015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ffffff"/>
                </a:solidFill>
                <a:latin typeface="Verdana"/>
              </a:rPr>
              <a:t>CDG Direct payments and greening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284360" y="5732280"/>
            <a:ext cx="4753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Verdana"/>
              </a:rPr>
              <a:t>Pierre Bascou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Verdana"/>
              </a:rPr>
              <a:t>DG Agriculture &amp; Rural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7020000" y="5373720"/>
            <a:ext cx="2124000" cy="1440000"/>
          </a:xfrm>
          <a:prstGeom prst="rect">
            <a:avLst/>
          </a:prstGeom>
          <a:ln w="0">
            <a:noFill/>
          </a:ln>
        </p:spPr>
      </p:pic>
      <p:sp>
        <p:nvSpPr>
          <p:cNvPr id="22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62C9-3541-4ABC-8C53-485358CEF4A7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7991280" cy="576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C. Next steps (short/medium term)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83960" y="1665000"/>
            <a:ext cx="89470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3358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Direct payments (except greening): changes to DA/IA – autumn 20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33552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voluntary coupled support &amp; young farmer schem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33552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IACS (reduction of OTSC, preliminary cross-checks, collective claims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(combined RD/DP committee: Sept/October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3358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greening: review rules on greening, including Ecological Focus Area (EFA) – spring 20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12392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2a62a"/>
                </a:solidFill>
                <a:uFillTx/>
                <a:latin typeface="Verdana"/>
              </a:rPr>
              <a:t>Outline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D1D3-293E-4F85-B956-2B1FD245E516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2052720" y="2276640"/>
            <a:ext cx="5256000" cy="28558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Simplification – introduction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What has happened so far?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Next step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4737-D5E2-46FB-ACA5-342273BD81C1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63280" y="2707920"/>
            <a:ext cx="61930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Mandate Commissioner Hog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AGRI context (DP/CMO – RD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simplification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424720" cy="719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A. Simplification – the overall context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0" y="744480"/>
            <a:ext cx="2627280" cy="234792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F82B-7185-4351-B9B5-1C193AD9E6A3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41040" y="1079640"/>
            <a:ext cx="7309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Simplification Framework</a:t>
            </a:r>
            <a:br>
              <a:rPr sz="3200"/>
            </a:b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8560" y="2924280"/>
            <a:ext cx="7273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5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70c0"/>
                </a:solidFill>
                <a:uFillTx/>
                <a:latin typeface="Verdana"/>
              </a:rPr>
              <a:t>3 guiding principles</a:t>
            </a:r>
            <a:r>
              <a:rPr b="0" lang="en-GB" sz="2600" spc="-1" strike="noStrike">
                <a:solidFill>
                  <a:srgbClr val="0070c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33264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Verdana"/>
              </a:rPr>
              <a:t>Respect 2013 political decis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3264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Verdana"/>
              </a:rPr>
              <a:t>Ensure </a:t>
            </a: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sound financial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3264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Concentrate on simplification for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34920" y="779400"/>
            <a:ext cx="1577880" cy="156996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29F4-FB26-4BCE-8A7D-26C79DF4285B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94840" y="2211120"/>
            <a:ext cx="882036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Internal screening exercise of the entire agricultural acqui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S, EP and stakeholders contributed to the exerci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ouncil  - adoption of Council conclu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OMAG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ivil dialogue groups and ENRD Assemb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EESC and Committee of the regions – own initiative report (ongo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619280" y="1267920"/>
            <a:ext cx="7058160" cy="5050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B.  What has happened so far ?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6C81-6668-4920-B10D-5C460A784DDE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8200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Direct payments and IACS: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Greening, IACS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, active farmers, young farmers scheme, small farmers scheme, cross-compliance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MO: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fruit and vegetable sector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, marketing standards, safeguard measures, trade mechanism, reporting requirements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Rural Development: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programming and approval of RDP's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double funding, 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ontrols, checks, simplified cost options, repor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Horizontal issues: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reporting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, audits,</a:t>
            </a:r>
            <a:br>
              <a:rPr sz="2000"/>
            </a:b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error rates, financial correc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08000" y="1125360"/>
            <a:ext cx="8856720" cy="5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Proposals 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2433600" cy="195444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0" descr=""/>
          <p:cNvPicPr/>
          <p:nvPr/>
        </p:nvPicPr>
        <p:blipFill>
          <a:blip r:embed="rId1"/>
          <a:stretch/>
        </p:blipFill>
        <p:spPr>
          <a:xfrm>
            <a:off x="7164360" y="4830840"/>
            <a:ext cx="1835280" cy="191124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B45B-B7A5-46C3-9827-1C12C52F8F03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31280" y="2133360"/>
            <a:ext cx="8820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Against 3 guidance princi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proposals of internal screening and proposals MS/stakeholders            to be integrated in simplification packages/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Distinction between amendments at the level of DA/IA and amendments at level of Basic 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58528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Assessment of proposals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9" name="Right Arrow 1"/>
          <p:cNvSpPr/>
          <p:nvPr/>
        </p:nvSpPr>
        <p:spPr>
          <a:xfrm>
            <a:off x="4051440" y="3139920"/>
            <a:ext cx="682560" cy="433440"/>
          </a:xfrm>
          <a:prstGeom prst="rightArrow">
            <a:avLst>
              <a:gd name="adj1" fmla="val 50000"/>
              <a:gd name="adj2" fmla="val 4978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158760" y="870120"/>
            <a:ext cx="2397240" cy="2198520"/>
          </a:xfrm>
          <a:prstGeom prst="rect">
            <a:avLst/>
          </a:prstGeom>
          <a:ln w="0">
            <a:noFill/>
          </a:ln>
        </p:spPr>
      </p:pic>
      <p:sp>
        <p:nvSpPr>
          <p:cNvPr id="21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FD7A-EE0A-4A09-8801-B6E05008B948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Our actions so far - 1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920" y="3116160"/>
            <a:ext cx="749016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Adoption of two regu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lnSpc>
                <a:spcPct val="150000"/>
              </a:lnSpc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delay of application date for aid applicati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lnSpc>
                <a:spcPct val="150000"/>
              </a:lnSpc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flexibility for Voluntary Coupled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E44A-0702-4326-B9BC-A139E03B4DB9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Verdana"/>
              </a:rPr>
              <a:t>Our actions so far - 2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6" name="Oval 1"/>
          <p:cNvSpPr/>
          <p:nvPr/>
        </p:nvSpPr>
        <p:spPr>
          <a:xfrm>
            <a:off x="7956720" y="3716280"/>
            <a:ext cx="502920" cy="433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6156360" y="5156280"/>
            <a:ext cx="2514600" cy="1619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"/>
          <p:cNvPicPr/>
          <p:nvPr/>
        </p:nvPicPr>
        <p:blipFill>
          <a:blip r:embed="rId2"/>
          <a:stretch/>
        </p:blipFill>
        <p:spPr>
          <a:xfrm>
            <a:off x="6600960" y="5516640"/>
            <a:ext cx="695160" cy="5810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1698120"/>
            <a:ext cx="8569080" cy="43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indent="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b050"/>
                </a:solidFill>
                <a:uFillTx/>
                <a:latin typeface="Verdana"/>
              </a:rPr>
              <a:t>Changes to  current guidelines on direct pay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Only need to map declared EFA el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Flexibility as regards the identification of certain EFA elements in the EFA lay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Allow hedges or wooded strips with gaps to 4 me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Certain flexibility with regard to adjacent EF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Reduced requirements for identification of some specific types of permanent grassland in LP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Compensation of missing EFA by another EF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lnSpc>
                <a:spcPct val="15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ASCOU Pierre (AGRI)</cp:lastModifiedBy>
  <cp:lastPrinted>2015-10-26T17:23:13Z</cp:lastPrinted>
  <dcterms:modified xsi:type="dcterms:W3CDTF">2015-11-09T11:22:44Z</dcterms:modified>
  <cp:revision>633</cp:revision>
  <dc:subject/>
  <dc:title>Slide 1</dc:title>
</cp:coreProperties>
</file>