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3833640" y="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C29-C741-4205-A92B-DA6F9A36D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0A81-D60D-40B2-82B2-8516583A9E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1488C0C-D92E-4B13-B870-04BE8465F1A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80F4-C3F2-4630-A3BF-4016BCAF6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9DC943E-1EE2-4509-BBF7-D8A7D205F51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1F72871-D15F-4E7B-B2FB-B9DFAAE62DBC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5D65543-389B-43B6-8D84-F0C295C8F84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133F5B1-7F86-4706-9172-A53087CCF6DD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DAF1411-933C-4224-8144-29A7DC33783F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0">
              <a:spcBef>
                <a:spcPts val="75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347DEE4B-D78B-415E-B204-C80360B4A6A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DE480C1-070D-4844-B846-58C2BDD90E72}" type="slidenum">
              <a:rPr b="0" lang="en-GB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133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4BF-27E4-4FBF-BC5A-7EDC6285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94D-6372-4B4E-B713-DE464429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0D8-593A-49A4-AC73-2971FC78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5E0-FB01-46BB-9B48-2CE873D6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F7E3-22DD-4B39-8FE0-F5C5B787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BEF-98BC-48AA-AD83-C0DEAC9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DCAA-1421-4365-8139-868EDDAF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6D6A-4AB9-4B22-8689-9702ADB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FBDE-B89C-4324-ACF0-3D9688B9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A5D-D3FA-436A-81C3-27B49FEE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EE56-078B-4573-8309-E3CA29E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ACC-7E28-4264-8E01-2FCF8B46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8A53-CEC0-4581-BDE8-550C7B3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4520-B0C2-48E7-9764-EB44861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0E01-E0BA-4DAB-B2F5-1A118265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9F49-7901-456C-A4BA-2B39A136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B97-52BE-4E3A-B40E-F98584B6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3E964-C8B2-4E8F-B65C-58F48902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376BB-15C4-4887-8909-C3AA4827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9D31-A57B-4FF4-9120-8E454E57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B8A31-0CA5-47C4-80A3-E4DDBE19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74FA-6FE9-4551-80A8-DF446D70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D8B-C3C0-47ED-93A6-008C1034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C80B-8B49-4A75-9FB8-6F6680D2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B0B0-161D-44FD-AE16-F24C1A1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2C33-2758-4037-AD39-CE22998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9F5D-EF7D-43FE-88FC-A700CAE5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0BB7-A8EA-498E-AC29-00509B3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9F1F6-F78D-4BF6-8F1D-C9D09F92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584C-AAAF-4984-885C-3CDC5E8F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1596-FD13-4916-A20E-C7828B98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05FC-A22B-4361-B3B3-C64E94CA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C636-B479-4ECC-9B00-94464DF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5E2D-64CA-4218-BCF7-F4252CF0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65C4-CFEC-4A16-B850-2AC3ED2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4D751-EDB1-4BDD-AE56-3F9C0590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DEA6-B47B-49DD-8DB9-4A23154F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A67A-4A6B-479A-9540-1E65102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DE028-C602-492A-9B56-12F8B153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345B-679F-49F9-8FED-3025109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A0CA-5ECE-45D9-8783-80348C2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69AB0-47D7-447C-9E72-390CB1B6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293D-E350-4DCE-AA08-76EDC883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8D4-D32A-4362-87F9-C72BFDCB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1D5-8091-4FE9-A2B9-E9CC017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9A5-0994-4A1C-9826-D7327CEB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A0D-04B1-418D-B265-017AA70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2BA-8140-4E90-8927-B670DEF6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801-8E4E-455C-A0E4-30BB8E71CEE9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E054-1DC8-41E3-955D-F5792B7FDD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00B-3674-4CDE-B728-54CBD25A21E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A341-9673-46A4-80B6-1C1A4F2F20C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4067280" y="1123920"/>
            <a:ext cx="521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fr-BE" sz="2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implification of the CAP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Direct sup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c000"/>
                </a:solidFill>
                <a:latin typeface="Verdana"/>
              </a:rPr>
              <a:t>State of play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10 November 2015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CDG Direct payments and greening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284360" y="5732280"/>
            <a:ext cx="475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Pierre Bascou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ffff"/>
                </a:solidFill>
                <a:latin typeface="Verdana"/>
              </a:rPr>
              <a:t>DG Agriculture &amp; Rural Develop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2124000" cy="1440000"/>
          </a:xfrm>
          <a:prstGeom prst="rect">
            <a:avLst/>
          </a:prstGeom>
          <a:ln w="0">
            <a:noFill/>
          </a:ln>
        </p:spPr>
      </p:pic>
      <p:sp>
        <p:nvSpPr>
          <p:cNvPr id="22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063C-6905-447E-9AC8-FFA1B371D8DC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991280" cy="576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C. Next steps (short/medium term)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83960" y="1665000"/>
            <a:ext cx="89470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Direct payments (except greening): changes to DA/IA – autumn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voluntary coupled support &amp; young farmer schem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33552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IACS (reduction of OTSC, preliminary cross-checks, collective claim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(combined RD/DP committee: Sept/Octob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3358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greening: review rules on greening, including Ecological Focus Area (EFA) – spring 20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7800" y="112392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2a62a"/>
                </a:solidFill>
                <a:uFillTx/>
                <a:latin typeface="Verdana"/>
              </a:rPr>
              <a:t>Outline</a:t>
            </a: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3859-96DB-4659-A2D6-D81B2D631CDB}" type="slidenum">
              <a:rPr b="1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2052720" y="2276640"/>
            <a:ext cx="5256000" cy="2855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– introducti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What has happened so far?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Next step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495360" indent="-457200">
              <a:buClr>
                <a:srgbClr val="00b05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4B5-2682-49A2-BCAD-FC9B3CA3DB1A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63280" y="2707920"/>
            <a:ext cx="61930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Mandate Commissioner Hog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RI context (DP/CMO – RD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implific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424720" cy="719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. Simplification – the overall context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0" y="744480"/>
            <a:ext cx="2627280" cy="23479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4899-A73A-4744-980B-C04F3C454A41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1040" y="1079640"/>
            <a:ext cx="73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Simplification Framework</a:t>
            </a:r>
            <a:br>
              <a:rPr sz="3200"/>
            </a:br>
            <a:endParaRPr b="1" lang="en-US" sz="32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8560" y="292428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5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70c0"/>
                </a:solidFill>
                <a:uFillTx/>
                <a:latin typeface="Verdana"/>
              </a:rPr>
              <a:t>3 guiding principles</a:t>
            </a:r>
            <a:r>
              <a:rPr b="0" lang="en-GB" sz="2600" spc="-1" strike="noStrike">
                <a:solidFill>
                  <a:srgbClr val="0070c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Respect 2013 political deci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Verdana"/>
              </a:rPr>
              <a:t>Ensure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ound financial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3264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Concentrate on simplification for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34920" y="779400"/>
            <a:ext cx="1577880" cy="1569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9D30-6BFF-4A6F-B569-70236B05836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94840" y="2211120"/>
            <a:ext cx="882036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ternal screening exercise of the entire agricultural acqui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S, EP and stakeholders contributed to the exerci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uncil  - adoption of Council conclu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MAG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ivil dialogue groups and ENRD 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-280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ESC and Committee of the regions – own initiative report (ongo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1760" indent="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619280" y="1267920"/>
            <a:ext cx="7058160" cy="50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B.  What has happened so far ?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9671-A86D-4369-9FDE-DE4729880225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Direct payments and IAC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Greening, IAC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ctive farmers, young farmers scheme, small farmers scheme, cross-complianc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MO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fruit and vegetable sector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marketing standards, safeguard measures, trade mechanism, reporting requirement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Rural Development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programming and approval of RDP's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double funding, 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controls, checks, simplified cost options, repor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orizontal issues: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reporting</a:t>
            </a: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, audits,</a:t>
            </a:r>
            <a:br>
              <a:rPr sz="2000"/>
            </a:b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error rates, financial corre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8000" y="1125360"/>
            <a:ext cx="88567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Proposals 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2433600" cy="195444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7164360" y="4830840"/>
            <a:ext cx="183528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DA7-DDD1-4DE0-9EB5-94AD1AF91D7F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31280" y="2133360"/>
            <a:ext cx="882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gainst 3 guidance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proposals of internal screening and proposals MS/stakeholders            to be integrated in simplification packages/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343080">
              <a:spcBef>
                <a:spcPts val="60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istinction between amendments at the level of DA/IA and amendments at level of Basic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58528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Assessment of proposals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9" name="Right Arrow 1"/>
          <p:cNvSpPr/>
          <p:nvPr/>
        </p:nvSpPr>
        <p:spPr>
          <a:xfrm>
            <a:off x="4051440" y="3139920"/>
            <a:ext cx="682560" cy="433440"/>
          </a:xfrm>
          <a:prstGeom prst="rightArrow">
            <a:avLst>
              <a:gd name="adj1" fmla="val 50000"/>
              <a:gd name="adj2" fmla="val 4978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158760" y="870120"/>
            <a:ext cx="2397240" cy="2198520"/>
          </a:xfrm>
          <a:prstGeom prst="rect">
            <a:avLst/>
          </a:prstGeom>
          <a:ln w="0">
            <a:noFill/>
          </a:ln>
        </p:spPr>
      </p:pic>
      <p:sp>
        <p:nvSpPr>
          <p:cNvPr id="211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4D1A-AB14-4DC6-A619-6C6F5F8DB9F7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Verdana"/>
                <a:ea typeface="ＭＳ Ｐゴシック"/>
              </a:rPr>
              <a:t>Our actions so far - 1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3116160"/>
            <a:ext cx="749016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spcBef>
                <a:spcPts val="499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Adoption of two reg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delay of application date for aid applica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8584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b050"/>
                </a:solidFill>
                <a:latin typeface="Verdana"/>
              </a:rPr>
              <a:t>flexibility for Voluntary Couple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4286160" y="6635880"/>
            <a:ext cx="628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80BA-4B03-49CB-8E98-62986C7DEA98}" type="slidenum">
              <a:rPr b="1" lang="en-GB" sz="1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Verdana"/>
              </a:rPr>
              <a:t>Our actions so far - 2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Oval 1"/>
          <p:cNvSpPr/>
          <p:nvPr/>
        </p:nvSpPr>
        <p:spPr>
          <a:xfrm>
            <a:off x="7956720" y="3716280"/>
            <a:ext cx="502920" cy="433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156360" y="5156280"/>
            <a:ext cx="251460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6600960" y="5516640"/>
            <a:ext cx="695160" cy="581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98120"/>
            <a:ext cx="856908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>
              <a:lnSpc>
                <a:spcPct val="15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b050"/>
                </a:solidFill>
                <a:uFillTx/>
                <a:latin typeface="Verdana"/>
              </a:rPr>
              <a:t>Changes to  current guidelines on direct pay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Only need to map declared EFA e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Flexibility as regards the identification of certain EFA elements in the EFA lay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Allow hedges or wooded strips with gaps to 4 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ertain flexibility with regard to adjacent EF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Reduced requirements for identification of some specific types of permanent grassland in LP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Verdana"/>
              </a:rPr>
              <a:t>Compensation of missing EFA by another EF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lnSpc>
                <a:spcPct val="150000"/>
              </a:lnSpc>
              <a:spcBef>
                <a:spcPts val="45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ASCOU Pierre (AGRI)</cp:lastModifiedBy>
  <cp:lastPrinted>2015-10-26T17:23:13Z</cp:lastPrinted>
  <dcterms:modified xsi:type="dcterms:W3CDTF">2015-11-09T11:22:44Z</dcterms:modified>
  <cp:revision>633</cp:revision>
  <dc:subject/>
  <dc:title>Slide 1</dc:title>
</cp:coreProperties>
</file>