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3"/>
          </p:nvPr>
        </p:nvSpPr>
        <p:spPr>
          <a:xfrm>
            <a:off x="3833640" y="0"/>
            <a:ext cx="29340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907560" y="742680"/>
            <a:ext cx="4954680" cy="37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4"/>
          </p:nvPr>
        </p:nvSpPr>
        <p:spPr>
          <a:xfrm>
            <a:off x="-360" y="940752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5"/>
          </p:nvPr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8B3A-0B9E-4B81-9B61-C0A6299BE9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E6EA-93DB-419B-81E5-F4E65376F8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45BB143E-E81E-4A12-BE4D-852E8081AD1E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BFAE-B490-41A5-AC7E-C9607865AB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58770667-0FF6-4B73-A0C2-C165DF29B1BB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0BA617E0-E8CE-4F49-9753-E130D03BD385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B6EA5268-99B4-4CD1-B84C-894FD63874D9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17DB4EF0-29A9-4EB1-B443-33F6934CC472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F455584A-E945-4BE7-A9BA-2B5DE3BF27AB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lvl="1" marL="681120" indent="0">
              <a:spcBef>
                <a:spcPts val="751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0">
              <a:spcBef>
                <a:spcPts val="751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0">
              <a:spcBef>
                <a:spcPts val="751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62AD1831-154F-4960-B258-CA7120FDAC04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038B844B-3D0C-4E09-B654-B875DD238F47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A954-CEF7-4699-A788-DB12CF48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E6C5-E02C-4E50-92FD-BCE52453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5D69-46AC-4B67-A8A9-1EC73782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6EE-5224-4EE7-B1C5-8F5E6D25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C17F-69A5-4040-8547-13AD7203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E908-A694-4E67-8F7E-C02CB0B3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8B9B-4EBB-4B92-827B-23F33A82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BE22-9757-4D8D-8025-03C31E2C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3F34-97C4-4E7A-A991-D638DB69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7D64-10B2-4F84-B6AF-341118A2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7581-98FB-4063-A5FE-39403137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E7ED-EA22-4378-9A73-C5FDB9CB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017D-0AAE-479C-9070-3A9233BE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9F1B-6978-44EB-B665-9E2BB5E2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62BD-510C-483E-8713-D48FADDA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B870-44F7-480B-9420-9DD9184C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9906-982A-4B1C-A9E4-21E39DE6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59034-83B6-4175-B390-070E9F0F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487A8-7113-4B28-961F-E851AE8D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8A0F8-EB46-4C27-AFBA-C79E72DB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07FA9-4D40-4B0F-B67C-95AD77E8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E5280-F563-40F8-8E3A-A9B3B5E4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0FD4-65B6-4F72-A958-A84DEC81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321C4-8261-435B-9EB3-CC368A78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8063C-8328-4CB0-80B4-2A582E40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6FAB8-A7A3-4470-834F-1516E3A1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3F88C-5511-42F4-8CA7-0359DAF3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1BFC4-A04B-48A7-A375-DECA5A8E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254C2-D6AF-4B93-BFF1-F9362678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2196A-D121-46E7-AFB6-76252B60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7B70C-20F8-43B8-B39E-D6EB3616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D91BD-B540-4F1D-9033-91413BB7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E93B2-E90C-4968-B215-310817FA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85A1-8486-4EDE-A787-DFA82A98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2FEA7-1810-47FB-9E1C-1FB261F8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73CC8-7B07-4386-BC26-D92992E3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D788D-EE83-4A9D-95D0-1D4BBC14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C4DAB-75DD-4D67-BA9A-2F80AAE9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861B2-E017-4C23-A30A-84B9184F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5BD1B-6F45-4C97-BCF7-503FE394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954DC-3E20-48EE-A3A1-8B99ACEF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BCE52-D0FE-4A23-A944-5D60E8ED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C83FB-2CAD-4B9F-B47B-CC22D5D3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D3C0-E1B0-4A8B-884D-AD37A215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63D-F4C6-434D-A3BE-2CAC732A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8BF-A390-4FBF-9ABA-ACFA6436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B9EC-435C-4C95-A43D-C153F2C6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2FF-938A-4692-9509-C5141ECE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D3E0-E25E-4537-97DD-983CE8EF9023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B13E-F9B6-4551-8E44-AAC8E364568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872C-D3A3-4C52-8612-4FDA5C94EB2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6A53-8534-4A33-9E69-67D96BDEE0A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4067280" y="1123920"/>
            <a:ext cx="5219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lang="fr-BE" sz="2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1" lang="fr-BE" sz="2400" spc="-1" strike="noStrike">
                <a:solidFill>
                  <a:srgbClr val="ffc000"/>
                </a:solidFill>
                <a:latin typeface="Verdana"/>
              </a:rPr>
              <a:t>Simplification of the CAP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c000"/>
                </a:solidFill>
                <a:latin typeface="Verdana"/>
              </a:rPr>
              <a:t>Direct support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c000"/>
                </a:solidFill>
                <a:latin typeface="Verdana"/>
              </a:rPr>
              <a:t>State of play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ffffff"/>
                </a:solidFill>
                <a:latin typeface="Verdana"/>
              </a:rPr>
              <a:t>10 November 2015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ffffff"/>
                </a:solidFill>
                <a:latin typeface="Verdana"/>
              </a:rPr>
              <a:t>CDG Direct payments and greening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284360" y="5732280"/>
            <a:ext cx="4753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ff"/>
                </a:solidFill>
                <a:latin typeface="Verdana"/>
              </a:rPr>
              <a:t>Pierre Bascou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ff"/>
                </a:solidFill>
                <a:latin typeface="Verdana"/>
              </a:rPr>
              <a:t>DG Agriculture &amp; Rural 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7020000" y="5373720"/>
            <a:ext cx="2124000" cy="1440000"/>
          </a:xfrm>
          <a:prstGeom prst="rect">
            <a:avLst/>
          </a:prstGeom>
          <a:ln w="0">
            <a:noFill/>
          </a:ln>
        </p:spPr>
      </p:pic>
      <p:sp>
        <p:nvSpPr>
          <p:cNvPr id="22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1E64-EB87-4B2C-A4D0-FEE99519E9CC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7991280" cy="576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  <a:ea typeface="ＭＳ Ｐゴシック"/>
              </a:rPr>
              <a:t>C. Next steps (short/medium term)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83960" y="1665000"/>
            <a:ext cx="89470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3358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Direct payments (except greening): changes to DA/IA – autumn 201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33552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voluntary coupled support &amp; young farmer schem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33552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IACS (reduction of OTSC, preliminary cross-checks, collective claims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(combined RD/DP committee: Sept/October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3358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greening: review rules on greening, including Ecological Focus Area (EFA) – spring 20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12392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2a62a"/>
                </a:solidFill>
                <a:uFillTx/>
                <a:latin typeface="Verdana"/>
              </a:rPr>
              <a:t>Outline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CEC2-343F-4878-9324-10E1234B6390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2052720" y="2276640"/>
            <a:ext cx="5256000" cy="28558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Simplification – introduction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What has happened so far?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Next step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EA19-2FD2-4900-9310-EB4C063A0AC8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63280" y="2707920"/>
            <a:ext cx="61930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Mandate Commissioner Hog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AGRI context (DP/CMO – RD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simplification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424720" cy="7192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A. Simplification – the overall context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0" y="744480"/>
            <a:ext cx="2627280" cy="234792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13D8-6D45-4B34-8569-6A78BF3C4439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41040" y="1079640"/>
            <a:ext cx="7309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Verdana"/>
                <a:ea typeface="ＭＳ Ｐゴシック"/>
              </a:rPr>
              <a:t>Simplification Framework</a:t>
            </a:r>
            <a:br>
              <a:rPr sz="3200"/>
            </a:b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58560" y="2924280"/>
            <a:ext cx="7273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5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70c0"/>
                </a:solidFill>
                <a:uFillTx/>
                <a:latin typeface="Verdana"/>
              </a:rPr>
              <a:t>3 guiding principles</a:t>
            </a:r>
            <a:r>
              <a:rPr b="0" lang="en-GB" sz="2600" spc="-1" strike="noStrike">
                <a:solidFill>
                  <a:srgbClr val="0070c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33264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Verdana"/>
              </a:rPr>
              <a:t>Respect 2013 political decis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3264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Verdana"/>
              </a:rPr>
              <a:t>Ensure </a:t>
            </a: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sound financial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3264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Concentrate on simplification for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34920" y="779400"/>
            <a:ext cx="1577880" cy="1569960"/>
          </a:xfrm>
          <a:prstGeom prst="rect">
            <a:avLst/>
          </a:prstGeom>
          <a:ln w="0">
            <a:noFill/>
          </a:ln>
        </p:spPr>
      </p:pic>
      <p:sp>
        <p:nvSpPr>
          <p:cNvPr id="198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2313-29F2-42EB-8DCB-04DEB57346DB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94840" y="2211120"/>
            <a:ext cx="882036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71760" indent="-280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Internal screening exercise of the entire agricultural acqui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80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S, EP and stakeholders contributed to the exerci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80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Council  - adoption of Council conclu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80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COMAG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80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Civil dialogue groups and ENRD Assemb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80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EESC and Committee of the regions – own initiative report (ongo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619280" y="1267920"/>
            <a:ext cx="7058160" cy="5050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  <a:ea typeface="ＭＳ Ｐゴシック"/>
              </a:rPr>
              <a:t>B.  What has happened so far ?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28F3-9ED1-44F6-962D-464C27E5FAA4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4000" y="1773000"/>
            <a:ext cx="88200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Direct payments and IACS: 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Greening, IACS</a:t>
            </a: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, active farmers, young farmers scheme, small farmers scheme, cross-compliance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CMO: 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fruit and vegetable sector</a:t>
            </a: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, marketing standards, safeguard measures, trade mechanism, reporting requirements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Rural Development: 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programming and approval of RDP's</a:t>
            </a: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double funding, </a:t>
            </a: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controls, checks, simplified cost options, repor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Horizontal issues: 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reporting</a:t>
            </a: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, audits,</a:t>
            </a:r>
            <a:br>
              <a:rPr sz="2000"/>
            </a:b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error rates, financial correc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08000" y="1125360"/>
            <a:ext cx="8856720" cy="5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  <a:ea typeface="ＭＳ Ｐゴシック"/>
              </a:rPr>
              <a:t>Proposals 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6443640" y="4797360"/>
            <a:ext cx="2433600" cy="195444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0" descr=""/>
          <p:cNvPicPr/>
          <p:nvPr/>
        </p:nvPicPr>
        <p:blipFill>
          <a:blip r:embed="rId1"/>
          <a:stretch/>
        </p:blipFill>
        <p:spPr>
          <a:xfrm>
            <a:off x="7164360" y="4830840"/>
            <a:ext cx="1835280" cy="191124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9F34-16A4-4645-8C05-687734025922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31280" y="2133360"/>
            <a:ext cx="8820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Against 3 guidance princi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proposals of internal screening and proposals MS/stakeholders            to be integrated in simplification packages/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Distinction between amendments at the level of DA/IA and amendments at level of Basic 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58528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Assessment of proposals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9" name="Right Arrow 1"/>
          <p:cNvSpPr/>
          <p:nvPr/>
        </p:nvSpPr>
        <p:spPr>
          <a:xfrm>
            <a:off x="4051440" y="3139920"/>
            <a:ext cx="682560" cy="433440"/>
          </a:xfrm>
          <a:prstGeom prst="rightArrow">
            <a:avLst>
              <a:gd name="adj1" fmla="val 50000"/>
              <a:gd name="adj2" fmla="val 4978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158760" y="870120"/>
            <a:ext cx="2397240" cy="2198520"/>
          </a:xfrm>
          <a:prstGeom prst="rect">
            <a:avLst/>
          </a:prstGeom>
          <a:ln w="0">
            <a:noFill/>
          </a:ln>
        </p:spPr>
      </p:pic>
      <p:sp>
        <p:nvSpPr>
          <p:cNvPr id="21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A3F9-4943-4531-B1D8-999F8A97415C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  <a:ea typeface="ＭＳ Ｐゴシック"/>
              </a:rPr>
              <a:t>Our actions so far - 1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920" y="3116160"/>
            <a:ext cx="749016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Adoption of two regul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85840">
              <a:lnSpc>
                <a:spcPct val="150000"/>
              </a:lnSpc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delay of application date for aid applicati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85840">
              <a:lnSpc>
                <a:spcPct val="150000"/>
              </a:lnSpc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flexibility for Voluntary Coupled Sup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6D61-235B-4D6A-B042-E6A1E4889223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Verdana"/>
              </a:rPr>
              <a:t>Our actions so far - 2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6" name="Oval 1"/>
          <p:cNvSpPr/>
          <p:nvPr/>
        </p:nvSpPr>
        <p:spPr>
          <a:xfrm>
            <a:off x="7956720" y="3716280"/>
            <a:ext cx="502920" cy="433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6156360" y="5156280"/>
            <a:ext cx="2514600" cy="1619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"/>
          <p:cNvPicPr/>
          <p:nvPr/>
        </p:nvPicPr>
        <p:blipFill>
          <a:blip r:embed="rId2"/>
          <a:stretch/>
        </p:blipFill>
        <p:spPr>
          <a:xfrm>
            <a:off x="6600960" y="5516640"/>
            <a:ext cx="695160" cy="5810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1698120"/>
            <a:ext cx="8569080" cy="43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 indent="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b050"/>
                </a:solidFill>
                <a:uFillTx/>
                <a:latin typeface="Verdana"/>
              </a:rPr>
              <a:t>Changes to  current guidelines on direct pay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Only need to map declared EFA el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Flexibility as regards the identification of certain EFA elements in the EFA lay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Allow hedges or wooded strips with gaps to 4 me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Certain flexibility with regard to adjacent EF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Reduced requirements for identification of some specific types of permanent grassland in LP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Compensation of missing EFA by another EF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lnSpc>
                <a:spcPct val="15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ASCOU Pierre (AGRI)</cp:lastModifiedBy>
  <cp:lastPrinted>2015-10-26T17:23:13Z</cp:lastPrinted>
  <dcterms:modified xsi:type="dcterms:W3CDTF">2015-11-09T11:22:44Z</dcterms:modified>
  <cp:revision>633</cp:revision>
  <dc:subject/>
  <dc:title>Slide 1</dc:title>
</cp:coreProperties>
</file>