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33640" y="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0F9-EB53-4EBE-9DE4-BCDCACE71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4BE7-63D0-4F74-9C81-9B70838B9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5205453-36A9-4BE5-9692-B9ADA5A851E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24D-F2A9-4F88-8113-F8CB34A83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F8392BD-BC21-4840-97D4-238AB2714E1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3DD5B55-3BAD-4C7E-ACA3-8D07D083C30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6AFD991-8929-4DDF-A478-3102E7C293B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05B02FA-006D-4918-AC40-2D51FCBBDBB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829FDF0-EA88-4761-A5D8-3703286FE9B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861577C-F553-4DE5-B761-601D3FB6C5E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102E921-A534-4C72-A797-F0603559783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013-0FAE-4917-90CB-326F36EF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A41-A956-4490-BC34-ECF38D85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1B9-2627-45D3-A678-94442EE0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3F8-D4D2-4A74-B1AC-DEF53C4D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88C3-D897-4197-9A1C-10DE58D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CA03-CA44-4795-A3A1-C4498F38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635E-5D41-4BFC-80CF-2B6D53B5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352-1288-4B04-A6FE-6C184AE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DE8-948B-4E8F-85FF-B421A1BB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470D-4D09-4054-BC18-7594E30B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9265-BBA5-4982-A7CF-9EAE569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C04-458A-4BC3-B62B-AE88FF24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B03-0FA4-4B66-9174-EAA88CC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AEE4-53B6-450B-8443-C7DD314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46BC-8AB4-4A25-B2EA-B2CECDE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90BE-8533-4E71-B2EF-C5FD75FB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5F0-E63D-40B2-962E-FEE8D093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76E8-85BA-41BC-B0A6-AFE2D423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BE1B-CD78-4999-AA3E-25B3435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410B-15F7-4742-B24E-449B17D0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D733-A00A-4691-8520-5186D963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7DC1-24F1-42E3-8689-CCD6ED42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D5A-34ED-46E3-9FE1-0E37C7ED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17C0-091E-4967-892B-0ECB554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0DE0-5290-4840-81F7-4F57BD82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1777-6E2D-4AEA-8974-6E34F083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CB97-4800-416E-B9BB-AC30151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2B47-0F11-4030-AD0E-AA3BB4BD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FEF7-27EC-4E60-B68A-956C1F05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6BC7-256D-44B9-A3CC-BD675CF9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FFDE-F30E-4DCE-B4B8-F4CDF5B9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AA53-5563-48F0-B776-B1D542C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65CD-2EB3-467A-AB9E-E7E28AC5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86A-6058-451F-99E9-483DF3F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4428-C681-4A62-BEE3-D0FA555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5D03-1117-4EBB-9C8C-3230D7E1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434B-F3FF-4DBA-92B5-5634D1A9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4BEC-13FD-410C-B9E4-03CFA518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AD48-10BA-45C6-AAD8-892132C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63D5-D3A8-45E2-938C-5739A9E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56D0-9B11-48E9-9C24-D3754BD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6E37-6A57-4596-993A-58F45FE6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525B-246D-486D-8D17-20A83F89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242-DEC4-42AF-8968-01D65F6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09C-0378-48C6-9A82-577F1570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579-964A-465F-A13F-CB5E269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9DB-454A-4527-8ECA-F6EAF45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2DE-A933-4328-8CAF-14B8357C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A0F-316A-492D-A57D-598A470ABB6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91A-9E35-4480-BF4C-AB6DD4609A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9121-A6AA-43CD-A05E-583EF7555F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4E96-5432-4989-93B1-72CC3D00D2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067280" y="1123920"/>
            <a:ext cx="521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fr-BE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implification of the CAP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Direct sup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tate of play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10 November 2015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CDG Direct payments and green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284360" y="5732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Pierre Bascou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DG Agriculture &amp; Rural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2124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5B29-141E-483D-92FA-A85042C7B104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991280" cy="576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C. Next steps (short/medium term)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3960" y="1665000"/>
            <a:ext cx="89470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Direct payments (except greening): changes to DA/IA – autumn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voluntary coupled support &amp; young farmer sche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IACS (reduction of OTSC, preliminary cross-checks, collective claim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(combined RD/DP committee: Sept/Octob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greening: review rules on greening, including Ecological Focus Area (EFA) – spring 20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12392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a62a"/>
                </a:solidFill>
                <a:uFillTx/>
                <a:latin typeface="Verdana"/>
              </a:rPr>
              <a:t>Outlin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A93D-0A67-4C2F-959B-E67581BA470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052720" y="2276640"/>
            <a:ext cx="5256000" cy="2855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– introduction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What has happened so far?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xt step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CF0-A228-4D94-BA54-0767E65C9849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63280" y="2707920"/>
            <a:ext cx="6193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Mandate Commissioner Hog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RI context (DP/CMO – R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719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. Simplification – the overall context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0" y="744480"/>
            <a:ext cx="2627280" cy="23479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DBE4-27D5-4EFD-BCD5-46A564872EB8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1040" y="1079640"/>
            <a:ext cx="73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Simplification Framework</a:t>
            </a: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292428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5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70c0"/>
                </a:solidFill>
                <a:uFillTx/>
                <a:latin typeface="Verdana"/>
              </a:rPr>
              <a:t>3 guiding principles</a:t>
            </a:r>
            <a:r>
              <a:rPr b="0" lang="en-GB" sz="2600" spc="-1" strike="noStrike">
                <a:solidFill>
                  <a:srgbClr val="0070c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Respect 2013 political decis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Ensure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ound financial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Concentrate on simplification for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34920" y="779400"/>
            <a:ext cx="1577880" cy="1569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F45-B51D-403C-BAE8-DE16CC78FE97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94840" y="2211120"/>
            <a:ext cx="882036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ternal screening exercise of the entire agricultural acqu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S, EP and stakeholders contributed to the exerci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uncil  - adoption of Council conclu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MAG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ivil dialogue groups and ENRD 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ESC and Committee of the regions – own initiative report (ongo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619280" y="1267920"/>
            <a:ext cx="7058160" cy="50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B.  What has happened so far ?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AA69-009E-41F0-917A-664E0F0FE497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Direct payments and IAC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Greening, IAC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ctive farmers, young farmers scheme, small farmers scheme, cross-complianc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MO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fruit and vegetable sector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marketing standards, safeguard measures, trade mechanism, reporting requirement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Rural Development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programming and approval of RDP'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double funding, 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ntrols, checks, simplified cost options,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Horizontal issue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reporting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udits,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rror rates, financial corr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8000" y="1125360"/>
            <a:ext cx="88567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Proposals 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2433600" cy="1954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7164360" y="4830840"/>
            <a:ext cx="1835280" cy="191124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828-429B-4C78-8FDE-7498918D9B22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31280" y="2133360"/>
            <a:ext cx="882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ainst 3 guidance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proposals of internal screening and proposals MS/stakeholders            to be integrated in simplification packages/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istinction between amendments at the level of DA/IA and amendments at level of Basic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585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ssessment of proposal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9" name="Right Arrow 1"/>
          <p:cNvSpPr/>
          <p:nvPr/>
        </p:nvSpPr>
        <p:spPr>
          <a:xfrm>
            <a:off x="4051440" y="3139920"/>
            <a:ext cx="682560" cy="4334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58760" y="870120"/>
            <a:ext cx="2397240" cy="219852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2ABB-8EEC-4F73-89F1-FCFDDEF023C2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Our actions so far - 1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3116160"/>
            <a:ext cx="74901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Adoption of two reg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delay of application date for aid applica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flexibility for Voluntary Coupled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785-4713-42FA-B1CF-97C3C3944E71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Our actions so far - 2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Oval 1"/>
          <p:cNvSpPr/>
          <p:nvPr/>
        </p:nvSpPr>
        <p:spPr>
          <a:xfrm>
            <a:off x="7956720" y="3716280"/>
            <a:ext cx="50292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156360" y="5156280"/>
            <a:ext cx="2514600" cy="16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6600960" y="5516640"/>
            <a:ext cx="695160" cy="581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98120"/>
            <a:ext cx="856908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b050"/>
                </a:solidFill>
                <a:uFillTx/>
                <a:latin typeface="Verdana"/>
              </a:rPr>
              <a:t>Changes to  current guidelines on direct pay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Only need to map declared EFA e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Flexibility as regards the identification of certain EFA elements in the EFA 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Allow hedges or wooded strips with gaps to 4 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ertain flexibility with regard to adjacent EF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Reduced requirements for identification of some specific types of permanent grassland in LP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ompensation of missing EFA by another EF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ASCOU Pierre (AGRI)</cp:lastModifiedBy>
  <cp:lastPrinted>2015-10-26T17:23:13Z</cp:lastPrinted>
  <dcterms:modified xsi:type="dcterms:W3CDTF">2015-11-09T11:22:44Z</dcterms:modified>
  <cp:revision>633</cp:revision>
  <dc:subject/>
  <dc:title>Slide 1</dc:title>
</cp:coreProperties>
</file>