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1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dt" idx="37"/>
          </p:nvPr>
        </p:nvSpPr>
        <p:spPr>
          <a:xfrm>
            <a:off x="3852720" y="-360"/>
            <a:ext cx="2951280" cy="5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ftr" idx="3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 type="sldNum" idx="39"/>
          </p:nvPr>
        </p:nvSpPr>
        <p:spPr>
          <a:xfrm>
            <a:off x="3852720" y="944352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B59D4-76C9-438D-87AA-583A79C9429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5272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E18C-AC69-4BE3-95D9-26C736DFD2B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385272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4AC4-68F4-42D2-8251-A870F2B84CF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Slide Number Placeholder 3"/>
          <p:cNvSpPr/>
          <p:nvPr/>
        </p:nvSpPr>
        <p:spPr>
          <a:xfrm>
            <a:off x="385272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B018E-115B-445D-8A37-7894DC956F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5272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5D488-3196-41EF-9958-CE6F041D8A3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5272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1B5AD-1B7F-4DA6-A073-6076E897949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5272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3965-7146-4088-9FA7-E2F4F20965A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Slide Number Placeholder 3"/>
          <p:cNvSpPr/>
          <p:nvPr/>
        </p:nvSpPr>
        <p:spPr>
          <a:xfrm>
            <a:off x="385272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BFF42-EC80-4D8B-8203-7AEEB6DEA81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Slide Number Placeholder 3"/>
          <p:cNvSpPr/>
          <p:nvPr/>
        </p:nvSpPr>
        <p:spPr>
          <a:xfrm>
            <a:off x="385272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A172-5CC7-422C-B8F5-05EB5C4F7E0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Slide Number Placeholder 3"/>
          <p:cNvSpPr/>
          <p:nvPr/>
        </p:nvSpPr>
        <p:spPr>
          <a:xfrm>
            <a:off x="385272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D2B05-C206-453E-87A7-71F89363AEF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385272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CC66-551A-4504-BD9A-32E53615A50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385272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DD059-016C-4A46-86D7-E51EEAD1C5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385272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024AE-130C-445C-90AD-13C09D645F3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lide Number Placeholder 3"/>
          <p:cNvSpPr/>
          <p:nvPr/>
        </p:nvSpPr>
        <p:spPr>
          <a:xfrm>
            <a:off x="385272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92F3-4B01-4478-B6AD-804960342AE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lide Number Placeholder 3"/>
          <p:cNvSpPr/>
          <p:nvPr/>
        </p:nvSpPr>
        <p:spPr>
          <a:xfrm>
            <a:off x="385272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0C2D2-D69E-42B1-8D1F-C895E31A19B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385272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4071B-95CD-4701-BDB9-A018646BA2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Slide Number Placeholder 3"/>
          <p:cNvSpPr/>
          <p:nvPr/>
        </p:nvSpPr>
        <p:spPr>
          <a:xfrm>
            <a:off x="385272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639AC-6E22-473A-AAFC-59AB7C2A57C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73760" cy="372888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Slide Number Placeholder 3"/>
          <p:cNvSpPr/>
          <p:nvPr/>
        </p:nvSpPr>
        <p:spPr>
          <a:xfrm>
            <a:off x="3852720" y="944388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4077-820E-4C43-9A53-72EA972520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B317-5113-431C-A3CB-0B2C2EBC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7B5-6AC1-445B-9015-1EE9FE627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C8283C-64D8-4E4E-B048-E5043946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846E8-CA4F-4512-A317-CCE67A605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C85D8-E7B6-41AF-8A88-F72C8C10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6F502D-BB65-4FDF-AE4F-7E7A69BD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E3C81-959A-4A9E-BF82-CDA2DEAA4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66E5B7-409A-4B1F-A343-60F80752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150D9-FD89-40C3-BBFC-7AACFDF7F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370343-A6C1-4983-9AFE-505D2EBB9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7E2C94-B8FF-4508-8F1F-BEA921C836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1ED574-5EEA-4092-BA0B-7ADFE918C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A91-6410-4B01-A4E1-72DEC405A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E012DA-5604-4AFD-B2C4-549391EE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6DE8AC-719F-40B5-92D4-856814C21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57D62-69D5-4077-97BE-6D60FA57B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FA6DD-4207-4118-A0B4-78D25DB59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1C5123-D52F-4781-8E84-679CC90BF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9D829-271C-41C6-B078-E5A6081B2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12E3FE-5461-428D-AF41-D3D7D865F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7C354A-99BC-4E9D-8F84-BA800E16E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7CF2B6-C632-49E2-B482-20D0EC5D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93362-EC65-4D33-B9ED-39CC89355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3A9F-6A10-4383-802C-564146479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C0A490-26D2-402A-891F-36D9CDCE0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9A9A1-171C-468F-9CB3-5649F53AC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0FA76A-AE81-4494-ACF7-F23F34F1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9B29B8-6970-4026-A5DF-669E4E654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96A76-E9EA-41ED-AE3C-06C322B6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1AEF44-1E3F-4E2A-BFA2-C7F2162F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9026A9-F7E3-454F-976D-8C90B6C8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EF8369-B6D1-445A-879E-C9EBE51F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5F2D8-DD67-461C-8D38-42E21CF3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0E8A2A-D87A-43BD-99E4-DCDE499D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3E467-6F49-427B-AE47-6803A854E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C90ED3-6E42-4947-8BE5-0EAFC4D7E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1ADEB-0D3B-434C-8978-038AF6556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F912C9-DD32-4338-9C94-62E924F21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54CF40-BFF8-4F17-A51C-012CA606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FCEEE5-DF3D-4C55-8CF9-7E0E9C04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DC048-7E19-4089-9963-82D340E42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23450B-1DEC-4701-A2F1-D8F7207AE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EC8E97-9099-4483-BBD2-DED27C41F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E20723-DAC2-407F-A26B-59406E58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F0951B-D21F-41C4-9F7C-7E3A302C3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7C842-2225-4DC0-9CBC-DD13E72B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39F569-10CC-440B-8A94-8FF3A0D9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678707-B26D-4627-831F-AEA0DE55A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CA15C2-6F1F-4BAB-978F-C149F246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B6DA20-0537-4CBA-955D-396FA2473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F24C3-F930-45A3-A5B4-D9B6B37C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E10E7-137F-4A5B-9E59-09FA2D853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2E7FC-35B5-4C91-AFA3-519E435DE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8862A-B755-4E29-9A64-1A40C5B5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2C99B-B716-423F-8E8D-73274535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69BB8-F8CE-4740-8C72-CAA1BCA6D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5EDF-8C07-4154-95D0-BAE03FD7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2E28-43FD-42BF-B1F4-51AEB0DE4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DACC6-BDD8-4053-8340-A36F0CCCD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784EB-5246-4A84-B094-600806B9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97A89-D037-4276-97F3-7C24A0B93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56B1-690B-4BD9-A477-F1CAEB9D6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E90A3C-0918-4D7B-813C-C89F9EC4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60AF6-B0A4-4D86-967C-257E6B36B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D037D-9E1B-454D-85F1-288E8D78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DE56B-48A9-4799-A345-F1A03E3BB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CF3F32-CDAB-4866-9D21-8D22478C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6F2-A6C7-4D8B-A348-DF5AF424E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7D8FC-F148-4177-9FD9-042007F0C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E3FC5-4DF0-41D7-9A50-DE72E990B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F24EE-901C-4FCD-9933-D479DE47F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A62CC-F817-419A-BC7C-E5E7F2B41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8ACE7E-9DA3-4A92-BDF3-FAF32FDBD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9CF59-9597-4209-925A-8757B85C6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3AE46-D52B-439B-B442-4753E8C21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E1DBC-F2F3-4375-BA0D-007CF27A68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D75E13-1517-4AFC-9D5F-52A337702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50CF6-43D5-4D89-8DF9-6CF4D9920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01D1-C962-4BD3-A083-EDAA1384E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7DA55-EE35-41C5-AF7E-FCE823D92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E0445-BF2B-492F-93E3-C4002995A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212332-B8A6-495A-8EF8-DBEC6E3D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971A61-AF2E-4FF2-B427-C3633B69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323EF2-B612-4AEF-8EE8-7147E17E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640D8-5857-4DF3-B7CB-3AC6867F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2F3D1-27FA-4D88-A213-CCD85D80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645D8-E51A-448A-AF5F-91D9B762A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DBF9C6-F351-406B-8195-028CE4221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A89496-8591-447F-B187-8A984E44C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3460-D420-47AA-8A88-75D43AB8B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B666E0-3F47-41C5-B9FD-594DD625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18B217-9EA8-4E4F-BB08-E6612170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910AD-A547-4223-8D89-349C0BF1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157E2C-DBCD-4696-89E1-EA5BF472C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99B451-992F-490E-8D8B-862B021F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52B270-1C98-4B62-AA0B-A15A9AEA2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5ED4CA-320E-47E4-BBB0-80AE9ADE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2E485-6B3A-4634-947B-C62DC9891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413A4-5B21-4483-8EF1-FEAB88413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A3BC7-2A9E-4355-94C1-62DE0B7F2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4FD9C-6B59-4759-BFF0-58185074C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B1F3F-F2A1-4C88-8A2A-7052E0988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83FC9-217A-40FA-86E1-CB220EEEF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2D274-F449-4779-BD44-A6C7B6746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7D923-5A99-4D22-A222-629501C9D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ECD1C-E5F6-42A0-A447-5FCD105F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EA51CE-FA4C-4794-943A-77EDA639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E3D26-CE81-4206-A0B7-5B77B6F3F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2B00CA-4ECF-4375-AD89-C227ED44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2F99D5-1932-49FC-81B3-18DAFBCE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D54D2A-1932-46DF-8558-2034090D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DA55-CEA3-4AC8-94C6-5F02BE261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5AAA60-46A0-45EE-A915-5B9A1FF09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309D41-0146-4874-BB52-99F2E4CDE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C0C256-C011-4C3E-8D3C-94F8703B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C2306-FDFE-4125-AAA6-E2F48C30D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5B1D51-9975-4871-A6C2-B4E0E1D62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76B2C-7406-430A-A1E2-9763C181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7F22F-B567-48E0-A7E6-7CEAC7874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994919-9CAC-4995-A97E-F0B953711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2B3826-9998-48A8-B94B-F04CC26B1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6DF1B3-383A-45B5-8B4F-2C7243ACB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DEE0-1E48-4876-B26F-B15D05B6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2AC3F7-DFEE-4CA1-A7DC-F677C79B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40FD51-A042-4C4C-A2EA-F47424C6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04A68A-C28E-4130-9344-F29903D30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F3681A-7056-4460-B1AD-F2755E1AA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B47FE-E2F0-4CA6-903F-C7930279E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51DAE-78E6-4335-B0C1-5C215AD06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182033-1679-41A8-AF83-1932D893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1FBED-CCA6-45EE-A787-EF4A8941D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623A7-918A-4CDD-BA24-0425DEDC3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EE4734-71C7-4440-98BB-DB77EF9B9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1EF0-5641-4CA4-87F4-AFB1A37F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68360" y="1123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B3E738-8753-47EC-8EF7-FEF09C01D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526650-4AA5-4ECC-BCFB-6D66FFE8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1B78D2-DC61-4A78-8519-90D253316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7CD23-29EA-4B2D-AA6A-DF8991B5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7200" y="4285440"/>
            <a:ext cx="822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1180D8-BC35-46AA-98A2-42657E5F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238752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4240" y="4285440"/>
            <a:ext cx="40158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6A98A-E677-4902-854F-E64CFB0FA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964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22080" y="238752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720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964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22080" y="4285440"/>
            <a:ext cx="2649600" cy="173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3F8F7-40F4-4D30-903C-E87124137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239D4E-A347-4F09-AA2F-B911A064D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FF2E9F-38B0-4D97-8799-34A40ACB1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11662-4F0B-4B98-9863-907A2B9E5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BD65-189D-4789-81EF-3F823DEF3A8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83B26-CFA7-4AA2-A730-2C4C14563D1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4B98-4563-4F71-9457-19273B1DC57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06FBB-CFDF-4061-953A-637A02DA40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solidFill>
            <a:srgbClr val="0f5494"/>
          </a:solidFill>
          <a:ln w="633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3649680" y="324000"/>
            <a:ext cx="1814400" cy="13986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4219560" y="6437160"/>
            <a:ext cx="685800" cy="457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8FEA-4FD4-4E3F-A762-5DB22C6AE386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2a6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86" name="Picture 3" descr=""/>
          <p:cNvPicPr/>
          <p:nvPr/>
        </p:nvPicPr>
        <p:blipFill>
          <a:blip r:embed="rId2"/>
          <a:stretch/>
        </p:blipFill>
        <p:spPr>
          <a:xfrm>
            <a:off x="4254480" y="6458040"/>
            <a:ext cx="611280" cy="407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"/>
          <p:cNvPicPr/>
          <p:nvPr/>
        </p:nvPicPr>
        <p:blipFill>
          <a:blip r:embed="rId3"/>
          <a:stretch/>
        </p:blipFill>
        <p:spPr>
          <a:xfrm>
            <a:off x="3780000" y="404640"/>
            <a:ext cx="1620720" cy="1249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09300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09300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2F8D9-6EA4-4E44-AEFA-7DD35D259F5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12CB-FCD3-4AB8-B24B-D20F57B0DA8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DFB0-F990-4D96-A1B0-10D7AD5BE3F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B52E5-6BED-4E89-B659-7D1E5405194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AA96E-E67D-4758-9D65-8D8F04A9735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91F7C-B821-4E95-86A9-79E98D54DF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8360" y="1123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457200" y="238752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2a62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C29DC-4F45-4C7F-B48C-2D850A2FD5A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50560" y="1557360"/>
            <a:ext cx="878508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Common Market Organisation (CMO)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Verdana"/>
              </a:rPr>
              <a:t>Fruit and vegetables sector</a:t>
            </a:r>
            <a:endParaRPr b="1" lang="en-US" sz="28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06" name="TextBox 1"/>
          <p:cNvSpPr/>
          <p:nvPr/>
        </p:nvSpPr>
        <p:spPr>
          <a:xfrm>
            <a:off x="539640" y="3376440"/>
            <a:ext cx="777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42a62a"/>
                </a:solidFill>
                <a:latin typeface="Verdana"/>
              </a:rPr>
              <a:t>Consumption of fruit and vegetables</a:t>
            </a:r>
            <a:br>
              <a:rPr sz="2400"/>
            </a:br>
            <a:r>
              <a:rPr b="1" lang="en-GB" sz="2400" spc="-1" strike="noStrike">
                <a:solidFill>
                  <a:srgbClr val="42a62a"/>
                </a:solidFill>
                <a:latin typeface="Verdana"/>
              </a:rPr>
              <a:t> in the EU</a:t>
            </a:r>
            <a:endParaRPr b="1" lang="en-US" sz="24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7" name="Rectangle 5"/>
          <p:cNvSpPr/>
          <p:nvPr/>
        </p:nvSpPr>
        <p:spPr>
          <a:xfrm>
            <a:off x="1835280" y="4724280"/>
            <a:ext cx="676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895320" indent="-895320">
              <a:spcBef>
                <a:spcPts val="3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Unit G.2. - Wine, spirits, and horticultural products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895320" indent="-895320">
              <a:spcBef>
                <a:spcPts val="3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DG Agriculture and Rural Development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895320" indent="-895320">
              <a:spcBef>
                <a:spcPts val="300"/>
              </a:spcBef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1" lang="en-GB" sz="1200" spc="-1" strike="noStrike">
                <a:solidFill>
                  <a:srgbClr val="ffffff"/>
                </a:solidFill>
                <a:latin typeface="Verdana"/>
              </a:rPr>
              <a:t>European Commission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8" name="TextBox 2"/>
          <p:cNvSpPr/>
          <p:nvPr/>
        </p:nvSpPr>
        <p:spPr>
          <a:xfrm>
            <a:off x="755640" y="595008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66"/>
                </a:solidFill>
                <a:latin typeface="Verdana"/>
              </a:rPr>
              <a:t>Working Group "Apples &amp; Pears"</a:t>
            </a:r>
            <a:r>
              <a:rPr b="1" i="1" lang="fr-BE" sz="1200" spc="-1" strike="noStrike">
                <a:solidFill>
                  <a:srgbClr val="ffff66"/>
                </a:solidFill>
                <a:latin typeface="Verdana"/>
              </a:rPr>
              <a:t> – 3 May 2018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3- Driv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27" name="Picture 4" descr="H:\my documents\My Pictures\pictures\F&amp;V\red fruit.jpg"/>
          <p:cNvPicPr/>
          <p:nvPr/>
        </p:nvPicPr>
        <p:blipFill>
          <a:blip r:embed="rId1"/>
          <a:stretch/>
        </p:blipFill>
        <p:spPr>
          <a:xfrm>
            <a:off x="988920" y="4341960"/>
            <a:ext cx="2441520" cy="162720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6" descr="H:\my documents\My Pictures\pictures\F&amp;V\tropical fruit.jpg"/>
          <p:cNvPicPr/>
          <p:nvPr/>
        </p:nvPicPr>
        <p:blipFill>
          <a:blip r:embed="rId2"/>
          <a:stretch/>
        </p:blipFill>
        <p:spPr>
          <a:xfrm>
            <a:off x="577800" y="1916280"/>
            <a:ext cx="3264120" cy="21729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7" descr=""/>
          <p:cNvPicPr/>
          <p:nvPr/>
        </p:nvPicPr>
        <p:blipFill>
          <a:blip r:embed="rId3"/>
          <a:stretch/>
        </p:blipFill>
        <p:spPr>
          <a:xfrm>
            <a:off x="5421240" y="4341960"/>
            <a:ext cx="2516400" cy="170316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8" descr=""/>
          <p:cNvPicPr/>
          <p:nvPr/>
        </p:nvPicPr>
        <p:blipFill>
          <a:blip r:embed="rId4"/>
          <a:stretch/>
        </p:blipFill>
        <p:spPr>
          <a:xfrm>
            <a:off x="4981680" y="2379600"/>
            <a:ext cx="295596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4- Promo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32" name="Picture 3" descr="H:\my documents\My Pictures\pictures\F&amp;V\Promotion\promotion.png"/>
          <p:cNvPicPr/>
          <p:nvPr/>
        </p:nvPicPr>
        <p:blipFill>
          <a:blip r:embed="rId1"/>
          <a:stretch/>
        </p:blipFill>
        <p:spPr>
          <a:xfrm>
            <a:off x="2124000" y="1413000"/>
            <a:ext cx="494496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4- Promo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4" name=""/>
          <p:cNvSpPr txBox="1"/>
          <p:nvPr/>
        </p:nvSpPr>
        <p:spPr>
          <a:xfrm>
            <a:off x="45720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EU Promotion Polic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80 ongoing programmes on F&amp;V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Total budget EU aid: EUR 143.5 mill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Priority 2018: Multi programmes to</a:t>
            </a:r>
            <a:br>
              <a:rPr sz="2400"/>
            </a:b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increase consumption F&amp;V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35" name="Picture 2" descr="H:\my documents\My Pictures\pictures\F&amp;V\Promotion\Enjoy it's from Europe.png"/>
          <p:cNvPicPr/>
          <p:nvPr/>
        </p:nvPicPr>
        <p:blipFill>
          <a:blip r:embed="rId1"/>
          <a:stretch/>
        </p:blipFill>
        <p:spPr>
          <a:xfrm>
            <a:off x="6732720" y="2637000"/>
            <a:ext cx="1904760" cy="334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4- Promo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45720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Common Market Organisation F&amp;V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Crisis prevention and management measur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Promotion &amp; communication activiti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2015: EUR 10.4 million (21% crisis measur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4- Promo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Aft>
                <a:spcPts val="9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National &amp; private measur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4- Promo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41" name="Picture 2" descr="H:\my documents\My Pictures\pictures\F&amp;V\Promotion\5 a day.jpg"/>
          <p:cNvPicPr/>
          <p:nvPr/>
        </p:nvPicPr>
        <p:blipFill>
          <a:blip r:embed="rId1"/>
          <a:stretch/>
        </p:blipFill>
        <p:spPr>
          <a:xfrm>
            <a:off x="1187280" y="1971720"/>
            <a:ext cx="2373480" cy="22492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" descr="H:\my documents\My Pictures\pictures\F&amp;V\Promotion\5 al día 2.jpg"/>
          <p:cNvPicPr/>
          <p:nvPr/>
        </p:nvPicPr>
        <p:blipFill>
          <a:blip r:embed="rId2"/>
          <a:stretch/>
        </p:blipFill>
        <p:spPr>
          <a:xfrm>
            <a:off x="1187280" y="4370400"/>
            <a:ext cx="2394000" cy="21686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4" descr="H:\my documents\My Pictures\pictures\F&amp;V\Promotion\Belgetarien-Potiron.jpg"/>
          <p:cNvPicPr/>
          <p:nvPr/>
        </p:nvPicPr>
        <p:blipFill>
          <a:blip r:embed="rId3"/>
          <a:stretch/>
        </p:blipFill>
        <p:spPr>
          <a:xfrm>
            <a:off x="5268960" y="1879560"/>
            <a:ext cx="2435040" cy="24336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5" descr="H:\my documents\My Pictures\pictures\F&amp;V\Promotion\fruits et légumes moches.jpg"/>
          <p:cNvPicPr/>
          <p:nvPr/>
        </p:nvPicPr>
        <p:blipFill>
          <a:blip r:embed="rId4"/>
          <a:stretch/>
        </p:blipFill>
        <p:spPr>
          <a:xfrm>
            <a:off x="4826160" y="4435560"/>
            <a:ext cx="3136680" cy="20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5- EU school schem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46" name="Picture 3" descr="H:\my documents\My Pictures\pictures\F&amp;V\Promotion\School scheme.jpg"/>
          <p:cNvPicPr/>
          <p:nvPr/>
        </p:nvPicPr>
        <p:blipFill>
          <a:blip r:embed="rId1"/>
          <a:stretch/>
        </p:blipFill>
        <p:spPr>
          <a:xfrm>
            <a:off x="826920" y="2163600"/>
            <a:ext cx="7453440" cy="41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5- School schem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Period: 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2017 – 2023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Aft>
                <a:spcPts val="6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Budget: 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EUR 1.5 billion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Calibri"/>
              </a:rPr>
              <a:t>87% for school fruit/veg/milk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9% for educational measur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Main target: 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Children in primary school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24000" y="2923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Verdana"/>
              </a:rPr>
              <a:t>Thank you for your attention!</a:t>
            </a:r>
            <a:endParaRPr b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0" name="Title 1"/>
          <p:cNvSpPr/>
          <p:nvPr/>
        </p:nvSpPr>
        <p:spPr>
          <a:xfrm>
            <a:off x="1476360" y="4365720"/>
            <a:ext cx="6553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3c8c93"/>
                </a:solidFill>
                <a:latin typeface="Verdana"/>
              </a:rPr>
              <a:t>Unit G.2. - Wine, spirits, and horticultural products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3c8c93"/>
                </a:solidFill>
                <a:latin typeface="Verdana"/>
              </a:rPr>
              <a:t>European Commission</a:t>
            </a:r>
            <a:br>
              <a:rPr sz="1200"/>
            </a:br>
            <a:r>
              <a:rPr b="0" i="1" lang="en-GB" sz="1200" spc="-1" strike="noStrike">
                <a:solidFill>
                  <a:srgbClr val="3c8c93"/>
                </a:solidFill>
                <a:latin typeface="Verdana"/>
              </a:rPr>
              <a:t>DG Agriculture and Rural Development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  <a:p>
            <a:pPr marL="3589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3c8c93"/>
                </a:solidFill>
                <a:latin typeface="Verdana"/>
              </a:rPr>
              <a:t>Directorate G. Markets and Observatories</a:t>
            </a:r>
            <a:br>
              <a:rPr sz="1200"/>
            </a:b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Consumption fruit &amp; vegetable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547640" y="2565360"/>
            <a:ext cx="53280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f5494"/>
                </a:solidFill>
                <a:latin typeface="Calibri"/>
              </a:rPr>
              <a:t>Introduction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f5494"/>
                </a:solidFill>
                <a:latin typeface="Calibri"/>
              </a:rPr>
              <a:t>Statistics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f5494"/>
                </a:solidFill>
                <a:latin typeface="Calibri"/>
              </a:rPr>
              <a:t>Drivers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f5494"/>
                </a:solidFill>
                <a:latin typeface="Calibri"/>
              </a:rPr>
              <a:t>Promotion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600" spc="-1" strike="noStrike">
                <a:solidFill>
                  <a:srgbClr val="0f5494"/>
                </a:solidFill>
                <a:latin typeface="Calibri"/>
              </a:rPr>
              <a:t>EU school scheme</a:t>
            </a:r>
            <a:endParaRPr b="0" i="1" lang="en-US" sz="26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1- Introdu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2" name="Picture 2" descr=""/>
          <p:cNvPicPr/>
          <p:nvPr/>
        </p:nvPicPr>
        <p:blipFill>
          <a:blip r:embed="rId1"/>
          <a:stretch/>
        </p:blipFill>
        <p:spPr>
          <a:xfrm>
            <a:off x="1663560" y="1967040"/>
            <a:ext cx="5792760" cy="44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1- Introduction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Declining</a:t>
            </a:r>
            <a:r>
              <a:rPr b="1" i="1" lang="en-GB" sz="2400" spc="-1" strike="noStrike">
                <a:solidFill>
                  <a:srgbClr val="0f5494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consumption in the EU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Recommended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 consumptio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400 gr /day / perso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5 portions /day / person (80 gr each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Impact 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reduced consumption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Calibri"/>
              </a:rPr>
              <a:t>Health: 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Risk</a:t>
            </a:r>
            <a:r>
              <a:rPr b="0" i="1" lang="en-GB" sz="2400" spc="-1" strike="noStrike">
                <a:solidFill>
                  <a:srgbClr val="0f5494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obesity, cardiovascular diseases, cancer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Calibri"/>
              </a:rPr>
              <a:t>F&amp;V sector: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 Most F&amp;V trade is intra EU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5" name="Picture 2" descr=""/>
          <p:cNvPicPr/>
          <p:nvPr/>
        </p:nvPicPr>
        <p:blipFill>
          <a:blip r:embed="rId1"/>
          <a:stretch/>
        </p:blipFill>
        <p:spPr>
          <a:xfrm>
            <a:off x="4572000" y="3075120"/>
            <a:ext cx="190800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2- Statistic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17" name="Picture 3" descr="H:\my documents\My Pictures\pictures\F&amp;V\Statistics.jpg"/>
          <p:cNvPicPr/>
          <p:nvPr/>
        </p:nvPicPr>
        <p:blipFill>
          <a:blip r:embed="rId1"/>
          <a:stretch/>
        </p:blipFill>
        <p:spPr>
          <a:xfrm>
            <a:off x="1763640" y="1989000"/>
            <a:ext cx="54324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2- Statistic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45720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Calibri"/>
              </a:rPr>
              <a:t>EU consumption below WHO recommendation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FRESHFEL: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 Based on total suppl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f5494"/>
                </a:solidFill>
                <a:latin typeface="Calibri"/>
              </a:rPr>
              <a:t>2014: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 353 gr /day / person (192 gr </a:t>
            </a:r>
            <a:r>
              <a:rPr b="0" i="1" lang="en-GB" sz="2400" spc="-1" strike="noStrike">
                <a:solidFill>
                  <a:srgbClr val="0f5494"/>
                </a:solidFill>
                <a:latin typeface="Calibri"/>
              </a:rPr>
              <a:t>fruit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 + 161 gr </a:t>
            </a:r>
            <a:r>
              <a:rPr b="0" i="1" lang="en-GB" sz="2400" spc="-1" strike="noStrike">
                <a:solidFill>
                  <a:srgbClr val="0f5494"/>
                </a:solidFill>
                <a:latin typeface="Calibri"/>
              </a:rPr>
              <a:t>veg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400" spc="-1" strike="noStrike">
                <a:solidFill>
                  <a:srgbClr val="0f5494"/>
                </a:solidFill>
                <a:latin typeface="Calibri"/>
              </a:rPr>
              <a:t>But recent slight recover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EUROSTAT: 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Health survey EU</a:t>
            </a: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 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population aged 15 or over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14% eat at least 5 portions F&amp;V a da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34% do not eat F&amp;V daily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3- Driv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pic>
        <p:nvPicPr>
          <p:cNvPr id="521" name="Picture 2" descr="H:\my documents\My Pictures\pictures\F&amp;V\drivers.png"/>
          <p:cNvPicPr/>
          <p:nvPr/>
        </p:nvPicPr>
        <p:blipFill>
          <a:blip r:embed="rId1"/>
          <a:stretch/>
        </p:blipFill>
        <p:spPr>
          <a:xfrm>
            <a:off x="3071880" y="2133720"/>
            <a:ext cx="3011400" cy="41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3- Driv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5720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Healthy lifestyle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, weight loss, vegetarian foo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No </a:t>
            </a: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F&amp;V health crisis 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so far: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Exception </a:t>
            </a:r>
            <a:r>
              <a:rPr b="0" i="1" lang="en-GB" sz="2400" spc="-1" strike="noStrike">
                <a:solidFill>
                  <a:srgbClr val="0f5494"/>
                </a:solidFill>
                <a:latin typeface="Calibri"/>
              </a:rPr>
              <a:t>E. coli 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2011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But increasing concerns about pesticid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f5494"/>
                </a:solidFill>
                <a:latin typeface="Calibri"/>
              </a:rPr>
              <a:t>Member States: 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Significant difference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Convenience: 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Easy to eat (easy peelers, cut fruit, 4th range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Taste: 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Ripening, new varieties, new produ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1413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89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3000" spc="-1" strike="noStrike">
                <a:solidFill>
                  <a:srgbClr val="0f5494"/>
                </a:solidFill>
                <a:latin typeface="Verdana"/>
              </a:rPr>
              <a:t>3- Drivers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457200" y="2565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Price: 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Cheap (but "basic" products purchased during crisi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Availability: 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All year round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Proximity: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 Local, regional produ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Sustainability: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 Organic product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Gender, age, education: 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Women, elder, educated consumers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Weather: </a:t>
            </a:r>
            <a:r>
              <a:rPr b="0" lang="en-GB" sz="2400" spc="-1" strike="noStrike">
                <a:solidFill>
                  <a:srgbClr val="0f5494"/>
                </a:solidFill>
                <a:latin typeface="Calibri"/>
              </a:rPr>
              <a:t>Hot (stone fruit), cold (apples, oranges)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spcAft>
                <a:spcPts val="901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f5494"/>
                </a:solidFill>
                <a:latin typeface="Calibri"/>
              </a:rPr>
              <a:t>Promotion 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0f5494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marL="335880" indent="-335880" algn="just">
              <a:lnSpc>
                <a:spcPct val="100000"/>
              </a:lnSpc>
              <a:spcBef>
                <a:spcPts val="601"/>
              </a:spcBef>
              <a:spcAft>
                <a:spcPts val="1199"/>
              </a:spcAft>
              <a:buClr>
                <a:srgbClr val="0f5494"/>
              </a:buClr>
              <a:buSzPct val="120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8T10:25:18Z</dcterms:created>
  <dc:creator>DE ANGELIS Antonio (AGRI)</dc:creator>
  <dc:description/>
  <dc:language>en-US</dc:language>
  <cp:lastModifiedBy>BUSANA Marc (AGRI)</cp:lastModifiedBy>
  <cp:lastPrinted>2018-05-02T12:22:58Z</cp:lastPrinted>
  <dcterms:modified xsi:type="dcterms:W3CDTF">2018-05-02T12:23:22Z</dcterms:modified>
  <cp:revision>662</cp:revision>
  <dc:subject>European Commission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Is Document Visible">
    <vt:lpwstr>0</vt:lpwstr>
  </property>
  <property fmtid="{D5CDD505-2E9C-101B-9397-08002B2CF9AE}" pid="4" name="PublishingExpirationDate">
    <vt:lpwstr/>
  </property>
  <property fmtid="{D5CDD505-2E9C-101B-9397-08002B2CF9AE}" pid="5" name="PublishingStartDate">
    <vt:lpwstr/>
  </property>
</Properties>
</file>