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.png" ContentType="image/png"/>
  <Override PartName="/ppt/media/image24.png" ContentType="image/png"/>
  <Override PartName="/ppt/media/image3.jpeg" ContentType="image/jpeg"/>
  <Override PartName="/ppt/media/image1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04025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040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54160" y="-36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17280" y="746280"/>
            <a:ext cx="497196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79320" y="4722480"/>
            <a:ext cx="54468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54160" y="944352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3EB64A1-46D8-4362-9C9E-D007FFF9900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54520" y="944388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C618E0E-0470-4D79-8DE1-87ECE0F9387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19080" y="746280"/>
            <a:ext cx="4973760" cy="37303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07920" y="4726080"/>
            <a:ext cx="498960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BDFF5-5944-4508-95F9-EDC0BC7FD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BC2F5-85B8-4E60-BBDD-04886076D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5B59D-7666-4340-80CD-AB1441D24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4E524C-66F5-456F-9197-47236ADC0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57DA1-2F97-4C81-8E7A-26EFA70FF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961B3-7F0D-4198-9694-25A6EF5C6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51168-DA81-4DF3-8951-7A8773EA9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09048-2045-4BE6-A9C8-2A7E2F2E4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A51B8-DA47-417F-A1B2-4936B6DF2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9FD2F-A6A0-4A6D-86C0-B5AA5D1DB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4C313-1EA7-4987-81D2-5A0A55A4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1CAFE7-E7F4-4461-A367-279067962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C9348-2DF7-4991-9004-31FE4E9DD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A23B4-A777-41E3-9703-A864D788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54A19-EFB2-4711-8EB8-BD6B7EA78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A202A-B71A-4D97-8D26-021851D58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249192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4335480"/>
            <a:ext cx="264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6E2B9-7C88-4D8E-B1E9-D62ADC758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4762D-C6B6-44E5-B4F4-40D630B7B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E5765-B976-4FDB-AAC1-97B5E48C2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8B49E-B377-4DD3-A6D3-8C858D631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5280" y="13399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0C7BA-DAB9-4DC1-BCE7-3395CE2EB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90325-8B10-4281-A70C-D827FA297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33548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BB873-17EC-4A9D-AC62-B8F9371E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2491920"/>
            <a:ext cx="40158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335480"/>
            <a:ext cx="8229600" cy="168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67536-5396-478E-BB42-51C6E65C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" name="Rectangle 14"/>
          <p:cNvSpPr/>
          <p:nvPr/>
        </p:nvSpPr>
        <p:spPr>
          <a:xfrm>
            <a:off x="0" y="0"/>
            <a:ext cx="9144000" cy="957240"/>
          </a:xfrm>
          <a:prstGeom prst="rect">
            <a:avLst/>
          </a:prstGeom>
          <a:solidFill>
            <a:srgbClr val="0f5494"/>
          </a:solidFill>
          <a:ln w="9360">
            <a:solidFill>
              <a:srgbClr val="0f549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4262400" y="6659640"/>
            <a:ext cx="611280" cy="19836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6" name="Picture 17" descr="LOGO CE_Vertical_EN_NEG_quadri_HR"/>
          <p:cNvPicPr/>
          <p:nvPr/>
        </p:nvPicPr>
        <p:blipFill>
          <a:blip r:embed="rId2"/>
          <a:stretch/>
        </p:blipFill>
        <p:spPr>
          <a:xfrm>
            <a:off x="3849840" y="258840"/>
            <a:ext cx="1436400" cy="100476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5"/>
          <p:cNvSpPr>
            <a:spLocks noGrp="1"/>
          </p:cNvSpPr>
          <p:nvPr>
            <p:ph type="ftr" idx="3"/>
          </p:nvPr>
        </p:nvSpPr>
        <p:spPr>
          <a:xfrm>
            <a:off x="3116160" y="662004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75555-30DD-4969-BF2C-4C8FB5F1CA4E}" type="slidenum">
              <a:rPr b="0" lang="en-GB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981000"/>
            <a:ext cx="9180360" cy="5877000"/>
          </a:xfrm>
          <a:prstGeom prst="rect">
            <a:avLst/>
          </a:prstGeom>
          <a:solidFill>
            <a:srgbClr val="0f5494"/>
          </a:solidFill>
          <a:ln w="25560">
            <a:solidFill>
              <a:srgbClr val="0f549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45" name="Picture 6" descr="LOGO CE-EN-quadri.eps"/>
          <p:cNvPicPr/>
          <p:nvPr/>
        </p:nvPicPr>
        <p:blipFill>
          <a:blip r:embed="rId2"/>
          <a:stretch/>
        </p:blipFill>
        <p:spPr>
          <a:xfrm>
            <a:off x="3849840" y="258840"/>
            <a:ext cx="1436400" cy="998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1"/>
          <p:cNvSpPr/>
          <p:nvPr/>
        </p:nvSpPr>
        <p:spPr>
          <a:xfrm>
            <a:off x="4267080" y="6659640"/>
            <a:ext cx="611280" cy="216000"/>
          </a:xfrm>
          <a:prstGeom prst="rect">
            <a:avLst/>
          </a:prstGeom>
          <a:solidFill>
            <a:srgbClr val="133176"/>
          </a:solidFill>
          <a:ln w="9360">
            <a:solidFill>
              <a:srgbClr val="13317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133992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3589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f5494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249192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Click to edit the outline text format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9fb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con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f5494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Third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our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Fif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ix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f5494"/>
                </a:solidFill>
                <a:latin typeface="Verdana"/>
              </a:rPr>
              <a:t>Seventh Outline Level</a:t>
            </a:r>
            <a:endParaRPr b="0" i="1" lang="en-US" sz="24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375D2-6CB6-430F-A00B-586B0A2EEB86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39280" y="4797000"/>
            <a:ext cx="755964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d624"/>
                </a:solidFill>
                <a:latin typeface="Verdana"/>
              </a:rPr>
              <a:t>European Commission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d624"/>
                </a:solidFill>
                <a:latin typeface="Verdana"/>
              </a:rPr>
              <a:t>DG Agriculture and Rural Development 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d624"/>
                </a:solidFill>
                <a:latin typeface="Verdana"/>
              </a:rPr>
              <a:t>Unit G.2 Wine, spirits, and horticultural products</a:t>
            </a: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600" spc="-1" strike="noStrike">
              <a:solidFill>
                <a:srgbClr val="0f5494"/>
              </a:solidFill>
              <a:latin typeface="Verdana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533520" y="6172200"/>
            <a:ext cx="8381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d624"/>
                </a:solidFill>
                <a:latin typeface="Verdana"/>
              </a:rPr>
              <a:t>Working Group "Apples &amp; Pears"</a:t>
            </a:r>
            <a:br>
              <a:rPr sz="1200"/>
            </a:br>
            <a:r>
              <a:rPr b="1" lang="en-GB" sz="1200" spc="-1" strike="noStrike">
                <a:solidFill>
                  <a:srgbClr val="ffd624"/>
                </a:solidFill>
                <a:latin typeface="Verdana"/>
              </a:rPr>
              <a:t>3 May 2018</a:t>
            </a:r>
            <a:endParaRPr b="1" lang="en-US" sz="12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610920" y="2349360"/>
            <a:ext cx="7848360" cy="13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2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4000" spc="-1" strike="noStrike">
                <a:solidFill>
                  <a:srgbClr val="ffd624"/>
                </a:solidFill>
                <a:latin typeface="Verdana"/>
              </a:rPr>
              <a:t>EU trade in apples &amp; pears</a:t>
            </a:r>
            <a:br>
              <a:rPr sz="4000"/>
            </a:br>
            <a:br>
              <a:rPr sz="2400"/>
            </a:br>
            <a:endParaRPr b="1" lang="en-US" sz="4000" spc="-1" strike="noStrike">
              <a:solidFill>
                <a:srgbClr val="0f549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4"/>
          <p:cNvSpPr/>
          <p:nvPr/>
        </p:nvSpPr>
        <p:spPr>
          <a:xfrm>
            <a:off x="3116160" y="662004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54141-22C6-494D-83B6-6E3871AC6260}" type="slidenum">
              <a:rPr b="1" lang="en-GB" sz="1000" spc="-1" strike="noStrike">
                <a:solidFill>
                  <a:srgbClr val="ffd624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21" name="Picture 2" descr="H:\my documents\My Pictures\pictures\F&amp;V\apple juice.jpg"/>
          <p:cNvPicPr/>
          <p:nvPr/>
        </p:nvPicPr>
        <p:blipFill>
          <a:blip r:embed="rId1"/>
          <a:stretch/>
        </p:blipFill>
        <p:spPr>
          <a:xfrm>
            <a:off x="2340000" y="1844640"/>
            <a:ext cx="3997440" cy="39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Footer Placeholder 4"/>
          <p:cNvSpPr/>
          <p:nvPr/>
        </p:nvSpPr>
        <p:spPr>
          <a:xfrm>
            <a:off x="3116160" y="662004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C837D-1E18-4584-B4B7-3C95873CC0DE}" type="slidenum">
              <a:rPr b="1" lang="en-GB" sz="1000" spc="-1" strike="noStrike">
                <a:solidFill>
                  <a:srgbClr val="ffd624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826920" y="1484280"/>
            <a:ext cx="741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U trade in apple juice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1"/>
          <a:stretch/>
        </p:blipFill>
        <p:spPr>
          <a:xfrm>
            <a:off x="611280" y="1663560"/>
            <a:ext cx="7921440" cy="48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4"/>
          <p:cNvSpPr/>
          <p:nvPr/>
        </p:nvSpPr>
        <p:spPr>
          <a:xfrm>
            <a:off x="3116160" y="662004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E16CC-631C-4B53-B573-3E4E8022A93F}" type="slidenum">
              <a:rPr b="1" lang="en-GB" sz="1000" spc="-1" strike="noStrike">
                <a:solidFill>
                  <a:srgbClr val="ffd624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826920" y="1484280"/>
            <a:ext cx="741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U imports of apple juice by country of origin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614520" y="1655640"/>
            <a:ext cx="7842240" cy="47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4"/>
          <p:cNvSpPr/>
          <p:nvPr/>
        </p:nvSpPr>
        <p:spPr>
          <a:xfrm>
            <a:off x="3116160" y="662004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7F153-1653-4CF6-896F-56D853FD76A0}" type="slidenum">
              <a:rPr b="1" lang="en-GB" sz="1000" spc="-1" strike="noStrike">
                <a:solidFill>
                  <a:srgbClr val="ffd624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826920" y="1484280"/>
            <a:ext cx="741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U exports of apple juice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30" name="Picture 5" descr=""/>
          <p:cNvPicPr/>
          <p:nvPr/>
        </p:nvPicPr>
        <p:blipFill>
          <a:blip r:embed="rId1"/>
          <a:stretch/>
        </p:blipFill>
        <p:spPr>
          <a:xfrm>
            <a:off x="893880" y="1773360"/>
            <a:ext cx="70642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Footer Placeholder 3"/>
          <p:cNvSpPr/>
          <p:nvPr/>
        </p:nvSpPr>
        <p:spPr>
          <a:xfrm>
            <a:off x="3116160" y="662004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83151-81A8-4175-97C7-B6CC59B10273}" type="slidenum">
              <a:rPr b="1" lang="en-GB" sz="1000" spc="-1" strike="noStrike">
                <a:solidFill>
                  <a:srgbClr val="ffd624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2" name="Rectangle 2"/>
          <p:cNvSpPr/>
          <p:nvPr/>
        </p:nvSpPr>
        <p:spPr>
          <a:xfrm>
            <a:off x="1258920" y="3227400"/>
            <a:ext cx="662472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589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6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33" name="Picture 4" descr="H:\my documents\My Pictures\pictures\F&amp;V\pera.jpg"/>
          <p:cNvPicPr/>
          <p:nvPr/>
        </p:nvPicPr>
        <p:blipFill>
          <a:blip r:embed="rId1"/>
          <a:stretch/>
        </p:blipFill>
        <p:spPr>
          <a:xfrm>
            <a:off x="1547640" y="1916280"/>
            <a:ext cx="5867640" cy="39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Footer Placeholder 4"/>
          <p:cNvSpPr/>
          <p:nvPr/>
        </p:nvSpPr>
        <p:spPr>
          <a:xfrm>
            <a:off x="3116160" y="662004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F0DB3-A00D-4C8F-917F-A08A3224DA12}" type="slidenum">
              <a:rPr b="1" lang="en-GB" sz="1000" spc="-1" strike="noStrike">
                <a:solidFill>
                  <a:srgbClr val="ffd624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826920" y="1484280"/>
            <a:ext cx="741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U trade in pears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36" name="Picture 5" descr=""/>
          <p:cNvPicPr/>
          <p:nvPr/>
        </p:nvPicPr>
        <p:blipFill>
          <a:blip r:embed="rId1"/>
          <a:stretch/>
        </p:blipFill>
        <p:spPr>
          <a:xfrm>
            <a:off x="324000" y="1341360"/>
            <a:ext cx="8424720" cy="51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Footer Placeholder 4"/>
          <p:cNvSpPr/>
          <p:nvPr/>
        </p:nvSpPr>
        <p:spPr>
          <a:xfrm>
            <a:off x="3116160" y="662004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34B47-FA02-4947-87A0-37923836D780}" type="slidenum">
              <a:rPr b="1" lang="en-GB" sz="1000" spc="-1" strike="noStrike">
                <a:solidFill>
                  <a:srgbClr val="ffd624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826920" y="1484280"/>
            <a:ext cx="741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U imports of pears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39" name="Picture 5" descr=""/>
          <p:cNvPicPr/>
          <p:nvPr/>
        </p:nvPicPr>
        <p:blipFill>
          <a:blip r:embed="rId1"/>
          <a:stretch/>
        </p:blipFill>
        <p:spPr>
          <a:xfrm>
            <a:off x="609480" y="1684440"/>
            <a:ext cx="7923240" cy="48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4"/>
          <p:cNvSpPr/>
          <p:nvPr/>
        </p:nvSpPr>
        <p:spPr>
          <a:xfrm>
            <a:off x="3116160" y="662004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853F5-A5D6-4C13-B6C9-1279FD62F4A2}" type="slidenum">
              <a:rPr b="1" lang="en-GB" sz="1000" spc="-1" strike="noStrike">
                <a:solidFill>
                  <a:srgbClr val="ffd624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826920" y="1484280"/>
            <a:ext cx="741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U imports of pears by country of origin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42" name="Picture 5" descr=""/>
          <p:cNvPicPr/>
          <p:nvPr/>
        </p:nvPicPr>
        <p:blipFill>
          <a:blip r:embed="rId1"/>
          <a:stretch/>
        </p:blipFill>
        <p:spPr>
          <a:xfrm>
            <a:off x="650880" y="1684440"/>
            <a:ext cx="7859880" cy="48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ooter Placeholder 4"/>
          <p:cNvSpPr/>
          <p:nvPr/>
        </p:nvSpPr>
        <p:spPr>
          <a:xfrm>
            <a:off x="3116160" y="662004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17038-2D99-47E5-9C3F-4BCAC0D95BDA}" type="slidenum">
              <a:rPr b="1" lang="en-GB" sz="1000" spc="-1" strike="noStrike">
                <a:solidFill>
                  <a:srgbClr val="ffd624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826920" y="1484280"/>
            <a:ext cx="741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U exports of pears by destination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1"/>
          <a:stretch/>
        </p:blipFill>
        <p:spPr>
          <a:xfrm>
            <a:off x="433440" y="1484280"/>
            <a:ext cx="8242200" cy="50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Footer Placeholder 4"/>
          <p:cNvSpPr/>
          <p:nvPr/>
        </p:nvSpPr>
        <p:spPr>
          <a:xfrm>
            <a:off x="3116160" y="662004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409A4-5C4D-4DEA-B535-81AE87F8A8BF}" type="slidenum">
              <a:rPr b="1" lang="en-GB" sz="1000" spc="-1" strike="noStrike">
                <a:solidFill>
                  <a:srgbClr val="ffd624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826920" y="1484280"/>
            <a:ext cx="741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tra EU trade in pears – Main exporters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324000" y="1349280"/>
            <a:ext cx="845640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3"/>
          <p:cNvSpPr/>
          <p:nvPr/>
        </p:nvSpPr>
        <p:spPr>
          <a:xfrm>
            <a:off x="3116160" y="662004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6E8F7-4C55-4724-BACE-98F291AA2CAE}" type="slidenum">
              <a:rPr b="1" lang="en-GB" sz="1000" spc="-1" strike="noStrike">
                <a:solidFill>
                  <a:srgbClr val="ffd624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99" name="Rectangle 8"/>
          <p:cNvSpPr/>
          <p:nvPr/>
        </p:nvSpPr>
        <p:spPr>
          <a:xfrm>
            <a:off x="1258920" y="2276640"/>
            <a:ext cx="7561080" cy="38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Arial"/>
              </a:rPr>
              <a:t>Disclaimer: This statistical document has been prepared by Unit G.2 of DG AGRI in order to stimulate the discussion at the Expert Group “Tomatoes”. It is a mere working document.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f5494"/>
                </a:solidFill>
                <a:latin typeface="Arial"/>
              </a:rPr>
              <a:t>The Commission does not accept any responsibility in respect of the exactness of data included.</a:t>
            </a:r>
            <a:r>
              <a:rPr b="0" i="1" lang="en-GB" sz="1800" spc="-1" strike="noStrike">
                <a:solidFill>
                  <a:srgbClr val="0f5494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d624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Footer Placeholder 4"/>
          <p:cNvSpPr/>
          <p:nvPr/>
        </p:nvSpPr>
        <p:spPr>
          <a:xfrm>
            <a:off x="3116160" y="662004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33231-DAE6-4FA3-A761-387B8907DC72}" type="slidenum">
              <a:rPr b="1" lang="en-GB" sz="1000" spc="-1" strike="noStrike">
                <a:solidFill>
                  <a:srgbClr val="ffd624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826920" y="1484280"/>
            <a:ext cx="741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tra EU trade in pears – Main importers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51" name="Picture 3" descr=""/>
          <p:cNvPicPr/>
          <p:nvPr/>
        </p:nvPicPr>
        <p:blipFill>
          <a:blip r:embed="rId1"/>
          <a:stretch/>
        </p:blipFill>
        <p:spPr>
          <a:xfrm>
            <a:off x="450720" y="1989000"/>
            <a:ext cx="8399520" cy="445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3116160" y="662004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A216C-7B38-4735-941B-0F357189D316}" type="slidenum">
              <a:rPr b="1" lang="en-GB" sz="1000" spc="-1" strike="noStrike">
                <a:solidFill>
                  <a:srgbClr val="ffd624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53" name="Picture 3" descr="H:\my documents\My Pictures\pictures\F&amp;V\pear juice 2.jpg"/>
          <p:cNvPicPr/>
          <p:nvPr/>
        </p:nvPicPr>
        <p:blipFill>
          <a:blip r:embed="rId1"/>
          <a:stretch/>
        </p:blipFill>
        <p:spPr>
          <a:xfrm>
            <a:off x="2195640" y="1413000"/>
            <a:ext cx="4552920" cy="46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4"/>
          <p:cNvSpPr/>
          <p:nvPr/>
        </p:nvSpPr>
        <p:spPr>
          <a:xfrm>
            <a:off x="3116160" y="662004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A58B6-BC00-4E36-818E-67F80A92B6A2}" type="slidenum">
              <a:rPr b="1" lang="en-GB" sz="1000" spc="-1" strike="noStrike">
                <a:solidFill>
                  <a:srgbClr val="ffd624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826920" y="1484280"/>
            <a:ext cx="741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U imports of pear juice by country of origin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56" name="Picture 5" descr=""/>
          <p:cNvPicPr/>
          <p:nvPr/>
        </p:nvPicPr>
        <p:blipFill>
          <a:blip r:embed="rId1"/>
          <a:stretch/>
        </p:blipFill>
        <p:spPr>
          <a:xfrm>
            <a:off x="539640" y="1495440"/>
            <a:ext cx="8088480" cy="49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Footer Placeholder 4"/>
          <p:cNvSpPr/>
          <p:nvPr/>
        </p:nvSpPr>
        <p:spPr>
          <a:xfrm>
            <a:off x="3116160" y="662004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05849-9FF1-4329-96AD-06129C826305}" type="slidenum">
              <a:rPr b="1" lang="en-GB" sz="1000" spc="-1" strike="noStrike">
                <a:solidFill>
                  <a:srgbClr val="ffd624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826920" y="1484280"/>
            <a:ext cx="741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U exports of pear juice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59" name="Picture 5" descr=""/>
          <p:cNvPicPr/>
          <p:nvPr/>
        </p:nvPicPr>
        <p:blipFill>
          <a:blip r:embed="rId1"/>
          <a:stretch/>
        </p:blipFill>
        <p:spPr>
          <a:xfrm>
            <a:off x="538200" y="1484280"/>
            <a:ext cx="799452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3116160" y="662004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0C8D-B1C7-4A22-BB45-BBB906A40FB1}" type="slidenum">
              <a:rPr b="1" lang="en-GB" sz="1000" spc="-1" strike="noStrike">
                <a:solidFill>
                  <a:srgbClr val="ffd624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457200" y="2962440"/>
            <a:ext cx="8229600" cy="93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ooter Placeholder 4"/>
          <p:cNvSpPr/>
          <p:nvPr/>
        </p:nvSpPr>
        <p:spPr>
          <a:xfrm>
            <a:off x="3116160" y="662004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3E878-CCCE-4371-BF9C-360BE3291CF5}" type="slidenum">
              <a:rPr b="1" lang="en-GB" sz="1000" spc="-1" strike="noStrike">
                <a:solidFill>
                  <a:srgbClr val="ffd624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01" name="Picture 5" descr="H:\my documents\My Pictures\pictures\F&amp;V\apples.jpg"/>
          <p:cNvPicPr/>
          <p:nvPr/>
        </p:nvPicPr>
        <p:blipFill>
          <a:blip r:embed="rId1"/>
          <a:stretch/>
        </p:blipFill>
        <p:spPr>
          <a:xfrm>
            <a:off x="2340000" y="2158920"/>
            <a:ext cx="435132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ooter Placeholder 4"/>
          <p:cNvSpPr/>
          <p:nvPr/>
        </p:nvSpPr>
        <p:spPr>
          <a:xfrm>
            <a:off x="3116160" y="662004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6242B-D2BC-4B1D-9FB6-568D5D402D8A}" type="slidenum">
              <a:rPr b="1" lang="en-GB" sz="1000" spc="-1" strike="noStrike">
                <a:solidFill>
                  <a:srgbClr val="ffd624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2916360" y="148428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U trade in apples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04" name="Picture 5" descr=""/>
          <p:cNvPicPr/>
          <p:nvPr/>
        </p:nvPicPr>
        <p:blipFill>
          <a:blip r:embed="rId1"/>
          <a:stretch/>
        </p:blipFill>
        <p:spPr>
          <a:xfrm>
            <a:off x="1077840" y="2016000"/>
            <a:ext cx="7132680" cy="43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Footer Placeholder 4"/>
          <p:cNvSpPr/>
          <p:nvPr/>
        </p:nvSpPr>
        <p:spPr>
          <a:xfrm>
            <a:off x="3116160" y="662004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CD334-EDD2-4A5F-BADA-918D9372217B}" type="slidenum">
              <a:rPr b="1" lang="en-GB" sz="1000" spc="-1" strike="noStrike">
                <a:solidFill>
                  <a:srgbClr val="ffd624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1547640" y="1484280"/>
            <a:ext cx="604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U imports of apples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07" name="Picture 5" descr=""/>
          <p:cNvPicPr/>
          <p:nvPr/>
        </p:nvPicPr>
        <p:blipFill>
          <a:blip r:embed="rId1"/>
          <a:stretch/>
        </p:blipFill>
        <p:spPr>
          <a:xfrm>
            <a:off x="1077840" y="2133720"/>
            <a:ext cx="69865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3116160" y="662004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AEFC3-DD07-47B4-AAEE-AA865EA1D910}" type="slidenum">
              <a:rPr b="1" lang="en-GB" sz="1000" spc="-1" strike="noStrike">
                <a:solidFill>
                  <a:srgbClr val="ffd624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826920" y="1484280"/>
            <a:ext cx="741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U imports of apples by country of origin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10" name="Picture 5" descr=""/>
          <p:cNvPicPr/>
          <p:nvPr/>
        </p:nvPicPr>
        <p:blipFill>
          <a:blip r:embed="rId1"/>
          <a:stretch/>
        </p:blipFill>
        <p:spPr>
          <a:xfrm>
            <a:off x="917640" y="1884240"/>
            <a:ext cx="7235640" cy="464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3116160" y="662004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413F4-3668-4190-AB89-D7FF522DF9E5}" type="slidenum">
              <a:rPr b="1" lang="en-GB" sz="1000" spc="-1" strike="noStrike">
                <a:solidFill>
                  <a:srgbClr val="ffd624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826920" y="1484280"/>
            <a:ext cx="741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U exports of apples by destination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1004760" y="1989000"/>
            <a:ext cx="7066080" cy="43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Footer Placeholder 4"/>
          <p:cNvSpPr/>
          <p:nvPr/>
        </p:nvSpPr>
        <p:spPr>
          <a:xfrm>
            <a:off x="3116160" y="662004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4E32-D5B6-47DB-9C2B-89F858BC40BD}" type="slidenum">
              <a:rPr b="1" lang="en-GB" sz="1000" spc="-1" strike="noStrike">
                <a:solidFill>
                  <a:srgbClr val="ffd624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826920" y="1484280"/>
            <a:ext cx="741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tra EU trade in apples – Main exporters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16" name="Picture 5" descr=""/>
          <p:cNvPicPr/>
          <p:nvPr/>
        </p:nvPicPr>
        <p:blipFill>
          <a:blip r:embed="rId1"/>
          <a:stretch/>
        </p:blipFill>
        <p:spPr>
          <a:xfrm>
            <a:off x="971640" y="2060640"/>
            <a:ext cx="7200720" cy="44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4"/>
          <p:cNvSpPr/>
          <p:nvPr/>
        </p:nvSpPr>
        <p:spPr>
          <a:xfrm>
            <a:off x="3116160" y="662004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F3864-5D62-4B24-BD86-EF2961E0E429}" type="slidenum">
              <a:rPr b="1" lang="en-GB" sz="1000" spc="-1" strike="noStrike">
                <a:solidFill>
                  <a:srgbClr val="ffd624"/>
                </a:solidFill>
                <a:latin typeface="Arial"/>
              </a:rPr>
              <a:t>&lt;number&gt;</a:t>
            </a:fld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ffd624"/>
              </a:solidFill>
              <a:latin typeface="Verdana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826920" y="1484280"/>
            <a:ext cx="741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ntra EU trade in apples – Main importers</a:t>
            </a:r>
            <a:endParaRPr b="1" lang="en-US" sz="2000" spc="-1" strike="noStrike">
              <a:solidFill>
                <a:srgbClr val="ffd624"/>
              </a:solidFill>
              <a:latin typeface="Verdana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501480" y="1967040"/>
            <a:ext cx="8067960" cy="44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1T15:55:51Z</dcterms:created>
  <dc:creator>ierugau</dc:creator>
  <dc:description/>
  <dc:language>en-US</dc:language>
  <cp:lastModifiedBy>BUSANA Marc (AGRI)</cp:lastModifiedBy>
  <cp:lastPrinted>2018-05-02T12:21:06Z</cp:lastPrinted>
  <dcterms:modified xsi:type="dcterms:W3CDTF">2018-05-02T12:21:47Z</dcterms:modified>
  <cp:revision>242</cp:revision>
  <dc:subject/>
  <dc:title>Title</dc:title>
</cp:coreProperties>
</file>