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3870-41AF-4BE1-9659-21AF97F24A57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009A-96CA-41C8-9F4A-2795AF35F1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359A-4ED5-4A4D-9E9C-610C9CB9AF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76B4-7DB8-46A2-B2A6-F9A691BF42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DB11-9B20-4140-A08A-B8B357BF7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626A-9949-4B04-9132-70BFA21610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D448-4581-4744-B785-11344B255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125C-1A65-40B9-B1DE-30CDCE96F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3AE5-BE3D-48C4-A814-269DCA552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8ACA-0681-4D3E-A848-AAB858A5C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6D9B-7CB9-41FF-AB21-338B6ABFF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80C-6166-4240-8FC8-2DD61D70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2DA-E1DA-4092-8FBA-5FD2D98E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6D9-69C8-4DCF-BC19-5B1B52E6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BE6-D7F2-464D-A665-7A59708B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79EE-5662-4E86-83C9-D2A4D93D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CA0F-1554-4C59-81BA-F418AF3A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F8EF-9B1B-49F3-B344-8410B5F6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A6C6-230B-4F0F-A2B0-1EE1DDF9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8018-245E-4CAA-BF3D-215FC7CB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EFD9-5F1E-4FA7-B732-4F729D4F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8166-9ECB-4810-9494-541599E7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6C1-9511-47F3-8377-701BEC1A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4C4C-B8F1-4450-956D-F9706FD4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CF38-4AA1-4253-A19A-745E20EB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DD7C-5000-4F35-B11A-88D1219D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8A34-9666-490B-BBD9-58D849A1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7345-566C-4BD4-B112-0007823C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8D9-22DC-4291-A8C2-4B26F004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805-14ED-49EC-B385-FB9E374C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0A4-2A09-42C3-A512-94D97A50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559-D730-4B28-9676-436DA1C8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777-79FB-432E-8C8C-EC598EB3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4D4-0947-4153-851C-9F08319C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A43-D3F1-4CED-ACE7-524DFC3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B933-7F07-41DD-B346-7AE113B4BB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1F11-1ECD-4C8F-BBF8-A275835FEC8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lant_protection_products/legislatio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9440" y="2852280"/>
            <a:ext cx="853128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Minor Uses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-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87280" y="3527280"/>
            <a:ext cx="68407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225440" y="5349960"/>
            <a:ext cx="68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Jeroen Meeusse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DG SANT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06360" y="1400040"/>
            <a:ext cx="8531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DG AGRI – Advisory Group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IPM ERANE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ERANETs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re research coordination instruments whereby Member States can coordinate their national research activ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o find EU-viable solutions with a focus on IPM-practices, low risk substances and biopesticid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PM ERANET has started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early 2014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nd involves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32 partners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is activity is led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G RT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urrent statu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2204640"/>
            <a:ext cx="84358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Adoption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of the report by COM on 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;</a:t>
            </a:r>
            <a:r>
              <a:rPr b="0" i="1" lang="fr-BE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has been presented to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GRI-Council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 May 2014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Publication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Financial Decision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n November 2014;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Proposal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from interested party in final evaluation phase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Start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technical secretariat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mid 2015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589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  <a:ea typeface="MS PGothic"/>
              </a:rPr>
              <a:t>ANY QUES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1" name="Picture 2" descr="C:\Users\meeusje\Pictures\imagesCAKL7UM2.jpg"/>
          <p:cNvPicPr/>
          <p:nvPr/>
        </p:nvPicPr>
        <p:blipFill>
          <a:blip r:embed="rId1"/>
          <a:stretch/>
        </p:blipFill>
        <p:spPr>
          <a:xfrm>
            <a:off x="4500720" y="278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meeusje\Pictures\imagesCAE1GUOP.jpg"/>
          <p:cNvPicPr/>
          <p:nvPr/>
        </p:nvPicPr>
        <p:blipFill>
          <a:blip r:embed="rId2"/>
          <a:stretch/>
        </p:blipFill>
        <p:spPr>
          <a:xfrm>
            <a:off x="2268360" y="256536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 (definition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Use of a plant protection product in a particular Member State on plants or plant products which are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a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not 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in that Member State,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o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b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to meet an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exceptional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plant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    protection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 need</a:t>
            </a: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0000"/>
                </a:solidFill>
                <a:latin typeface="Verdana"/>
              </a:rPr>
              <a:t>Representing 22% of the value of EU total agricultural production; 3% of the cultivated are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ack of sufficient market potential can lead to: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Illegal uses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consequences for human health and the environment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Loss of crop produc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its economic impact on agricultu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3" name="Picture 2" descr="C:\Users\meeusje\Pictures\untitled.minor.png"/>
          <p:cNvPicPr/>
          <p:nvPr/>
        </p:nvPicPr>
        <p:blipFill>
          <a:blip r:embed="rId1"/>
          <a:stretch/>
        </p:blipFill>
        <p:spPr>
          <a:xfrm>
            <a:off x="5724360" y="4869000"/>
            <a:ext cx="21495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rticle 51(9)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y 14 December 2011, the Commission shall present a report to the European Parliament and the Council on the establishment of a European fund for minor uses, accompanied, if appropriate, by a legislative proposal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was adopted on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Key-message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will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ssist in the creation of an independent coordination facility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("Technical Secretariat") on minor uses which is co-funded by the Commiss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will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upport an ERANET on Integrated Pest Management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specific reference to minor us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Report was presented to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AGRI-Council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 on 19 May 2014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trong support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or the Report was expressed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majority supported COM in identifying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'option 3'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(co-funding of Coordination Facility) as the better solut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e details of the secretariat should be further discussed at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echnical level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Expert-meeting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xpert-meeting with COM, MS and stakeholders was organised on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1 July 2014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to discuss a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draft outline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of the Coordination Facilit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perational issues: organisation and structure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inancial arrangement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ocation and facil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625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f5494"/>
                </a:solidFill>
                <a:latin typeface="Verdana"/>
              </a:rPr>
              <a:t>Co-funded by the Commission: grant of </a:t>
            </a:r>
            <a:r>
              <a:rPr b="0" i="1" lang="en-GB" sz="2800" spc="-1" strike="noStrike">
                <a:solidFill>
                  <a:srgbClr val="ff0000"/>
                </a:solidFill>
                <a:latin typeface="Verdana"/>
              </a:rPr>
              <a:t>€350,000/year</a:t>
            </a:r>
            <a:r>
              <a:rPr b="0" i="1" lang="en-GB" sz="28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625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f5494"/>
                </a:solidFill>
                <a:latin typeface="Verdana"/>
              </a:rPr>
              <a:t>This activity is led by DG SANTE.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625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f5494"/>
                </a:solidFill>
                <a:latin typeface="Verdana"/>
              </a:rPr>
              <a:t>Budget has been allocated in the </a:t>
            </a:r>
            <a:r>
              <a:rPr b="0" i="1" lang="fr-BE" sz="2800" spc="-1" strike="noStrike">
                <a:solidFill>
                  <a:srgbClr val="ff0000"/>
                </a:solidFill>
                <a:latin typeface="Verdana"/>
              </a:rPr>
              <a:t>Financial Decision </a:t>
            </a:r>
            <a:r>
              <a:rPr b="0" i="1" lang="fr-BE" sz="2800" spc="-1" strike="noStrike">
                <a:solidFill>
                  <a:srgbClr val="0f5494"/>
                </a:solidFill>
                <a:latin typeface="Verdana"/>
              </a:rPr>
              <a:t>(OJ 18 November 2014)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asks of 'technical secretariat'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haring of inform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nd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experience gaine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t national level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oordin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of minor use work between Member States and stakeholder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re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maintenance of a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ata bas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 minor use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timulation of harmonis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(e.g. crop group and pest group definitions, development of guidance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7:49:02Z</dcterms:created>
  <dc:creator>MEEUSSEN Jeroen (SANCO)</dc:creator>
  <dc:description/>
  <dc:language>en-US</dc:language>
  <cp:lastModifiedBy>MEEUSSEN Jeroen (SANCO)</cp:lastModifiedBy>
  <cp:lastPrinted>2014-09-29T14:54:08Z</cp:lastPrinted>
  <dcterms:modified xsi:type="dcterms:W3CDTF">2015-02-17T11:07:49Z</dcterms:modified>
  <cp:revision>44</cp:revision>
  <dc:subject/>
  <dc:title>Utilisations mineures</dc:title>
</cp:coreProperties>
</file>