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1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1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1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B5C1-98E1-4A76-8C5D-4C8263999A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7ADF-D048-4E56-A1AA-8CE62CD619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68360" y="6308640"/>
            <a:ext cx="36828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MO CGV370 October 10th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7524360" y="6308280"/>
            <a:ext cx="11667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j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84984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5" name="Text Box 18"/>
          <p:cNvSpPr/>
          <p:nvPr/>
        </p:nvSpPr>
        <p:spPr>
          <a:xfrm>
            <a:off x="3005280" y="6643800"/>
            <a:ext cx="3168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1236-2D9A-4E4B-990C-BF55C4F9634A}" type="slidenum">
              <a:rPr b="1" lang="en-GB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849840" y="258840"/>
            <a:ext cx="143640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9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84984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8"/>
          <p:cNvSpPr/>
          <p:nvPr/>
        </p:nvSpPr>
        <p:spPr>
          <a:xfrm>
            <a:off x="3005280" y="6643800"/>
            <a:ext cx="3168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DC7A-26F6-488A-8A3C-5705FABA5625}" type="slidenum">
              <a:rPr b="1" lang="en-GB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468360" y="6308640"/>
            <a:ext cx="36828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MO CGV January 29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6"/>
          </p:nvPr>
        </p:nvSpPr>
        <p:spPr>
          <a:xfrm>
            <a:off x="7524360" y="6308280"/>
            <a:ext cx="11667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j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33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84984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8"/>
          <p:cNvSpPr/>
          <p:nvPr/>
        </p:nvSpPr>
        <p:spPr>
          <a:xfrm>
            <a:off x="3005280" y="6643800"/>
            <a:ext cx="3168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6E6A-5C88-41A3-84A8-8DD2CDE3F126}" type="slidenum">
              <a:rPr b="1" lang="en-GB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468360" y="6308640"/>
            <a:ext cx="36828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MO CGV January 29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8"/>
          </p:nvPr>
        </p:nvSpPr>
        <p:spPr>
          <a:xfrm>
            <a:off x="7524360" y="6308280"/>
            <a:ext cx="11667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j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7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84984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8"/>
          <p:cNvSpPr/>
          <p:nvPr/>
        </p:nvSpPr>
        <p:spPr>
          <a:xfrm>
            <a:off x="3005280" y="6643800"/>
            <a:ext cx="3168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8912-89C6-449B-BD96-90584DAB01B1}" type="slidenum">
              <a:rPr b="1" lang="en-GB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9"/>
          </p:nvPr>
        </p:nvSpPr>
        <p:spPr>
          <a:xfrm>
            <a:off x="468360" y="6308640"/>
            <a:ext cx="36828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MO CGV January 29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0"/>
          </p:nvPr>
        </p:nvSpPr>
        <p:spPr>
          <a:xfrm>
            <a:off x="7524360" y="6308280"/>
            <a:ext cx="11667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j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1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84984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8"/>
          <p:cNvSpPr/>
          <p:nvPr/>
        </p:nvSpPr>
        <p:spPr>
          <a:xfrm>
            <a:off x="3005280" y="6643800"/>
            <a:ext cx="3168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F639-C49B-4DC3-987F-46C58ADAE754}" type="slidenum">
              <a:rPr b="1" lang="en-GB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1"/>
          </p:nvPr>
        </p:nvSpPr>
        <p:spPr>
          <a:xfrm>
            <a:off x="468360" y="6308640"/>
            <a:ext cx="36828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MO CGV January 29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2"/>
          </p:nvPr>
        </p:nvSpPr>
        <p:spPr>
          <a:xfrm>
            <a:off x="7524360" y="6308280"/>
            <a:ext cx="11667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j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5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84984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18"/>
          <p:cNvSpPr/>
          <p:nvPr/>
        </p:nvSpPr>
        <p:spPr>
          <a:xfrm>
            <a:off x="3005280" y="6643800"/>
            <a:ext cx="3168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4FEB-4DEF-4D66-8124-5F2170291743}" type="slidenum">
              <a:rPr b="1" lang="en-GB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468360" y="6308640"/>
            <a:ext cx="36828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MO CGV January 29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7524360" y="6308280"/>
            <a:ext cx="11667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j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9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84984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18"/>
          <p:cNvSpPr/>
          <p:nvPr/>
        </p:nvSpPr>
        <p:spPr>
          <a:xfrm>
            <a:off x="3005280" y="6643800"/>
            <a:ext cx="3168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31D3-EEA5-4938-8755-BB3101BDE1B1}" type="slidenum">
              <a:rPr b="1" lang="en-GB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5"/>
          </p:nvPr>
        </p:nvSpPr>
        <p:spPr>
          <a:xfrm>
            <a:off x="468360" y="6308640"/>
            <a:ext cx="36828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MO CGV January 29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16"/>
          </p:nvPr>
        </p:nvSpPr>
        <p:spPr>
          <a:xfrm>
            <a:off x="7524360" y="6308280"/>
            <a:ext cx="11667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j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0" y="5876640"/>
            <a:ext cx="914400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i="1" lang="en-US" sz="3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431280" y="1628640"/>
            <a:ext cx="849636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HOPS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Civil Dialog Group  Arable Crops</a:t>
            </a:r>
            <a:br>
              <a:rPr sz="2400"/>
            </a:b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18 February 2015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Market situation 2013/14</a:t>
            </a:r>
            <a:r>
              <a:rPr b="1" lang="en-GB" sz="5700" spc="-1" strike="noStrike">
                <a:solidFill>
                  <a:srgbClr val="ffd624"/>
                </a:solidFill>
                <a:latin typeface="Verdana"/>
              </a:rPr>
              <a:t> </a:t>
            </a:r>
            <a:br>
              <a:rPr sz="1800"/>
            </a:br>
            <a:endParaRPr b="1" lang="en-US" sz="5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6372360" y="6093000"/>
            <a:ext cx="17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61" name="Picture 6" descr="U:\_H  cmo-Houblon\H.26 - Banalités - Divers\image houblon\M12JUBDO.JPG"/>
          <p:cNvPicPr/>
          <p:nvPr/>
        </p:nvPicPr>
        <p:blipFill>
          <a:blip r:embed="rId1"/>
          <a:stretch/>
        </p:blipFill>
        <p:spPr>
          <a:xfrm>
            <a:off x="3203640" y="4417920"/>
            <a:ext cx="2857320" cy="20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Date Placeholder 3"/>
          <p:cNvSpPr/>
          <p:nvPr/>
        </p:nvSpPr>
        <p:spPr>
          <a:xfrm>
            <a:off x="468360" y="6308640"/>
            <a:ext cx="561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ps. DGAGRI  18/12/2015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79" name="Picture 5" descr=""/>
          <p:cNvPicPr/>
          <p:nvPr/>
        </p:nvPicPr>
        <p:blipFill>
          <a:blip r:embed="rId1"/>
          <a:stretch/>
        </p:blipFill>
        <p:spPr>
          <a:xfrm>
            <a:off x="241200" y="1413000"/>
            <a:ext cx="88153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Date Placeholder 3"/>
          <p:cNvSpPr/>
          <p:nvPr/>
        </p:nvSpPr>
        <p:spPr>
          <a:xfrm>
            <a:off x="468360" y="6308640"/>
            <a:ext cx="561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ps. DGAGRI  18/12/2015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81" name="Picture 4" descr=""/>
          <p:cNvPicPr/>
          <p:nvPr/>
        </p:nvPicPr>
        <p:blipFill>
          <a:blip r:embed="rId1"/>
          <a:stretch/>
        </p:blipFill>
        <p:spPr>
          <a:xfrm>
            <a:off x="539640" y="1190520"/>
            <a:ext cx="831384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Date Placeholder 3"/>
          <p:cNvSpPr/>
          <p:nvPr/>
        </p:nvSpPr>
        <p:spPr>
          <a:xfrm>
            <a:off x="468360" y="6308640"/>
            <a:ext cx="561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ps. DGAGRI  18/12/2015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250920" y="1646280"/>
            <a:ext cx="871380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Date Placeholder 3"/>
          <p:cNvSpPr/>
          <p:nvPr/>
        </p:nvSpPr>
        <p:spPr>
          <a:xfrm>
            <a:off x="468360" y="6308640"/>
            <a:ext cx="561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ps. DGAGRI  18/12/2015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85" name="Picture 4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8137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Date Placeholder 3"/>
          <p:cNvSpPr/>
          <p:nvPr/>
        </p:nvSpPr>
        <p:spPr>
          <a:xfrm>
            <a:off x="468360" y="6308640"/>
            <a:ext cx="561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ps. DGAGRI  18/12/2015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86407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Date Placeholder 3"/>
          <p:cNvSpPr/>
          <p:nvPr/>
        </p:nvSpPr>
        <p:spPr>
          <a:xfrm>
            <a:off x="468360" y="6308640"/>
            <a:ext cx="561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ps. DGAGRI  18/12/2015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324000" y="1523880"/>
            <a:ext cx="856908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Footer Placeholder 4"/>
          <p:cNvSpPr/>
          <p:nvPr/>
        </p:nvSpPr>
        <p:spPr>
          <a:xfrm>
            <a:off x="7524720" y="6308640"/>
            <a:ext cx="11667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jD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971640" y="2349360"/>
            <a:ext cx="75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Verdana"/>
              </a:rPr>
              <a:t>Thank you for your attention !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Date Placeholder 3"/>
          <p:cNvSpPr/>
          <p:nvPr/>
        </p:nvSpPr>
        <p:spPr>
          <a:xfrm>
            <a:off x="468360" y="6308640"/>
            <a:ext cx="561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ps. DGAGRI  18/12/2015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8440" y="1268280"/>
          <a:ext cx="9080640" cy="5329440"/>
        </p:xfrm>
        <a:graphic>
          <a:graphicData uri="http://schemas.openxmlformats.org/drawingml/2006/table">
            <a:tbl>
              <a:tblPr/>
              <a:tblGrid>
                <a:gridCol w="209520"/>
                <a:gridCol w="1236960"/>
                <a:gridCol w="382320"/>
                <a:gridCol w="411120"/>
                <a:gridCol w="468360"/>
                <a:gridCol w="468360"/>
                <a:gridCol w="468360"/>
                <a:gridCol w="468360"/>
                <a:gridCol w="360360"/>
                <a:gridCol w="468360"/>
                <a:gridCol w="468360"/>
                <a:gridCol w="353880"/>
                <a:gridCol w="382680"/>
                <a:gridCol w="428400"/>
                <a:gridCol w="405000"/>
                <a:gridCol w="433440"/>
                <a:gridCol w="704880"/>
                <a:gridCol w="581040"/>
                <a:gridCol w="380880"/>
              </a:tblGrid>
              <a:tr h="285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15"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               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vil Dialog Group  Arable Crops -  HOPS  -  18/02/2015              Working Document (corrected - 23/02)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41480">
                <a:tc gridSpan="19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Hop report 2013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7080">
                <a:tc gridSpan="18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Summary of contracts concluded in advance and harvest statement (Regulation (EC) No. 1557/2006; deadline: 15 April of the year following the harvest)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5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3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uropean Commission DG AGRI C.2</a:t>
                      </a:r>
                      <a:endParaRPr b="1" lang="en-US" sz="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9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15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p producing Member States: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61720"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BLE 3:                            TOTAL </a:t>
                      </a:r>
                      <a:r>
                        <a:rPr b="0" lang="en-GB" sz="6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all varieties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G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Z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U **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T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 **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K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K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2013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2012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f. % </a:t>
                      </a:r>
                      <a:r>
                        <a:rPr b="0" lang="en-GB" sz="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3/2012</a:t>
                      </a:r>
                      <a:endParaRPr b="1" lang="en-US" sz="3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3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</a:t>
                      </a:r>
                      <a:endParaRPr b="1" lang="en-US" sz="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 </a:t>
                      </a:r>
                      <a:endParaRPr b="1" lang="en-US" sz="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8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</a:t>
                      </a:r>
                      <a:endParaRPr b="1" lang="en-US" sz="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Deliveries of hops</a:t>
                      </a:r>
                      <a:endParaRPr b="1" lang="en-US" sz="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09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1.</a:t>
                      </a:r>
                      <a:endParaRPr b="1" lang="en-US" sz="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der contracts concluded in advance</a:t>
                      </a:r>
                      <a:endParaRPr b="1" lang="en-US" sz="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9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1.1.</a:t>
                      </a:r>
                      <a:endParaRPr b="1" lang="en-US" sz="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ntity delivered (tonnes)</a:t>
                      </a:r>
                      <a:endParaRPr b="1" lang="en-US" sz="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091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 834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1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2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59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108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75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9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23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 875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 809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0%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30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 of total quantity delivered</a:t>
                      </a:r>
                      <a:endParaRPr b="1" lang="en-US" sz="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7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9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8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1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8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3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%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8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1.2.</a:t>
                      </a:r>
                      <a:endParaRPr b="1" lang="en-US" sz="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verage price (EUR/kg)*</a:t>
                      </a:r>
                      <a:endParaRPr b="1" lang="en-US" sz="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54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81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33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19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.22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.78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95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0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.21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.43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57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76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4%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2.</a:t>
                      </a:r>
                      <a:endParaRPr b="1" lang="en-US" sz="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der other contracts</a:t>
                      </a:r>
                      <a:endParaRPr b="1" lang="en-US" sz="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3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2.1.</a:t>
                      </a:r>
                      <a:endParaRPr b="1" lang="en-US" sz="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ntity delivered (tonnes)</a:t>
                      </a:r>
                      <a:endParaRPr b="1" lang="en-US" sz="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3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60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6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9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2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8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655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 857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41%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5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 of total quantity delivered</a:t>
                      </a:r>
                      <a:endParaRPr b="1" lang="en-US" sz="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2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1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0%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3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2.2.</a:t>
                      </a:r>
                      <a:endParaRPr b="1" lang="en-US" sz="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verage price (EUR/kg)*</a:t>
                      </a:r>
                      <a:endParaRPr b="1" lang="en-US" sz="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35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18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19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37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0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64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.43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38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1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1%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72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3.</a:t>
                      </a:r>
                      <a:endParaRPr b="1" lang="en-US" sz="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quantity delivered (tonnes)</a:t>
                      </a:r>
                      <a:endParaRPr b="1" lang="en-US" sz="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3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091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 434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3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8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4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397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297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9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348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8 530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 666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6%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09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</a:t>
                      </a:r>
                      <a:endParaRPr b="1" lang="en-US" sz="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Quantities of hops remaining unsold (tonnes)</a:t>
                      </a:r>
                      <a:endParaRPr b="1" lang="en-US" sz="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7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16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34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79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produced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6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091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 554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3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5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4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42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297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9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368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9 046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 40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6%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8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</a:t>
                      </a:r>
                      <a:endParaRPr b="1" lang="en-US" sz="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Alpha acid</a:t>
                      </a:r>
                      <a:endParaRPr b="1" lang="en-US" sz="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06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1.</a:t>
                      </a:r>
                      <a:endParaRPr b="1" lang="en-US" sz="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pha acid production   (tonnes)</a:t>
                      </a:r>
                      <a:endParaRPr b="1" lang="en-US" sz="5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4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72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6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7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7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5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723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702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21%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33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2.</a:t>
                      </a:r>
                      <a:endParaRPr b="1" lang="en-US" sz="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pha acid content (%)</a:t>
                      </a:r>
                      <a:endParaRPr b="1" lang="en-US" sz="5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.6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.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2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.9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.5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.1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.4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.5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5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.5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2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.1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.5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1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6%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7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pha acid in kg per ha (of area harvested) </a:t>
                      </a:r>
                      <a:endParaRPr b="1" lang="en-US" sz="5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7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3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2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6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5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8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8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9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8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8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%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36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</a:t>
                      </a:r>
                      <a:endParaRPr b="1" lang="en-US" sz="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ea down to hops (ha)</a:t>
                      </a:r>
                      <a:endParaRPr b="1" lang="en-US" sz="5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2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519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 849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3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11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8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407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21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7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 468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 288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%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35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1.</a:t>
                      </a:r>
                      <a:endParaRPr b="1" lang="en-US" sz="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area harvested</a:t>
                      </a:r>
                      <a:endParaRPr b="1" lang="en-US" sz="5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2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319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 74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81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305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105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6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 890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 378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6%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09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2.</a:t>
                      </a:r>
                      <a:endParaRPr b="1" lang="en-US" sz="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area newly sown (year of harvest)</a:t>
                      </a:r>
                      <a:endParaRPr b="1" lang="en-US" sz="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109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2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5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578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1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3%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9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ield (t)</a:t>
                      </a:r>
                      <a:endParaRPr b="1" lang="en-US" sz="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45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65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95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75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73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69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63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85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17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19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39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7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76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1%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.</a:t>
                      </a:r>
                      <a:endParaRPr b="1" lang="en-US" sz="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mber of farmers growing hops</a:t>
                      </a:r>
                      <a:endParaRPr b="1" lang="en-US" sz="5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9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231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2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8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8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1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570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695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5%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vg. area harvested per farm (ha)</a:t>
                      </a:r>
                      <a:endParaRPr b="1" lang="en-US" sz="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.2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.7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.3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8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2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.6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1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.5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.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1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.7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.8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%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66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.</a:t>
                      </a:r>
                      <a:endParaRPr b="1" lang="en-US" sz="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ntity of hops covered by contracts concluded in advance for the next harvest year (tonnes)</a:t>
                      </a:r>
                      <a:endParaRPr b="1" lang="en-US" sz="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973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 507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008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00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0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4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 260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 092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2%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33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urce: Communications of the Member States</a:t>
                      </a:r>
                      <a:endParaRPr b="1" lang="en-US" sz="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st updated: </a:t>
                      </a:r>
                      <a:endParaRPr b="1" lang="en-US" sz="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.05.14</a:t>
                      </a:r>
                      <a:endParaRPr b="1" lang="en-US" sz="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Date Placeholder 3"/>
          <p:cNvSpPr/>
          <p:nvPr/>
        </p:nvSpPr>
        <p:spPr>
          <a:xfrm>
            <a:off x="468360" y="6308640"/>
            <a:ext cx="561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ps. DGAGRI  18/12/2015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65" name="Picture 4" descr=""/>
          <p:cNvPicPr/>
          <p:nvPr/>
        </p:nvPicPr>
        <p:blipFill>
          <a:blip r:embed="rId1"/>
          <a:stretch/>
        </p:blipFill>
        <p:spPr>
          <a:xfrm>
            <a:off x="1793880" y="1125360"/>
            <a:ext cx="598968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Date Placeholder 3"/>
          <p:cNvSpPr/>
          <p:nvPr/>
        </p:nvSpPr>
        <p:spPr>
          <a:xfrm>
            <a:off x="468360" y="6308640"/>
            <a:ext cx="561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ps. DGAGRI  18/12/2015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67" name="Picture 4" descr=""/>
          <p:cNvPicPr/>
          <p:nvPr/>
        </p:nvPicPr>
        <p:blipFill>
          <a:blip r:embed="rId1"/>
          <a:stretch/>
        </p:blipFill>
        <p:spPr>
          <a:xfrm>
            <a:off x="1979640" y="1282680"/>
            <a:ext cx="546084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3"/>
          <p:cNvSpPr/>
          <p:nvPr/>
        </p:nvSpPr>
        <p:spPr>
          <a:xfrm>
            <a:off x="468360" y="6308640"/>
            <a:ext cx="561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ps. DGAGRI  18/12/2015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69" name="Picture 4" descr=""/>
          <p:cNvPicPr/>
          <p:nvPr/>
        </p:nvPicPr>
        <p:blipFill>
          <a:blip r:embed="rId1"/>
          <a:stretch/>
        </p:blipFill>
        <p:spPr>
          <a:xfrm>
            <a:off x="646200" y="1413000"/>
            <a:ext cx="81327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Date Placeholder 3"/>
          <p:cNvSpPr/>
          <p:nvPr/>
        </p:nvSpPr>
        <p:spPr>
          <a:xfrm>
            <a:off x="468360" y="6308640"/>
            <a:ext cx="561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ps. DGAGRI  18/12/2015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71" name="Picture 4" descr=""/>
          <p:cNvPicPr/>
          <p:nvPr/>
        </p:nvPicPr>
        <p:blipFill>
          <a:blip r:embed="rId1"/>
          <a:stretch/>
        </p:blipFill>
        <p:spPr>
          <a:xfrm>
            <a:off x="538200" y="1484280"/>
            <a:ext cx="86691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ate Placeholder 3"/>
          <p:cNvSpPr/>
          <p:nvPr/>
        </p:nvSpPr>
        <p:spPr>
          <a:xfrm>
            <a:off x="468360" y="6308640"/>
            <a:ext cx="561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ps. DGAGRI  18/12/2015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73" name="Picture 4" descr=""/>
          <p:cNvPicPr/>
          <p:nvPr/>
        </p:nvPicPr>
        <p:blipFill>
          <a:blip r:embed="rId1"/>
          <a:stretch/>
        </p:blipFill>
        <p:spPr>
          <a:xfrm>
            <a:off x="488880" y="1413000"/>
            <a:ext cx="86076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Date Placeholder 3"/>
          <p:cNvSpPr/>
          <p:nvPr/>
        </p:nvSpPr>
        <p:spPr>
          <a:xfrm>
            <a:off x="468360" y="6308640"/>
            <a:ext cx="561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ps. DGAGRI  18/12/2015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75" name="Picture 4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86821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Date Placeholder 3"/>
          <p:cNvSpPr/>
          <p:nvPr/>
        </p:nvSpPr>
        <p:spPr>
          <a:xfrm>
            <a:off x="468360" y="6308640"/>
            <a:ext cx="561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ps. DGAGRI  18/12/2015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77" name="Picture 4" descr=""/>
          <p:cNvPicPr/>
          <p:nvPr/>
        </p:nvPicPr>
        <p:blipFill>
          <a:blip r:embed="rId1"/>
          <a:stretch/>
        </p:blipFill>
        <p:spPr>
          <a:xfrm>
            <a:off x="1042920" y="1311120"/>
            <a:ext cx="7966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4T14:19:11Z</dcterms:created>
  <dc:creator>vicennl</dc:creator>
  <dc:description/>
  <dc:language>en-US</dc:language>
  <cp:lastModifiedBy>VANDERELST Daniel (AGRI)</cp:lastModifiedBy>
  <cp:lastPrinted>2013-01-29T12:05:29Z</cp:lastPrinted>
  <dcterms:modified xsi:type="dcterms:W3CDTF">2015-02-25T09:32:32Z</dcterms:modified>
  <cp:revision>91</cp:revision>
  <dc:subject/>
  <dc:title>Wine CMO reform of 2008:                          main outcomes and implementation      Jesus Zorrilla Torras  DG AGRI – Unit C.3 -  Wine, Alcohol, Tobacco, Seeds and Hops  Brussels, 19 April 2012  HIGH LEVEL GROUP ON WINE PLANTING RIGH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57064085</vt:r8>
  </property>
  <property fmtid="{D5CDD505-2E9C-101B-9397-08002B2CF9AE}" pid="3" name="_AuthorEmail">
    <vt:lpwstr>Daniel.Vanderelst@ec.europa.eu</vt:lpwstr>
  </property>
  <property fmtid="{D5CDD505-2E9C-101B-9397-08002B2CF9AE}" pid="4" name="_AuthorEmailDisplayName">
    <vt:lpwstr>VANDERELST Daniel (AGRI)</vt:lpwstr>
  </property>
  <property fmtid="{D5CDD505-2E9C-101B-9397-08002B2CF9AE}" pid="5" name="_EmailSubject">
    <vt:lpwstr>Hops: Civil D. G.  18/02/2015  new working doc</vt:lpwstr>
  </property>
  <property fmtid="{D5CDD505-2E9C-101B-9397-08002B2CF9AE}" pid="6" name="_NewReviewCycle">
    <vt:lpwstr/>
  </property>
</Properties>
</file>