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T SITUATION AND TECHNICAL ISSUES - Brussels, 07/06/2019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6640" y="738360"/>
            <a:ext cx="4940280" cy="37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373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3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AA69752-8F53-4657-9EBD-0E922001EFA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70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Marcador de encabezado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T SITUATION AND TECHNICAL ISSUES - Brussels, 07/06/2019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27000" y="7383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Marcador de encabezado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T SITUATION AND TECHNICAL ISSUES - Brussels, 07/06/2019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063-7ECC-435C-9589-8A3A9C12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DC3-C161-439F-B120-B292C40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7B6-2CD2-4A79-8DB9-63F52B10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8BD-8575-4110-9544-7C54DC7E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CCA-6E15-472B-8B03-0D8739AE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9D2-3D9C-48A6-9F9A-2922438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390-5DE5-4757-8444-D84BFAB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5510-3FFA-478A-9F15-67344E98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090-9DB2-41DA-B3BA-33A1075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64A1-0157-44FE-91D3-4A5127B6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458-580B-413E-BCB0-C07D497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BD5-C588-4845-8733-F9ACEF6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C03-A7C1-45A8-84AE-570D98D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C2A-179C-4D90-BFBB-B75AA00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B61-3292-4972-97C2-5A47CDB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02D1-B4B7-4939-81E8-387AA4D2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867-A3B1-4FD8-8021-B10B16F1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5C2-647F-4BB1-88C2-A3F3019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3E7-6714-47FD-B1F8-5004EC55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B2C-2FA2-4E84-9A51-4BBD2992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D4E-5B3C-4D89-ACEF-1425D5EC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740-57D7-4487-84AD-F85645A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3D4-0F6F-4D12-BBBF-8FB6324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9CD-E5BE-4A55-BCC5-5A05A090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(20/03/2019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2/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D25-5E4A-4697-B28D-C58EDB4C676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(20/03/2019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2/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280C-B318-43E0-82BF-45E026A425F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4 CuadroTexto"/>
          <p:cNvSpPr/>
          <p:nvPr/>
        </p:nvSpPr>
        <p:spPr>
          <a:xfrm>
            <a:off x="285840" y="1989000"/>
            <a:ext cx="86533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91913e"/>
                </a:solidFill>
                <a:latin typeface="Calibri"/>
              </a:rPr>
              <a:t>W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91913e"/>
                </a:solidFill>
                <a:latin typeface="Calibri"/>
              </a:rPr>
              <a:t>MARKET SITUATION AND TECHNICAL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1913e"/>
                </a:solidFill>
                <a:latin typeface="Calibri"/>
              </a:rPr>
              <a:t>Brussels,  07/06/20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2 Imagen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52388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7451640" y="138240"/>
            <a:ext cx="1524240" cy="66492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0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ítulo 1"/>
          <p:cNvSpPr/>
          <p:nvPr/>
        </p:nvSpPr>
        <p:spPr>
          <a:xfrm>
            <a:off x="457200" y="7700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to 3"/>
          <p:cNvGraphicFramePr/>
          <p:nvPr/>
        </p:nvGraphicFramePr>
        <p:xfrm>
          <a:off x="1979640" y="1506600"/>
          <a:ext cx="5699160" cy="48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506600"/>
                    <a:ext cx="569916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Marcador de pie de página 3"/>
          <p:cNvSpPr/>
          <p:nvPr/>
        </p:nvSpPr>
        <p:spPr>
          <a:xfrm>
            <a:off x="3124080" y="6345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1/13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7451640" y="138240"/>
            <a:ext cx="1524240" cy="664920"/>
          </a:xfrm>
          <a:prstGeom prst="rect">
            <a:avLst/>
          </a:prstGeom>
          <a:ln w="0">
            <a:noFill/>
          </a:ln>
        </p:spPr>
      </p:pic>
      <p:sp>
        <p:nvSpPr>
          <p:cNvPr id="156" name="CuadroTexto 6"/>
          <p:cNvSpPr/>
          <p:nvPr/>
        </p:nvSpPr>
        <p:spPr>
          <a:xfrm>
            <a:off x="1258920" y="624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ource: IOO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Marcador de contenido 20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087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able olive sector has a great stabi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3% of production is concentrated in 8 count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arly 70% of consumption is concentrated in 10 countries, mainly produc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ld trade in table olives is relatively small: 23% of total consum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countries concentrate 53% of imp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nsumption of non-producing countries represents 31% of the to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ption of table olives per habitant is very low, except in the large producing count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tal consumption has grown almost 10% in the last five years due to the growth of the producing countries, + 20.4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2/13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451640" y="138240"/>
            <a:ext cx="152424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3/13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5 Marcador de contenido" descr=""/>
          <p:cNvPicPr/>
          <p:nvPr/>
        </p:nvPicPr>
        <p:blipFill>
          <a:blip r:embed="rId1"/>
          <a:stretch/>
        </p:blipFill>
        <p:spPr>
          <a:xfrm>
            <a:off x="7620120" y="138240"/>
            <a:ext cx="1523880" cy="664920"/>
          </a:xfrm>
          <a:prstGeom prst="rect">
            <a:avLst/>
          </a:prstGeom>
          <a:ln w="0">
            <a:noFill/>
          </a:ln>
        </p:spPr>
      </p:pic>
      <p:sp>
        <p:nvSpPr>
          <p:cNvPr id="164" name="8 CuadroTexto"/>
          <p:cNvSpPr/>
          <p:nvPr/>
        </p:nvSpPr>
        <p:spPr>
          <a:xfrm>
            <a:off x="539640" y="5445000"/>
            <a:ext cx="79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cac39"/>
                </a:solidFill>
                <a:latin typeface="Calibri"/>
              </a:rPr>
              <a:t>ASEME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són del Moro, 1 – 41004 Sevilla – Tel. 954 229 485 – Fax 954 223 261 – Mai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1800" spc="-1" strike="noStrike">
                <a:solidFill>
                  <a:srgbClr val="acac39"/>
                </a:solidFill>
                <a:latin typeface="Calibri"/>
              </a:rPr>
              <a:t>asemesa@asemesa.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1800" spc="-1" strike="noStrike">
                <a:solidFill>
                  <a:srgbClr val="acac39"/>
                </a:solidFill>
                <a:latin typeface="Calibri"/>
              </a:rPr>
              <a:t>www.asemesa.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6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CuadroTexto 4"/>
          <p:cNvSpPr/>
          <p:nvPr/>
        </p:nvSpPr>
        <p:spPr>
          <a:xfrm>
            <a:off x="900000" y="1916280"/>
            <a:ext cx="74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 Imagen" descr=""/>
          <p:cNvPicPr/>
          <p:nvPr/>
        </p:nvPicPr>
        <p:blipFill>
          <a:blip r:embed="rId1"/>
          <a:stretch/>
        </p:blipFill>
        <p:spPr>
          <a:xfrm>
            <a:off x="7451640" y="115920"/>
            <a:ext cx="1524240" cy="665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76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Where are table olives produc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2 Marcador de pie de página"/>
          <p:cNvSpPr/>
          <p:nvPr/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2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to 2"/>
          <p:cNvGraphicFramePr/>
          <p:nvPr/>
        </p:nvGraphicFramePr>
        <p:xfrm>
          <a:off x="2411280" y="1933560"/>
          <a:ext cx="4537080" cy="44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933560"/>
                    <a:ext cx="45370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CuadroTexto 2"/>
          <p:cNvSpPr/>
          <p:nvPr/>
        </p:nvSpPr>
        <p:spPr>
          <a:xfrm>
            <a:off x="6423120" y="2924280"/>
            <a:ext cx="2089080" cy="1067400"/>
          </a:xfrm>
          <a:prstGeom prst="rect">
            <a:avLst/>
          </a:prstGeom>
          <a:solidFill>
            <a:srgbClr val="d5d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8 countries account for the 83% of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524720" y="7776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1517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Where are table olives consum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3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Objeto 1"/>
          <p:cNvGraphicFramePr/>
          <p:nvPr/>
        </p:nvGraphicFramePr>
        <p:xfrm>
          <a:off x="2627280" y="1863720"/>
          <a:ext cx="4608720" cy="45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863720"/>
                    <a:ext cx="46087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CuadroTexto 1"/>
          <p:cNvSpPr/>
          <p:nvPr/>
        </p:nvSpPr>
        <p:spPr>
          <a:xfrm>
            <a:off x="6588000" y="3068640"/>
            <a:ext cx="2016360" cy="1310760"/>
          </a:xfrm>
          <a:prstGeom prst="rect">
            <a:avLst/>
          </a:prstGeom>
          <a:solidFill>
            <a:srgbClr val="d5d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0 countries account for the 70% of consum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7489800" y="11592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Who imports table oli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4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to 1"/>
          <p:cNvGraphicFramePr/>
          <p:nvPr/>
        </p:nvGraphicFramePr>
        <p:xfrm>
          <a:off x="2700360" y="1981080"/>
          <a:ext cx="4680000" cy="43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981080"/>
                    <a:ext cx="468000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87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Who exports table oli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2 Marcador de pie de página"/>
          <p:cNvSpPr/>
          <p:nvPr/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5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Objeto 1"/>
          <p:cNvGraphicFramePr/>
          <p:nvPr/>
        </p:nvGraphicFramePr>
        <p:xfrm>
          <a:off x="2987640" y="1951200"/>
          <a:ext cx="4680000" cy="41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51200"/>
                    <a:ext cx="468000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2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6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CuadroTexto 2"/>
          <p:cNvSpPr/>
          <p:nvPr/>
        </p:nvSpPr>
        <p:spPr>
          <a:xfrm>
            <a:off x="6996240" y="4221000"/>
            <a:ext cx="1908000" cy="1310760"/>
          </a:xfrm>
          <a:prstGeom prst="rect">
            <a:avLst/>
          </a:prstGeom>
          <a:solidFill>
            <a:srgbClr val="d5d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3 countries account for the 68% of consumption (of non-producers’ count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Imagen 4" descr=""/>
          <p:cNvPicPr/>
          <p:nvPr/>
        </p:nvPicPr>
        <p:blipFill>
          <a:blip r:embed="rId2"/>
          <a:stretch/>
        </p:blipFill>
        <p:spPr>
          <a:xfrm>
            <a:off x="1258920" y="1454040"/>
            <a:ext cx="56833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7380360" y="7452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3628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urce: IO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7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Imagen 10" descr=""/>
          <p:cNvPicPr/>
          <p:nvPr/>
        </p:nvPicPr>
        <p:blipFill>
          <a:blip r:embed="rId2"/>
          <a:stretch/>
        </p:blipFill>
        <p:spPr>
          <a:xfrm>
            <a:off x="1547640" y="5267160"/>
            <a:ext cx="6769440" cy="72072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11" descr=""/>
          <p:cNvPicPr/>
          <p:nvPr/>
        </p:nvPicPr>
        <p:blipFill>
          <a:blip r:embed="rId3"/>
          <a:stretch/>
        </p:blipFill>
        <p:spPr>
          <a:xfrm>
            <a:off x="1332000" y="1573200"/>
            <a:ext cx="6624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Marcador de pie de página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8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380360" y="7452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39" name="CuadroTexto 6"/>
          <p:cNvSpPr/>
          <p:nvPr/>
        </p:nvSpPr>
        <p:spPr>
          <a:xfrm>
            <a:off x="1116000" y="16970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umption in kg of table olives per habitant per year in 2017 in IOC member coun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CuadroTexto 7"/>
          <p:cNvSpPr/>
          <p:nvPr/>
        </p:nvSpPr>
        <p:spPr>
          <a:xfrm>
            <a:off x="1547640" y="5956200"/>
            <a:ext cx="18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urce: IO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agen 8" descr=""/>
          <p:cNvPicPr/>
          <p:nvPr/>
        </p:nvPicPr>
        <p:blipFill>
          <a:blip r:embed="rId2"/>
          <a:stretch/>
        </p:blipFill>
        <p:spPr>
          <a:xfrm>
            <a:off x="1763640" y="2343240"/>
            <a:ext cx="60483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WG MARKET SITUATION AND TECHNICAL ISSUES – Brussels, 07/06/2019</a:t>
            </a:r>
            <a:br>
              <a:rPr sz="2000"/>
            </a:br>
            <a:r>
              <a:rPr b="1" lang="es-ES" sz="2000" spc="-1" strike="noStrike">
                <a:solidFill>
                  <a:srgbClr val="91913e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91913e"/>
                </a:solidFill>
                <a:latin typeface="Calibri"/>
              </a:rPr>
              <a:t>Market situation and new market opportunities in the table olives sector”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Marcador de contenido 4" descr=""/>
          <p:cNvPicPr/>
          <p:nvPr/>
        </p:nvPicPr>
        <p:blipFill>
          <a:blip r:embed="rId1"/>
          <a:stretch/>
        </p:blipFill>
        <p:spPr>
          <a:xfrm>
            <a:off x="1979640" y="2465280"/>
            <a:ext cx="6035760" cy="3411720"/>
          </a:xfrm>
          <a:prstGeom prst="rect">
            <a:avLst/>
          </a:prstGeom>
          <a:ln w="0">
            <a:noFill/>
          </a:ln>
        </p:spPr>
      </p:pic>
      <p:sp>
        <p:nvSpPr>
          <p:cNvPr id="144" name="Marcador de pie de pá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9/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7380360" y="74520"/>
            <a:ext cx="1523880" cy="665280"/>
          </a:xfrm>
          <a:prstGeom prst="rect">
            <a:avLst/>
          </a:prstGeom>
          <a:ln w="0">
            <a:noFill/>
          </a:ln>
        </p:spPr>
      </p:pic>
      <p:sp>
        <p:nvSpPr>
          <p:cNvPr id="146" name="CuadroTexto 6"/>
          <p:cNvSpPr/>
          <p:nvPr/>
        </p:nvSpPr>
        <p:spPr>
          <a:xfrm>
            <a:off x="104292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umption in kg of table olives per habitant per year in 2017 in non-IOC member coun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CuadroTexto 7"/>
          <p:cNvSpPr/>
          <p:nvPr/>
        </p:nvSpPr>
        <p:spPr>
          <a:xfrm>
            <a:off x="1947960" y="59562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urce: IO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9:43:50Z</dcterms:created>
  <dc:creator>Usuario</dc:creator>
  <dc:description/>
  <dc:language>en-US</dc:language>
  <cp:lastModifiedBy>asemesa</cp:lastModifiedBy>
  <cp:lastPrinted>2019-06-03T15:21:49Z</cp:lastPrinted>
  <dcterms:modified xsi:type="dcterms:W3CDTF">2019-06-03T15:32:07Z</dcterms:modified>
  <cp:revision>615</cp:revision>
  <dc:subject/>
  <dc:title>Diapositiva 1</dc:title>
</cp:coreProperties>
</file>