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158-1E82-431E-98F4-CE3AB380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4FD-54EF-4C5D-884E-CED84B2C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C7A-2368-4DCB-8964-178AD9FE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E80-6628-4D40-9F79-51840241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E71D-E48C-4C30-919C-C459B8B9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8A69-8F39-4B15-B2DB-DF50A531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D0B7-0EF4-4C6E-B0C3-B0FBDE2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E4F1-9BDF-4507-A7F8-2219BE70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3CE3-9EFC-459A-BAB8-2BD7AAD9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1994-097F-41CB-9467-C06CEA80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CA7E-FF26-4B48-A0D2-A4479D8B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612-B37E-4C7D-B6DD-7A600513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D896-5E40-4D42-A353-A0A5300A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9023-E706-45CC-95D0-6EE8B8FB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5621-E993-4218-A5CA-B6735B31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608C-D249-4F4C-9E73-EC5EBB41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020A-7DD1-4CC5-950E-6A3B8A55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AC90-CD30-43B5-A58F-E9FDEA6A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4790E-9B71-4467-980D-A7020A40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F8DF-9765-45F2-ADE6-5B27801B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2340-9F66-4677-9E87-A419B661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AD72-72C3-4F21-9294-835A97C3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7B4-E61C-4E81-AC4F-D4261549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F389-F552-4859-9DFF-2F65ED70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A257-D344-43BA-A3E5-95154D6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DD0E-4929-422C-8EB2-305A068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19E3-6000-43A8-BFCE-D6110A2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E1D0-A4A3-408F-8C8C-C8E3E32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F9DF-0044-4BFC-B4B0-1AACA15D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DF4B-0E77-4363-895C-9CAE0C37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7A3-3E28-4ED1-BBBA-FD5CE36B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440-874B-4140-90D2-EC06614D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09E-7965-44FF-A675-788C5F59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B91-5061-4144-BF03-6F58CB6F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7E7-0E14-4133-A392-D1A4DEA7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81E-81EB-4E27-A770-07E19AC8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84E1-403A-4B3F-A253-5B98D635AE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7164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‹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8933-6D31-478A-B123-14FF312487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A81E-22D7-48DC-A8DC-3F71FCEFA8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BF65-531E-4B55-9C37-EF5267C0E4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44640"/>
            <a:ext cx="65534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ivil Dialog Group on "Wine"</a:t>
            </a:r>
            <a:br>
              <a:rPr sz="2800"/>
            </a:br>
            <a:br>
              <a:rPr sz="24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Wednesday,  October 19</a:t>
            </a:r>
            <a:r>
              <a:rPr b="1" lang="en-GB" sz="1600" spc="-1" strike="noStrike" baseline="30000">
                <a:solidFill>
                  <a:srgbClr val="ffd624"/>
                </a:solidFill>
                <a:latin typeface="Verdana"/>
              </a:rPr>
              <a:t>th</a:t>
            </a: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 2016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European wine market:</a:t>
            </a:r>
            <a:br>
              <a:rPr sz="24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Latest information on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harvest estimations</a:t>
            </a:r>
            <a:br>
              <a:rPr sz="2400"/>
            </a:b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5516280"/>
            <a:ext cx="69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uy Dur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-C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8C19-4D4D-4E16-8D6F-677600E075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59CA-5F60-4E2C-9438-907AA388E0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992D-861C-4DB5-8F36-3B5754D451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15840" y="6453360"/>
            <a:ext cx="1892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93680" y="399960"/>
            <a:ext cx="8712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480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CC82-D3B1-453B-AA45-0224E18DB8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9:08:58Z</dcterms:created>
  <dc:creator>DUREN Guy (AGRI)</dc:creator>
  <dc:description/>
  <dc:language>en-US</dc:language>
  <cp:lastModifiedBy>BUTTINI-PROVENZANO Roberta (AGRI)</cp:lastModifiedBy>
  <dcterms:modified xsi:type="dcterms:W3CDTF">2016-10-17T10:23:26Z</dcterms:modified>
  <cp:revision>18</cp:revision>
  <dc:subject/>
  <dc:title>Title</dc:title>
</cp:coreProperties>
</file>