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409-09CA-4A39-A2C9-15B123B6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B4-2853-4E83-8F65-7F75B80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49F-9D06-4A33-9B71-0B9C0C7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53A-52C5-4865-ACE9-1D6D26E9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9C3E-1261-43DE-87C0-C4C7CC30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A4E2-F6FA-46D2-9825-93DE8F0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32BA-5C70-4EB1-8E2B-6392F534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C5E4-EA93-4479-950B-E4C6E9A5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B789-8E43-4AF3-AFBC-C0A0163A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C41A-27CA-473F-B17A-56CED35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3B8-5BAB-46AD-AA59-1902175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D0C-706A-483D-8A46-285E0B3D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E72-7E00-4C16-BCB3-90B2A59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0A4-3EE9-4913-BD0F-6D85836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C563-1B49-4EA7-9975-234DD720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0EDE-0FE4-4C15-9475-086B5CC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7A9-3346-4F66-9625-B3F0C2AC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D48F-5368-49A0-AA70-D88900B9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6052-29AC-4C1A-AF02-2C61290C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B824-2EAF-4943-B3BC-803A0DB2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8E5C-D3A8-4E19-8489-7FC1E4F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E8E8-0321-4E55-91E4-2339846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9C0-2FBB-47DC-B2F6-22156FB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2895-8BD1-4C8F-B039-E63117E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44C4-B4F7-4C94-A1A1-F81255E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0E89-B2E3-4777-B9E9-F307DE0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673C-A80C-4BD3-84C5-B5B56CD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9E3B-F27E-40C2-A36B-0B5D245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3C74-17D6-436A-A7EC-53E30170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E0D3-C5F4-4CC5-8EEB-6588A0A5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F98-9B8A-4DDE-AF30-C97A9320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AE2-5C8B-40AC-B762-675025D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4A4-0C25-4DF4-8E36-B3C33606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901-55C3-4516-B851-5C62DC2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C26-A26A-4314-AD91-6B7E097E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056-74DB-4A9D-B70D-BE4FC0E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0AD3-A81B-4FC1-BF78-3EE8A92848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76DD-E3F2-47F5-8D8C-55F0A3BFA3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7074-4B98-46F6-B07D-524D6E4D6A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F52-DE4A-418B-B29B-22F84292F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44640"/>
            <a:ext cx="6553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Wednesday,  October 19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6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</a:t>
            </a: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42A5-0509-4A11-97C1-3C447D011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6592-1C17-459F-A954-A46843543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0E8-71E6-485B-9319-B3CE6AB38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15840" y="6453360"/>
            <a:ext cx="1892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93680" y="399960"/>
            <a:ext cx="8712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539640" y="6357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Wine Civil Dialog Group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000000"/>
                </a:solidFill>
                <a:latin typeface="Arial"/>
              </a:rPr>
              <a:t>October 2016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6811-A40F-4481-A84B-F8A11B35EB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dcterms:modified xsi:type="dcterms:W3CDTF">2016-10-17T10:23:26Z</dcterms:modified>
  <cp:revision>18</cp:revision>
  <dc:subject/>
  <dc:title>Title</dc:title>
</cp:coreProperties>
</file>