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BDB-A630-4644-9CC0-4F29B6E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1C4-48BD-41E5-8C68-9A6BF17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B90-CAEE-4C7A-AF53-FFF9C239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1BD-245F-4A2E-BDA8-E6E8D87D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CFE-4D5A-4D83-9C34-6CF84208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4C0-F478-4733-9E5A-A66F4C45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1B2-8D58-4B25-B87C-E4548816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58D6-9C70-4C9C-A83F-076D9181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A26D-419B-4584-863E-99A86F7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18B9-E7A2-42CB-9B50-2EBAF146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1EC8-21CA-4FF8-8C83-E74129E6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432-DE52-4FAC-A8FC-386CFF6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FE43-E185-4AA2-BFF7-AB583E63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906E-149B-4AC5-866F-209BDF6E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9BB6-F067-49A5-AEE5-E611F0E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F50-6A0C-4741-9A39-6F658A7A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0CAD-AA4F-42A9-A156-935C72DF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9552-6832-4441-A235-491925E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3FE3-A2C7-4ECE-BAD6-46C092B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9574-67BB-49BE-B889-FF3569AF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3C33-1342-4EFE-AB48-916B77E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1F6B-3DA9-4B3C-BB81-37F5827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F92-CEF9-4579-971E-25160DA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FDB2-C3C1-40EF-ACAD-3C8DAD3F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EC30-52BF-458A-8B7C-2F61B82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CA72-F05E-4173-B274-3090FC3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6EEC-F4A4-4D59-A03B-503543E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286E-C78E-416E-BAF7-37D95BB6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8186-751E-4751-BF47-F9069738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5E67-0FD5-4CA5-BAED-945649A8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5DB-2C04-4CE5-9072-F8D9AC74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17A-1520-489C-BD46-B5D36FC7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121-000B-4FCE-B058-5937E35C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DDB-9009-4555-94C9-9540FA2E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B78-E6CD-46C5-9D66-25245950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292-FD65-49B0-86A4-4DBCD65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02C-75A5-45C9-9FB7-75B44B69DF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1C5D-7369-4DC7-8E79-D7BCA64E1C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5E6C-89CD-4F5E-ACE7-DFF8C3A614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25C-6452-40B5-93AA-A429179424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Wednesday,  October 19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6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European wine market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Latest information 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harvest estimations</a:t>
            </a: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F8C-DEB9-4F46-834E-9F6A505C77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D7CF-5937-4CD5-9387-AFADEA353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5123-E1AB-421F-8AFB-030C82A2B8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15840" y="6453360"/>
            <a:ext cx="1892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3680" y="399960"/>
            <a:ext cx="8712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480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1C59-57CE-4112-A1F1-DDA171FD6E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dcterms:modified xsi:type="dcterms:W3CDTF">2016-10-17T10:23:26Z</dcterms:modified>
  <cp:revision>18</cp:revision>
  <dc:subject/>
  <dc:title>Title</dc:title>
</cp:coreProperties>
</file>