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342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A462-85F4-4D7D-88C6-641B76CD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081-A9D8-4070-9FFF-EFF45CEC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4F77-0E9B-4E77-A5D3-DE22230E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A30-FAE3-44BC-BE8F-B2283091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0C51-205D-433B-B3A5-647E79CF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6819-41C9-47BC-95BB-1DF67531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DAF0-8785-4478-8508-5281F876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88DB-0BF7-4E94-AD0F-B1AB52F1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31CE-F243-412D-BB6F-6E619A8C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BDC9-7EA4-4391-A5F2-BC9A57A5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3D53-5562-4942-BC49-AAF33485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EA0-AE03-414C-926C-AB193D05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79AB-2732-4429-A4A0-FCB9ECAE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B2B1-D25B-44A3-B5DF-8803B289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32AE-E6CA-4B45-BD55-D93786CA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3E88-4CE9-46AD-80C1-4E7C72FC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14DC-82F0-4D60-9970-BEE4CF86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E5AE1-FC80-4D44-AF38-C316358B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591B4-51DF-4419-B071-C2163EDA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49FD4-8770-42F5-8124-618D4562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89818-9A42-47C2-8A57-D7D5F39E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5DD0B-6ABE-46BE-B635-4A063C45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D613-DAFA-41D2-816D-9DB6063B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4735B-A6FC-4176-BF91-90E41E85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DE6B4-4C58-4124-B47A-95CAA60A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C4B35-1CB7-4BA3-BD6A-DE48A14F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C4112-C953-4ED8-A0D0-DD693A7A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F6A4B-E810-4491-8E2E-5FB8493A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71AA9-0AA8-44F0-B935-16F10ED3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0316E-86B9-4E9B-BC64-E764930E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B337-831E-4EA1-8CA9-F9DF4AB9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1EE2-AF9E-417F-864F-A8BD2088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5E61-352C-4DE4-AC0E-2DD675C1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781-CC40-4C08-9DDC-FB4DD1EB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E651-50F7-4A7C-A685-6046D8A3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2BE4-A667-49CD-B0D1-135D9ACD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EAC4-352C-4211-987B-056111E53D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7164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‹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FD53-0E38-4D3D-86CF-9165833DD63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01C2-03F4-409C-B4B1-2E6CE84FA2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ADF3-055F-47E4-BB7B-65246D82D8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3280" y="1844640"/>
            <a:ext cx="655344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Civil Dialog Group on "Wine"</a:t>
            </a:r>
            <a:br>
              <a:rPr sz="2800"/>
            </a:br>
            <a:br>
              <a:rPr sz="2400"/>
            </a:br>
            <a:r>
              <a:rPr b="1" lang="en-GB" sz="1600" spc="-1" strike="noStrike">
                <a:solidFill>
                  <a:srgbClr val="ffd624"/>
                </a:solidFill>
                <a:latin typeface="Verdana"/>
              </a:rPr>
              <a:t>Wednesday,  October 19</a:t>
            </a:r>
            <a:r>
              <a:rPr b="1" lang="en-GB" sz="1600" spc="-1" strike="noStrike" baseline="30000">
                <a:solidFill>
                  <a:srgbClr val="ffd624"/>
                </a:solidFill>
                <a:latin typeface="Verdana"/>
              </a:rPr>
              <a:t>th</a:t>
            </a:r>
            <a:r>
              <a:rPr b="1" lang="en-GB" sz="1600" spc="-1" strike="noStrike">
                <a:solidFill>
                  <a:srgbClr val="ffd624"/>
                </a:solidFill>
                <a:latin typeface="Verdana"/>
              </a:rPr>
              <a:t> 2016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3. </a:t>
            </a:r>
            <a:r>
              <a:rPr b="1" lang="en-US" sz="2400" spc="-1" strike="noStrike">
                <a:solidFill>
                  <a:srgbClr val="ffd624"/>
                </a:solidFill>
                <a:latin typeface="Verdana"/>
              </a:rPr>
              <a:t>European wine market:</a:t>
            </a:r>
            <a:br>
              <a:rPr sz="2400"/>
            </a:br>
            <a:br>
              <a:rPr sz="1600"/>
            </a:br>
            <a:r>
              <a:rPr b="1" lang="en-US" sz="1600" spc="-1" strike="noStrike">
                <a:solidFill>
                  <a:srgbClr val="ffd624"/>
                </a:solidFill>
                <a:latin typeface="Verdana"/>
              </a:rPr>
              <a:t>Latest information on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d624"/>
                </a:solidFill>
                <a:latin typeface="Verdana"/>
              </a:rPr>
              <a:t>harvest estimations</a:t>
            </a:r>
            <a:br>
              <a:rPr sz="2400"/>
            </a:b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042560" y="5516280"/>
            <a:ext cx="6913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Guy Dure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DG AGRI-C2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DFE8-438F-4C51-A6B9-3EF2BEF3B6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October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D4D6-B33F-4175-91F4-105BD7E6A2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October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5694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838C-EACA-49A1-8035-2D4798256A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15840" y="6453360"/>
            <a:ext cx="18921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October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93680" y="399960"/>
            <a:ext cx="871236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October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4800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F0B8-D11F-455B-8850-3211FE7DA9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8036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09:08:58Z</dcterms:created>
  <dc:creator>DUREN Guy (AGRI)</dc:creator>
  <dc:description/>
  <dc:language>en-US</dc:language>
  <cp:lastModifiedBy>BUTTINI-PROVENZANO Roberta (AGRI)</cp:lastModifiedBy>
  <dcterms:modified xsi:type="dcterms:W3CDTF">2016-10-17T10:23:26Z</dcterms:modified>
  <cp:revision>18</cp:revision>
  <dc:subject/>
  <dc:title>Title</dc:title>
</cp:coreProperties>
</file>