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47F-A437-4400-810D-236BE18B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6B4-14BD-4894-8F8A-F0AFA341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193-9538-49B6-9AC9-0CC7EAB4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9FE-BDBC-4618-B6D5-31104D8B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96374-D292-45F9-9600-F9224225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66EBC-390C-43FD-9D5D-5B727BC3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888E4-49A4-4ECF-A8F4-F9CCB44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E6D7-9043-46CA-9179-2480F9C7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BEBC7-C879-4194-AFF1-D92FFEB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A9E3-F725-4154-BB8B-AA14EB6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3F702-0672-48B8-B07C-F11DD75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BA0-4E7F-4B2F-95A1-42ADD178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EFD6F-9C21-43BE-85FF-02B6C8C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4765-1D3F-4E16-AFE5-BF641AD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E538-1EE4-4545-906D-048BD61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3A95-FBC4-4B11-BAD5-79C2CE37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EEC9-240C-4797-9E40-5CBA4490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61738-76EE-4952-A47A-3E4F696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410D5-46E5-45B8-AC4D-4269A2B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162C6-3815-404E-871B-1A661548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84FC6-2A9A-4142-AA55-58BCA2D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11F85-9225-4630-9E86-58979796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42A-AD69-4DB0-8868-70A0834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4D501-4B93-495D-8608-7218012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316F2-B4F2-45DE-A91D-66B1E34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D82DB-4504-4659-A774-8B8CDE8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F7671-BC57-4830-B20B-454AA45C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21698-FD2D-4E89-929C-790F163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7CE51-14C6-4AE4-BE9B-5A07E1E1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BEC8A-E010-4C5A-8967-7A7D7AEC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C979-6770-4468-9327-7F000747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939B-E24C-460C-BFC5-3E4C4C5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BDB6-2FAA-4374-9DDD-8FAA9FD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BAC-1741-4066-8A3C-A4BB73B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D71D-601E-4148-AA3A-E70AE47B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9118-E8C9-46AB-96AB-3F5D645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4791-0B09-4036-8CB4-E7E030C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07C3-775F-485C-8D74-67ED5D4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AE7B8-298E-4FDF-A958-52FE068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7AC8-24ED-4DC0-9BAD-4ADBC33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A455B-5A12-493B-AF3E-0F4377E6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7BE7-0BF9-4767-90F7-92908A01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7EE1-AA48-40F2-9BF6-62DB0AEA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A9B6-44FE-45AB-B987-F2676219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6CA-87EC-46F3-85E0-633392E7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9889-6815-4908-B1C4-B0CC7AC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BBE6-56D3-4300-BFAD-8B4C398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C443-1EFE-4165-943D-1823CE75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429C-F3BF-4778-928A-EBC3C2DD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440F-76D9-4D71-8D27-288BD97B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51CD-2E86-41DB-9FF2-2BD1F70A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8E1F-F497-4DB3-A72C-8907B86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DDAE-6163-4F59-995C-7C49FE7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D086C-5614-4FAC-A7F5-CDAEC0CA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B1C5-4140-4884-85F8-9ECACD79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DAD-5736-4E2A-9BB1-56263A2C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29B9-5B53-43EB-8F7F-CCA33FFB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6E95D-B722-4AC3-ADEB-20A4BE03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F58E-00CE-4D4C-A3C9-81B7F5DD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A41D3-C896-458E-8960-73A0A2E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F70D-93E9-4D98-94BC-25B6F28E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2B6E-87A9-4F4F-9039-C6532DA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07C2D-963B-49EC-B8A8-3674DF62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DE200-034E-4E3E-94E7-1ABD8E0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1DF4-68F6-4784-A760-FD707D8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65B56-428A-4E32-A936-9F37AD8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F46-9514-4D96-8A3C-C70E4E24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86AD-1663-431A-9B9C-B9B0DA5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3BAF-0C9E-4A2A-877C-0063C60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E1F05-5F03-4B33-BA39-FD101EFE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A434-B186-4069-B35D-5B1B8B78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5051-AC17-4D36-9630-C5DF246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57BA-CE73-413E-9B1C-3307F06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9C33-C9CF-4E71-BB33-F3533BE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4ABB-3117-4991-A9A0-2E7CEAE3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0A33-5A89-4014-B4AA-1D204EB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BF26-5086-461A-8EB7-1D35E18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587-322D-4AAF-B677-7020FDE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C6A2-9D90-4320-BE56-068023E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BC35-35AB-40D7-9931-2B7FB30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E3E0F-8E0F-4F07-9E99-B7EE1C9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4295A-BB8F-4A32-9672-D5DB05F4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B0F5-E22A-4C9D-806E-A5CB6C87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7DE-7C64-4432-8CD7-57F3128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8C1-8996-4AFD-BB64-1165984D2C45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C454-ECD7-4949-9476-21F4E7C8ED9E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123-97C9-403F-AB8A-7A5778E790DC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ED6D-572A-4F6B-96E9-CBF7E8C7A2B1}" type="slidenum"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3DF-E86E-4C1E-9A03-9D1DB9D33FF4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6102-F19F-4173-A32E-FDEAC6533917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17F0-1956-4BCF-AD4E-450013E27A68}" type="slidenum">
              <a:rPr b="0" lang="en-GB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by 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Szabolcs SZILAGYI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Franklin Gothic Medium"/>
              </a:rPr>
              <a:t>European Commission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Franklin Gothic Medium"/>
              </a:rPr>
              <a:t>TAXUD C.3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HUNGARIAN ALCOHOL CASES</a:t>
            </a:r>
            <a:r>
              <a:rPr b="0" lang="hu-HU" sz="4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ntent Placeholder 1" descr=""/>
          <p:cNvPicPr/>
          <p:nvPr/>
        </p:nvPicPr>
        <p:blipFill>
          <a:blip r:embed="rId1"/>
          <a:stretch/>
        </p:blipFill>
        <p:spPr>
          <a:xfrm>
            <a:off x="244440" y="1627200"/>
            <a:ext cx="8545680" cy="449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1773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Directive 92/83 on alcohol defines categor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beer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120000"/>
              </a:lnSpc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wine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other fermented beverages (cider, p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intermediate products (port, sherry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4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6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 (spirit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534949"/>
                </a:solidFill>
                <a:uFillTx/>
                <a:latin typeface="Franklin Gothic Medium"/>
              </a:rPr>
              <a:t>Ethyl alcohol</a:t>
            </a: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 under Directive 92/83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Definition: reference to CN codes and alcoholic strength (in excess of 22%): 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vodka, 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gin, whisky, brand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y</a:t>
            </a: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, fruit spirits, etc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Single rate must be applied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Minimum standard rate is 550 EUR/hl (Directive 92/84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Reduced rate of not more than 50% of the standard national rate</a:t>
            </a:r>
            <a:r>
              <a:rPr b="0" lang="hu-HU" sz="2100" spc="-1" strike="noStrike">
                <a:solidFill>
                  <a:srgbClr val="534949"/>
                </a:solidFill>
                <a:latin typeface="Franklin Gothic Medium"/>
              </a:rPr>
              <a:t>: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pirits produced by small distilleries  (max 10 hl/ye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534949"/>
                </a:solidFill>
                <a:uFillTx/>
                <a:latin typeface="Franklin Gothic Medium"/>
              </a:rPr>
              <a:t>Hungary, Romania, Slovakia: spirits (from fruit of fruit growers, max 50 litres/year, for personal consumption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34949"/>
                </a:solidFill>
                <a:latin typeface="Franklin Gothic Medium"/>
              </a:rPr>
              <a:t>Exemptions: limited (food, medication, scientific purposes)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520" y="1719360"/>
            <a:ext cx="85122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1. (pálinka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From September 2012, exemption from excise duty on fruit spirits (pálinka) produced by a distillery (contract distillation) and at home (private distillation) for 50 litres of spirits and for personal consumption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oblem: only a 50% reduction is allowed (contract distillation)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ECJ: C‑115/13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Com</a:t>
            </a:r>
            <a:r>
              <a:rPr b="0" i="1" lang="hu-HU" sz="17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v </a:t>
            </a:r>
            <a:r>
              <a:rPr b="0" i="1" lang="en-GB" sz="1700" spc="-1" strike="noStrike">
                <a:solidFill>
                  <a:srgbClr val="534949"/>
                </a:solidFill>
                <a:latin typeface="Franklin Gothic Medium"/>
              </a:rPr>
              <a:t>Hungary: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the exemption on </a:t>
            </a:r>
            <a:r>
              <a:rPr b="0" lang="en-GB" sz="1700" spc="-1" strike="noStrike" u="sng">
                <a:solidFill>
                  <a:srgbClr val="534949"/>
                </a:solidFill>
                <a:uFillTx/>
                <a:latin typeface="Franklin Gothic Medium"/>
              </a:rPr>
              <a:t>both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contract and private distillation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violate Directives 92/83 and 92/84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Contract distillation: Hungary will comply from 1 January 2015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Private distillation: flat rate tax of 1000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 HUF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 (3.3 EUR)</a:t>
            </a:r>
            <a:r>
              <a:rPr b="0" lang="hu-HU" sz="1700" spc="-1" strike="noStrike">
                <a:solidFill>
                  <a:srgbClr val="534949"/>
                </a:solidFill>
                <a:latin typeface="Franklin Gothic Medium"/>
              </a:rPr>
              <a:t>/</a:t>
            </a: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year on 50 litres of spirits (personal consumption), individual must be fruit grower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34949"/>
                </a:solidFill>
                <a:latin typeface="Franklin Gothic Medium"/>
              </a:rPr>
              <a:t>Infringement procedure continues to comply with the judgment</a:t>
            </a: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4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5838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Hungarian alcohol case no 2. (dual rate on ethyl alcohol)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rom 2012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,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 Hungary introduced a second (higher) excise duty ra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Standard rate: 1100 EUR/hl, second rate: 1540 EUR/hl (+41%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. 21 of Dir. 92/83: single rate must apply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Commission started infringement proceeding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Hungary will repeal the dual rate from 1 January 2015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Instead: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 progressive tax on alcoholic beverages is introduc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0880" y="1719000"/>
            <a:ext cx="85838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rom 1 January 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2015: a 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alth</a:t>
            </a:r>
            <a:r>
              <a:rPr b="0" lang="hu-HU" sz="2000" spc="-1" strike="noStrike">
                <a:solidFill>
                  <a:srgbClr val="534949"/>
                </a:solidFill>
                <a:latin typeface="Franklin Gothic Medium"/>
              </a:rPr>
              <a:t> t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x on all alcoholic beverages (from 1.2%) according to alcoholic strength: e.g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25% and 35% tax is 1.67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tween 35% and 45% tax is 2,33 EUR per litre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otential problem: fruit spirits (pálinka, grappa …) and herbal bitters (Zwack Unicum, Jägermeister …) are exempt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11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rt 1(2) of Dir. 2008/118: MSs may levy other indirect taxes on excise goods provided that: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is levied for specific purposes (C-437/97, C-82/12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74960" indent="-178560">
              <a:lnSpc>
                <a:spcPct val="110000"/>
              </a:lnSpc>
              <a:spcBef>
                <a:spcPts val="451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It resembles to VAT or excise duties as regards the determination of the tax base, calculation of the tax, chargeability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432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949"/>
                </a:solidFill>
                <a:latin typeface="Franklin Gothic Medium"/>
              </a:rPr>
              <a:t>Potential alcohol case no 3. (progressive tax on alcoholic drinks) con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2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Non-harmonised tax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ticle 110 of the Treaty (no discriminatory taxation)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First para: similar goods, second para.: goods in competitio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Are the exempted products are similar to those taxed?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34949"/>
                </a:solidFill>
                <a:latin typeface="Franklin Gothic Medium"/>
              </a:rPr>
              <a:t>ECJ (e.g. C-106/84) "similarity": manufacturing method, organoleptic properties, alcohol content, meeting the same need of the consumer (beer and wine not similar; fruit wine and sherry not simila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lnSpc>
                <a:spcPct val="12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HUNGARIAN </a:t>
            </a:r>
            <a:r>
              <a:rPr b="0" lang="hu-HU" sz="2000" spc="-1" strike="noStrike">
                <a:solidFill>
                  <a:srgbClr val="ffffff"/>
                </a:solidFill>
                <a:latin typeface="Franklin Gothic Medium"/>
              </a:rPr>
              <a:t>ALCOHOL </a:t>
            </a:r>
            <a:r>
              <a:rPr b="0" lang="en-GB" sz="2000" spc="-1" strike="noStrike">
                <a:solidFill>
                  <a:srgbClr val="ffffff"/>
                </a:solidFill>
                <a:latin typeface="Franklin Gothic Medium"/>
              </a:rPr>
              <a:t>CASES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8:38:47Z</dcterms:created>
  <dc:creator>SZILAGYI Szabolcs (TAXUD)</dc:creator>
  <dc:description/>
  <dc:language>en-US</dc:language>
  <cp:lastModifiedBy>SZILAGYI Szabolcs (TAXUD)</cp:lastModifiedBy>
  <cp:lastPrinted>2014-12-08T10:47:17Z</cp:lastPrinted>
  <dcterms:modified xsi:type="dcterms:W3CDTF">2014-12-08T10:48:40Z</dcterms:modified>
  <cp:revision>17</cp:revision>
  <dc:subject/>
  <dc:title>HUNGARIAN EXCISE CASES</dc:title>
</cp:coreProperties>
</file>