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6E9E-5138-48F4-B5C0-7E7A6E6C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AB61-978E-4F58-A2A3-425C82A3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20CD-9CC0-4787-A2AF-77B2251D3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3146-917B-46B7-9ACE-FBFF84998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D6D4-952B-47BB-8366-FCC2DF94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9207-2F7B-442E-BA2E-94D2362B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5278-3B67-435D-82F8-EE5A580E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BEE1-0D17-4F28-B85D-8C297323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CDD9-6375-4ADD-9A82-169B146A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E9C0-218D-4BE6-AC9E-693E7FC2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B647-90CD-4C87-A00C-43C37146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9123-8E46-4964-B3DD-43D5D892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B038-2050-4C41-BA87-ADAE3516A9F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A279-87C4-431C-8019-BEC78882B7D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5"/>
          <p:cNvSpPr/>
          <p:nvPr/>
        </p:nvSpPr>
        <p:spPr>
          <a:xfrm>
            <a:off x="428760" y="1517760"/>
            <a:ext cx="7451640" cy="35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Civil Dialogue 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11 December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Bruss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"/>
          <p:cNvPicPr/>
          <p:nvPr/>
        </p:nvPicPr>
        <p:blipFill>
          <a:blip r:embed="rId1"/>
          <a:srcRect l="45037" t="32485" r="43892" b="53748"/>
          <a:stretch/>
        </p:blipFill>
        <p:spPr>
          <a:xfrm>
            <a:off x="8051760" y="1239840"/>
            <a:ext cx="947880" cy="884160"/>
          </a:xfrm>
          <a:prstGeom prst="rect">
            <a:avLst/>
          </a:prstGeom>
          <a:ln w="28440">
            <a:solidFill>
              <a:srgbClr val="cc3399"/>
            </a:solidFill>
            <a:miter/>
          </a:ln>
        </p:spPr>
      </p:pic>
      <p:pic>
        <p:nvPicPr>
          <p:cNvPr id="43" name="Picture 9" descr=""/>
          <p:cNvPicPr/>
          <p:nvPr/>
        </p:nvPicPr>
        <p:blipFill>
          <a:blip r:embed="rId2"/>
          <a:srcRect l="43560" t="32436" r="45184" b="53797"/>
          <a:stretch/>
        </p:blipFill>
        <p:spPr>
          <a:xfrm>
            <a:off x="8051760" y="2357280"/>
            <a:ext cx="949320" cy="87156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  <p:pic>
        <p:nvPicPr>
          <p:cNvPr id="44" name="Picture 10" descr=""/>
          <p:cNvPicPr/>
          <p:nvPr/>
        </p:nvPicPr>
        <p:blipFill>
          <a:blip r:embed="rId3"/>
          <a:srcRect l="45037" t="62017" r="43523" b="24216"/>
          <a:stretch/>
        </p:blipFill>
        <p:spPr>
          <a:xfrm>
            <a:off x="8051760" y="3492360"/>
            <a:ext cx="947880" cy="85572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45" name="Rectangle 45"/>
          <p:cNvSpPr/>
          <p:nvPr/>
        </p:nvSpPr>
        <p:spPr>
          <a:xfrm>
            <a:off x="428760" y="230040"/>
            <a:ext cx="50799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2060"/>
                </a:solidFill>
                <a:latin typeface="Arial"/>
              </a:rPr>
              <a:t>Bundesverband der Deutschen Stärkekartoffelerzeuger e.V.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428760" y="1143000"/>
            <a:ext cx="7561080" cy="0"/>
          </a:xfrm>
          <a:prstGeom prst="line">
            <a:avLst/>
          </a:prstGeom>
          <a:ln w="28440">
            <a:solidFill>
              <a:srgbClr val="af3f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bratkartoffeln_01_ulikutting"/>
          <p:cNvPicPr/>
          <p:nvPr/>
        </p:nvPicPr>
        <p:blipFill>
          <a:blip r:embed="rId4"/>
          <a:srcRect l="0" t="0" r="18845" b="0"/>
          <a:stretch/>
        </p:blipFill>
        <p:spPr>
          <a:xfrm>
            <a:off x="8028000" y="4581360"/>
            <a:ext cx="947880" cy="792360"/>
          </a:xfrm>
          <a:prstGeom prst="rect">
            <a:avLst/>
          </a:prstGeom>
          <a:ln w="31680">
            <a:solidFill>
              <a:srgbClr val="ffc000"/>
            </a:solidFill>
            <a:miter/>
          </a:ln>
        </p:spPr>
      </p:pic>
      <p:sp>
        <p:nvSpPr>
          <p:cNvPr id="48" name="Text Box 15"/>
          <p:cNvSpPr/>
          <p:nvPr/>
        </p:nvSpPr>
        <p:spPr>
          <a:xfrm>
            <a:off x="684360" y="6165720"/>
            <a:ext cx="657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2060"/>
                </a:solidFill>
                <a:latin typeface="Arial"/>
              </a:rPr>
              <a:t>Schumannstraße 5 * 10117 Berl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060"/>
                </a:solidFill>
                <a:latin typeface="Arial"/>
              </a:rPr>
              <a:t>Tel.: +49(30) / 657993 – 86 * Fax.: +49(30) / 657993 – 85 * E-Mail: BVS@unika-ev.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5"/>
          <p:cNvSpPr/>
          <p:nvPr/>
        </p:nvSpPr>
        <p:spPr>
          <a:xfrm>
            <a:off x="5943600" y="122400"/>
            <a:ext cx="2108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002060"/>
                </a:solidFill>
                <a:latin typeface="Arial"/>
              </a:rPr>
              <a:t>BV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5"/>
          <p:cNvSpPr/>
          <p:nvPr/>
        </p:nvSpPr>
        <p:spPr>
          <a:xfrm>
            <a:off x="642960" y="142920"/>
            <a:ext cx="75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CESPU-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liennummernplatzhalter 7"/>
          <p:cNvSpPr/>
          <p:nvPr/>
        </p:nvSpPr>
        <p:spPr>
          <a:xfrm>
            <a:off x="7524720" y="6237360"/>
            <a:ext cx="1474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2A8A-3D73-422A-8709-72873874876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642960" y="714240"/>
            <a:ext cx="7561080" cy="0"/>
          </a:xfrm>
          <a:prstGeom prst="line">
            <a:avLst/>
          </a:prstGeom>
          <a:ln w="28440">
            <a:solidFill>
              <a:srgbClr val="af3f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5"/>
          <p:cNvSpPr/>
          <p:nvPr/>
        </p:nvSpPr>
        <p:spPr>
          <a:xfrm>
            <a:off x="250920" y="6165720"/>
            <a:ext cx="856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060"/>
                </a:solidFill>
                <a:latin typeface="Arial"/>
              </a:rPr>
              <a:t>Bundesverband der Deutschen Stärkekartoffelerzeuger e.V. (BVS) * Schumannstraße 5 * 10117 Berl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060"/>
                </a:solidFill>
                <a:latin typeface="Arial"/>
              </a:rPr>
              <a:t>Tel.: +49(30) / 657993 – 86 * Fax.: +49(30) / 657993 – 85 * E-Mail: BVS@unika-ev.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5"/>
          <p:cNvSpPr/>
          <p:nvPr/>
        </p:nvSpPr>
        <p:spPr>
          <a:xfrm>
            <a:off x="6989760" y="847800"/>
            <a:ext cx="200988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urce: CES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Pol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3.000 ha 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Czech Rep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.000 ha 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EU-28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014: 180.900 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015: 181.900 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Diagramm 14"/>
          <p:cNvGraphicFramePr/>
          <p:nvPr/>
        </p:nvGraphicFramePr>
        <p:xfrm>
          <a:off x="592200" y="763560"/>
          <a:ext cx="6406920" cy="419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Diagramm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763560"/>
                    <a:ext cx="6406920" cy="41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642960" y="5129280"/>
          <a:ext cx="6299280" cy="663480"/>
        </p:xfrm>
        <a:graphic>
          <a:graphicData uri="http://schemas.openxmlformats.org/drawingml/2006/table">
            <a:tbl>
              <a:tblPr/>
              <a:tblGrid>
                <a:gridCol w="787320"/>
                <a:gridCol w="787320"/>
                <a:gridCol w="787680"/>
                <a:gridCol w="787320"/>
                <a:gridCol w="787320"/>
                <a:gridCol w="787320"/>
                <a:gridCol w="787320"/>
                <a:gridCol w="787680"/>
              </a:tblGrid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5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14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SPU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5"/>
          <p:cNvSpPr/>
          <p:nvPr/>
        </p:nvSpPr>
        <p:spPr>
          <a:xfrm>
            <a:off x="642960" y="142920"/>
            <a:ext cx="75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Area of starch potatoes in the E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857160" y="7286760"/>
            <a:ext cx="7358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liennummernplatzhalter 7"/>
          <p:cNvSpPr/>
          <p:nvPr/>
        </p:nvSpPr>
        <p:spPr>
          <a:xfrm>
            <a:off x="7524720" y="6237360"/>
            <a:ext cx="1474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39C3-531B-4911-921A-C30B0721540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642960" y="714240"/>
            <a:ext cx="7561080" cy="0"/>
          </a:xfrm>
          <a:prstGeom prst="line">
            <a:avLst/>
          </a:prstGeom>
          <a:ln w="28440">
            <a:solidFill>
              <a:srgbClr val="af3f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5"/>
          <p:cNvSpPr/>
          <p:nvPr/>
        </p:nvSpPr>
        <p:spPr>
          <a:xfrm>
            <a:off x="250920" y="6165720"/>
            <a:ext cx="856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060"/>
                </a:solidFill>
                <a:latin typeface="Arial"/>
              </a:rPr>
              <a:t>Bundesverband der Deutschen Stärkekartoffelerzeuger e.V. (BVS) * Schumannstraße 5 * 10117 Berl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060"/>
                </a:solidFill>
                <a:latin typeface="Arial"/>
              </a:rPr>
              <a:t>Tel.: +49(30) / 657993 – 86 * Fax.: +49(30) / 657993 – 85 * E-Mail: BVS@unika-ev.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Grafik 1" descr=""/>
          <p:cNvPicPr/>
          <p:nvPr/>
        </p:nvPicPr>
        <p:blipFill>
          <a:blip r:embed="rId1"/>
          <a:stretch/>
        </p:blipFill>
        <p:spPr>
          <a:xfrm>
            <a:off x="1325520" y="907920"/>
            <a:ext cx="6419880" cy="3892680"/>
          </a:xfrm>
          <a:prstGeom prst="rect">
            <a:avLst/>
          </a:prstGeom>
          <a:ln w="0">
            <a:noFill/>
          </a:ln>
        </p:spPr>
      </p:pic>
      <p:sp>
        <p:nvSpPr>
          <p:cNvPr id="128" name="Rechteck 2"/>
          <p:cNvSpPr/>
          <p:nvPr/>
        </p:nvSpPr>
        <p:spPr>
          <a:xfrm>
            <a:off x="1330200" y="4883040"/>
            <a:ext cx="127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ource: CES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5"/>
          <p:cNvSpPr/>
          <p:nvPr/>
        </p:nvSpPr>
        <p:spPr>
          <a:xfrm>
            <a:off x="642960" y="142920"/>
            <a:ext cx="75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Production of starch potato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857160" y="7286760"/>
            <a:ext cx="7358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liennummernplatzhalter 7"/>
          <p:cNvSpPr/>
          <p:nvPr/>
        </p:nvSpPr>
        <p:spPr>
          <a:xfrm>
            <a:off x="7524720" y="6237360"/>
            <a:ext cx="1474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96C0-E017-4C25-A797-563B8A6C663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8"/>
          <p:cNvSpPr/>
          <p:nvPr/>
        </p:nvSpPr>
        <p:spPr>
          <a:xfrm>
            <a:off x="654120" y="836640"/>
            <a:ext cx="7561080" cy="0"/>
          </a:xfrm>
          <a:prstGeom prst="line">
            <a:avLst/>
          </a:prstGeom>
          <a:ln w="28440">
            <a:solidFill>
              <a:srgbClr val="af3f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5"/>
          <p:cNvSpPr/>
          <p:nvPr/>
        </p:nvSpPr>
        <p:spPr>
          <a:xfrm>
            <a:off x="250920" y="6165720"/>
            <a:ext cx="856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060"/>
                </a:solidFill>
                <a:latin typeface="Arial"/>
              </a:rPr>
              <a:t>Bundesverband der Deutschen Stärkekartoffelerzeuger e.V. (BVS) * Schumannstraße 5 * 10117 Berl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060"/>
                </a:solidFill>
                <a:latin typeface="Arial"/>
              </a:rPr>
              <a:t>Tel.: +49(30) / 657993 – 86 * Fax.: +49(30) / 657993 – 85 * E-Mail: BVS@unika-ev.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Diagramm 6"/>
          <p:cNvGraphicFramePr/>
          <p:nvPr/>
        </p:nvGraphicFramePr>
        <p:xfrm>
          <a:off x="592200" y="930240"/>
          <a:ext cx="6030720" cy="377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Diagramm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930240"/>
                    <a:ext cx="6030720" cy="37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45"/>
          <p:cNvSpPr/>
          <p:nvPr/>
        </p:nvSpPr>
        <p:spPr>
          <a:xfrm>
            <a:off x="6588000" y="1009800"/>
            <a:ext cx="200988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urce: CES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Pol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,7 – 0,8 Mio.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Czech Re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,1 – 0,2 Mio.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EU-28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014: 7,6 Mio.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015: 7,5 Mio.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54120" y="4941720"/>
          <a:ext cx="6299280" cy="663840"/>
        </p:xfrm>
        <a:graphic>
          <a:graphicData uri="http://schemas.openxmlformats.org/drawingml/2006/table">
            <a:tbl>
              <a:tblPr/>
              <a:tblGrid>
                <a:gridCol w="787320"/>
                <a:gridCol w="787320"/>
                <a:gridCol w="787320"/>
                <a:gridCol w="787680"/>
                <a:gridCol w="787320"/>
                <a:gridCol w="787320"/>
                <a:gridCol w="787320"/>
                <a:gridCol w="787680"/>
              </a:tblGrid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5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176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SPU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33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63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01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32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76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86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8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5"/>
          <p:cNvSpPr/>
          <p:nvPr/>
        </p:nvSpPr>
        <p:spPr>
          <a:xfrm>
            <a:off x="642960" y="142920"/>
            <a:ext cx="75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857160" y="7286760"/>
            <a:ext cx="7358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liennummernplatzhalter 7"/>
          <p:cNvSpPr/>
          <p:nvPr/>
        </p:nvSpPr>
        <p:spPr>
          <a:xfrm>
            <a:off x="7524720" y="6237360"/>
            <a:ext cx="1474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F3A3-7CDC-4422-B459-D443E9C22E5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642960" y="714240"/>
            <a:ext cx="7561080" cy="0"/>
          </a:xfrm>
          <a:prstGeom prst="line">
            <a:avLst/>
          </a:prstGeom>
          <a:ln w="28440">
            <a:solidFill>
              <a:srgbClr val="af3f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5"/>
          <p:cNvSpPr/>
          <p:nvPr/>
        </p:nvSpPr>
        <p:spPr>
          <a:xfrm>
            <a:off x="237960" y="6345360"/>
            <a:ext cx="856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060"/>
                </a:solidFill>
                <a:latin typeface="Arial"/>
              </a:rPr>
              <a:t>Bundesverband der Deutschen Stärkekartoffelerzeuger e.V. (BVS) * Schumannstraße 5 * 10117 Berl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060"/>
                </a:solidFill>
                <a:latin typeface="Arial"/>
              </a:rPr>
              <a:t>Tel.: +49(30) / 657993 – 86 * Fax.: +49(30) / 657993 – 85 * E-Mail: BVS@unika-ev.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5"/>
          <p:cNvSpPr/>
          <p:nvPr/>
        </p:nvSpPr>
        <p:spPr>
          <a:xfrm>
            <a:off x="657360" y="836640"/>
            <a:ext cx="7731000" cy="51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fferent developments in the countries during the last yea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iver of the national development is the way of implementation of CAP ru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fter decoupling in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coupling within CAP 2020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wnward trend in EU‘s starch potato area seems to have stopp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rvest forcast below the level of 2014 (yiel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presented figures only describe tendencies, data for 2014 are still preliminary or estimated; only some MS have statistical surveys with starch potato fig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t included 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liveries to the factories outside of the contracts (last seas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vel of starch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Line 8"/>
          <p:cNvSpPr/>
          <p:nvPr/>
        </p:nvSpPr>
        <p:spPr>
          <a:xfrm>
            <a:off x="395280" y="836640"/>
            <a:ext cx="8034480" cy="46080"/>
          </a:xfrm>
          <a:prstGeom prst="line">
            <a:avLst/>
          </a:prstGeom>
          <a:ln w="28440">
            <a:solidFill>
              <a:srgbClr val="af3f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hteck 5"/>
          <p:cNvSpPr/>
          <p:nvPr/>
        </p:nvSpPr>
        <p:spPr>
          <a:xfrm>
            <a:off x="428760" y="952560"/>
            <a:ext cx="7929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5"/>
          <p:cNvSpPr/>
          <p:nvPr/>
        </p:nvSpPr>
        <p:spPr>
          <a:xfrm>
            <a:off x="357120" y="1071720"/>
            <a:ext cx="835812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77933c"/>
                </a:solidFill>
                <a:latin typeface="Arial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857160" y="7000920"/>
            <a:ext cx="7358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liennummernplatzhalt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E745-5551-411A-9E46-316CFEDC8BC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5"/>
          <p:cNvSpPr/>
          <p:nvPr/>
        </p:nvSpPr>
        <p:spPr>
          <a:xfrm>
            <a:off x="485640" y="189000"/>
            <a:ext cx="776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2060"/>
                </a:solidFill>
                <a:latin typeface="Arial"/>
              </a:rPr>
              <a:t>Bundesverband der Stärkekartoffelerzeuger e.V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5"/>
          <p:cNvSpPr/>
          <p:nvPr/>
        </p:nvSpPr>
        <p:spPr>
          <a:xfrm>
            <a:off x="250920" y="6165720"/>
            <a:ext cx="856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060"/>
                </a:solidFill>
                <a:latin typeface="Arial"/>
              </a:rPr>
              <a:t>Bundesverband der Deutschen Stärkekartoffelerzeuger e.V. (BVS) * Schumannstraße 5 * 10117 Berl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060"/>
                </a:solidFill>
                <a:latin typeface="Arial"/>
              </a:rPr>
              <a:t>Tel.: +49(30) / 657993 – 86 * Fax.: +49(30) / 657993 – 85 * E-Mail: bvs@unika-ev.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5"/>
          <p:cNvSpPr/>
          <p:nvPr/>
        </p:nvSpPr>
        <p:spPr>
          <a:xfrm>
            <a:off x="642960" y="142920"/>
            <a:ext cx="75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857160" y="7286760"/>
            <a:ext cx="7358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liennummernplatzhalter 7"/>
          <p:cNvSpPr/>
          <p:nvPr/>
        </p:nvSpPr>
        <p:spPr>
          <a:xfrm>
            <a:off x="7524720" y="6237360"/>
            <a:ext cx="1474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D396-6560-409B-AD68-37932CF0DEF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642960" y="714240"/>
            <a:ext cx="7561080" cy="0"/>
          </a:xfrm>
          <a:prstGeom prst="line">
            <a:avLst/>
          </a:prstGeom>
          <a:ln w="28440">
            <a:solidFill>
              <a:srgbClr val="af3f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5"/>
          <p:cNvSpPr/>
          <p:nvPr/>
        </p:nvSpPr>
        <p:spPr>
          <a:xfrm>
            <a:off x="250920" y="6165720"/>
            <a:ext cx="856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060"/>
                </a:solidFill>
                <a:latin typeface="Arial"/>
              </a:rPr>
              <a:t>Bundesverband der Deutschen Stärkekartoffelerzeuger e.V. (BVS) * Schumannstraße 5 * 10117 Berl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060"/>
                </a:solidFill>
                <a:latin typeface="Arial"/>
              </a:rPr>
              <a:t>Tel.: +49(30) / 657993 – 86 * Fax.: +49(30) / 657993 – 85 * E-Mail: BVS@unika-ev.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395280" y="162864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Develop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on the starch potato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5"/>
          <p:cNvSpPr/>
          <p:nvPr/>
        </p:nvSpPr>
        <p:spPr>
          <a:xfrm>
            <a:off x="857160" y="7286760"/>
            <a:ext cx="7358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liennummernplatzhalter 7"/>
          <p:cNvSpPr/>
          <p:nvPr/>
        </p:nvSpPr>
        <p:spPr>
          <a:xfrm>
            <a:off x="7524720" y="6237360"/>
            <a:ext cx="1474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7058-2B40-4A42-9FD9-FA905BDEEBF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642960" y="714240"/>
            <a:ext cx="7561080" cy="0"/>
          </a:xfrm>
          <a:prstGeom prst="line">
            <a:avLst/>
          </a:prstGeom>
          <a:ln w="28440">
            <a:solidFill>
              <a:srgbClr val="af3f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5"/>
          <p:cNvSpPr/>
          <p:nvPr/>
        </p:nvSpPr>
        <p:spPr>
          <a:xfrm>
            <a:off x="138240" y="6164280"/>
            <a:ext cx="856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060"/>
                </a:solidFill>
                <a:latin typeface="Arial"/>
              </a:rPr>
              <a:t>Bundesverband der Deutschen Stärkekartoffelerzeuger e.V. (BVS) * Schumannstraße 5 * 10117 Berl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060"/>
                </a:solidFill>
                <a:latin typeface="Arial"/>
              </a:rPr>
              <a:t>Tel.: +49(30) / 657993 – 86 * Fax.: +49(30) / 657993 – 85 * E-Mail: BVS@unika-ev.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hteck 1"/>
          <p:cNvSpPr/>
          <p:nvPr/>
        </p:nvSpPr>
        <p:spPr>
          <a:xfrm>
            <a:off x="642960" y="287280"/>
            <a:ext cx="753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ota for Starch Potatoes in the European Union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(1.000 to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46120" y="949320"/>
          <a:ext cx="8113680" cy="4713120"/>
        </p:xfrm>
        <a:graphic>
          <a:graphicData uri="http://schemas.openxmlformats.org/drawingml/2006/table">
            <a:tbl>
              <a:tblPr/>
              <a:tblGrid>
                <a:gridCol w="1800360"/>
                <a:gridCol w="1753920"/>
                <a:gridCol w="1519200"/>
                <a:gridCol w="1519560"/>
                <a:gridCol w="1520640"/>
              </a:tblGrid>
              <a:tr h="48744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0/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1/2002 to 2004/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5/2006 to 2011/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hare of quota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4912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erm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76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e Netherla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912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9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n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76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wed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912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n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76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st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912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p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76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U-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6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6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,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912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9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zech Republ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76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tv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912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tu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76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lovak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912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sto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76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U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912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U-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4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2" name="Rectangle 1"/>
          <p:cNvSpPr/>
          <p:nvPr/>
        </p:nvSpPr>
        <p:spPr>
          <a:xfrm>
            <a:off x="539280" y="1332720"/>
            <a:ext cx="299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br>
              <a:rPr sz="14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hteck 4"/>
          <p:cNvSpPr/>
          <p:nvPr/>
        </p:nvSpPr>
        <p:spPr>
          <a:xfrm>
            <a:off x="496440" y="566748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: 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5"/>
          <p:cNvSpPr/>
          <p:nvPr/>
        </p:nvSpPr>
        <p:spPr>
          <a:xfrm>
            <a:off x="857160" y="7286760"/>
            <a:ext cx="7358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oliennummernplatzhalter 7"/>
          <p:cNvSpPr/>
          <p:nvPr/>
        </p:nvSpPr>
        <p:spPr>
          <a:xfrm>
            <a:off x="7524720" y="6237360"/>
            <a:ext cx="1474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375E-8ED2-4AF9-9264-39C63009EE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>
            <a:off x="642960" y="714240"/>
            <a:ext cx="7561080" cy="0"/>
          </a:xfrm>
          <a:prstGeom prst="line">
            <a:avLst/>
          </a:prstGeom>
          <a:ln w="28440">
            <a:solidFill>
              <a:srgbClr val="af3f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5"/>
          <p:cNvSpPr/>
          <p:nvPr/>
        </p:nvSpPr>
        <p:spPr>
          <a:xfrm>
            <a:off x="250920" y="6345360"/>
            <a:ext cx="856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060"/>
                </a:solidFill>
                <a:latin typeface="Arial"/>
              </a:rPr>
              <a:t>Bundesverband der Deutschen Stärkekartoffelerzeuger e.V. (BVS) * Schumannstraße 5 * 10117 Berl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060"/>
                </a:solidFill>
                <a:latin typeface="Arial"/>
              </a:rPr>
              <a:t>Tel.: +49(30) / 657993 – 86 * Fax.: +49(30) / 657993 – 85 * E-Mail: BVS@unika-ev.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Diagramm 9"/>
          <p:cNvGraphicFramePr/>
          <p:nvPr/>
        </p:nvGraphicFramePr>
        <p:xfrm>
          <a:off x="609480" y="765000"/>
          <a:ext cx="6078600" cy="420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Diagramm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765000"/>
                    <a:ext cx="6078600" cy="42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Rectangle 45"/>
          <p:cNvSpPr/>
          <p:nvPr/>
        </p:nvSpPr>
        <p:spPr>
          <a:xfrm>
            <a:off x="642960" y="142920"/>
            <a:ext cx="75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5"/>
          <p:cNvSpPr/>
          <p:nvPr/>
        </p:nvSpPr>
        <p:spPr>
          <a:xfrm>
            <a:off x="6667560" y="811080"/>
            <a:ext cx="1547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Source: BV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5"/>
          <p:cNvSpPr/>
          <p:nvPr/>
        </p:nvSpPr>
        <p:spPr>
          <a:xfrm>
            <a:off x="609480" y="5043600"/>
            <a:ext cx="81392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ong period of downward trend in cultivation of starch potatoes: 1/4 since 2010 = result of specific agricultural policy decisions in Germany against coupled pay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y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cultivating conditions in Germany in 2015, wet and rainy in the northwest, drought in the northeast and sout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5"/>
          <p:cNvSpPr/>
          <p:nvPr/>
        </p:nvSpPr>
        <p:spPr>
          <a:xfrm>
            <a:off x="642960" y="142920"/>
            <a:ext cx="75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857160" y="7286760"/>
            <a:ext cx="7358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oliennummernplatzhalter 7"/>
          <p:cNvSpPr/>
          <p:nvPr/>
        </p:nvSpPr>
        <p:spPr>
          <a:xfrm>
            <a:off x="7524720" y="6237360"/>
            <a:ext cx="1474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E03E-392C-4518-A767-8B97CE75C29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8"/>
          <p:cNvSpPr/>
          <p:nvPr/>
        </p:nvSpPr>
        <p:spPr>
          <a:xfrm>
            <a:off x="642960" y="714240"/>
            <a:ext cx="7561080" cy="0"/>
          </a:xfrm>
          <a:prstGeom prst="line">
            <a:avLst/>
          </a:prstGeom>
          <a:ln w="28440">
            <a:solidFill>
              <a:srgbClr val="af3f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5"/>
          <p:cNvSpPr/>
          <p:nvPr/>
        </p:nvSpPr>
        <p:spPr>
          <a:xfrm>
            <a:off x="250920" y="6419880"/>
            <a:ext cx="856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060"/>
                </a:solidFill>
                <a:latin typeface="Arial"/>
              </a:rPr>
              <a:t>Bundesverband der Deutschen Stärkekartoffelerzeuger e.V. (BVS) * Schumannstraße 5 * 10117 Berl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060"/>
                </a:solidFill>
                <a:latin typeface="Arial"/>
              </a:rPr>
              <a:t>Tel.: +49(30) / 657993 – 86 * Fax.: +49(30) / 657993 – 85 * E-Mail: BVS@unika-ev.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5"/>
          <p:cNvSpPr/>
          <p:nvPr/>
        </p:nvSpPr>
        <p:spPr>
          <a:xfrm>
            <a:off x="7093080" y="4724280"/>
            <a:ext cx="151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ource: CESPU, C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5"/>
          <p:cNvSpPr/>
          <p:nvPr/>
        </p:nvSpPr>
        <p:spPr>
          <a:xfrm>
            <a:off x="615960" y="5251320"/>
            <a:ext cx="806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015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ea starch potatoes at 43.310 ha (2014: 42.30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ood y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Diagramm 9"/>
          <p:cNvGraphicFramePr/>
          <p:nvPr/>
        </p:nvGraphicFramePr>
        <p:xfrm>
          <a:off x="592200" y="785880"/>
          <a:ext cx="6551640" cy="445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Diagramm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785880"/>
                    <a:ext cx="655164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5"/>
          <p:cNvSpPr/>
          <p:nvPr/>
        </p:nvSpPr>
        <p:spPr>
          <a:xfrm>
            <a:off x="642960" y="142920"/>
            <a:ext cx="75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857160" y="7286760"/>
            <a:ext cx="7358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oliennummernplatzhalter 7"/>
          <p:cNvSpPr/>
          <p:nvPr/>
        </p:nvSpPr>
        <p:spPr>
          <a:xfrm>
            <a:off x="7524720" y="6237360"/>
            <a:ext cx="1474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6D18-77D8-4EF8-BFAB-53AD98C321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642960" y="714240"/>
            <a:ext cx="7561080" cy="0"/>
          </a:xfrm>
          <a:prstGeom prst="line">
            <a:avLst/>
          </a:prstGeom>
          <a:ln w="28440">
            <a:solidFill>
              <a:srgbClr val="af3f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235080" y="6364440"/>
            <a:ext cx="856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060"/>
                </a:solidFill>
                <a:latin typeface="Arial"/>
              </a:rPr>
              <a:t>Bundesverband der Deutschen Stärkekartoffelerzeuger e.V. (BVS) * Schumannstraße 5 * 10117 Berl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060"/>
                </a:solidFill>
                <a:latin typeface="Arial"/>
              </a:rPr>
              <a:t>Tel.: +49(30) / 657993 – 86 * Fax.: +49(30) / 657993 – 85 * E-Mail: BVS@unika-ev.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Diagramm 11"/>
          <p:cNvGraphicFramePr/>
          <p:nvPr/>
        </p:nvGraphicFramePr>
        <p:xfrm>
          <a:off x="642960" y="714240"/>
          <a:ext cx="6221520" cy="42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Diagramm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714240"/>
                    <a:ext cx="6221520" cy="42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45"/>
          <p:cNvSpPr/>
          <p:nvPr/>
        </p:nvSpPr>
        <p:spPr>
          <a:xfrm>
            <a:off x="671400" y="5003640"/>
            <a:ext cx="8004240" cy="13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upled payments for starch potatoes from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ownward trend in cultivation of starch potatoes stopped in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yields lower than very high level of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ast forcast of Agreste: 965.000 t (-6,5% to 2014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5"/>
          <p:cNvSpPr/>
          <p:nvPr/>
        </p:nvSpPr>
        <p:spPr>
          <a:xfrm>
            <a:off x="6756480" y="816120"/>
            <a:ext cx="20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 CESPU, Agre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5"/>
          <p:cNvSpPr/>
          <p:nvPr/>
        </p:nvSpPr>
        <p:spPr>
          <a:xfrm>
            <a:off x="642960" y="142920"/>
            <a:ext cx="75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Denm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857160" y="7286760"/>
            <a:ext cx="7358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liennummernplatzhalter 7"/>
          <p:cNvSpPr/>
          <p:nvPr/>
        </p:nvSpPr>
        <p:spPr>
          <a:xfrm>
            <a:off x="7524720" y="6237360"/>
            <a:ext cx="1474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22B8-ED50-4AA6-86F9-1BCA74C8B39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642960" y="714240"/>
            <a:ext cx="7561080" cy="0"/>
          </a:xfrm>
          <a:prstGeom prst="line">
            <a:avLst/>
          </a:prstGeom>
          <a:ln w="28440">
            <a:solidFill>
              <a:srgbClr val="af3f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5"/>
          <p:cNvSpPr/>
          <p:nvPr/>
        </p:nvSpPr>
        <p:spPr>
          <a:xfrm>
            <a:off x="250920" y="6364440"/>
            <a:ext cx="856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060"/>
                </a:solidFill>
                <a:latin typeface="Arial"/>
              </a:rPr>
              <a:t>Bundesverband der Deutschen Stärkekartoffelerzeuger e.V. (BVS) * Schumannstraße 5 * 10117 Berl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060"/>
                </a:solidFill>
                <a:latin typeface="Arial"/>
              </a:rPr>
              <a:t>Tel.: +49(30) / 657993 – 86 * Fax.: +49(30) / 657993 – 85 * E-Mail: BVS@unika-ev.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Diagramm 8"/>
          <p:cNvGraphicFramePr/>
          <p:nvPr/>
        </p:nvGraphicFramePr>
        <p:xfrm>
          <a:off x="592200" y="700200"/>
          <a:ext cx="6294240" cy="427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Diagramm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700200"/>
                    <a:ext cx="6294240" cy="42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45"/>
          <p:cNvSpPr/>
          <p:nvPr/>
        </p:nvSpPr>
        <p:spPr>
          <a:xfrm>
            <a:off x="6804000" y="763560"/>
            <a:ext cx="225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ource: CESPU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atistical Office Den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5"/>
          <p:cNvSpPr/>
          <p:nvPr/>
        </p:nvSpPr>
        <p:spPr>
          <a:xfrm>
            <a:off x="647640" y="4992840"/>
            <a:ext cx="450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ea slightly incre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cessing is still ongo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5"/>
          <p:cNvSpPr/>
          <p:nvPr/>
        </p:nvSpPr>
        <p:spPr>
          <a:xfrm>
            <a:off x="642960" y="142920"/>
            <a:ext cx="75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857160" y="7286760"/>
            <a:ext cx="7358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liennummernplatzhalter 7"/>
          <p:cNvSpPr/>
          <p:nvPr/>
        </p:nvSpPr>
        <p:spPr>
          <a:xfrm>
            <a:off x="7524720" y="6237360"/>
            <a:ext cx="1474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3524-9778-405D-8F9E-6D2FD2FE75C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642960" y="714240"/>
            <a:ext cx="7561080" cy="0"/>
          </a:xfrm>
          <a:prstGeom prst="line">
            <a:avLst/>
          </a:prstGeom>
          <a:ln w="28440">
            <a:solidFill>
              <a:srgbClr val="af3f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Diagramm 7"/>
          <p:cNvGraphicFramePr/>
          <p:nvPr/>
        </p:nvGraphicFramePr>
        <p:xfrm>
          <a:off x="592200" y="735120"/>
          <a:ext cx="5718240" cy="384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Diagramm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735120"/>
                    <a:ext cx="5718240" cy="38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45"/>
          <p:cNvSpPr/>
          <p:nvPr/>
        </p:nvSpPr>
        <p:spPr>
          <a:xfrm>
            <a:off x="642960" y="4621320"/>
            <a:ext cx="79628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jor structural changes in Poland‘s potato sector during the last years (less feeding, concentration in cultivation, less fresh consumption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014/15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cessing of 780.000 t starch potatoes (+22% to 2013/1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duction of 150.000 t potato star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015/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upled payments for starch potatoes: (max 23.000 ha or 385 €/h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cessing of about 700.000 t, less production of potato st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5"/>
          <p:cNvSpPr/>
          <p:nvPr/>
        </p:nvSpPr>
        <p:spPr>
          <a:xfrm>
            <a:off x="6276960" y="754200"/>
            <a:ext cx="247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urce: IERiG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5"/>
          <p:cNvSpPr/>
          <p:nvPr/>
        </p:nvSpPr>
        <p:spPr>
          <a:xfrm>
            <a:off x="642960" y="142920"/>
            <a:ext cx="75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Finland / Sweden / Aust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857160" y="7286760"/>
            <a:ext cx="7358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liennummernplatzhalter 7"/>
          <p:cNvSpPr/>
          <p:nvPr/>
        </p:nvSpPr>
        <p:spPr>
          <a:xfrm>
            <a:off x="7524720" y="6237360"/>
            <a:ext cx="1474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49A3-47B7-4A8A-AD38-D68DFAC6FC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642960" y="714240"/>
            <a:ext cx="7561080" cy="0"/>
          </a:xfrm>
          <a:prstGeom prst="line">
            <a:avLst/>
          </a:prstGeom>
          <a:ln w="28440">
            <a:solidFill>
              <a:srgbClr val="af3f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5"/>
          <p:cNvSpPr/>
          <p:nvPr/>
        </p:nvSpPr>
        <p:spPr>
          <a:xfrm>
            <a:off x="250920" y="6165720"/>
            <a:ext cx="856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060"/>
                </a:solidFill>
                <a:latin typeface="Arial"/>
              </a:rPr>
              <a:t>Bundesverband der Deutschen Stärkekartoffelerzeuger e.V. (BVS) * Schumannstraße 5 * 10117 Berl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060"/>
                </a:solidFill>
                <a:latin typeface="Arial"/>
              </a:rPr>
              <a:t>Tel.: +49(30) / 657993 – 86 * Fax.: +49(30) / 657993 – 85 * E-Mail: BVS@unika-ev.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5"/>
          <p:cNvSpPr/>
          <p:nvPr/>
        </p:nvSpPr>
        <p:spPr>
          <a:xfrm>
            <a:off x="608040" y="907920"/>
            <a:ext cx="79614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inl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owing season was close to disaster, also for starch potatoes: spring and mitsummer very rainy and cold; less rain in August, early frost in October with lo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the middle of October about ¼ less ware potatoes in the storages than last yea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,7 mill. EUR coupled support for starch potatoes = no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015: 4.766 (2014: 4.901) ha starch potat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gnificant problems with drought; fulfillment of contracts only by 60 – 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rana very active in Czech Re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we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015: 6.450 (2014: 6.140) ha starch potat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duction starch potatoes of 270.500 tons (last estim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5:24:13Z</dcterms:created>
  <dc:creator>XNKAV01</dc:creator>
  <dc:description/>
  <dc:language>en-US</dc:language>
  <cp:lastModifiedBy>CRONIN Aishling (AGRI)</cp:lastModifiedBy>
  <cp:lastPrinted>2015-12-09T18:32:27Z</cp:lastPrinted>
  <dcterms:modified xsi:type="dcterms:W3CDTF">2015-12-11T13:29:28Z</dcterms:modified>
  <cp:revision>1613</cp:revision>
  <dc:subject/>
  <dc:title>Folie 1</dc:title>
</cp:coreProperties>
</file>