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41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42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B18F-87CA-43D0-901C-D127100AA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F62-A1EA-4930-A476-85E7FA1968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CB9-3379-48F4-8111-5BBE33F6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A88-01D4-431B-A70B-7E04B01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7776A-83D2-45F3-8633-90260A4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11337-C47E-4EDA-9CAD-DA373FC5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8990A-D9D9-4981-A867-D729699A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2BBAB-AED0-4270-8391-A81C5C7E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28DCE-5849-431D-8743-C56B6BF0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2439-3F70-421B-B744-4217D3C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CAC3A-A695-40BB-AA41-41BC14E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95AA9-E3F4-4BBD-A94F-098CB67C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2B3CD-2372-410B-AC82-5CAE5C78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A880A-2AED-46E3-8754-CB22DF66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101-16BB-44E7-8670-3A2F3BF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14DD2-EC50-404F-8E96-BEBB712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C5BF2-2A2D-406B-A6BE-0B6DF735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AA26-AD30-4657-A0C6-F0AF371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71A00-ECAB-496D-B38B-A2056018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2BCF1-4B86-4CF8-9347-6D892864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631CB-80FF-40E9-962E-1E16C7B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9210A-D73C-476C-A047-2CE367B4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830F5-13F4-4338-A19E-9A6222C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5157D-F5A6-4477-BAFB-A769EA3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E347D-1797-4B0F-A4B7-1EF3E368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364-1A48-4C95-8A14-CD41AD15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6C77-691A-43F0-BE4E-BBBEE24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3616A-6055-404D-A843-70A95197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6DF75-755F-4B3A-B2CC-70ABE2E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4755-E44A-4EEA-8313-DAE831C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5FEC6-B930-4E17-AEA8-78E9F6AD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86DBF-2FE4-48B4-87AE-25C3054D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5189-1323-4E30-864F-13FA9D80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DE5E5-4042-487C-98C9-56E4115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D78B1-D49F-4B32-A6BB-4D9D6744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32926-E024-493E-BA4D-D277A8F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014-B7D6-4754-840A-79B76235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B93B2-2AA4-44B1-94A0-7BC744D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D52D9-08A6-4618-9729-B9134D8F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131C1-57AD-4A08-B538-23C6B4D7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67D1-AA12-4D8E-8712-09564ECD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9C273-7D9E-4FC0-BDBE-6ADB436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EE512-36BC-4777-A345-8E9C00D1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F0727-4E69-45CA-8364-8FD1681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7C00A-175E-476F-8229-ED146B0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8FFC3-FD6A-48DD-823A-7B127B84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87BB9-89A8-4344-8222-1214350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467B-0AF4-4173-A04E-391ACCB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7F328-615E-40A4-A04C-79BDF928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01AC4-48F9-417F-8038-8AA5C97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E0669-9B2C-4F36-AB4E-92F40CE3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066F7-CF42-4581-B1EB-B2EC86FF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D1766-F0E6-4A7B-8A97-6959C82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F51FD-9C29-480A-A6A0-B02DD585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027CC-593C-421E-A23E-46F8FA8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7F193-4E4B-4DBF-9AE5-90EE596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95225-0A3E-4D50-A819-2D0C0FB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E6C42-021F-4AA9-8D99-1C756DD7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E564-D192-42AC-91FB-EFE110DA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400EF-C4D7-4BE5-8C0B-C709110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1969F-E4E7-4025-8441-603ABB6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46B7E-9FD8-405F-9E54-2960CCF3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F6BC1-5EA3-4B20-9D85-BF90E12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BB0E1-F987-4BD7-9807-1919E238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FA62E-6991-4732-8044-1E2E3261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F6E22-C31B-4F5F-8277-6A561342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EACD-1767-484C-A2D8-909F7D0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6A2-350C-4170-8E2E-D90FFBEB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04E3-1CD1-4B5F-B04A-D34593D3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CAB6-F0FF-4419-B726-EE420E3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851-3860-4D8A-8493-E2751846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C556-B8B8-49E3-82B4-FA3896B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629-F680-4A08-BC3D-ACBF1FB3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298D-4068-4DE6-8FCD-FE0F9DE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64F-BA2E-4EE6-A976-1E2F1A75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28F-EBE3-4173-97BB-E0FC46B7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E464-2FA1-4076-99A6-B37D0C70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022A-D8D4-427B-AFAB-11D05B1C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1D24-05E3-4189-A8FA-3EA39A9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46F8-54AA-4A4A-BA09-CD1BDBE4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3703-71FD-4A0F-A8C9-0DD6D5BC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EE7-66D0-454A-B07E-DFD091B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BFAA-E46F-492B-9EBA-2C78B5D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C679-178F-4A25-85E8-3837D3E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FBB5-32EE-450D-8192-E419F71A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FA5E-DDD8-49D1-8E54-5EBF43E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A8A2-C51E-486A-926A-123CE3DC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AD15-E1ED-4C16-B0E0-6C7A0DF1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F4D0-7444-4C85-97C1-7801E0CF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738C-4E3D-4401-A55C-86C9A01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EDBD-A92E-4C34-99E7-CB0C63D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169E0-7FCC-48CA-BBFD-C23C08AF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7D7-522C-482A-9EBA-535B6E4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1D93-478F-49CA-8C01-EC4E68D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6549C-4489-4E8D-A1EA-FB0D6442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4C2CD-EC13-4493-AD66-2F1F932B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C80E-E8F4-4B6B-A317-2887E8B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355E-285A-4F56-9153-5703D28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48CE-E2B4-46D0-889F-AC263F9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0896-1FF7-481A-A5A8-1AAEACB3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3A2B-4736-445F-A734-AEB81E31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A105-1FBC-480F-9FA4-4CE04BE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5C32-250F-43C2-8AC1-A6DA5103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AF0-D8CC-49A6-8ABB-C75AC60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EBA9-CD6A-4E32-B401-83AFCFAF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9920-C105-454E-9C37-15E3F15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16128-1016-49C7-8E9B-8CEF337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714D2-E767-454B-8CCC-893F257A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97966-4011-4BFA-B161-A1FCE03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7E5FB-FEED-43D7-A034-B31BD49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12A3-7382-45E1-AF83-FF4EE30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A0A0-40BA-4ECF-BF15-4844D61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21EE-1E37-4667-AF45-40D192C3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15EC-4BC0-4E7B-A584-D45B00E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1AD-C8A1-4A7B-93B5-CAC1023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39907-15B6-40A4-871C-FA8639C4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321C-116F-4EF9-87E2-D0989D7C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4B54-E1F3-4406-B497-9511B3B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C43A3-AA5F-4BA8-BD55-AFE036A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5D57-5229-43C2-A662-CE42973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3AF2-C53F-459B-97AF-34A9B2C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35743-8177-4A37-B419-A7D5DCC9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D6A0A-6DA0-48F6-AB85-9F32686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5E4E-5817-41C6-BA08-8174902D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A259-37DC-400B-985C-99EF427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34F-A0E3-4C7C-B9B8-EE08E51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B3FD-94F4-43AF-A498-B87375F9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61AA-53D7-48C4-8BF8-706B4A14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16E7-D590-4C94-827E-7261E8C4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A7DAE-367E-4150-8827-623B0EDB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145B-EAE8-4B7D-8107-E8D75B18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EF75-3602-4A89-8307-D131F58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3451-EA3E-4B43-A017-46356BB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BDD8-35DA-4905-841E-02C0D2D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976EB-751C-4A4E-BB37-0E2D7AD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44F0-3639-442E-86AC-6FABF3D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210-21AD-4C50-B363-7419D409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6A74-AE85-4DC5-8A55-6617721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AE97-88F1-42B7-8164-2E1B16A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E01F-1529-43ED-880F-278C012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1CAA-0CC9-4576-A470-220F6761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2CAB-4197-416B-B0C4-420868D0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8E6AE-C982-42AF-BDD4-4E0D7129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3BD7D-96D8-460D-9D95-A5B07EC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8991-3701-4C5B-9759-B03AFAF0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FFEC-7109-4B55-87FA-EB214828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A1A2-C287-4ACF-A507-49EA1508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9BF-71B1-4C90-A70C-CEFC39C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0DD8-47C6-48F2-9601-A4E767C2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E7A0-6A1F-4FEE-ABF0-333A21B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554F-358E-4463-838C-54DC719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49FD-3E40-4F47-849D-0990C24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9A1E-39CC-46AF-82B9-39A0E501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0F3EF-FB05-4608-9206-4DF3A9AF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C7309-1576-4D8F-8049-42CDDAE2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D80E8-B9AB-4827-8461-46E706EA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3187-F09D-4CBA-BF96-761D20F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3CD0-2DF4-4891-8F13-A37D766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5DE-DD83-4AB2-A30F-417B31CE14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E5B-CAE5-49C5-ADBC-66262D1ED6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B48-96AE-430D-8E34-EF8A2B16CA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F8BC-2F48-4826-843F-1E2C82BE96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39F7-6A2B-4FAE-B77B-F7FA92466E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4221000" y="6437160"/>
            <a:ext cx="684360" cy="455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GO-CE for Word Positive Taxation.png"/>
          <p:cNvPicPr/>
          <p:nvPr/>
        </p:nvPicPr>
        <p:blipFill>
          <a:blip r:embed="rId3"/>
          <a:stretch/>
        </p:blipFill>
        <p:spPr>
          <a:xfrm>
            <a:off x="3649680" y="324000"/>
            <a:ext cx="1812960" cy="139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72C-D852-4F15-8F64-3D773FD4030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38d4d6"/>
          </a:solidFill>
          <a:ln w="9360">
            <a:solidFill>
              <a:srgbClr val="38d4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LOGO-CE for Word Negative Taxation.png"/>
          <p:cNvPicPr/>
          <p:nvPr/>
        </p:nvPicPr>
        <p:blipFill>
          <a:blip r:embed="rId2"/>
          <a:stretch/>
        </p:blipFill>
        <p:spPr>
          <a:xfrm>
            <a:off x="3754440" y="306360"/>
            <a:ext cx="1617840" cy="1247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2720" cy="407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33B-9EFF-4867-A642-2F664C469A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~1\lenain\LOCALS~1\Temp\7zE36.tmp\LOGO-CE Landscape Positive TAXUD EN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D02-962C-4927-A732-2719872B74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784-205B-41B3-BEC5-ADF965827F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55A4-920A-4566-8087-294E246E49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F63A-0985-490A-ADC4-DA2DBC6479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8F6-22D9-455F-AE05-9A2D0ADC72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1736-E5BF-40B3-9BC6-2B903001A2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878508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DG Horticulture, Olives &amp; Spirits "Spirits Sector"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Denatured Alcohol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000" y="393336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-3427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eather Jon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C2 Alcohol &amp; Tobacc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G TAXU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4 February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72216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ftershave – sold at retail for &lt; 1€ for 250ml, contains 64% ABV alcohol and lemon or cucumber as the "denaturant"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80" name="Content Placeholder 4" descr=""/>
          <p:cNvPicPr/>
          <p:nvPr/>
        </p:nvPicPr>
        <p:blipFill>
          <a:blip r:embed="rId1"/>
          <a:stretch/>
        </p:blipFill>
        <p:spPr>
          <a:xfrm>
            <a:off x="1114560" y="2387520"/>
            <a:ext cx="2724120" cy="3633840"/>
          </a:xfrm>
          <a:prstGeom prst="rect">
            <a:avLst/>
          </a:prstGeom>
          <a:ln w="0">
            <a:noFill/>
          </a:ln>
        </p:spPr>
      </p:pic>
      <p:pic>
        <p:nvPicPr>
          <p:cNvPr id="581" name="Content Placeholder 5" descr=""/>
          <p:cNvPicPr/>
          <p:nvPr/>
        </p:nvPicPr>
        <p:blipFill>
          <a:blip r:embed="rId2"/>
          <a:stretch/>
        </p:blipFill>
        <p:spPr>
          <a:xfrm>
            <a:off x="5305320" y="2387520"/>
            <a:ext cx="2724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ducts don’t need cleaning up - consumed as they a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83" name="Content Placeholder 4" descr=""/>
          <p:cNvPicPr/>
          <p:nvPr/>
        </p:nvPicPr>
        <p:blipFill>
          <a:blip r:embed="rId1"/>
          <a:stretch/>
        </p:blipFill>
        <p:spPr>
          <a:xfrm>
            <a:off x="1114560" y="2387520"/>
            <a:ext cx="2724120" cy="3633840"/>
          </a:xfrm>
          <a:prstGeom prst="rect">
            <a:avLst/>
          </a:prstGeom>
          <a:ln w="0">
            <a:noFill/>
          </a:ln>
        </p:spPr>
      </p:pic>
      <p:pic>
        <p:nvPicPr>
          <p:cNvPr id="584" name="Content Placeholder 5" descr=""/>
          <p:cNvPicPr/>
          <p:nvPr/>
        </p:nvPicPr>
        <p:blipFill>
          <a:blip r:embed="rId2"/>
          <a:stretch/>
        </p:blipFill>
        <p:spPr>
          <a:xfrm>
            <a:off x="5305320" y="2387520"/>
            <a:ext cx="2724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me more examples…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86" name="Content Placeholder 4" descr=""/>
          <p:cNvPicPr/>
          <p:nvPr/>
        </p:nvPicPr>
        <p:blipFill>
          <a:blip r:embed="rId1"/>
          <a:stretch/>
        </p:blipFill>
        <p:spPr>
          <a:xfrm>
            <a:off x="1454040" y="2387520"/>
            <a:ext cx="2325960" cy="3633840"/>
          </a:xfrm>
          <a:prstGeom prst="rect">
            <a:avLst/>
          </a:prstGeom>
          <a:ln w="0">
            <a:noFill/>
          </a:ln>
        </p:spPr>
      </p:pic>
      <p:pic>
        <p:nvPicPr>
          <p:cNvPr id="587" name="Content Placeholder 5" descr=""/>
          <p:cNvPicPr/>
          <p:nvPr/>
        </p:nvPicPr>
        <p:blipFill>
          <a:blip r:embed="rId2"/>
          <a:stretch/>
        </p:blipFill>
        <p:spPr>
          <a:xfrm>
            <a:off x="5292720" y="2387520"/>
            <a:ext cx="23972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s this a problem only in certain Member States?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Recent fraud case  involving anti-freeze (UK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89" name="Content Placeholder 4" descr=""/>
          <p:cNvPicPr/>
          <p:nvPr/>
        </p:nvPicPr>
        <p:blipFill>
          <a:blip r:embed="rId1"/>
          <a:stretch/>
        </p:blipFill>
        <p:spPr>
          <a:xfrm>
            <a:off x="457200" y="2695680"/>
            <a:ext cx="4038480" cy="3017880"/>
          </a:xfrm>
          <a:prstGeom prst="rect">
            <a:avLst/>
          </a:prstGeom>
          <a:ln w="0">
            <a:noFill/>
          </a:ln>
        </p:spPr>
      </p:pic>
      <p:pic>
        <p:nvPicPr>
          <p:cNvPr id="590" name="Content Placeholder 5" descr=""/>
          <p:cNvPicPr/>
          <p:nvPr/>
        </p:nvPicPr>
        <p:blipFill>
          <a:blip r:embed="rId2"/>
          <a:stretch/>
        </p:blipFill>
        <p:spPr>
          <a:xfrm>
            <a:off x="4648320" y="269568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Brand - German labelling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2" name="Content Placeholder 4" descr=""/>
          <p:cNvPicPr/>
          <p:nvPr/>
        </p:nvPicPr>
        <p:blipFill>
          <a:blip r:embed="rId1"/>
          <a:stretch/>
        </p:blipFill>
        <p:spPr>
          <a:xfrm>
            <a:off x="457200" y="2695680"/>
            <a:ext cx="4038480" cy="30178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4648320" y="238752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r codes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centrate or diluted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o's denaturing formulation</a:t>
            </a: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?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Lost revenues, health risks, legitimate brands abused, consumers mis-l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8360" y="184464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nt case from the UK (Leicester, Dec 2014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5 x pallets of 1,080 well known branded vodka bottles = 27,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43 x empty 5l bottles of anti-freeze (German labelling) = 1,215 litres prior to extraction/watering down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rge quantity of cardboard branded vodka box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arge quantity of branded bottle top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 x Reverse Osmosis units to remove the colour and fragrance from th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1 x water softener unit as assist in the dilution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96" name="Content Placeholder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 is being don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836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 TAXUD and DG Joint Research Centre (JRC) working together on the denaturant projec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w phase 3 – screen wash / anti-freez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to continue to work legitimate spirits industry to collect more data on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ilities under Article 27 (5) to report cases of fraud , avoidance and ab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tudy on the "structures" Directive has just started – Article 27 will be a pri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he Study – Council Directive 92/83/EEC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836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valuation of the effectiveness, efficiency, relevance and coherence of the provisions of the Directiv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orities based on initial understanding of problem area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icle 27 – exemp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 looking at classification, reduced rat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reported issu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valuation of Directive 92/83/EE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446040" y="213372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ime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836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ick Off meet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n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eption until beginn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ering Grou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scalis Semin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ering Grou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ne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P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ne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 repo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g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raft final repo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ct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ering Grou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ct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P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ct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 repor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 u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16-201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ssible impact assessment / propos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35440" indent="-2354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enatured alcohol – Article 27 of Council Directive 92/83/EEC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ise duty exemption applies to alcohol denatured and used in the manufacture of a product not for human consum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denaturants are supposed to make the product unfit for human consump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e are 3 elements to an effective and efficient denatura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smelling agent – e.g. methyl ethyl keto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tasting agent – e.g. denatonium benzo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chemical analytical marker – e.g. isopropyl alcoho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ther initiati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360" y="1699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od Integrity Project (spirits work programme) – DG RTD. Authenticity – through chemical analysi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ear synergies with the denaturant projec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68320" indent="-2282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veloping IT tools, such as hand held detection techniques for faster test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68320" indent="-2282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ndard Operating Procedures (SOP) for all the customs laborato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68320" indent="-2282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arly warning systems for tracing illicit alcohol (e.e. mapping tools exist in some MS – UK and LT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68320" indent="-2282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cing back the product to the denaturant and the MS is key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ore denaturing methods there are – the greater the risk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74320" indent="-27432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Thank you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2 main types of denatured alcoho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tely denatured alcohol (CDA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urning alcohol for heating, cooking and industrial cleaning alcoho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tially denatured alcohol (PDA) – for many sectors, including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smetics, perfumes and personal hygie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creen wash, anti-freeze and de-ice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o-fuel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aints, inks and solv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ome statistics (WHO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3964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0% of global alcohol is "unrecorded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0% of that 30% is deemed to be sourced form so-called "surrogate" / i.e. denatured alcoho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he formulation contains methano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products abused ar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creen wash, anti-freeze, de-ice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heap perfume, aftershaves, any strong alcohol mouthwash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ven nail varnish remove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What's the problem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ill too many existing national / weaker formulations for both CDA and PDA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se of removability of those weaker methods to return the alcohol to a potable st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approved denaturants are just flavours, aromas and essential oils making the potential for fraud even easier – no cleaning up necessa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.g rose oil, citrus, orange, cucumber, mentho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How easy / cheap is it to clean up denatured alcohol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t is very easy / inexpensive with a weak denaturing formu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"Euro" CDA formulation implemented in July 2013 is very robust but is deemed too costly by industry so take up has been disappoint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movability tests show that all the national formulations which do not have a chemical marker are very easy to clean u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le 1"/>
          <p:cNvSpPr/>
          <p:nvPr/>
        </p:nvSpPr>
        <p:spPr>
          <a:xfrm>
            <a:off x="108000" y="44280"/>
            <a:ext cx="889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330120" indent="-330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Arial"/>
              </a:rPr>
              <a:t>Removability tests using activated carbon – Simple adsorption tests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61" name="Chart 1" descr=""/>
          <p:cNvPicPr/>
          <p:nvPr/>
        </p:nvPicPr>
        <p:blipFill>
          <a:blip r:embed="rId1"/>
          <a:stretch/>
        </p:blipFill>
        <p:spPr>
          <a:xfrm>
            <a:off x="168120" y="3933720"/>
            <a:ext cx="4211640" cy="2719440"/>
          </a:xfrm>
          <a:prstGeom prst="rect">
            <a:avLst/>
          </a:prstGeom>
          <a:ln w="0">
            <a:noFill/>
          </a:ln>
        </p:spPr>
      </p:pic>
      <p:pic>
        <p:nvPicPr>
          <p:cNvPr id="562" name="Chart 1" descr=""/>
          <p:cNvPicPr/>
          <p:nvPr/>
        </p:nvPicPr>
        <p:blipFill>
          <a:blip r:embed="rId2"/>
          <a:stretch/>
        </p:blipFill>
        <p:spPr>
          <a:xfrm>
            <a:off x="4643280" y="3951360"/>
            <a:ext cx="4270680" cy="2741400"/>
          </a:xfrm>
          <a:prstGeom prst="rect">
            <a:avLst/>
          </a:prstGeom>
          <a:ln w="0">
            <a:noFill/>
          </a:ln>
        </p:spPr>
      </p:pic>
      <p:sp>
        <p:nvSpPr>
          <p:cNvPr id="563" name="TextBox 4"/>
          <p:cNvSpPr/>
          <p:nvPr/>
        </p:nvSpPr>
        <p:spPr>
          <a:xfrm>
            <a:off x="5068440" y="4116240"/>
            <a:ext cx="354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alibri"/>
                <a:ea typeface="Arial"/>
              </a:rPr>
              <a:t>Activated carbon  - NORIT  GCN 1240 PLUS - 3.5 Euros / kg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64" name="Picture 1" descr="cid:image001.jpg@01D00E17.BEE68740"/>
          <p:cNvPicPr/>
          <p:nvPr/>
        </p:nvPicPr>
        <p:blipFill>
          <a:blip r:embed="rId3"/>
          <a:stretch/>
        </p:blipFill>
        <p:spPr>
          <a:xfrm>
            <a:off x="971640" y="1125360"/>
            <a:ext cx="7272360" cy="273528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"/>
          <p:cNvSpPr/>
          <p:nvPr/>
        </p:nvSpPr>
        <p:spPr>
          <a:xfrm>
            <a:off x="1932120" y="3174840"/>
            <a:ext cx="2277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Verdana"/>
                <a:ea typeface="Arial"/>
              </a:rPr>
              <a:t>VWR activated charcoal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Verdana"/>
                <a:ea typeface="Arial"/>
              </a:rPr>
              <a:t>(Fine powder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Verdana"/>
                <a:ea typeface="Arial"/>
              </a:rPr>
              <a:t>25 g / 100 mL (EtOH 50%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4643280" y="3168720"/>
            <a:ext cx="3600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Verdana"/>
                <a:ea typeface="Arial"/>
              </a:rPr>
              <a:t>Norit GCN1240 PLUS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Verdana"/>
                <a:ea typeface="Arial"/>
              </a:rPr>
              <a:t>(Granular AC / Coconut shell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Verdana"/>
                <a:ea typeface="Arial"/>
              </a:rPr>
              <a:t>25 g / 100 mL (EtOH 50%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" descr=""/>
          <p:cNvPicPr/>
          <p:nvPr/>
        </p:nvPicPr>
        <p:blipFill>
          <a:blip r:embed="rId1"/>
          <a:stretch/>
        </p:blipFill>
        <p:spPr>
          <a:xfrm>
            <a:off x="252360" y="1052640"/>
            <a:ext cx="8640720" cy="30240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8"/>
          <p:cNvSpPr/>
          <p:nvPr/>
        </p:nvSpPr>
        <p:spPr>
          <a:xfrm>
            <a:off x="-27000" y="1440"/>
            <a:ext cx="979164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  <a:ea typeface="Arial"/>
              </a:rPr>
              <a:t>Removability tests on CDA and screenwash using preparative columns packed with activated carbon</a:t>
            </a:r>
            <a:endParaRPr b="1" lang="en-US" sz="25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58760" y="645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cking: 20 g Norit + 5 g VRW charcoal / 100 mL EtOH (ca. 50%)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2"/>
          <a:stretch/>
        </p:blipFill>
        <p:spPr>
          <a:xfrm>
            <a:off x="-108000" y="4132440"/>
            <a:ext cx="84232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creenwash – GC-FID analysis before / after activated carbon treatm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72" name="Picture 2" descr="C:\Users\arieser\AppData\Local\Microsoft\Windows\Temporary Internet Files\Content.Outlook\5RGB34H1\Chromato screenwash.jpg"/>
          <p:cNvPicPr/>
          <p:nvPr/>
        </p:nvPicPr>
        <p:blipFill>
          <a:blip r:embed="rId1"/>
          <a:stretch/>
        </p:blipFill>
        <p:spPr>
          <a:xfrm>
            <a:off x="611280" y="1700280"/>
            <a:ext cx="8208720" cy="4770360"/>
          </a:xfrm>
          <a:prstGeom prst="rect">
            <a:avLst/>
          </a:prstGeom>
          <a:ln w="0">
            <a:noFill/>
          </a:ln>
        </p:spPr>
      </p:pic>
      <p:pic>
        <p:nvPicPr>
          <p:cNvPr id="573" name="TextBox 4" descr=""/>
          <p:cNvPicPr/>
          <p:nvPr/>
        </p:nvPicPr>
        <p:blipFill>
          <a:blip r:embed="rId2"/>
          <a:stretch/>
        </p:blipFill>
        <p:spPr>
          <a:xfrm>
            <a:off x="2060640" y="1951200"/>
            <a:ext cx="549360" cy="1036440"/>
          </a:xfrm>
          <a:prstGeom prst="rect">
            <a:avLst/>
          </a:prstGeom>
          <a:ln w="0">
            <a:noFill/>
          </a:ln>
        </p:spPr>
      </p:pic>
      <p:pic>
        <p:nvPicPr>
          <p:cNvPr id="574" name="TextBox 6" descr=""/>
          <p:cNvPicPr/>
          <p:nvPr/>
        </p:nvPicPr>
        <p:blipFill>
          <a:blip r:embed="rId3"/>
          <a:stretch/>
        </p:blipFill>
        <p:spPr>
          <a:xfrm>
            <a:off x="2487600" y="2962440"/>
            <a:ext cx="547560" cy="841320"/>
          </a:xfrm>
          <a:prstGeom prst="rect">
            <a:avLst/>
          </a:prstGeom>
          <a:ln w="0">
            <a:noFill/>
          </a:ln>
        </p:spPr>
      </p:pic>
      <p:pic>
        <p:nvPicPr>
          <p:cNvPr id="575" name="TextBox 7" descr=""/>
          <p:cNvPicPr/>
          <p:nvPr/>
        </p:nvPicPr>
        <p:blipFill>
          <a:blip r:embed="rId4"/>
          <a:stretch/>
        </p:blipFill>
        <p:spPr>
          <a:xfrm>
            <a:off x="3633840" y="2371680"/>
            <a:ext cx="554040" cy="925560"/>
          </a:xfrm>
          <a:prstGeom prst="rect">
            <a:avLst/>
          </a:prstGeom>
          <a:ln w="0">
            <a:noFill/>
          </a:ln>
        </p:spPr>
      </p:pic>
      <p:pic>
        <p:nvPicPr>
          <p:cNvPr id="576" name="TextBox 8" descr=""/>
          <p:cNvPicPr/>
          <p:nvPr/>
        </p:nvPicPr>
        <p:blipFill>
          <a:blip r:embed="rId5"/>
          <a:stretch/>
        </p:blipFill>
        <p:spPr>
          <a:xfrm>
            <a:off x="4468680" y="2773440"/>
            <a:ext cx="554040" cy="1079280"/>
          </a:xfrm>
          <a:prstGeom prst="rect">
            <a:avLst/>
          </a:prstGeom>
          <a:ln w="0">
            <a:noFill/>
          </a:ln>
        </p:spPr>
      </p:pic>
      <p:pic>
        <p:nvPicPr>
          <p:cNvPr id="577" name="TextBox 9" descr=""/>
          <p:cNvPicPr/>
          <p:nvPr/>
        </p:nvPicPr>
        <p:blipFill>
          <a:blip r:embed="rId6"/>
          <a:stretch/>
        </p:blipFill>
        <p:spPr>
          <a:xfrm>
            <a:off x="6229440" y="1908000"/>
            <a:ext cx="853920" cy="1560600"/>
          </a:xfrm>
          <a:prstGeom prst="rect">
            <a:avLst/>
          </a:prstGeom>
          <a:ln w="0">
            <a:noFill/>
          </a:ln>
        </p:spPr>
      </p:pic>
      <p:pic>
        <p:nvPicPr>
          <p:cNvPr id="578" name="TextBox 10" descr=""/>
          <p:cNvPicPr/>
          <p:nvPr/>
        </p:nvPicPr>
        <p:blipFill>
          <a:blip r:embed="rId7"/>
          <a:stretch/>
        </p:blipFill>
        <p:spPr>
          <a:xfrm>
            <a:off x="7596360" y="2712960"/>
            <a:ext cx="5540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30:39Z</dcterms:created>
  <dc:creator>Aurimas VASYLIS (TAXUD)</dc:creator>
  <dc:description/>
  <dc:language>en-US</dc:language>
  <cp:lastModifiedBy>JONES Heather (TAXUD)</cp:lastModifiedBy>
  <cp:lastPrinted>2015-02-12T14:44:02Z</cp:lastPrinted>
  <dcterms:modified xsi:type="dcterms:W3CDTF">2015-02-23T12:38:20Z</dcterms:modified>
  <cp:revision>80</cp:revision>
  <dc:subject/>
  <dc:title>Completely and Partially  Denatured Alcohol Fiscalis Project Group (093)</dc:title>
</cp:coreProperties>
</file>