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541"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40"/>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44"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5" name="PlaceHolder 5"/>
          <p:cNvSpPr>
            <a:spLocks noGrp="1"/>
          </p:cNvSpPr>
          <p:nvPr>
            <p:ph type="ftr" idx="41"/>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42"/>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3CEF-A064-446D-9ADB-2B50BFD5E21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47880" y="744480"/>
            <a:ext cx="4964040" cy="3722760"/>
          </a:xfrm>
          <a:prstGeom prst="rect">
            <a:avLst/>
          </a:prstGeom>
          <a:ln w="0">
            <a:noFill/>
          </a:ln>
        </p:spPr>
      </p:sp>
      <p:sp>
        <p:nvSpPr>
          <p:cNvPr id="601"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2DB2-CA95-4E50-A5A6-86DBB5139FD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47880" y="744480"/>
            <a:ext cx="4964040" cy="3722760"/>
          </a:xfrm>
          <a:prstGeom prst="rect">
            <a:avLst/>
          </a:prstGeom>
          <a:ln w="0">
            <a:noFill/>
          </a:ln>
        </p:spPr>
      </p:sp>
      <p:sp>
        <p:nvSpPr>
          <p:cNvPr id="604"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3B8E-5DD7-4B36-A9DB-419E16F9F9C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8C4DE-494D-421A-A56F-0818D9CA3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61ECB-F79C-48C1-966C-AE4F6164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D9E85-B3D4-48C2-BFAE-073D735D1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2F8739-4D3B-46A6-BA41-770434248C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1B1FBD-A6FF-45FC-94A0-912349410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9E212-1A00-46BC-9EAD-54A390C02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8029F-F0B5-4F3E-AA66-4664EBA5BD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513A6-6F2F-4C6A-9EA7-6930F65B0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C6DA47-B328-4C03-B44C-019CE9A8F5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3A6B49-3C8A-48A4-BDAE-03626BB4EB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9AE41E-134A-4AA5-ACCF-FCDCDEB672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E713B2-9215-456F-B358-184ACAC4E5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AE0C2-EFF5-49F7-B116-62CA74A8E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357673-EB66-474C-A1DB-238D935B89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D115C8-3CBE-4AAC-B573-2A25A0BCDAD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7E019A-0046-459F-8DFD-4456C2F509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4934E1-4631-4AD1-A9D0-937C923580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7AA9A6-41BF-4C22-9BA0-B785DA7602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A8AE9B-B5A1-446B-9FB2-5724879F57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E7BE0A-890D-4362-9C93-1827ABED00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D06422-7F2C-43C2-A573-D8EF8529B0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8DC46F-91BE-452A-957A-F283B75DFB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08A26F-C10A-4CDC-8C72-B2AB7BBB3E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577B3-9970-4AB6-AFCE-70BD443C6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85C8AF-F2CB-40E1-8B3C-8BB3CD0F92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237B7A-0589-4F8E-B954-54AA13765D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ACA57D-8361-4474-8361-BFA502E0C5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5"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9227F63-A432-49BF-97B6-B1D9A19FF6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8E8D94-B584-4FBC-A253-C8C3B9032D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577845-EE7B-46EB-9228-D614D19ACA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C6C3CA-2938-45D4-AF1C-5C2A430D21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42ED2B-1228-4C26-B820-F89C33297A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2198D0-8CA7-4E50-988A-A82FC0661E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50C349-40DC-4104-BA5F-06C11C854B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A7AFE-94F0-4B25-A695-D1117CD8D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6A2F66-5B3E-433C-AB4D-4032459776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0"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1572AB-15A0-4C59-9FB6-308FDA7F7D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2"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3"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7"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322185-4B4F-4201-BB88-6AC077A313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F84F897-49BF-4B9D-B419-D6086893DE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A1D813-7B8C-4979-A6F6-AAEFBE97D0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73E90A-C895-4AC8-9255-64B3AE9478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8B8D4F-DD6E-4643-B7F0-EA8FEFE18E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C77046-1E7F-460C-9FEA-7CF0AE0C3E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6C1363-FFE3-4AEF-8AA2-F23A3127A5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A2B0B7-4D54-4783-8029-57CF0B5B88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73BFD-BA7C-4531-9168-6313E4EF7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C84716-40BB-4838-8223-A34A067A70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9F4D26-4AB6-4F7F-A77B-3560CC69FA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29951D-2612-42AC-AE68-0A53C0D961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0C415D-B6C8-4423-A7B4-011A54E703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DC50800-5F4B-416E-89AC-407054CCCF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A09661-22CE-4789-956C-31DA75A41F2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82C941-411A-4FDA-9122-C9E206F571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DC3270-DBDA-4CF8-8793-3330A3D54E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BE595B-4744-49A7-A1FD-93DD9736CA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00427F-2131-47A2-8FF6-512A9FB41A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9870E-0127-47EF-A176-ACA54447D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A2E2CC-A822-4F2F-BC11-30C3F1ED24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1B8EE2-8299-4C4C-A079-131DAC387C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83E06C-8A35-4CAF-B0BD-A58BBD6DE2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52DF5F-E3AD-4A96-9684-75E1B88442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7A2F3E-EBEC-405F-B67A-4B14164310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32DF66-2246-4E3F-AC6B-B841B4C710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9F25A88-87A1-48AC-AD6C-D4AF00A6B0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F9F4A-2F16-40E6-95BC-A79502375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A1502-2E08-42EB-BCBC-816EC52CF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DDB05-896F-4DB6-BFEF-C3A311FD9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44AE1-7D44-4F5C-A68C-56E07B88F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C210-05BD-43D1-9DC8-FEE10296D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1F9C0-7175-4ADB-952F-A6AA247D9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D0C74-BBFE-45B1-ADE4-8D4BE3F4B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2EBF4-9DFD-4F7B-AF31-6013033DB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215B6-5095-4B53-84B9-241E23219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20E35-AD47-4456-979C-848B1086E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382CEF-53C3-4199-BBF9-1C0A3665F4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2985C-9F12-474D-9CB0-644D89C10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7128F-AE3C-4459-BC68-33FF7AFF2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19D25-AF23-44A8-829E-12EB5D823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750743-1276-4B4D-B57C-30CC4A79D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94DFD-C9D0-4179-80DC-1BC6D5D7E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13944-D74A-4096-AC27-772CA4BEA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CEB25-D17F-4425-B5A8-BAB8CFA6C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50441-861B-4165-BB27-D7CB6D870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E9B60-6922-492A-A821-DF86109D3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C8FEC9-23BD-41F9-9CC3-85CF781322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36C8D-6EDD-4AA2-8CF7-BD6EAF7FA6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8FDF61-0121-4856-8D46-7D302865B5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0E2F01-12CC-41C9-AC33-051BEFA646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1DA453-7F59-42EA-A379-EA9331A9F7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94E743-E6EB-4B7B-A9AE-6CF9A16F2E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1D176-777E-4760-81FF-F5523F52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C7F6E-C954-45B8-B3C4-8D7BA746D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76722-2B26-416F-99A3-EDE4C3074B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804BE-3D15-4794-9892-8681EB5794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5AB30-4FFB-4EE7-9B05-552353EB96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71D05-DFE9-4525-96F1-F034701E0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27C43-AB0B-44B0-8C16-84F14D3B1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52AA3-A645-4FEA-8AC6-A5447C1E9E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BDCC6D-2F8B-4A82-96F5-888D1510F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5FA611-F489-475A-BD9C-F7CE08981A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1B33A3-A666-4B06-AA67-76AE8872B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9979C-557B-492D-89DE-8AFC178E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7"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CD09D-46E5-41F3-A156-39EC6D3D5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48F45F-7C07-43D3-B27C-3A7FE60A4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8C77D-45A8-4005-820B-D56260C9B7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156E14-87A3-4ED6-A3F8-78E4F4CA4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86DA6-246A-4D72-9AE6-CDDED9CE1A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8FBE6-B2E1-40EF-BED0-329FB7DF0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E7A7A-6766-4266-ABC5-5725E4DB8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25234-12FC-4212-A112-F74C590EB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493968-A15B-4B68-BBA3-3F0E4031F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D17A76-E7C1-46A1-89CD-88DCEFF948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5D59C-1230-4AF3-9874-8B1393D6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339A3A-2EA9-4EC3-8044-86C2E6C328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9F6FDC-654D-4FDC-A2DF-63C3E6AF79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0AA85B-7F7C-4969-958C-CF0EA4BF70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E9A079-9B64-45F8-914E-22EA8FC40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3448D8-9143-4C55-B8B6-ED3CE5934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5F1C23-027B-49FD-A538-7E3002DA00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78D3A0-9068-440B-BD55-3979EB3B0A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4A28B-546C-47ED-97CD-A27068DA4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EE5CE-8DCB-4BEC-BEE4-15033398B1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46A20-9DDF-40E3-A859-F1D819A4A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2C15-7AB1-4288-9F9B-1B800F7E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287D82-441D-444A-9846-975DC0C2E8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EA9736-70B3-493E-981A-05A36C50AD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2B90EA-853C-43C4-AED9-88C9EE6F74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59E5DF-25AF-49C8-9232-4E924C9B2E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12209-8DD5-43B2-AD7A-60F9A8F5E3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1"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AB3387-7F60-484C-9ECE-BAA35F2222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36E979-7C64-44FF-9A5F-5603982318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6A3467-530E-44B9-8D5B-C3B8EA437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0BBC2-664B-4043-AFF6-A83D43CFE2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05D90C-9F47-47D7-B7B2-94BA130440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CD3F-C8FC-4BFE-BCBD-2D88513B3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4"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D8DB1-8A97-4F58-9E55-0C1CF9582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F7A2C-B7AB-4B3F-8465-ED4BEDB56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603E2-8D91-4F51-A9A9-1BAD562B39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C5BB3C-082B-465C-B63B-DF28FD2E4F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62570F-3655-46CC-97A3-2DD9D70223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7DE21F-91C6-45BD-9E4E-D8C73DA031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C85880-2FF7-4239-AADF-B707A45D16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238E4D-E498-4A8F-8401-B5900B173B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B0AFE-D4DF-4B35-9CBB-E802A9B1DC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A645E3-E052-4E84-879E-6D371A108B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A4BAC-25C2-4FFE-B18B-2824167D3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9291B-86DB-42F8-9D72-68BE51DF5A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DE0880-FAF6-4A8D-AEDC-5C2955AFB7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B7BFF-53F4-4553-A8E0-AF27657C3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1AE812-DF8F-4DC1-BB1D-C4F824627F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4CA36E-05EE-469B-AC50-D7EFE0599E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F13086-0CC8-4AA9-A508-986FD2C30A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92C89F-AA58-46B3-96F2-D712CDF18E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6223BB-BFEA-4511-A625-FE32FF3FCC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882D1D-A515-4005-89B0-847D11FABD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C72E9F-C2E2-4A96-B819-AEB882DAEE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BE2E-F4DA-4BA3-A743-693AD3C95BB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8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FC11-21ED-4F0E-992D-53D4F04E42E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7C73-862C-4C2C-B7A7-191879BEFE8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FFAD-BDEB-4FA3-B5A6-1534C9F5A5F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0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EC2D-0E91-476A-B9E0-CFE7633F651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7308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
          <p:cNvPicPr/>
          <p:nvPr/>
        </p:nvPicPr>
        <p:blipFill>
          <a:blip r:embed="rId2"/>
          <a:stretch/>
        </p:blipFill>
        <p:spPr>
          <a:xfrm>
            <a:off x="4221000" y="6437160"/>
            <a:ext cx="684360" cy="455760"/>
          </a:xfrm>
          <a:prstGeom prst="rect">
            <a:avLst/>
          </a:prstGeom>
          <a:ln w="0">
            <a:noFill/>
          </a:ln>
        </p:spPr>
      </p:pic>
      <p:pic>
        <p:nvPicPr>
          <p:cNvPr id="43" name="Picture 8" descr="LOGO-CE for Word Positive Taxation.png"/>
          <p:cNvPicPr/>
          <p:nvPr/>
        </p:nvPicPr>
        <p:blipFill>
          <a:blip r:embed="rId3"/>
          <a:stretch/>
        </p:blipFill>
        <p:spPr>
          <a:xfrm>
            <a:off x="3649680" y="324000"/>
            <a:ext cx="1812960" cy="13986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F26B-64A5-4A6E-BE89-6F2C7267CC70}"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988920"/>
          </a:xfrm>
          <a:prstGeom prst="rect">
            <a:avLst/>
          </a:prstGeom>
          <a:solidFill>
            <a:srgbClr val="38d4d6"/>
          </a:solidFill>
          <a:ln w="9360">
            <a:solidFill>
              <a:srgbClr val="38d4d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7" descr="LOGO-CE for Word Negative Taxation.png"/>
          <p:cNvPicPr/>
          <p:nvPr/>
        </p:nvPicPr>
        <p:blipFill>
          <a:blip r:embed="rId2"/>
          <a:stretch/>
        </p:blipFill>
        <p:spPr>
          <a:xfrm>
            <a:off x="3754440" y="306360"/>
            <a:ext cx="1617840" cy="1247760"/>
          </a:xfrm>
          <a:prstGeom prst="rect">
            <a:avLst/>
          </a:prstGeom>
          <a:ln w="0">
            <a:noFill/>
          </a:ln>
        </p:spPr>
      </p:pic>
      <p:pic>
        <p:nvPicPr>
          <p:cNvPr id="87" name="Picture 8" descr=""/>
          <p:cNvPicPr/>
          <p:nvPr/>
        </p:nvPicPr>
        <p:blipFill>
          <a:blip r:embed="rId3"/>
          <a:stretch/>
        </p:blipFill>
        <p:spPr>
          <a:xfrm>
            <a:off x="4254480" y="6458040"/>
            <a:ext cx="612720" cy="40788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5C5D-0DFA-4162-8750-B9466EF60F2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C:\DOCUME~1\lenain\LOCALS~1\Temp\7zE36.tmp\LOGO-CE Landscape Positive TAXUD EN.png"/>
          <p:cNvPicPr/>
          <p:nvPr/>
        </p:nvPicPr>
        <p:blipFill>
          <a:blip r:embed="rId2"/>
          <a:stretch/>
        </p:blipFill>
        <p:spPr>
          <a:xfrm>
            <a:off x="6576840" y="5940360"/>
            <a:ext cx="2243160" cy="596880"/>
          </a:xfrm>
          <a:prstGeom prst="rect">
            <a:avLst/>
          </a:prstGeom>
          <a:ln w="0">
            <a:noFill/>
          </a:ln>
        </p:spPr>
      </p:pic>
      <p:sp>
        <p:nvSpPr>
          <p:cNvPr id="1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4"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6F45-AEC4-4677-92C5-54FC5936E10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61F2-A761-4986-B40B-4AC44F68B00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E27A-0374-40D9-A61B-8AED318E0F4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6071-DFA2-4ECD-B705-444225DCD97E}"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BC68-5D1E-4627-8435-52459A48A59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7BBD-EC49-4D41-8788-80FCCA74834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58560" y="1989000"/>
            <a:ext cx="8785080" cy="208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ffd624"/>
                </a:solidFill>
                <a:latin typeface="Verdana"/>
              </a:rPr>
              <a:t>CIVIL DIALOGUE GROUP HORTICULTURE, OLIVES AND SPIRITS </a:t>
            </a:r>
            <a:br>
              <a:rPr sz="3200"/>
            </a:br>
            <a:br>
              <a:rPr sz="2800"/>
            </a:br>
            <a:r>
              <a:rPr b="1" lang="en-GB" sz="2800" spc="-1" strike="noStrike">
                <a:solidFill>
                  <a:srgbClr val="ffd624"/>
                </a:solidFill>
                <a:latin typeface="Verdana"/>
              </a:rPr>
              <a:t>Update on the Alcohol "Structures" study</a:t>
            </a:r>
            <a:br>
              <a:rPr sz="3200"/>
            </a:br>
            <a:endParaRPr b="1" lang="en-US" sz="2800" spc="-1" strike="noStrike">
              <a:solidFill>
                <a:srgbClr val="0f5494"/>
              </a:solidFill>
              <a:latin typeface="Verdana"/>
            </a:endParaRPr>
          </a:p>
        </p:txBody>
      </p:sp>
      <p:sp>
        <p:nvSpPr>
          <p:cNvPr id="548" name=""/>
          <p:cNvSpPr txBox="1"/>
          <p:nvPr/>
        </p:nvSpPr>
        <p:spPr>
          <a:xfrm>
            <a:off x="468000" y="4436640"/>
            <a:ext cx="8064360" cy="1871640"/>
          </a:xfrm>
          <a:prstGeom prst="rect">
            <a:avLst/>
          </a:prstGeom>
          <a:noFill/>
          <a:ln w="0">
            <a:noFill/>
          </a:ln>
        </p:spPr>
        <p:txBody>
          <a:bodyPr anchor="t">
            <a:normAutofit/>
          </a:bodyPr>
          <a:p>
            <a:pPr marL="722160" indent="-3427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ather Jones, Policy Officer</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2 Indirect Taxes (other than VAT)</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G TAXUD</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5th March 2016</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rade Associations</a:t>
            </a:r>
            <a:br>
              <a:rPr sz="3000"/>
            </a:br>
            <a:endParaRPr b="1" lang="en-US" sz="3000" spc="-1" strike="noStrike">
              <a:solidFill>
                <a:srgbClr val="0f5494"/>
              </a:solidFill>
              <a:latin typeface="Verdana"/>
            </a:endParaRPr>
          </a:p>
        </p:txBody>
      </p:sp>
      <p:sp>
        <p:nvSpPr>
          <p:cNvPr id="566"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otal, 77 respondents accessed the survey as trade associations or federations.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6 of those covered more than one sector</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rganisations from all relevant sectors replied to the questionnaire.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of trade association split</a:t>
            </a:r>
            <a:endParaRPr b="1" lang="en-US" sz="3000" spc="-1" strike="noStrike">
              <a:solidFill>
                <a:srgbClr val="0f5494"/>
              </a:solidFill>
              <a:latin typeface="Verdana"/>
            </a:endParaRPr>
          </a:p>
        </p:txBody>
      </p:sp>
      <p:pic>
        <p:nvPicPr>
          <p:cNvPr id="56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187280" y="1341360"/>
            <a:ext cx="6624720" cy="52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sequences for the study</a:t>
            </a:r>
            <a:endParaRPr b="1" lang="en-US" sz="3000" spc="-1" strike="noStrike">
              <a:solidFill>
                <a:srgbClr val="0f5494"/>
              </a:solidFill>
              <a:latin typeface="Verdana"/>
            </a:endParaRPr>
          </a:p>
        </p:txBody>
      </p:sp>
      <p:sp>
        <p:nvSpPr>
          <p:cNvPr id="571" name=""/>
          <p:cNvSpPr txBox="1"/>
          <p:nvPr/>
        </p:nvSpPr>
        <p:spPr>
          <a:xfrm>
            <a:off x="468360" y="1699920"/>
            <a:ext cx="8229600" cy="3384360"/>
          </a:xfrm>
          <a:prstGeom prst="rect">
            <a:avLst/>
          </a:prstGeom>
          <a:noFill/>
          <a:ln w="0">
            <a:noFill/>
          </a:ln>
        </p:spPr>
        <p:txBody>
          <a:bodyPr anchor="t">
            <a:normAutofit fontScale="88000"/>
          </a:bodyPr>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fully recognise the risk that opinions, views and positions taken in this survey are </a:t>
            </a:r>
            <a:r>
              <a:rPr b="1" lang="en-GB" sz="2400" spc="-1" strike="noStrike">
                <a:solidFill>
                  <a:srgbClr val="000000"/>
                </a:solidFill>
                <a:latin typeface="Verdana"/>
              </a:rPr>
              <a:t>highly subjective</a:t>
            </a:r>
            <a:r>
              <a:rPr b="0" lang="en-GB" sz="2400" spc="-1" strike="noStrike">
                <a:solidFill>
                  <a:srgbClr val="000000"/>
                </a:solidFill>
                <a:latin typeface="Verdana"/>
              </a:rPr>
              <a:t>. Our approach for analysis, rooted strongly in </a:t>
            </a:r>
            <a:r>
              <a:rPr b="1" lang="en-GB" sz="2400" spc="-1" strike="noStrike">
                <a:solidFill>
                  <a:srgbClr val="000000"/>
                </a:solidFill>
                <a:latin typeface="Verdana"/>
              </a:rPr>
              <a:t>triangulation</a:t>
            </a:r>
            <a:r>
              <a:rPr b="0" lang="en-GB" sz="2400" spc="-1" strike="noStrike">
                <a:solidFill>
                  <a:srgbClr val="000000"/>
                </a:solidFill>
                <a:latin typeface="Verdana"/>
              </a:rPr>
              <a:t> (both in terms of </a:t>
            </a:r>
            <a:r>
              <a:rPr b="1" lang="en-GB" sz="2400" spc="-1" strike="noStrike">
                <a:solidFill>
                  <a:srgbClr val="000000"/>
                </a:solidFill>
                <a:latin typeface="Verdana"/>
              </a:rPr>
              <a:t>sources as well as methods</a:t>
            </a:r>
            <a:r>
              <a:rPr b="0" lang="en-GB" sz="2400" spc="-1" strike="noStrike">
                <a:solidFill>
                  <a:srgbClr val="000000"/>
                </a:solidFill>
                <a:latin typeface="Verdana"/>
              </a:rPr>
              <a:t>) has taken this risk into account.</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data collected on the background of economic operators will allow filtering answers to the survey based on the </a:t>
            </a:r>
            <a:r>
              <a:rPr b="1" lang="en-GB" sz="2400" spc="-1" strike="noStrike">
                <a:solidFill>
                  <a:srgbClr val="000000"/>
                </a:solidFill>
                <a:latin typeface="Verdana"/>
              </a:rPr>
              <a:t>industry sector</a:t>
            </a:r>
            <a:r>
              <a:rPr b="0" lang="en-GB" sz="2400" spc="-1" strike="noStrike">
                <a:solidFill>
                  <a:srgbClr val="000000"/>
                </a:solidFill>
                <a:latin typeface="Verdana"/>
              </a:rPr>
              <a:t> of operators, their </a:t>
            </a:r>
            <a:r>
              <a:rPr b="1" lang="en-GB" sz="2400" spc="-1" strike="noStrike">
                <a:solidFill>
                  <a:srgbClr val="000000"/>
                </a:solidFill>
                <a:latin typeface="Verdana"/>
              </a:rPr>
              <a:t>size</a:t>
            </a:r>
            <a:r>
              <a:rPr b="0" lang="en-GB" sz="2400" spc="-1" strike="noStrike">
                <a:solidFill>
                  <a:srgbClr val="000000"/>
                </a:solidFill>
                <a:latin typeface="Verdana"/>
              </a:rPr>
              <a:t> and the </a:t>
            </a:r>
            <a:r>
              <a:rPr b="1" lang="en-GB" sz="2400" spc="-1" strike="noStrike">
                <a:solidFill>
                  <a:srgbClr val="000000"/>
                </a:solidFill>
                <a:latin typeface="Verdana"/>
              </a:rPr>
              <a:t>Member State(s)</a:t>
            </a:r>
            <a:r>
              <a:rPr b="0" lang="en-GB" sz="2400" spc="-1" strike="noStrike">
                <a:solidFill>
                  <a:srgbClr val="000000"/>
                </a:solidFill>
                <a:latin typeface="Verdana"/>
              </a:rPr>
              <a:t> in which they are active. This is of high relevance for the analysis of a number of questions. </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will that mean?</a:t>
            </a:r>
            <a:endParaRPr b="1" lang="en-US" sz="3000" spc="-1" strike="noStrike">
              <a:solidFill>
                <a:srgbClr val="0f5494"/>
              </a:solidFill>
              <a:latin typeface="Verdana"/>
            </a:endParaRPr>
          </a:p>
        </p:txBody>
      </p:sp>
      <p:sp>
        <p:nvSpPr>
          <p:cNvPr id="573" name=""/>
          <p:cNvSpPr txBox="1"/>
          <p:nvPr/>
        </p:nvSpPr>
        <p:spPr>
          <a:xfrm>
            <a:off x="457200" y="2636640"/>
            <a:ext cx="8229600" cy="3384360"/>
          </a:xfrm>
          <a:prstGeom prst="rect">
            <a:avLst/>
          </a:prstGeom>
          <a:noFill/>
          <a:ln w="0">
            <a:noFill/>
          </a:ln>
        </p:spPr>
        <p:txBody>
          <a:bodyPr anchor="t">
            <a:normAutofit fontScale="97000"/>
          </a:bodyPr>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when asked whether the provisions of the Directive regarding the classification of alcoholic beverages responds to the needs of the economic operators, responses might be linked to the type of beverage produced by the respondent</a:t>
            </a:r>
            <a:endParaRPr b="0" i="1" lang="en-US" sz="2400" spc="-1" strike="noStrike">
              <a:solidFill>
                <a:srgbClr val="0f5494"/>
              </a:solidFill>
              <a:latin typeface="Verdana"/>
            </a:endParaRPr>
          </a:p>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views of operators on the need for reduced rates for small producers will most likely vary depending of the size (turnover and number of employees) of the respondent’s company</a:t>
            </a:r>
            <a:r>
              <a:rPr b="0"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42800" y="11365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presentative acceptance of the survey sample</a:t>
            </a:r>
            <a:endParaRPr b="1" lang="en-US" sz="3000" spc="-1" strike="noStrike">
              <a:solidFill>
                <a:srgbClr val="0f5494"/>
              </a:solidFill>
              <a:latin typeface="Verdana"/>
            </a:endParaRPr>
          </a:p>
        </p:txBody>
      </p:sp>
      <p:sp>
        <p:nvSpPr>
          <p:cNvPr id="575" name=""/>
          <p:cNvSpPr txBox="1"/>
          <p:nvPr/>
        </p:nvSpPr>
        <p:spPr>
          <a:xfrm>
            <a:off x="468360" y="2060280"/>
            <a:ext cx="8229600" cy="3384360"/>
          </a:xfrm>
          <a:prstGeom prst="rect">
            <a:avLst/>
          </a:prstGeom>
          <a:noFill/>
          <a:ln w="0">
            <a:noFill/>
          </a:ln>
        </p:spPr>
        <p:txBody>
          <a:bodyPr anchor="t">
            <a:normAutofit fontScale="96000"/>
          </a:bodyPr>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king into account the risks presented above, </a:t>
            </a:r>
            <a:r>
              <a:rPr b="1" lang="en-GB" sz="2400" spc="-1" strike="noStrike">
                <a:solidFill>
                  <a:srgbClr val="000000"/>
                </a:solidFill>
                <a:latin typeface="Verdana"/>
              </a:rPr>
              <a:t>overall the sample size and composition is considered representative</a:t>
            </a:r>
            <a:r>
              <a:rPr b="0" lang="en-GB" sz="2400" spc="-1" strike="noStrike">
                <a:solidFill>
                  <a:srgbClr val="000000"/>
                </a:solidFill>
                <a:latin typeface="Verdana"/>
              </a:rPr>
              <a:t>. The respondents cover well the:</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fferent product catego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count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good distribution between small and large operators</a:t>
            </a:r>
            <a:endParaRPr b="1" lang="en-US" sz="2000" spc="-1" strike="noStrike">
              <a:solidFill>
                <a:srgbClr val="0f5494"/>
              </a:solidFill>
              <a:latin typeface="Verdana"/>
            </a:endParaRPr>
          </a:p>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his context, we believe that analysis performed </a:t>
            </a:r>
            <a:r>
              <a:rPr b="1" lang="en-GB" sz="2400" spc="-1" strike="noStrike">
                <a:solidFill>
                  <a:srgbClr val="000000"/>
                </a:solidFill>
                <a:latin typeface="Verdana"/>
              </a:rPr>
              <a:t>at EU level</a:t>
            </a:r>
            <a:r>
              <a:rPr b="0" lang="en-GB" sz="2400" spc="-1" strike="noStrike">
                <a:solidFill>
                  <a:srgbClr val="000000"/>
                </a:solidFill>
                <a:latin typeface="Verdana"/>
              </a:rPr>
              <a:t> and </a:t>
            </a:r>
            <a:r>
              <a:rPr b="1" lang="en-GB" sz="2400" spc="-1" strike="noStrike">
                <a:solidFill>
                  <a:srgbClr val="000000"/>
                </a:solidFill>
                <a:latin typeface="Verdana"/>
              </a:rPr>
              <a:t>for each sector</a:t>
            </a:r>
            <a:r>
              <a:rPr b="0" lang="en-GB" sz="2400" spc="-1" strike="noStrike">
                <a:solidFill>
                  <a:srgbClr val="000000"/>
                </a:solidFill>
                <a:latin typeface="Verdana"/>
              </a:rPr>
              <a:t> can be considered sufficiently accurat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ase study phase</a:t>
            </a:r>
            <a:endParaRPr b="1" lang="en-US" sz="3000" spc="-1" strike="noStrike">
              <a:solidFill>
                <a:srgbClr val="0f5494"/>
              </a:solidFill>
              <a:latin typeface="Verdana"/>
            </a:endParaRPr>
          </a:p>
        </p:txBody>
      </p:sp>
      <p:sp>
        <p:nvSpPr>
          <p:cNvPr id="577" name=""/>
          <p:cNvSpPr txBox="1"/>
          <p:nvPr/>
        </p:nvSpPr>
        <p:spPr>
          <a:xfrm>
            <a:off x="468360" y="234936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tarts 8</a:t>
            </a:r>
            <a:r>
              <a:rPr b="0" i="1" lang="en-GB" sz="2400" spc="-1" strike="noStrike" baseline="30000">
                <a:solidFill>
                  <a:srgbClr val="000000"/>
                </a:solidFill>
                <a:latin typeface="Verdana"/>
              </a:rPr>
              <a:t>th</a:t>
            </a:r>
            <a:r>
              <a:rPr b="0" i="1" lang="en-GB" sz="2400" spc="-1" strike="noStrike">
                <a:solidFill>
                  <a:srgbClr val="000000"/>
                </a:solidFill>
                <a:latin typeface="Verdana"/>
              </a:rPr>
              <a:t> March – 18</a:t>
            </a:r>
            <a:r>
              <a:rPr b="0" i="1" lang="en-GB" sz="2400" spc="-1" strike="noStrike" baseline="30000">
                <a:solidFill>
                  <a:srgbClr val="000000"/>
                </a:solidFill>
                <a:latin typeface="Verdana"/>
              </a:rPr>
              <a:t>th</a:t>
            </a:r>
            <a:r>
              <a:rPr b="0" i="1" lang="en-GB" sz="2400" spc="-1" strike="noStrike">
                <a:solidFill>
                  <a:srgbClr val="000000"/>
                </a:solidFill>
                <a:latin typeface="Verdana"/>
              </a:rPr>
              <a:t> April in the 4 main area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fication for tax purposes of alcoholic beverage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of reduced rates for small producer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unctioning of the exemptions for denatured alcohol</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mptions applicable to provide production for own consumption </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ir purpose - to complement and enrich the high level information collected</a:t>
            </a:r>
            <a:endParaRPr b="1" lang="en-US" sz="2400" spc="-1" strike="noStrike">
              <a:solidFill>
                <a:srgbClr val="0f5494"/>
              </a:solidFill>
              <a:latin typeface="Verdana"/>
            </a:endParaRPr>
          </a:p>
        </p:txBody>
      </p:sp>
      <p:sp>
        <p:nvSpPr>
          <p:cNvPr id="579" name=""/>
          <p:cNvSpPr txBox="1"/>
          <p:nvPr/>
        </p:nvSpPr>
        <p:spPr>
          <a:xfrm>
            <a:off x="468360" y="2276280"/>
            <a:ext cx="8229600" cy="3384360"/>
          </a:xfrm>
          <a:prstGeom prst="rect">
            <a:avLst/>
          </a:prstGeom>
          <a:noFill/>
          <a:ln w="0">
            <a:noFill/>
          </a:ln>
        </p:spPr>
        <p:txBody>
          <a:bodyPr anchor="t">
            <a:normAutofit fontScale="94000"/>
          </a:bodyPr>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mix of desk research and in-depth interviews of personnel of Member States administrations and selected economic operators, the case studies will aim to show:</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specific problems observed and their precise root causes within the functioning of the Directive</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potential effects of the presumed problems in terms of reduced efficiency and effectivenes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potential solutions could be put forward and what impact could be expected following their implementation.</a:t>
            </a:r>
            <a:endParaRPr b="1" lang="en-US" sz="2000" spc="-1" strike="noStrike">
              <a:solidFill>
                <a:srgbClr val="0f5494"/>
              </a:solidFill>
              <a:latin typeface="Verdana"/>
            </a:endParaRPr>
          </a:p>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Example – classification – MS responses</a:t>
            </a:r>
            <a:endParaRPr b="1" lang="en-US" sz="2400" spc="-1" strike="noStrike">
              <a:solidFill>
                <a:srgbClr val="0f5494"/>
              </a:solidFill>
              <a:latin typeface="Verdana"/>
            </a:endParaRPr>
          </a:p>
        </p:txBody>
      </p:sp>
      <p:sp>
        <p:nvSpPr>
          <p:cNvPr id="581" name=""/>
          <p:cNvSpPr txBox="1"/>
          <p:nvPr/>
        </p:nvSpPr>
        <p:spPr>
          <a:xfrm>
            <a:off x="468360" y="1915920"/>
            <a:ext cx="8229600" cy="3384360"/>
          </a:xfrm>
          <a:prstGeom prst="rect">
            <a:avLst/>
          </a:prstGeom>
          <a:noFill/>
          <a:ln w="0">
            <a:noFill/>
          </a:ln>
        </p:spPr>
        <p:txBody>
          <a:bodyPr anchor="t">
            <a:normAutofit fontScale="8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7</a:t>
            </a:r>
            <a:r>
              <a:rPr b="0" lang="en-GB" sz="2000" spc="-1" strike="noStrike">
                <a:solidFill>
                  <a:srgbClr val="000000"/>
                </a:solidFill>
                <a:latin typeface="Verdana"/>
              </a:rPr>
              <a:t> </a:t>
            </a:r>
            <a:r>
              <a:rPr b="1" lang="en-GB" sz="2000" spc="-1" strike="noStrike">
                <a:solidFill>
                  <a:srgbClr val="000000"/>
                </a:solidFill>
                <a:latin typeface="Verdana"/>
              </a:rPr>
              <a:t>MS </a:t>
            </a:r>
            <a:r>
              <a:rPr b="0" lang="en-GB" sz="2000" spc="-1" strike="noStrike">
                <a:solidFill>
                  <a:srgbClr val="000000"/>
                </a:solidFill>
                <a:latin typeface="Verdana"/>
              </a:rPr>
              <a:t>responded “yes” when asked whether they encountered </a:t>
            </a:r>
            <a:r>
              <a:rPr b="1" lang="en-GB" sz="2000" spc="-1" strike="noStrike">
                <a:solidFill>
                  <a:srgbClr val="000000"/>
                </a:solidFill>
                <a:latin typeface="Verdana"/>
              </a:rPr>
              <a:t>difficulties with assigning products</a:t>
            </a:r>
            <a:r>
              <a:rPr b="0" lang="en-GB" sz="2000" spc="-1" strike="noStrike">
                <a:solidFill>
                  <a:srgbClr val="000000"/>
                </a:solidFill>
                <a:latin typeface="Verdana"/>
              </a:rPr>
              <a:t> to the categories of the Directive.</a:t>
            </a:r>
            <a:endParaRPr b="0" i="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alcoholic mixtures of fermented and distilled alcohol is problematic</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technologies of production (e.g. cleaned up alcohol - osmosis method) lead to the question whether the tax should depend on technology of production</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imple reference to the CN system is insufficient (e.g. lack of an indication to a specific version of the CN cod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iance on determining classification through ECJ rulings (e.g. Siebrand) is unsatisfacto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n EU wide definition of aromas</a:t>
            </a: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assification - Industry responses</a:t>
            </a:r>
            <a:endParaRPr b="1" lang="en-US" sz="3000" spc="-1" strike="noStrike">
              <a:solidFill>
                <a:srgbClr val="0f5494"/>
              </a:solidFill>
              <a:latin typeface="Verdana"/>
            </a:endParaRPr>
          </a:p>
        </p:txBody>
      </p:sp>
      <p:sp>
        <p:nvSpPr>
          <p:cNvPr id="583" name=""/>
          <p:cNvSpPr txBox="1"/>
          <p:nvPr/>
        </p:nvSpPr>
        <p:spPr>
          <a:xfrm>
            <a:off x="468360" y="234936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spirits below 22% vol. which contain flavourings and sweetening.</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mixtures between products falling under CN codes 2206 and 2208</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fermented products (non-grape wines and cider/perry made from fresh fruit juice/must, without addition of artificial acids, aromas)</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iculty with the application of the definition for intermediary products / fermented beverages, especially in light of new production methods (e.g. cryoconcentr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imeline</a:t>
            </a:r>
            <a:endParaRPr b="1" lang="en-US" sz="3000" spc="-1" strike="noStrike">
              <a:solidFill>
                <a:srgbClr val="0f5494"/>
              </a:solidFill>
              <a:latin typeface="Verdana"/>
            </a:endParaRPr>
          </a:p>
        </p:txBody>
      </p:sp>
      <p:pic>
        <p:nvPicPr>
          <p:cNvPr id="550" name="Content Placeholder 3" descr=""/>
          <p:cNvPicPr/>
          <p:nvPr/>
        </p:nvPicPr>
        <p:blipFill>
          <a:blip r:embed="rId1"/>
          <a:stretch/>
        </p:blipFill>
        <p:spPr>
          <a:xfrm>
            <a:off x="468360" y="2349360"/>
            <a:ext cx="8209080" cy="338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dustry responses (cont'd)</a:t>
            </a:r>
            <a:endParaRPr b="1" lang="en-US" sz="2400" spc="-1" strike="noStrike">
              <a:solidFill>
                <a:srgbClr val="0f5494"/>
              </a:solidFill>
              <a:latin typeface="Verdana"/>
            </a:endParaRPr>
          </a:p>
        </p:txBody>
      </p:sp>
      <p:sp>
        <p:nvSpPr>
          <p:cNvPr id="585" name=""/>
          <p:cNvSpPr txBox="1"/>
          <p:nvPr/>
        </p:nvSpPr>
        <p:spPr>
          <a:xfrm>
            <a:off x="468360" y="198900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beer mixed with ethyl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bjective interpretation resulting from ECJ rulings (in particular with respect to producers and distributors of all categories of fortified and/or flavoured alcoholic drinks which are based on fermented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od flavours containing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000" y="115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What happens </a:t>
            </a:r>
            <a:br>
              <a:rPr sz="2400"/>
            </a:br>
            <a:r>
              <a:rPr b="1" lang="en-GB" sz="2400" spc="-1" strike="noStrike">
                <a:solidFill>
                  <a:srgbClr val="0f5494"/>
                </a:solidFill>
                <a:latin typeface="Verdana"/>
              </a:rPr>
              <a:t>after the study?</a:t>
            </a:r>
            <a:endParaRPr b="1" lang="en-US" sz="2400" spc="-1" strike="noStrike">
              <a:solidFill>
                <a:srgbClr val="0f5494"/>
              </a:solidFill>
              <a:latin typeface="Verdana"/>
            </a:endParaRPr>
          </a:p>
        </p:txBody>
      </p:sp>
      <p:sp>
        <p:nvSpPr>
          <p:cNvPr id="587" name=""/>
          <p:cNvSpPr txBox="1"/>
          <p:nvPr/>
        </p:nvSpPr>
        <p:spPr>
          <a:xfrm>
            <a:off x="539640" y="1196640"/>
            <a:ext cx="8229600" cy="3384360"/>
          </a:xfrm>
          <a:prstGeom prst="rect">
            <a:avLst/>
          </a:prstGeom>
          <a:noFill/>
          <a:ln w="0">
            <a:noFill/>
          </a:ln>
        </p:spPr>
        <p:txBody>
          <a:bodyPr anchor="t">
            <a:normAutofit fontScale="7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influence of the Better Regulation guidelines re possible progress: </a:t>
            </a:r>
            <a:endParaRPr b="0" i="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nopsis report of the public consultation / summarised feedback of the public consultation published (Q1/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inal Report by the consultants / TAXUD (Q2/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anking the recommendations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port sent to the Cabinet for acceptance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successful, Inter-Service Consultation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pproved, report to the Council, finalizing the REFIT evaluation</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ccepted, a study with accompanying stepped Impact Assessment (Q4/2016?), covering :</a:t>
            </a:r>
            <a:endParaRPr b="1" lang="en-US" sz="18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EU problem is</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objectives are</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 these objectives can be reached</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impact will be.</a:t>
            </a:r>
            <a:endParaRPr b="0"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roposal to amend the Directive (possible in 2017</a:t>
            </a:r>
            <a:r>
              <a:rPr b="1" lang="en-GB" sz="1600" spc="-1" strike="noStrike">
                <a:solidFill>
                  <a:srgbClr val="000000"/>
                </a:solidFill>
                <a:latin typeface="Verdana"/>
              </a:rPr>
              <a:t>?)</a:t>
            </a:r>
            <a:endParaRPr b="1"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ank you for your contributions</a:t>
            </a:r>
            <a:endParaRPr b="1" lang="en-US" sz="3000" spc="-1" strike="noStrike">
              <a:solidFill>
                <a:srgbClr val="0f5494"/>
              </a:solidFill>
              <a:latin typeface="Verdana"/>
            </a:endParaRPr>
          </a:p>
        </p:txBody>
      </p:sp>
      <p:sp>
        <p:nvSpPr>
          <p:cNvPr id="589"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Question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rbia – new law and effort to remove discrimination</a:t>
            </a:r>
            <a:endParaRPr b="1" lang="en-US" sz="3000" spc="-1" strike="noStrike">
              <a:solidFill>
                <a:srgbClr val="0f5494"/>
              </a:solidFill>
              <a:latin typeface="Verdana"/>
            </a:endParaRPr>
          </a:p>
        </p:txBody>
      </p:sp>
      <p:sp>
        <p:nvSpPr>
          <p:cNvPr id="591"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van de Sutter (TAXUD B3)</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problem</a:t>
            </a:r>
            <a:endParaRPr b="1" lang="en-US" sz="3000" spc="-1" strike="noStrike">
              <a:solidFill>
                <a:srgbClr val="0f5494"/>
              </a:solidFill>
              <a:latin typeface="Verdana"/>
            </a:endParaRPr>
          </a:p>
        </p:txBody>
      </p:sp>
      <p:sp>
        <p:nvSpPr>
          <p:cNvPr id="593"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EU exporters complaints that imported spirits into Serbia are taxed differently to locally produced ones. E.g. Rak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kia should be taxed as for example whisky</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OM therefore considers that this fiscal differentiation is in breach of Article 37 of the SA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rdens for importers</a:t>
            </a:r>
            <a:endParaRPr b="1" lang="en-US" sz="3000" spc="-1" strike="noStrike">
              <a:solidFill>
                <a:srgbClr val="0f5494"/>
              </a:solidFill>
              <a:latin typeface="Verdana"/>
            </a:endParaRPr>
          </a:p>
        </p:txBody>
      </p:sp>
      <p:sp>
        <p:nvSpPr>
          <p:cNvPr id="595"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ubmit bank guarantees to requests for tax stamps</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equirements for the fixing of tax stamps, (i.e. outside the country) limiting the possibility for trading the goods after import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s been done…</a:t>
            </a:r>
            <a:endParaRPr b="1" lang="en-US" sz="3000" spc="-1" strike="noStrike">
              <a:solidFill>
                <a:srgbClr val="0f5494"/>
              </a:solidFill>
              <a:latin typeface="Verdana"/>
            </a:endParaRPr>
          </a:p>
        </p:txBody>
      </p:sp>
      <p:sp>
        <p:nvSpPr>
          <p:cNvPr id="597"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ssue addressed by COM to Serb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erbia proposed to adopt an amendment to the excise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bolishing the requirement for guarantees for tax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owing the fixing of tax stamps in country in a customs warehous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xation fixed on alcohol content in the product – e.g. making Rakia taxed in the same way as whisk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ppened…</a:t>
            </a:r>
            <a:endParaRPr b="1" lang="en-US" sz="3000" spc="-1" strike="noStrike">
              <a:solidFill>
                <a:srgbClr val="0f5494"/>
              </a:solidFill>
              <a:latin typeface="Verdana"/>
            </a:endParaRPr>
          </a:p>
        </p:txBody>
      </p:sp>
      <p:sp>
        <p:nvSpPr>
          <p:cNvPr id="599" name=""/>
          <p:cNvSpPr txBox="1"/>
          <p:nvPr/>
        </p:nvSpPr>
        <p:spPr>
          <a:xfrm>
            <a:off x="468360" y="220500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mendment finally not adopted, on hold (apparently) until the government elections in May 2016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s the Article 37 breach remains, the COM will insert an opening benchmark relating to this topic in the screening report of Chapter 16</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This means that chapter negotiations can only take place if Serbia first properly addresses the issu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50920" y="260280"/>
            <a:ext cx="396072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ext steps</a:t>
            </a:r>
            <a:br>
              <a:rPr sz="2400"/>
            </a:br>
            <a:r>
              <a:rPr b="1" lang="en-GB" sz="2400" spc="-1" strike="noStrike">
                <a:solidFill>
                  <a:srgbClr val="000000"/>
                </a:solidFill>
                <a:latin typeface="Verdana"/>
              </a:rPr>
              <a:t>Project Schedule</a:t>
            </a:r>
            <a:endParaRPr b="1" lang="en-US" sz="2400" spc="-1" strike="noStrike">
              <a:solidFill>
                <a:srgbClr val="0f5494"/>
              </a:solidFill>
              <a:latin typeface="Verdana"/>
            </a:endParaRPr>
          </a:p>
        </p:txBody>
      </p:sp>
      <p:graphicFrame>
        <p:nvGraphicFramePr>
          <p:cNvPr id="552" name=""/>
          <p:cNvGraphicFramePr/>
          <p:nvPr/>
        </p:nvGraphicFramePr>
        <p:xfrm>
          <a:off x="1116000" y="1916280"/>
          <a:ext cx="6802560" cy="3647880"/>
        </p:xfrm>
        <a:graphic>
          <a:graphicData uri="http://schemas.openxmlformats.org/drawingml/2006/table">
            <a:tbl>
              <a:tblPr/>
              <a:tblGrid>
                <a:gridCol w="4924440"/>
                <a:gridCol w="1878120"/>
              </a:tblGrid>
              <a:tr h="242640">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Milesto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Planned Dat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ubmission of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9’th Jan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5’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9’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Re-submission of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6’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approves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7’th March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mplementation of case studies</a:t>
                      </a:r>
                      <a:br>
                        <a:rPr sz="1000"/>
                      </a:b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8’th March – 18’th April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5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riangulation and analysis </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8’th April – 16’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0’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inal Report for approval</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9’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tract Ends</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0’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rvey of economic operators</a:t>
            </a:r>
            <a:endParaRPr b="1" lang="en-US" sz="3000" spc="-1" strike="noStrike">
              <a:solidFill>
                <a:srgbClr val="0f5494"/>
              </a:solidFill>
              <a:latin typeface="Verdana"/>
            </a:endParaRPr>
          </a:p>
        </p:txBody>
      </p:sp>
      <p:sp>
        <p:nvSpPr>
          <p:cNvPr id="554" name=""/>
          <p:cNvSpPr txBox="1"/>
          <p:nvPr/>
        </p:nvSpPr>
        <p:spPr>
          <a:xfrm>
            <a:off x="395280" y="2060280"/>
            <a:ext cx="8229600" cy="3384360"/>
          </a:xfrm>
          <a:prstGeom prst="rect">
            <a:avLst/>
          </a:prstGeom>
          <a:noFill/>
          <a:ln w="0">
            <a:noFill/>
          </a:ln>
        </p:spPr>
        <p:txBody>
          <a:bodyPr anchor="t">
            <a:normAutofit fontScale="77000"/>
          </a:bodyPr>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survey was accessed through a dedicated webpage on the relevant Commission websites (“DG TAXUD” and “Your voice in Europe”).</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was distributed to the European industry associations/federations of relevant sectors as well as to all the members of the Excise Contact Group.</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mmission promoted the survey, together with the public consultation through a press release as well as through Facebook and Twitter. </a:t>
            </a:r>
            <a:r>
              <a:rPr b="0" i="1" lang="en-GB" sz="2400" spc="-1" strike="noStrike">
                <a:solidFill>
                  <a:srgbClr val="000000"/>
                </a:solidFill>
                <a:latin typeface="Verdana"/>
              </a:rPr>
              <a:t>Reminders were sent / published on all platforms in late October 2015</a:t>
            </a: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numbers – economic operators</a:t>
            </a:r>
            <a:endParaRPr b="1" lang="en-US" sz="3000" spc="-1" strike="noStrike">
              <a:solidFill>
                <a:srgbClr val="0f5494"/>
              </a:solidFill>
              <a:latin typeface="Verdana"/>
            </a:endParaRPr>
          </a:p>
        </p:txBody>
      </p:sp>
      <p:sp>
        <p:nvSpPr>
          <p:cNvPr id="556"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rough the online survey distributed to economic operators, a total o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47 complete answer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76 partially complete answers have been received. </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pondent’s main sectors of activity (MCQ, N=313)</a:t>
            </a:r>
            <a:endParaRPr b="1" lang="en-US" sz="3000" spc="-1" strike="noStrike">
              <a:solidFill>
                <a:srgbClr val="0f5494"/>
              </a:solidFill>
              <a:latin typeface="Verdana"/>
            </a:endParaRPr>
          </a:p>
        </p:txBody>
      </p:sp>
      <p:pic>
        <p:nvPicPr>
          <p:cNvPr id="55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ctor of activity of trade associations (N</a:t>
            </a:r>
            <a:r>
              <a:rPr b="1" lang="en-US" sz="3000" spc="-1" strike="noStrike">
                <a:solidFill>
                  <a:srgbClr val="0f5494"/>
                </a:solidFill>
                <a:latin typeface="Verdana"/>
              </a:rPr>
              <a:t>=77)</a:t>
            </a:r>
            <a:br>
              <a:rPr sz="3000"/>
            </a:br>
            <a:endParaRPr b="1" lang="en-US" sz="3000" spc="-1" strike="noStrike">
              <a:solidFill>
                <a:srgbClr val="0f5494"/>
              </a:solidFill>
              <a:latin typeface="Verdana"/>
            </a:endParaRPr>
          </a:p>
        </p:txBody>
      </p:sp>
      <p:pic>
        <p:nvPicPr>
          <p:cNvPr id="560"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ightings of responses</a:t>
            </a:r>
            <a:endParaRPr b="1" lang="en-US" sz="3000" spc="-1" strike="noStrike">
              <a:solidFill>
                <a:srgbClr val="0f5494"/>
              </a:solidFill>
              <a:latin typeface="Verdana"/>
            </a:endParaRPr>
          </a:p>
        </p:txBody>
      </p:sp>
      <p:sp>
        <p:nvSpPr>
          <p:cNvPr id="562" name=""/>
          <p:cNvSpPr txBox="1"/>
          <p:nvPr/>
        </p:nvSpPr>
        <p:spPr>
          <a:xfrm>
            <a:off x="395280" y="2133360"/>
            <a:ext cx="8229600" cy="338436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umber of participating trade associations for “beer”, “spirits” and “denatured alcohol” was comparably higher than the number of associations representing “wine producers or growers” and “producers of other fermented beverage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likely due to the organisation of trade associations within each sector</a:t>
            </a:r>
            <a:endParaRPr b="0" i="1" lang="en-US" sz="24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will be important in the analysis to consider that </a:t>
            </a:r>
            <a:r>
              <a:rPr b="1" lang="en-US" sz="2800" spc="-1" strike="noStrike">
                <a:solidFill>
                  <a:srgbClr val="000000"/>
                </a:solidFill>
                <a:latin typeface="Verdana"/>
              </a:rPr>
              <a:t>1 does not necessarily = 1</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itial analysis</a:t>
            </a:r>
            <a:endParaRPr b="1" lang="en-US" sz="3000" spc="-1" strike="noStrike">
              <a:solidFill>
                <a:srgbClr val="0f5494"/>
              </a:solidFill>
              <a:latin typeface="Verdana"/>
            </a:endParaRPr>
          </a:p>
        </p:txBody>
      </p:sp>
      <p:sp>
        <p:nvSpPr>
          <p:cNvPr id="564" name=""/>
          <p:cNvSpPr txBox="1"/>
          <p:nvPr/>
        </p:nvSpPr>
        <p:spPr>
          <a:xfrm>
            <a:off x="468360" y="1844640"/>
            <a:ext cx="8229600" cy="3384720"/>
          </a:xfrm>
          <a:prstGeom prst="rect">
            <a:avLst/>
          </a:prstGeom>
          <a:noFill/>
          <a:ln w="0">
            <a:noFill/>
          </a:ln>
        </p:spPr>
        <p:txBody>
          <a:bodyPr anchor="t">
            <a:normAutofit fontScale="86000"/>
          </a:bodyPr>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me respondents chose multiple sectors of activity as their main ones – the largest number of sectors chosen is 5.</a:t>
            </a:r>
            <a:endParaRPr b="0" i="1" lang="en-US" sz="24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st common combinations were respondents who produced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oth beer and other fermented beverages (9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ine and intermediate products (4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number of other various combinations were chosen by respondents.  </a:t>
            </a:r>
            <a:endParaRPr b="1" lang="en-US" sz="20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29 respondents from the “other” category indicated that they were consultants and/or other association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13:30:39Z</dcterms:created>
  <dc:creator>Aurimas VASYLIS (TAXUD)</dc:creator>
  <dc:description/>
  <dc:language>en-US</dc:language>
  <cp:lastModifiedBy>BUTTINI-PROVENZANO Roberta (AGRI)</cp:lastModifiedBy>
  <cp:lastPrinted>2016-02-08T13:21:31Z</cp:lastPrinted>
  <dcterms:modified xsi:type="dcterms:W3CDTF">2016-03-14T10:52:24Z</dcterms:modified>
  <cp:revision>179</cp:revision>
  <dc:subject/>
  <dc:title>Completely and Partially  Denatured Alcohol Fiscalis Project Group (093)</dc:title>
</cp:coreProperties>
</file>