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2A8-A385-4972-A4A8-DEB4506B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834-70C0-4C79-97DB-34FB466A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1D707-6C2D-4B42-9B94-FA8BF72C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98EF8-7760-4CAC-9F8C-8882F697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7AF07-E991-4B7C-A5D3-C9BB96E5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5D12C-D9D7-48EB-B23A-D006D16A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5BA53-860B-4BA7-8B75-18D5DD2B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0042E-8104-456F-A8DD-540AF5BC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179A0-6A53-43ED-93CE-CE5C5E1E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5FAAF-D225-47B9-ABBC-A8874436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6DC1B-8670-4A90-9AE9-B1C80C07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602C9-B2D1-4100-9F37-3FE809D9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195-C79B-4326-BB52-21ABCEC7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36D4F-317D-4CAE-A084-DB92D3E6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7FB97-1E2C-4195-9005-8EBC09B5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80DE7-0CEA-4919-9F50-624267CD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8D67D-E020-4F39-8BAA-92A10BC6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A0C07-CCA8-4157-B678-AC0FA853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06665-91E1-4B52-9A3B-C659D1E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9E2F8-A56E-4FBD-B803-0D73A45C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1283B-7318-4B45-842A-A58F9EA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60A3D-D4B2-42B6-B4DC-695170CF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9F562-4FFA-4C76-8DF3-75DBE99E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CEE-D82D-4A9F-9E95-B301659D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2B90D-4B6E-4A82-87EE-640475DC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90BEC-4036-4FDE-BA3C-3B7DF3E9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16D7E-DED4-4B44-B7AB-E435A6DA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E925D-C3AA-48D1-94DA-B679BA46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8E6C9-FCB9-4F39-B016-B4E3978C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A62C5-AD17-4B80-ABFA-CEEC9F96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4FCDB-CC60-4A36-8015-52E51459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C37B8-F93D-4E70-BC33-B596DB6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5720D-31E8-4BD4-9E50-1EECCF0B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9239A-A8BD-42FB-B463-43D38099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0ED3-2B98-4BC3-958D-EA58C36E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9415A-FB47-47E9-BAE5-FDEE4300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280EE-2EDB-4597-8EE2-408E2056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89E1E-4DB6-4993-A264-8F8CF7ED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09583-F524-46B1-A36B-FA247586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9EDA9-C949-43FE-A19E-DE5A0C2E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8B361-7279-4E56-AA47-E43C8B66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6FBF9-B601-47EE-BEFD-388C3678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D3322-C677-4AA7-9A5F-2AC55864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21D94-B77F-457D-90A2-7CA02C77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54C49-9547-4B1F-B09B-2633F5EA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95CB-26C2-4345-9A67-1DA162AE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73AF8-33EA-48F2-8471-B90D0E7E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247C4-F444-49B6-A083-4F87511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26C8F-3FD4-492D-AD70-0EB67B41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FBE07-C579-4900-99C0-B70582D3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D4FC5-E84D-4B6F-9429-C39C9D71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DA26-159D-4615-8E87-877C2A29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AEAF-B691-42EC-ADDB-674E9933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553B-F8F6-4EA1-A087-E8F3B94B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535-1E46-4B86-9A80-165EF0B3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22E2-32E1-4DAC-AB33-A836E42E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741-3EA4-4A4F-BEE8-5433A77F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7856-0C36-4BF4-84A1-8571416F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1C1D-2D0C-4AE6-8665-D48CEA8D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9599-4C65-4E9A-A39F-0231EF47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EAC1-BB43-4A9A-AD09-E62578B1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B843-4EE7-48A7-BF93-2930E1B2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C5476-D9E2-4439-9253-D8128913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87AD-7733-425E-AFAF-4B0ED23D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5FF41-8A87-47B9-B6EF-97D09354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BF57-E227-4A58-8DAE-D8B524D7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AD9A8-579B-4C60-ABAD-5935E38F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1CA-1A5D-4D81-8C2E-50133F5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82C4-BF1E-427B-93AF-06A482C3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B66C-C7DA-4D09-8658-4F8E99B4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1E2B-6103-47CA-9BE3-0CA4E0F6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18E7E-0A6B-4BF2-BF14-EDC81775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F093-D293-4C91-BF57-69A43B41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C26D-2AD4-4D81-90EE-8DD30A84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B903-132D-470B-AF0E-0D9804F9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67EAF-3302-4A04-818B-CD53D84C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B3D1-F3BF-4530-9E73-19211EAF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401CB-C79B-4E68-BC77-5B95AEE9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495-9D2A-4B96-A9E9-57970676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95FDC-C54F-4091-8ADC-FF73EE3B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D514B-B816-43FF-9A0A-A0AA1F79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AF58-E633-435A-AB2E-2769E1AD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D6BC-2ECB-423B-AA87-B27CE6F5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3371-5CCA-4051-BDD6-2FCCBC44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B103E-155E-4719-9BB3-BBF10E9F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1296-CCB8-4B32-925A-388544B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DDE7-BE74-4EE8-B981-F54A8333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90F43-992A-44FB-BBE9-4EF8AB10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04569-95DF-4585-968C-ADB10E59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AF2-15FF-4D28-A0EC-0B39002C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59C5-C3C7-4DC0-80F7-5D67339B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C805-86AE-47C1-8C44-A41B271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A9B30-1BA9-45BB-8734-E5C1DA15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67D9-D7C1-4E9A-A74A-7C0E122A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D197F-3200-49D2-BDF0-725F1F19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3AE0C-93E3-46CF-AA61-30C5E520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BE826-4684-48C1-B0F3-31DB69E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A42A8-3DDB-45F5-8FF5-CB65A959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FD2D-93E7-49AF-ACC9-DDBB4EFF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0BC92-D983-4FD6-BCB8-29E59AE0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3BA-CADC-4EC8-B433-674D3B65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E163D-C485-4560-BF5B-5CBCA223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C5385-104A-4870-847C-012FC3F6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2799C-22D8-42E1-B3F7-A1881613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82269-2A45-4B8E-B211-F0A53C81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60074-42C3-493C-8AB6-742458F4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B894E-0E1B-44BB-A6CD-9587D2E1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FEB62-B0C8-4FAC-AAFE-31FA7C51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FD300-3C55-4B57-82A3-8CABC7E8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F1536-B045-4185-A68E-5573C21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CF07A-FFC4-4933-9F0D-FCA142A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53B-4B7A-4C4C-A2B6-E554FC1E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554F4-653B-4FE5-8FD5-74F5D2DA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1446-DB65-4BBE-9F5E-C50DE3B1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AC1F-5EAB-46E3-B4E3-221FEBDC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4658D-F44C-4DDF-BC53-58E9DF6C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E122C-9E30-472D-8364-0F12B9F4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0835-48AD-45D3-87B6-B3766C6A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2DA81-B8CA-4EDF-8F2D-34879539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D7FCD-220F-42AB-A339-C0041F02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9C8EC-A271-4B0F-9D35-9E477B27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912B4-F3E2-4AED-9445-CBC70F1D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568-181D-43E4-AC6F-68A37A88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756C2-B82A-4F02-9129-B3830360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98F9D-4144-4C1B-9AFC-9ABAC85A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3B923-6F8E-4B74-9323-5DA398CE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72023-0B61-4700-9DF5-BDBF6534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FC3CA-0F56-4D8A-B83E-41842F59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92A12-EE51-4AE3-9C4D-671F1849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B2542-40A4-4B4E-B47F-9459A92D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E1115-B7AF-4909-AB4E-78518458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353FF-9577-4139-A680-B364B079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687A7-6054-45D6-853E-8F34E75B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9E5-83FA-4F34-A884-BA674690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5E51F-D76D-480D-90BD-08D03A5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A9697-A2DE-48E6-98E2-2F479B4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6712-B7D9-4A2B-8862-D648C0B0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6152F-E9B4-4362-8E07-4A2894D3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4E2B0-5C3D-4C45-A1DD-E1C31968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77888-E7A0-4A33-B655-4DE110DC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BDB63-4C29-4B84-B464-92FE0AEE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764BC-4657-4977-AF80-82B59175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AC40C-AC42-437D-BDB5-B5829CBF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5E2BD-1246-4035-BF8D-42BC6215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E564-0825-4DFC-A7CA-7EDE04A288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89A2-4195-4D99-9344-5AD3A3D827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F63B-800C-4F01-9087-DBB1A20D13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F362-0CD9-4AE9-8E98-1826843945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2055-419F-4D4D-9B90-82B50636C04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2C0D-AA2F-40A6-9428-0370D48417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A396-8BCF-4657-9108-A2D77C3CAF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2EB0-9B0F-4036-AFE0-ADD66AADD5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ED72-52F1-48D9-8415-29DD8051E0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197C-2CFC-4298-B492-ED4BD31CDF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ECC4-3511-4277-B037-575E73115B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6D77-50D8-4454-8FB8-1524982A9C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179280" y="1719360"/>
            <a:ext cx="87314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GUNTINAS RUBIO Helena (AGRI)</dc:creator>
  <dc:description/>
  <dc:language>en-US</dc:language>
  <cp:lastModifiedBy>BUTTINI-PROVENZANO Roberta (AGRI)</cp:lastModifiedBy>
  <dcterms:modified xsi:type="dcterms:W3CDTF">2016-10-18T08:19:40Z</dcterms:modified>
  <cp:revision>152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