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13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7"/>
          </p:nvPr>
        </p:nvSpPr>
        <p:spPr>
          <a:xfrm>
            <a:off x="3803760" y="0"/>
            <a:ext cx="2913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8"/>
          </p:nvPr>
        </p:nvSpPr>
        <p:spPr>
          <a:xfrm>
            <a:off x="-360" y="93596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 type="sldNum" idx="39"/>
          </p:nvPr>
        </p:nvSpPr>
        <p:spPr>
          <a:xfrm>
            <a:off x="3803760" y="9359640"/>
            <a:ext cx="29131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890B-BDC9-45C5-809A-14B11EBBBA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03760" y="9360000"/>
            <a:ext cx="2913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0DA8-C51B-42FE-8537-E88E9527EA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338040" indent="0" algn="just">
              <a:spcBef>
                <a:spcPts val="451"/>
              </a:spcBef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change r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 Dollar to both Euro and Zloty: extra-EU exports and opening new export markets more attractive, helping to restore market balance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spcBef>
                <a:spcPts val="451"/>
              </a:spcBef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Lower supply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in Southern EU due to adverse weather conditions and low temperatures: Positive impact on p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03760" y="9360000"/>
            <a:ext cx="2913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4264-415B-483F-806A-0ACA7D1DE0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03760" y="9360000"/>
            <a:ext cx="2913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64AB-54CF-4A6D-A3AB-EA3E5830F3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338040" indent="0" algn="just">
              <a:spcBef>
                <a:spcPts val="451"/>
              </a:spcBef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change r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 Dollar to both Euro and Zloty: extra-EU exports and opening new export markets more attractive, helping to restore market balance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spcBef>
                <a:spcPts val="451"/>
              </a:spcBef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Lower supply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in Southern EU due to adverse weather conditions and low temperatures: Positive impact on p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03760" y="9360000"/>
            <a:ext cx="2913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3BC2-6A17-480F-9286-EAA129A3F5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338040" indent="0" algn="just">
              <a:spcBef>
                <a:spcPts val="451"/>
              </a:spcBef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change r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 Dollar to both Euro and Zloty: extra-EU exports and opening new export markets more attractive, helping to restore market balance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spcBef>
                <a:spcPts val="451"/>
              </a:spcBef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Lower supply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in Southern EU due to adverse weather conditions and low temperatures: Positive impact on p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03760" y="9360000"/>
            <a:ext cx="2913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EECA-A30A-407E-8A63-7F3B0CF54B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338040" indent="0" algn="just">
              <a:spcBef>
                <a:spcPts val="451"/>
              </a:spcBef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change r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 Dollar to both Euro and Zloty: extra-EU exports and opening new export markets more attractive, helping to restore market balance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spcBef>
                <a:spcPts val="451"/>
              </a:spcBef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Lower supply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in Southern EU due to adverse weather conditions and low temperatures: Positive impact on p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03760" y="9360000"/>
            <a:ext cx="2913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A2E4-2826-420C-89B3-7CC9D7C15E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338040" indent="0" algn="just">
              <a:spcBef>
                <a:spcPts val="451"/>
              </a:spcBef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change r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 Dollar to both Euro and Zloty: extra-EU exports and opening new export markets more attractive, helping to restore market balance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spcBef>
                <a:spcPts val="451"/>
              </a:spcBef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Lower supply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in Southern EU due to adverse weather conditions and low temperatures: Positive impact on p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03760" y="9360000"/>
            <a:ext cx="2913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6453-ABAB-4A72-B691-D48E7D7C3B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338040" indent="0" algn="just">
              <a:spcBef>
                <a:spcPts val="451"/>
              </a:spcBef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change r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 Dollar to both Euro and Zloty: extra-EU exports and opening new export markets more attractive, helping to restore market balance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spcBef>
                <a:spcPts val="451"/>
              </a:spcBef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Lower supply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in Southern EU due to adverse weather conditions and low temperatures: Positive impact on p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03760" y="9360000"/>
            <a:ext cx="2913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5D6C-D7A4-4044-B2AF-B74F9426D9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71400" y="4680000"/>
            <a:ext cx="5375520" cy="4433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338040" indent="0" algn="just">
              <a:spcBef>
                <a:spcPts val="451"/>
              </a:spcBef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change r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 Dollar to both Euro and Zloty: extra-EU exports and opening new export markets more attractive, helping to restore market balance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spcBef>
                <a:spcPts val="451"/>
              </a:spcBef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Arial"/>
              </a:rPr>
              <a:t>Lower supply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in Southern EU due to adverse weather conditions and low temperatures: Positive impact on p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03760" y="9360000"/>
            <a:ext cx="2913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651B-DDA1-4A0E-B485-A476E65E64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0CDD-C4AB-495C-9F3C-390658A6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1D87-FA55-4FCD-8642-0C0E24D9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15C17-7B40-4164-B71A-6C2D2A29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FB0D8-256F-41E1-87D7-72D32C53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D4928-786E-44D4-BBC2-BE90E113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751FA-22A9-478C-B941-4031BCF3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595D6-8358-431E-B104-16D30D3B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F7397-8ECC-43AD-B886-5027D6DB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E27BF-22D4-48AB-9684-0E0568AF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02703-21C1-4A3D-A2C3-F36AA53C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FCCE6-4516-48EB-A138-871FAC33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08DF0-DCDC-4D17-9C17-9F588F8E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78D0-98C0-4996-AF9A-BE066064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42672-4CAA-4D47-A5A0-61340B26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DA023-A468-4B18-92F8-A8F99DAE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7DF3B-85E5-4833-822E-FC2F1542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4674A-5C78-4D02-8235-9D538BE9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4D9A9-003F-41C2-B48C-6E41A6F2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199E0-4096-4E3C-AE01-32C37DF6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C1D1F-092B-432B-B4EE-9E0CA758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95AD8-D006-4153-95FF-5C8277E0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D1B4D-577C-4310-B760-0B582973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27730-A387-4393-8E5C-5BF2F5D5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C530-6B7C-4E6D-B8C2-A5293045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024CB-174C-45FF-B1C4-F93DDD1D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34ED6-EC54-4715-B81C-ACAD91F8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C3A91-E10F-423B-B92B-ED64BFF6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61540-C4B6-4F17-AEB2-A0C37D8B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1E02B-B01B-4B6D-8759-300BA25A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30F16-226E-4D3C-A603-DAC0D947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1710B-F166-49B7-9C56-F325AB64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99FDA-6FDF-48CC-A271-ED39862C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C9D95-D63B-4A84-92C2-87C77C70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49A73-33B6-4FD0-A5E3-A8A4444B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484F-D1AC-4C79-A4CD-E8E05531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1A1EB-1CF7-4994-892F-B30DB688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707D9-6FFE-41EE-90BB-39EB1303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14DC3-4E8D-4007-A8BF-0F3DBA34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7BEEB-4C38-4E75-A7B6-AEAC26B7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744CC-B427-4DBD-82CC-8A197F8B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64499-08BF-4D50-8650-C6F50915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72EA3-E3BD-4C5F-8D5B-ADDDE492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228F8-E11B-4502-BF7B-DEAA5E2F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5FE92-9DD5-4AC0-B66D-1657E0E8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2FA3A-D5C7-4E59-94E9-522EA123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3869-2897-4132-95D4-E72A45B0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4475F-03C3-4DFD-9741-0888A4A4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5D460-7653-4594-8E8D-DEF47E33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9038B-262A-497D-A8DD-A75326FB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ADD68-8FAC-4FAB-B7D4-AA091A88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07F07-9BF0-4FD9-8979-DDB2F36D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B767-AB95-4CFC-B77D-4C258041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8FBF-3081-4B03-AB05-9FF91E6B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BC23-46F6-455D-8E5D-D10FE3B1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EE7D-60F1-47B2-BE24-7DC228DD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41F8-C71D-4728-9469-A60D96DA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CEAD-3F28-4F5D-AA57-57AEC477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513F-9493-4846-B94B-2AE8B031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6FFB-0D7D-4D3B-BD93-9CAE5F78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24BE-07DA-4F74-9CBC-100FDF30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5ADE-3C28-496B-BFB6-A57CA606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6BAC-9349-4F97-9FD0-79607762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33B08-A3A4-4D55-8EBF-08DD330A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47444-DFBA-4A1D-B393-41E89966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5CE0F-88FC-4CF1-89DF-D046A1F6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514D8-3CD7-44A0-8A28-76F08B7B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32FDA-98E6-46A8-B1FD-CD4E637D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E9D7-CA17-4270-8FD6-AAEC9781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6B0A9-9A31-4630-8CFB-F4EE5FE9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4AD9B-85D2-41C7-9A02-98AB7C69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1DB1C-519E-46BB-B4B3-5C91525C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EFD89-F814-473C-9E35-F9C5FAD4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34CD2-CAE9-465F-AE2B-3EE8F227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C87B6-7B2E-47BF-8CBD-30AA31EE0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9E4FE-32C7-4101-9F60-79AA0C34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833FD-2175-46D4-B0DD-50F65966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2B74E-D545-4623-8FB8-EFBB76CA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B6169-46BF-4072-A40D-FFD8AFB4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D19A-89D7-4586-807C-76B1FF47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8C77F-0031-4D64-88AC-F7EBB4B9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781DB-3C90-49FC-A59F-B0309EE7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E476F-7F52-4273-AF4C-CD0ABDA2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64583-00C0-4B71-BF30-33AB000B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B39A6-A5CB-4EDF-B675-E0F45F85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3DBDB-AB91-4E9D-A5C2-7CF73B7D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28928-00C0-448A-A58D-28CAE430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3BBD5-7D97-4348-8090-2E37D2A8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E919A-9E64-4BA8-BB48-1D6F9C03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A0460-A496-4595-9022-65C84425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7CE3-B91B-45EC-8DA1-5DCED8B8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BE9A8-B99B-45ED-AA7D-6FB4B469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F475E-124B-48E7-BA82-6DF2B813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96279-29C2-40AF-9415-8B35C418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7F85A-F609-4B66-8B1C-C3050059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A0429-3409-4BEA-BB1C-851D7CF9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4BF30-6D58-42D0-A8A9-0A9FCFAD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59D64-07E2-4BC2-A78E-0A1AC46D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2474F-E511-4579-847C-BB2623B1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BBF27-767E-4487-A618-1ABEFFA1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C8635-1A69-47EA-8BC2-A4E8B9F3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706C-519B-45C2-9A81-512745DB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405EA-C1CF-4C2B-AD55-0E147FA7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978FD-576F-4DCE-895A-2D744F3C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FA132-0F0A-48ED-B3D3-35AF5792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7643E-B189-47F3-8C9F-EBA923CE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A6ADC-7F3A-4B46-ACEF-AEA0AB44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00EEE-A71F-4718-8656-77BE29AA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7DED6-C514-4F01-BECF-7619EC7F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3D454-2FBE-4D19-89A6-EC82EF47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AB401-DDC9-496F-A1BF-AB1D0B0D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6F3A5-8820-48E3-95D7-20A3829D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3923-2049-4ADC-904A-DA00181F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98639-B598-4547-975B-D9941118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A136E-0771-42F4-96CC-FC449D67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468B3-68EA-4558-A628-BFB377CA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FDB49-F236-4050-B0A4-0B59FAE6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9B10D-F720-4648-B64F-AF91F2A3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1F0EB-A7F2-4188-B02D-63EF675D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CE8F1-34E8-40E8-8A0C-40E50EBA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4C3B2-B988-46CA-80DB-63922DBB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90D6E-E24D-41B2-A959-28C43D4B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71005-7320-4C97-9C34-F833756D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FB3D-8B4E-4ED4-BEB9-CBE74DA2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80CC5-B394-428E-B8D5-B9730F0B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34F73-6C20-44DA-8F79-EB75CA3D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53CBD-3F1B-4809-A2BF-231E1515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1A51B-C564-44D0-908B-5CE26D7B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0ADBF-A260-4F57-86D1-C9DAAE2B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47677-F94F-437F-87C6-196231F0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E7DE2-81C4-4CE8-88BA-F234F1F5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921B7-8285-47A0-A417-0FD44A53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79832-EF25-4AA2-8003-BA41785B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0973D-A212-4C32-BD02-48C2D4B7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8AEA-03F8-476B-8754-D60FAA0F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EA78E-B541-475E-81E6-C175E4B9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45C4F-AA85-4070-80F0-813BFC36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620CE-7285-4288-841F-73ED2CA0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B2D59-D595-4B03-B134-180C6FBB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F80DD-3D67-4FE3-AC71-08837399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9DADC-F153-4FE8-83D1-5D1DD7A6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496CF-31B4-4AE5-8F8F-296F4177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2F666-9AEC-4811-8684-92B46B98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42969-E3FF-4E0A-8307-081B8095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1531D-EBBA-47CE-8116-E4D1D03F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0B67-CAA9-4E59-A675-6DF548DEDB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3809-2FA7-4B7B-97E8-2CBD3588A5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6C8E-5A18-4EC4-8B88-86293F5ADE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703C-8780-40BD-991B-989556C3BA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F033-59F6-4203-9DCE-3EFC021039C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7E35-44C2-44EA-93ED-CAEAF794C7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ADDA-7140-4AC2-9304-DD388E9D3F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5F31-568F-4F14-A80D-30D032CFBA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2044-97FC-456A-BF2C-66595FF74C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660C-FBDF-4B1E-AE73-D59ECC3BAC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F705-E8C7-4F36-B385-54D5FC8A23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F524-04D2-4D6C-964D-927DB9EC28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50560" y="1557360"/>
            <a:ext cx="8785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Common Market Organisation (CMO)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Fruit and vegetables sector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6" name="TextBox 1"/>
          <p:cNvSpPr/>
          <p:nvPr/>
        </p:nvSpPr>
        <p:spPr>
          <a:xfrm>
            <a:off x="539640" y="33764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2a62a"/>
                </a:solidFill>
                <a:latin typeface="Verdana"/>
              </a:rPr>
              <a:t>Evolution of EU markets of certain F&amp;V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1835280" y="4724280"/>
            <a:ext cx="67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95320" indent="-895320">
              <a:spcBef>
                <a:spcPts val="300"/>
              </a:spcBef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Unit C.2. - Wine, spirits, horticultural products, specialised crops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895320" indent="-895320">
              <a:spcBef>
                <a:spcPts val="300"/>
              </a:spcBef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DG Agriculture and Rural Development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895320" indent="-895320">
              <a:spcBef>
                <a:spcPts val="300"/>
              </a:spcBef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European Commission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8" name="TextBox 2"/>
          <p:cNvSpPr/>
          <p:nvPr/>
        </p:nvSpPr>
        <p:spPr>
          <a:xfrm>
            <a:off x="755640" y="5950080"/>
            <a:ext cx="80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66"/>
                </a:solidFill>
                <a:latin typeface="Verdana"/>
              </a:rPr>
              <a:t>Civil Dialogue Group "Fruits &amp; Vegetables"</a:t>
            </a:r>
            <a:r>
              <a:rPr b="1" i="1" lang="fr-BE" sz="1200" spc="-1" strike="noStrike">
                <a:solidFill>
                  <a:srgbClr val="ffff66"/>
                </a:solidFill>
                <a:latin typeface="Verdana"/>
              </a:rPr>
              <a:t> – 18 October 2016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4" descr=""/>
          <p:cNvPicPr/>
          <p:nvPr/>
        </p:nvPicPr>
        <p:blipFill>
          <a:blip r:embed="rId1"/>
          <a:stretch/>
        </p:blipFill>
        <p:spPr>
          <a:xfrm>
            <a:off x="4262400" y="3328920"/>
            <a:ext cx="619200" cy="20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6" name=""/>
          <p:cNvGraphicFramePr/>
          <p:nvPr/>
        </p:nvGraphicFramePr>
        <p:xfrm>
          <a:off x="4267080" y="4110120"/>
          <a:ext cx="609840" cy="19044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27" name="Picture 6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8785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4262400" y="3328920"/>
            <a:ext cx="619200" cy="20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9" name=""/>
          <p:cNvGraphicFramePr/>
          <p:nvPr/>
        </p:nvGraphicFramePr>
        <p:xfrm>
          <a:off x="4267080" y="4110120"/>
          <a:ext cx="609840" cy="19044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30" name="Picture 6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878544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3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3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3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Fruit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Appl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Calibri"/>
                <a:ea typeface="Calibri"/>
              </a:rPr>
              <a:t>Prices very low along 2016 – Strong stock pressur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Calibri"/>
                <a:ea typeface="Calibri"/>
              </a:rPr>
              <a:t>Strong EU crop (+1%) expected in 16-17 (high PL crop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Calibri"/>
                <a:ea typeface="Calibri"/>
              </a:rPr>
              <a:t>Higher PL volumes likely for processing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Calibri"/>
                <a:ea typeface="Calibri"/>
              </a:rPr>
              <a:t>Pear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Calibri"/>
                <a:ea typeface="Calibri"/>
              </a:rPr>
              <a:t>Significant EU production decrease (-9%) forecasted 16-17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Calibri"/>
                <a:ea typeface="Calibri"/>
              </a:rPr>
              <a:t>Expectations market recovery due to lower produc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Fruit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Stone fruit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Season with low production and generally acceptable pric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Citru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Return to normal production levels forecasted for 16-17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49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arket contex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2565360"/>
            <a:ext cx="85788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Russian import ba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Prolonged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until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end 2017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Different impact for </a:t>
            </a:r>
            <a:r>
              <a:rPr b="1" i="1" lang="fr-BE" sz="2000" spc="-1" strike="noStrike">
                <a:solidFill>
                  <a:srgbClr val="0f5494"/>
                </a:solidFill>
                <a:latin typeface="Verdana"/>
              </a:rPr>
              <a:t>products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- Severe for </a:t>
            </a:r>
            <a:r>
              <a:rPr b="0" i="1" lang="fr-BE" sz="2000" spc="-1" strike="noStrike">
                <a:solidFill>
                  <a:srgbClr val="0f5494"/>
                </a:solidFill>
                <a:latin typeface="Verdana"/>
              </a:rPr>
              <a:t>apples &amp; pear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Problems in </a:t>
            </a:r>
            <a:r>
              <a:rPr b="1" i="1" lang="fr-BE" sz="2000" spc="-1" strike="noStrike">
                <a:solidFill>
                  <a:srgbClr val="0f5494"/>
                </a:solidFill>
                <a:latin typeface="Verdana"/>
              </a:rPr>
              <a:t>transit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of exports to Asia - </a:t>
            </a:r>
            <a:r>
              <a:rPr b="0" i="1" lang="fr-BE" sz="2000" spc="-1" strike="noStrike">
                <a:solidFill>
                  <a:srgbClr val="0f5494"/>
                </a:solidFill>
                <a:latin typeface="Verdana"/>
              </a:rPr>
              <a:t>Plums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to Chin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Extension import ban to </a:t>
            </a:r>
            <a:r>
              <a:rPr b="1" i="1" lang="fr-BE" sz="2000" spc="-1" strike="noStrike">
                <a:solidFill>
                  <a:srgbClr val="0f5494"/>
                </a:solidFill>
                <a:latin typeface="Verdana"/>
              </a:rPr>
              <a:t>Turkey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from </a:t>
            </a:r>
            <a:r>
              <a:rPr b="0" i="1" lang="fr-BE" sz="2000" spc="-1" strike="noStrike">
                <a:solidFill>
                  <a:srgbClr val="0f5494"/>
                </a:solidFill>
                <a:latin typeface="Verdana"/>
              </a:rPr>
              <a:t>Jan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to </a:t>
            </a:r>
            <a:r>
              <a:rPr b="0" i="1" lang="fr-BE" sz="2000" spc="-1" strike="noStrike">
                <a:solidFill>
                  <a:srgbClr val="0f5494"/>
                </a:solidFill>
                <a:latin typeface="Verdana"/>
              </a:rPr>
              <a:t>Oct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i="1" lang="fr-BE" sz="2000" spc="-1" strike="noStrike">
                <a:solidFill>
                  <a:srgbClr val="0f5494"/>
                </a:solidFill>
                <a:latin typeface="Verdana"/>
              </a:rPr>
              <a:t>2016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o clear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diversion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of Turkish exports to EU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3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3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3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Dashboard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2565360"/>
            <a:ext cx="83628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Currently cover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omato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Appl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Citrus (orange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Peaches &amp; nectarin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000" spc="-1" strike="noStrike">
                <a:solidFill>
                  <a:srgbClr val="0f5494"/>
                </a:solidFill>
                <a:latin typeface="Verdana"/>
              </a:rPr>
              <a:t>Available on "europa"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http://ec.europa.eu/agriculture/dashboards/index_en.htm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24000" y="2923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Thank you for your attention!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8" name="Title 1"/>
          <p:cNvSpPr/>
          <p:nvPr/>
        </p:nvSpPr>
        <p:spPr>
          <a:xfrm>
            <a:off x="1476360" y="4365720"/>
            <a:ext cx="6553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3c8c93"/>
                </a:solidFill>
                <a:latin typeface="Verdana"/>
              </a:rPr>
              <a:t>Unit C.2. - Wine, spirits, horticultural products, specialised crops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3c8c93"/>
                </a:solidFill>
                <a:latin typeface="Verdana"/>
              </a:rPr>
              <a:t>European Commission</a:t>
            </a:r>
            <a:br>
              <a:rPr sz="1200"/>
            </a:br>
            <a:r>
              <a:rPr b="0" i="1" lang="en-GB" sz="1200" spc="-1" strike="noStrike">
                <a:solidFill>
                  <a:srgbClr val="3c8c93"/>
                </a:solidFill>
                <a:latin typeface="Verdana"/>
              </a:rPr>
              <a:t>DG Agriculture and Rural Development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3c8c93"/>
                </a:solidFill>
                <a:latin typeface="Verdana"/>
              </a:rPr>
              <a:t>Directorate C. Single CMO, economics and analysis of agricultural markets</a:t>
            </a:r>
            <a:br>
              <a:rPr sz="1200"/>
            </a:b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arket contex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2565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Alternative export destinati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Gradual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opening of new market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(lift SPS ban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Focused on Asian and American countr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But has not compensated for loss of Russian market ye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EU Fruit exports </a:t>
            </a:r>
            <a:r>
              <a:rPr b="0" i="1" lang="fr-BE" sz="2000" spc="-1" strike="noStrike">
                <a:solidFill>
                  <a:srgbClr val="0f5494"/>
                </a:solidFill>
                <a:latin typeface="Verdana"/>
              </a:rPr>
              <a:t>(volume &amp; value, % 15/14, % 15/13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4.115 million tonnes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(-7.3%, +1.6%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3 542 € million </a:t>
            </a:r>
            <a:r>
              <a:rPr b="0" i="1" lang="fr-BE" sz="2000" spc="-1" strike="noStrike">
                <a:solidFill>
                  <a:srgbClr val="0f5494"/>
                </a:solidFill>
                <a:latin typeface="Verdana"/>
              </a:rPr>
              <a:t>(-8%, -8%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arket contex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6840" y="2565360"/>
            <a:ext cx="84358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Fruit exports by country </a:t>
            </a:r>
            <a:r>
              <a:rPr b="0" i="1" lang="fr-BE" sz="2000" spc="-1" strike="noStrike">
                <a:solidFill>
                  <a:srgbClr val="0f5494"/>
                </a:solidFill>
                <a:latin typeface="Verdana"/>
              </a:rPr>
              <a:t>(million tonnes, % 15/14, % 15/13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ussia &amp; neighbour countries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Belarus: 1.256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+80%, 4-fold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kraine: 0.147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-20%, -35%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Kazakhstan, Serbia: 0.113-0.125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&gt; +9%, &gt; +32%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Russia: 0.104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1/10, 1/15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FTA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Norway,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witzerland: 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0.231-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0.373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relatively stable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arket contex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2565360"/>
            <a:ext cx="83628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EU Fruit exports </a:t>
            </a:r>
            <a:r>
              <a:rPr b="0" i="1" lang="fr-BE" sz="2000" spc="-1" strike="noStrike">
                <a:solidFill>
                  <a:srgbClr val="0f5494"/>
                </a:solidFill>
                <a:latin typeface="Verdana"/>
              </a:rPr>
              <a:t>(million tonnes, % 15/14, % 15/13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sia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hina: 0.036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-10%, +8%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Singapore, Taiwan, Thailand, Vietnam: 0.002-0.013 </a:t>
            </a:r>
            <a:r>
              <a:rPr b="0" i="1" lang="fr-BE" sz="1800" spc="-1" strike="noStrike">
                <a:solidFill>
                  <a:srgbClr val="0f5494"/>
                </a:solidFill>
                <a:latin typeface="Verdana"/>
              </a:rPr>
              <a:t>(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=, &gt;20%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iddle East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audi Arabia, United Arab Emirates: 0.116-0.119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&gt;8%, &gt;80%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merica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SA: 0.095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+6%, +9%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Canada: 0.071 </a:t>
            </a:r>
            <a:r>
              <a:rPr b="0" i="1" lang="fr-BE" sz="1800" spc="-1" strike="noStrike">
                <a:solidFill>
                  <a:srgbClr val="0f5494"/>
                </a:solidFill>
                <a:latin typeface="Verdana"/>
              </a:rPr>
              <a:t>(-5%, 2-fold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arket contex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2565360"/>
            <a:ext cx="85788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EU Vegetable exports </a:t>
            </a:r>
            <a:r>
              <a:rPr b="0" i="1" lang="fr-BE" sz="2000" spc="-1" strike="noStrike">
                <a:solidFill>
                  <a:srgbClr val="0f5494"/>
                </a:solidFill>
                <a:latin typeface="Verdana"/>
              </a:rPr>
              <a:t>(% 15/14, % 15/13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4.661 million tonnes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+4.5%, +13%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2 902 € million </a:t>
            </a:r>
            <a:r>
              <a:rPr b="0" i="1" lang="fr-BE" sz="1800" spc="-1" strike="noStrike">
                <a:solidFill>
                  <a:srgbClr val="0f5494"/>
                </a:solidFill>
                <a:latin typeface="Verdana"/>
              </a:rPr>
              <a:t>(+2.2%, -4.3%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Veg exports by country </a:t>
            </a:r>
            <a:r>
              <a:rPr b="0" i="1" lang="fr-BE" sz="2000" spc="-1" strike="noStrike">
                <a:solidFill>
                  <a:srgbClr val="0f5494"/>
                </a:solidFill>
                <a:latin typeface="Verdana"/>
              </a:rPr>
              <a:t>(million tonnes, % 15/14, % 15/13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ussia &amp; neighbour countries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Belarus: 0.428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+62%, 3-fold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Russia: 0.081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1/8, 1/12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arket contex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6840" y="2565360"/>
            <a:ext cx="84358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EU Vegetable exports </a:t>
            </a:r>
            <a:r>
              <a:rPr b="0" i="1" lang="fr-BE" sz="2000" spc="-1" strike="noStrike">
                <a:solidFill>
                  <a:srgbClr val="0f5494"/>
                </a:solidFill>
                <a:latin typeface="Verdana"/>
              </a:rPr>
              <a:t>(million tonnes, % 15/14, % 15/13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FTA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Norway,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witzerland: 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0.266-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0.275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relatively stable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sia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dia: 0.247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2-fold, 10-fold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Malaysia: 0.092 </a:t>
            </a:r>
            <a:r>
              <a:rPr b="0" i="1" lang="fr-BE" sz="1800" spc="-1" strike="noStrike">
                <a:solidFill>
                  <a:srgbClr val="0f5494"/>
                </a:solidFill>
                <a:latin typeface="Verdana"/>
              </a:rPr>
              <a:t>(+30%, +48%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Israel: 0.116 </a:t>
            </a:r>
            <a:r>
              <a:rPr b="0" i="1" lang="fr-BE" sz="1800" spc="-1" strike="noStrike">
                <a:solidFill>
                  <a:srgbClr val="0f5494"/>
                </a:solidFill>
                <a:latin typeface="Verdana"/>
              </a:rPr>
              <a:t>(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2-fold, 2-fold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iddle East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audi Arabia, United Arab Emirates: 0.085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&lt;-10% , &gt;50%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arket contex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6840" y="2565360"/>
            <a:ext cx="84358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EU Vegetable exports </a:t>
            </a:r>
            <a:r>
              <a:rPr b="0" i="1" lang="fr-BE" sz="2000" spc="-1" strike="noStrike">
                <a:solidFill>
                  <a:srgbClr val="0f5494"/>
                </a:solidFill>
                <a:latin typeface="Verdana"/>
              </a:rPr>
              <a:t>(million tonnes, % 15/14, % 15/13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merica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Brazil: 0.223 </a:t>
            </a:r>
            <a:r>
              <a:rPr b="0" i="1" lang="fr-BE" sz="1800" spc="-1" strike="noStrike">
                <a:solidFill>
                  <a:srgbClr val="0f5494"/>
                </a:solidFill>
                <a:latin typeface="Verdana"/>
              </a:rPr>
              <a:t>(4-fold, 3-fold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USA: 0.153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+40%, +58%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Africa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gypt: 0.508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relatively stable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Senegal: 0.261 </a:t>
            </a:r>
            <a:r>
              <a:rPr b="0" i="1" lang="fr-BE" sz="1800" spc="-1" strike="noStrike">
                <a:solidFill>
                  <a:srgbClr val="0f5494"/>
                </a:solidFill>
                <a:latin typeface="Verdana"/>
              </a:rPr>
              <a:t>(+4%, +10%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Algeria: 0.198 </a:t>
            </a:r>
            <a:r>
              <a:rPr b="0" i="1" lang="fr-BE" sz="1800" spc="-1" strike="noStrike">
                <a:solidFill>
                  <a:srgbClr val="0f5494"/>
                </a:solidFill>
                <a:latin typeface="Verdana"/>
              </a:rPr>
              <a:t>(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-3%, +21%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Ivory Coast: 0.145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(+34%, +37%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Vegetabl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360" indent="-343080" algn="just">
              <a:lnSpc>
                <a:spcPct val="100000"/>
              </a:lnSpc>
              <a:spcAft>
                <a:spcPts val="601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68436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Tomatoes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684360" indent="-343080" algn="just">
              <a:lnSpc>
                <a:spcPct val="100000"/>
              </a:lnSpc>
              <a:spcAft>
                <a:spcPts val="300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Low EU prices during winter season (1</a:t>
            </a:r>
            <a:r>
              <a:rPr b="0" lang="en-GB" sz="2400" spc="-1" strike="noStrike" baseline="30000">
                <a:solidFill>
                  <a:srgbClr val="0f5494"/>
                </a:solidFill>
                <a:latin typeface="Calibri"/>
                <a:ea typeface="Calibri"/>
              </a:rPr>
              <a:t>st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  <a:ea typeface="Calibri"/>
              </a:rPr>
              <a:t> half 2016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684360" indent="-343080" algn="just">
              <a:lnSpc>
                <a:spcPct val="100000"/>
              </a:lnSpc>
              <a:spcAft>
                <a:spcPts val="300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Calibri"/>
                <a:ea typeface="Calibri"/>
              </a:rPr>
              <a:t>Market situation improved from June onward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684360" indent="-343080" algn="just">
              <a:lnSpc>
                <a:spcPct val="100000"/>
              </a:lnSpc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Calibri"/>
                <a:ea typeface="Calibri"/>
              </a:rPr>
              <a:t>Prices in September-October around 3-year average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68436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Calibri"/>
                <a:ea typeface="Calibri"/>
              </a:rPr>
              <a:t>Other vegetabl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684360" indent="-343080" algn="just">
              <a:lnSpc>
                <a:spcPct val="100000"/>
              </a:lnSpc>
              <a:spcAft>
                <a:spcPts val="300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Calibri"/>
                <a:ea typeface="Calibri"/>
              </a:rPr>
              <a:t>Hot temperatures in September prompted high production and low prices in Southern EU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684360" indent="-343080" algn="just">
              <a:lnSpc>
                <a:spcPct val="100000"/>
              </a:lnSpc>
              <a:spcAft>
                <a:spcPts val="6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Calibri"/>
                <a:ea typeface="Calibri"/>
              </a:rPr>
              <a:t>Recent signs of recovery </a:t>
            </a:r>
            <a:r>
              <a:rPr b="0" i="1" lang="fr-BE" sz="2400" spc="-1" strike="noStrike">
                <a:solidFill>
                  <a:srgbClr val="0f5494"/>
                </a:solidFill>
                <a:latin typeface="Calibri"/>
                <a:ea typeface="Calibri"/>
              </a:rPr>
              <a:t>(peppers, </a:t>
            </a:r>
            <a:r>
              <a:rPr b="0" i="1" lang="fr-BE" sz="2400" spc="-1" strike="noStrike" u="sng">
                <a:solidFill>
                  <a:srgbClr val="0f5494"/>
                </a:solidFill>
                <a:uFillTx/>
                <a:latin typeface="Calibri"/>
                <a:ea typeface="Calibri"/>
              </a:rPr>
              <a:t>cucumbers</a:t>
            </a:r>
            <a:r>
              <a:rPr b="0" i="1" lang="fr-BE" sz="2400" spc="-1" strike="noStrike">
                <a:solidFill>
                  <a:srgbClr val="0f5494"/>
                </a:solidFill>
                <a:latin typeface="Calibri"/>
                <a:ea typeface="Calibri"/>
              </a:rPr>
              <a:t>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68436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68436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DE ANGELIS Antonio (AGRI)</dc:creator>
  <dc:description/>
  <dc:language>en-US</dc:language>
  <cp:lastModifiedBy>GONZALEZ GARCIA Jesus (AGRI)</cp:lastModifiedBy>
  <cp:lastPrinted>2016-10-17T09:34:00Z</cp:lastPrinted>
  <dcterms:modified xsi:type="dcterms:W3CDTF">2016-10-18T09:15:07Z</dcterms:modified>
  <cp:revision>581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