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</p:sldIdLst>
  <p:sldSz cx="9144000" cy="6858000"/>
  <p:notesSz cx="67183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0" y="0"/>
            <a:ext cx="67176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113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dt" idx="37"/>
          </p:nvPr>
        </p:nvSpPr>
        <p:spPr>
          <a:xfrm>
            <a:off x="3803760" y="0"/>
            <a:ext cx="2913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body"/>
          </p:nvPr>
        </p:nvSpPr>
        <p:spPr>
          <a:xfrm>
            <a:off x="671400" y="4680000"/>
            <a:ext cx="5375520" cy="44337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ftr" idx="38"/>
          </p:nvPr>
        </p:nvSpPr>
        <p:spPr>
          <a:xfrm>
            <a:off x="-360" y="9359640"/>
            <a:ext cx="291132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 type="sldNum" idx="39"/>
          </p:nvPr>
        </p:nvSpPr>
        <p:spPr>
          <a:xfrm>
            <a:off x="3803760" y="9359640"/>
            <a:ext cx="291312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DDE6D-9334-4D73-8D76-0235025592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71400" y="4680000"/>
            <a:ext cx="537552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3803760" y="9360000"/>
            <a:ext cx="2913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D4D4D-7ECD-40F1-A7A7-919C21274F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71400" y="4680000"/>
            <a:ext cx="5375520" cy="44337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marL="338040" indent="0" algn="just">
              <a:spcBef>
                <a:spcPts val="451"/>
              </a:spcBef>
              <a:spcAft>
                <a:spcPts val="11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xchange rate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f Dollar to both Euro and Zloty: extra-EU exports and opening new export markets more attractive, helping to restore market balance.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8040" indent="0" algn="just">
              <a:spcBef>
                <a:spcPts val="451"/>
              </a:spcBef>
              <a:spcAft>
                <a:spcPts val="11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80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Lower supply 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in Southern EU due to adverse weather conditions and low temperatures: Positive impact on pr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3803760" y="9360000"/>
            <a:ext cx="2913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157A9-BF31-4E61-872B-30990C26D8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71400" y="4680000"/>
            <a:ext cx="537552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3803760" y="9360000"/>
            <a:ext cx="2913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472A0-AD90-4CEF-9A1A-4D29A5D56A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71400" y="4680000"/>
            <a:ext cx="5375520" cy="44337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marL="338040" indent="0" algn="just">
              <a:spcBef>
                <a:spcPts val="451"/>
              </a:spcBef>
              <a:spcAft>
                <a:spcPts val="11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xchange rate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f Dollar to both Euro and Zloty: extra-EU exports and opening new export markets more attractive, helping to restore market balance.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8040" indent="0" algn="just">
              <a:spcBef>
                <a:spcPts val="451"/>
              </a:spcBef>
              <a:spcAft>
                <a:spcPts val="11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80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Lower supply 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in Southern EU due to adverse weather conditions and low temperatures: Positive impact on pr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803760" y="9360000"/>
            <a:ext cx="2913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99618-4F3A-4952-BC41-D82B80607F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71400" y="4680000"/>
            <a:ext cx="5375520" cy="44337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marL="338040" indent="0" algn="just">
              <a:spcBef>
                <a:spcPts val="451"/>
              </a:spcBef>
              <a:spcAft>
                <a:spcPts val="11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xchange rate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f Dollar to both Euro and Zloty: extra-EU exports and opening new export markets more attractive, helping to restore market balance.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8040" indent="0" algn="just">
              <a:spcBef>
                <a:spcPts val="451"/>
              </a:spcBef>
              <a:spcAft>
                <a:spcPts val="11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80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Lower supply 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in Southern EU due to adverse weather conditions and low temperatures: Positive impact on pr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803760" y="9360000"/>
            <a:ext cx="2913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3BF18-0F29-45E0-9449-88B58B6928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71400" y="4680000"/>
            <a:ext cx="5375520" cy="44337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marL="338040" indent="0" algn="just">
              <a:spcBef>
                <a:spcPts val="451"/>
              </a:spcBef>
              <a:spcAft>
                <a:spcPts val="11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xchange rate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f Dollar to both Euro and Zloty: extra-EU exports and opening new export markets more attractive, helping to restore market balance.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8040" indent="0" algn="just">
              <a:spcBef>
                <a:spcPts val="451"/>
              </a:spcBef>
              <a:spcAft>
                <a:spcPts val="11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80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Lower supply 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in Southern EU due to adverse weather conditions and low temperatures: Positive impact on pr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3803760" y="9360000"/>
            <a:ext cx="2913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62E71-C501-465B-B4B0-0128C74F6F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71400" y="4680000"/>
            <a:ext cx="5375520" cy="44337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marL="338040" indent="0" algn="just">
              <a:spcBef>
                <a:spcPts val="451"/>
              </a:spcBef>
              <a:spcAft>
                <a:spcPts val="11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xchange rate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f Dollar to both Euro and Zloty: extra-EU exports and opening new export markets more attractive, helping to restore market balance.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8040" indent="0" algn="just">
              <a:spcBef>
                <a:spcPts val="451"/>
              </a:spcBef>
              <a:spcAft>
                <a:spcPts val="11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80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Lower supply 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in Southern EU due to adverse weather conditions and low temperatures: Positive impact on pr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803760" y="9360000"/>
            <a:ext cx="2913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7ACB0-71FD-4052-8BC7-4A818F6684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71400" y="4680000"/>
            <a:ext cx="5375520" cy="44337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marL="338040" indent="0" algn="just">
              <a:spcBef>
                <a:spcPts val="451"/>
              </a:spcBef>
              <a:spcAft>
                <a:spcPts val="11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xchange rate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f Dollar to both Euro and Zloty: extra-EU exports and opening new export markets more attractive, helping to restore market balance.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8040" indent="0" algn="just">
              <a:spcBef>
                <a:spcPts val="451"/>
              </a:spcBef>
              <a:spcAft>
                <a:spcPts val="11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80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Lower supply 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in Southern EU due to adverse weather conditions and low temperatures: Positive impact on pr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3803760" y="9360000"/>
            <a:ext cx="2913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35593-F69B-41F9-9111-47ADE6C308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71400" y="4680000"/>
            <a:ext cx="5375520" cy="44337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marL="338040" indent="0" algn="just">
              <a:spcBef>
                <a:spcPts val="451"/>
              </a:spcBef>
              <a:spcAft>
                <a:spcPts val="11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xchange rate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f Dollar to both Euro and Zloty: extra-EU exports and opening new export markets more attractive, helping to restore market balance.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8040" indent="0" algn="just">
              <a:spcBef>
                <a:spcPts val="451"/>
              </a:spcBef>
              <a:spcAft>
                <a:spcPts val="11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80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Lower supply 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in Southern EU due to adverse weather conditions and low temperatures: Positive impact on pr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3803760" y="9360000"/>
            <a:ext cx="2913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03AF1-E75A-45D1-8708-C719A2482A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647A-BE9A-40CA-995D-8958A04DB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947E-84B3-4FBB-8168-8AED33BBD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476851-3E63-4E02-9B20-71681EDAD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349834-3BF1-46B8-B629-70A7217FB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375973-535B-4603-80C4-0CEF48C91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213467-D0A5-4420-8339-B91B9BC6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6EAE5F-2D71-43DF-BE5A-3069862E9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31CC8B-9E56-4065-BB8C-0BCEE29D4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63F383-A73F-4F09-AB5D-DD6D69BFA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15DBA0-8EA2-4207-B073-421256AD2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6B0387-886D-4EC2-80CC-FE6EAD483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ADCB10-8DA1-481B-99AF-C8D1ED22E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F6D8-89B7-4397-AEB3-835AAAF3C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E8CB83-C2C8-49BE-B9D9-C36E9DCE7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1326E0-3DE6-42C2-9229-C9D4BDEC9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21E3C7-30CA-48DE-AFD5-F3E3BDDCA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B9EC51-2874-4309-9918-FA0DB7701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FE286B-F0C7-43F8-933F-F0F266F6A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9CCE91-6DAA-4433-AB4B-70CB4E326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E8C262-F139-4023-B03B-291FFE6F5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878EC2-0EBC-4E0C-8EF5-F3C8EEB9C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EC9C38-BBAA-455D-A9B4-61E8FBB16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5957F5-1281-43C9-B3DF-EBF0DFB93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4111-7E59-4244-AFB1-D5C93D4A1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C11B21-E6F7-4765-972E-E81A489D2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88C6C3-3C30-480E-B1AB-C87E99956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09961D-7F6A-4754-A487-FFD136F86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DAE195-117A-461D-987C-5A1691B80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BEAB5B-90FD-4C0A-9702-16A0FC9BE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3BC60B-6013-42E5-A77D-77BDD3E2A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106B16-E1D8-4E89-AF6C-41B105D41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5A55FC-EDFC-4552-B3F1-8AE8D69A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0E53F2-9338-487E-A9FC-49D179B7E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A6E655-A21B-4EAD-BA17-4D41D30E2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B7AFF-64AB-4617-B7A8-CBB60EDB2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48BA59-FB93-4482-B995-B765076FD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1644EF-F7FC-4F4E-9680-32A676D73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7CD182-9E7B-4D42-803F-5E2F43B91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727F51-09E4-4FFE-88FF-0B2721953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C77B5E-1C50-4F56-8FA9-8AF764021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FF97A5-9A73-4723-9B75-980C7F39D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DF3175-3822-409D-B568-6C16FDD00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90A3A7-6375-49A6-864B-68F2E786F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EDDEA9-A432-4899-ABCC-6B8349F01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3BE7D3-5288-4260-85E6-50CA9F277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FD192-7A57-4289-9FFB-172D4523E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644F44-DC79-4F7B-BB1B-E83040CAD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2EF7AC-491F-404A-B379-F98DE9713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90F2AE-0B20-454F-812D-03E0D740B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B77B6A-292C-4F54-BF8C-E5D1DEC3C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981576-3C34-45BC-973E-D1744E64A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4E889-9454-4AAC-B65D-62ED0987C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4EF37-5868-4FAF-8471-6B7F829DE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7F489-9BC1-486E-800A-744C73087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2FAB4-154A-4395-82B9-B1D69E9B4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76866-F16A-4139-AC83-FCF2CE1AE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BF10-CB23-4591-9CA4-1983C4217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77FE2-019E-4BE6-BD7F-F347519D3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F0361-F1AB-491A-9FDC-C81DCFA2E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6F066-75CA-4013-B6F8-84769ADAE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E6A6D-8FB8-48D5-ADBA-F485A3B78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5BD07-212B-4C17-A29D-B8D818F62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91036-2531-42FB-B481-591C9C5D1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0D7FB-C5DF-455E-8B8D-336DC05D9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9427C-27B0-4FF1-AB00-61EAA919C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4E3D4-7747-4C24-A2AE-33509CDAA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AE472-E41B-49CA-8904-63FF51D51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5F6F-2FB4-4178-BA8D-988807F14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87C94-05C4-47C8-A2FD-C7822F852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5451B-F586-47BE-9669-5C85E4E2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393E5-AE14-41B5-A7C9-8D0AF0236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A6A4C-95BF-4AAB-957A-2E18F1C3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E3149-2376-4B23-BEAB-10D96600D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B646C-74A9-4990-B13D-6E30FB46B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BD519-8661-4483-B40A-4166CEA2B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95078-FB53-4AC3-BCE4-441ABF27E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D74C8-10CC-4F2D-B233-CB262BEEA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FD84B-ECB9-4A07-8000-D23794694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4107-D2AF-425F-B105-D290B7CF5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073C7-7B77-404D-843F-6E73E992B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8C786-81C4-4923-B0F9-18E69C4F0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7B88A-AF13-4DFD-8FCD-905AB5E08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9E136-492E-4A8A-91A2-B2EAFBE05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9FCE5-07A1-4769-820B-FF615E3E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E894E-3A3C-4FFB-AE02-87E52A42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CE694-374C-46B4-8F3C-5E443C8B4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9CB18-C552-4F50-9EF6-0765ACF91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C6FBC-30C0-4119-B6B1-E45F14478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CD088-260D-465D-9343-4CFD80BCC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9B15-3B5C-46F0-A19E-DB9F61682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A2CAC-C4B7-457A-9AF3-F3E2E794C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04F08-F8C4-47E0-B410-7A12A88CA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B1A08-1FBF-4E94-BC61-F869FC0B7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67717-A293-4F98-B075-CA9C40551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7A62E-A714-4284-B92B-263D36B56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5905C-CDBE-4970-A016-B6048A2F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7E3878-0504-4EFC-9A58-C3CDCF4EC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82552-9C4D-48DD-A619-3D18E9B8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BAC3D-F3D9-4882-A5EF-53B363307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F34E4E-7024-49B2-AE71-98029CECB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E705-EDC5-43E9-8557-68D70A924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1A4781-BB49-4321-BFD6-9453F568D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BBD30C-0D44-48EB-86B9-58477663E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6CC2A8-05E3-4039-ACBD-D0929D3B1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7FBB19-D78A-4595-905C-7D32AA13D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41431F-7C75-4CA3-A771-BBDB6D1C6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338B86-49A8-4B77-B3EF-9391541E7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ADA55E-E734-40C2-9D24-BED2F5D70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11667-581C-43AF-85A2-CB75422A1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483517-8A78-4C01-B6D5-63D120242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55DAC0-8EA9-4848-8127-83A88B2E3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9A3A-D519-4E82-AC32-A406266A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7FBE25-6210-47D2-875D-DBC3C4D7E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CC43E5-8398-413E-A4B8-E0F4B2FA8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B1EA72-4A45-4F4A-805C-3B5429F0A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47C488-2DDC-4358-9C5E-98440F980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39FB20-B76B-454A-BD00-92A2F7995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12C954-D45D-4CD7-9DFE-63DBF9AC6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3BA237-42F9-4CFE-B3C9-A4F08F148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367069-1A0C-4D3E-ADB0-E9731463C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93F919-0D72-4F76-852A-8BADAA147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9EB56E-9891-4C92-8154-DF9C118CF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5D56-48DF-4A98-856B-DD5F56D65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4A7F1E-44EC-4785-8BB9-4BEC8B9A2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B6A3B7-C8FD-4F5D-8B9A-315F84C6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B1508E-D5BB-4D0F-BB6B-7DE659877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5EC693-9888-4AD6-A09C-9C4408FEB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D86301-649D-4F3A-B440-4C61564A7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E99586-B3B0-4D95-9B65-ABDE86157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359077-D0BE-4C34-863C-9A4FF6C76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BB3F9C-2285-4A05-9EC7-BA5F3D562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51029F-8DF2-486D-9D82-6FB6258F5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38E710-A055-42DD-9FED-0AFF1CA5F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F06F-47CB-4BB9-8C50-7ADC6E88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E0C633-7653-4E67-AB1C-02FA648EF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00D999-25F1-4E4A-9870-C10926B6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F15FAB-A7B2-4BE0-AC70-F73FDA60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2BD3C9-1AA9-4967-AA9E-B4605552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DF4687-FFBE-43B7-8238-CD1804120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86F925-105F-493A-8E88-CBCDBB095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0C56D7-C818-421A-BBEB-F9251D775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F93EDF-8426-4099-BC5D-66F4CE346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908E9F-90D5-4579-9F1D-CA088B271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84A1A4-11D8-4912-B778-91F9FA27D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4DE50-95BC-4AA8-A798-20458C7B7CA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540C4-F00E-4ADE-A28D-D7F7073B06E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68846-1D5F-4CA8-BB92-2932FE18C20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31A9F-C21F-402C-9331-F90067CAAB3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solidFill>
            <a:srgbClr val="0f5494"/>
          </a:solidFill>
          <a:ln w="63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3649680" y="324000"/>
            <a:ext cx="1814400" cy="13986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3"/>
          <a:stretch/>
        </p:blipFill>
        <p:spPr>
          <a:xfrm>
            <a:off x="4219560" y="6437160"/>
            <a:ext cx="685800" cy="4572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60D7A-4DDC-49D8-BFDA-6B41D8576C22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42a6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4254480" y="6458040"/>
            <a:ext cx="611280" cy="407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"/>
          <p:cNvPicPr/>
          <p:nvPr/>
        </p:nvPicPr>
        <p:blipFill>
          <a:blip r:embed="rId3"/>
          <a:stretch/>
        </p:blipFill>
        <p:spPr>
          <a:xfrm>
            <a:off x="3780000" y="404640"/>
            <a:ext cx="1620720" cy="12495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CA2EB-7B4A-4820-A76D-660A2C8F2C0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DB8E5-0EFC-47C5-A10F-23C4E2EC466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61515-813A-4178-8BE6-7FD44A7FEC9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48D3E-A0E0-4C52-9DC7-5A4351661E5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6C248-846D-47F3-B332-8507BF20293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D19BB-643D-4349-BBDC-C0FC09C1BF3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4F84D-21D8-4DF0-89A6-78F276C7196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50560" y="1557360"/>
            <a:ext cx="87850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Common Market Organisation (CMO)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Fruit and vegetables sector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6" name="TextBox 1"/>
          <p:cNvSpPr/>
          <p:nvPr/>
        </p:nvSpPr>
        <p:spPr>
          <a:xfrm>
            <a:off x="539640" y="3376440"/>
            <a:ext cx="77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2a62a"/>
                </a:solidFill>
                <a:latin typeface="Verdana"/>
              </a:rPr>
              <a:t>Evolution of EU markets of certain F&amp;V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07" name="Rectangle 5"/>
          <p:cNvSpPr/>
          <p:nvPr/>
        </p:nvSpPr>
        <p:spPr>
          <a:xfrm>
            <a:off x="1835280" y="4724280"/>
            <a:ext cx="676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95320" indent="-895320">
              <a:spcBef>
                <a:spcPts val="300"/>
              </a:spcBef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GB" sz="1200" spc="-1" strike="noStrike">
                <a:solidFill>
                  <a:srgbClr val="ffffff"/>
                </a:solidFill>
                <a:latin typeface="Verdana"/>
              </a:rPr>
              <a:t>Unit C.2. - Wine, spirits, horticultural products, specialised crops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  <a:p>
            <a:pPr marL="895320" indent="-895320">
              <a:spcBef>
                <a:spcPts val="300"/>
              </a:spcBef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GB" sz="1200" spc="-1" strike="noStrike">
                <a:solidFill>
                  <a:srgbClr val="ffffff"/>
                </a:solidFill>
                <a:latin typeface="Verdana"/>
              </a:rPr>
              <a:t>DG Agriculture and Rural Development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  <a:p>
            <a:pPr marL="895320" indent="-895320">
              <a:spcBef>
                <a:spcPts val="300"/>
              </a:spcBef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GB" sz="1200" spc="-1" strike="noStrike">
                <a:solidFill>
                  <a:srgbClr val="ffffff"/>
                </a:solidFill>
                <a:latin typeface="Verdana"/>
              </a:rPr>
              <a:t>European Commission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08" name="TextBox 2"/>
          <p:cNvSpPr/>
          <p:nvPr/>
        </p:nvSpPr>
        <p:spPr>
          <a:xfrm>
            <a:off x="755640" y="5950080"/>
            <a:ext cx="806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66"/>
                </a:solidFill>
                <a:latin typeface="Verdana"/>
              </a:rPr>
              <a:t>Civil Dialogue Group "Fruits &amp; Vegetables"</a:t>
            </a:r>
            <a:r>
              <a:rPr b="1" i="1" lang="fr-BE" sz="1200" spc="-1" strike="noStrike">
                <a:solidFill>
                  <a:srgbClr val="ffff66"/>
                </a:solidFill>
                <a:latin typeface="Verdana"/>
              </a:rPr>
              <a:t> – 18 October 2016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4" descr=""/>
          <p:cNvPicPr/>
          <p:nvPr/>
        </p:nvPicPr>
        <p:blipFill>
          <a:blip r:embed="rId1"/>
          <a:stretch/>
        </p:blipFill>
        <p:spPr>
          <a:xfrm>
            <a:off x="4262400" y="3328920"/>
            <a:ext cx="619200" cy="200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6" name=""/>
          <p:cNvGraphicFramePr/>
          <p:nvPr/>
        </p:nvGraphicFramePr>
        <p:xfrm>
          <a:off x="4267080" y="4110120"/>
          <a:ext cx="609840" cy="190440"/>
        </p:xfrm>
        <a:graphic>
          <a:graphicData uri="http://schemas.openxmlformats.org/drawingml/2006/table">
            <a:tbl>
              <a:tblPr/>
              <a:tblGrid>
                <a:gridCol w="609840"/>
              </a:tblGrid>
              <a:tr h="190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527" name="Picture 6" descr=""/>
          <p:cNvPicPr/>
          <p:nvPr/>
        </p:nvPicPr>
        <p:blipFill>
          <a:blip r:embed="rId2"/>
          <a:stretch/>
        </p:blipFill>
        <p:spPr>
          <a:xfrm>
            <a:off x="179280" y="1413000"/>
            <a:ext cx="87854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Picture 4" descr=""/>
          <p:cNvPicPr/>
          <p:nvPr/>
        </p:nvPicPr>
        <p:blipFill>
          <a:blip r:embed="rId1"/>
          <a:stretch/>
        </p:blipFill>
        <p:spPr>
          <a:xfrm>
            <a:off x="4262400" y="3328920"/>
            <a:ext cx="619200" cy="200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9" name=""/>
          <p:cNvGraphicFramePr/>
          <p:nvPr/>
        </p:nvGraphicFramePr>
        <p:xfrm>
          <a:off x="4267080" y="4110120"/>
          <a:ext cx="609840" cy="190440"/>
        </p:xfrm>
        <a:graphic>
          <a:graphicData uri="http://schemas.openxmlformats.org/drawingml/2006/table">
            <a:tbl>
              <a:tblPr/>
              <a:tblGrid>
                <a:gridCol w="609840"/>
              </a:tblGrid>
              <a:tr h="190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530" name="Picture 6" descr=""/>
          <p:cNvPicPr/>
          <p:nvPr/>
        </p:nvPicPr>
        <p:blipFill>
          <a:blip r:embed="rId2"/>
          <a:stretch/>
        </p:blipFill>
        <p:spPr>
          <a:xfrm>
            <a:off x="179280" y="1413000"/>
            <a:ext cx="878544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3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87854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3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87854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3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87854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3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87854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f5494"/>
                </a:solidFill>
                <a:latin typeface="Verdana"/>
              </a:rPr>
              <a:t>Fruits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457200" y="220464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Calibri"/>
                <a:ea typeface="Calibri"/>
              </a:rPr>
              <a:t>Appl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984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f5494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Calibri"/>
                <a:ea typeface="Calibri"/>
              </a:rPr>
              <a:t>Prices very low along 2016 – Strong stock pressur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984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f5494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Calibri"/>
                <a:ea typeface="Calibri"/>
              </a:rPr>
              <a:t>Strong EU crop (+1%) expected in 16-17 (high PL crop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9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f5494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Calibri"/>
                <a:ea typeface="Calibri"/>
              </a:rPr>
              <a:t>Higher PL volumes likely for processing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9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Calibri"/>
                <a:ea typeface="Calibri"/>
              </a:rPr>
              <a:t>Pear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984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f5494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Calibri"/>
                <a:ea typeface="Calibri"/>
              </a:rPr>
              <a:t>Significant EU production decrease (-9%) forecasted 16-17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9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f5494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Calibri"/>
                <a:ea typeface="Calibri"/>
              </a:rPr>
              <a:t>Expectations market recovery due to lower production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f5494"/>
                </a:solidFill>
                <a:latin typeface="Verdana"/>
              </a:rPr>
              <a:t>Fruits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57200" y="220464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Calibri"/>
                <a:ea typeface="Calibri"/>
              </a:rPr>
              <a:t>Stone fruit</a:t>
            </a:r>
            <a:r>
              <a:rPr b="0" lang="en-GB" sz="2400" spc="-1" strike="noStrike">
                <a:solidFill>
                  <a:srgbClr val="0f5494"/>
                </a:solidFill>
                <a:latin typeface="Calibri"/>
                <a:ea typeface="Calibri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9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f5494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Calibri"/>
                <a:ea typeface="Calibri"/>
              </a:rPr>
              <a:t>Season with low production and generally acceptable pric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9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Calibri"/>
                <a:ea typeface="Calibri"/>
              </a:rPr>
              <a:t>Citru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9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f5494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Calibri"/>
                <a:ea typeface="Calibri"/>
              </a:rPr>
              <a:t>Return to normal production levels forecasted for 16-17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3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8785440" cy="49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3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87854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Market contex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457200" y="2565360"/>
            <a:ext cx="857880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Russian import ban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99"/>
              </a:spcBef>
              <a:spcAft>
                <a:spcPts val="1199"/>
              </a:spcAft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f5494"/>
                </a:solidFill>
                <a:latin typeface="Verdana"/>
              </a:rPr>
              <a:t>Prolonged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until </a:t>
            </a: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end 2017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99"/>
              </a:spcBef>
              <a:spcAft>
                <a:spcPts val="1199"/>
              </a:spcAft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Different impact for </a:t>
            </a:r>
            <a:r>
              <a:rPr b="1" i="1" lang="fr-BE" sz="2000" spc="-1" strike="noStrike">
                <a:solidFill>
                  <a:srgbClr val="0f5494"/>
                </a:solidFill>
                <a:latin typeface="Verdana"/>
              </a:rPr>
              <a:t>products </a:t>
            </a: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- Severe for </a:t>
            </a:r>
            <a:r>
              <a:rPr b="0" i="1" lang="fr-BE" sz="2000" spc="-1" strike="noStrike">
                <a:solidFill>
                  <a:srgbClr val="0f5494"/>
                </a:solidFill>
                <a:latin typeface="Verdana"/>
              </a:rPr>
              <a:t>apples &amp; pear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99"/>
              </a:spcBef>
              <a:spcAft>
                <a:spcPts val="1199"/>
              </a:spcAft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Problems in </a:t>
            </a:r>
            <a:r>
              <a:rPr b="1" i="1" lang="fr-BE" sz="2000" spc="-1" strike="noStrike">
                <a:solidFill>
                  <a:srgbClr val="0f5494"/>
                </a:solidFill>
                <a:latin typeface="Verdana"/>
              </a:rPr>
              <a:t>transit</a:t>
            </a: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 of exports to Asia - </a:t>
            </a:r>
            <a:r>
              <a:rPr b="0" i="1" lang="fr-BE" sz="2000" spc="-1" strike="noStrike">
                <a:solidFill>
                  <a:srgbClr val="0f5494"/>
                </a:solidFill>
                <a:latin typeface="Verdana"/>
              </a:rPr>
              <a:t>Plums</a:t>
            </a: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 to China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99"/>
              </a:spcBef>
              <a:spcAft>
                <a:spcPts val="1199"/>
              </a:spcAft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Extension import ban to </a:t>
            </a:r>
            <a:r>
              <a:rPr b="1" i="1" lang="fr-BE" sz="2000" spc="-1" strike="noStrike">
                <a:solidFill>
                  <a:srgbClr val="0f5494"/>
                </a:solidFill>
                <a:latin typeface="Verdana"/>
              </a:rPr>
              <a:t>Turkey</a:t>
            </a: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 from </a:t>
            </a:r>
            <a:r>
              <a:rPr b="0" i="1" lang="fr-BE" sz="2000" spc="-1" strike="noStrike">
                <a:solidFill>
                  <a:srgbClr val="0f5494"/>
                </a:solidFill>
                <a:latin typeface="Verdana"/>
              </a:rPr>
              <a:t>Jan</a:t>
            </a: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 to </a:t>
            </a:r>
            <a:r>
              <a:rPr b="0" i="1" lang="fr-BE" sz="2000" spc="-1" strike="noStrike">
                <a:solidFill>
                  <a:srgbClr val="0f5494"/>
                </a:solidFill>
                <a:latin typeface="Verdana"/>
              </a:rPr>
              <a:t>Oct</a:t>
            </a: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i="1" lang="fr-BE" sz="2000" spc="-1" strike="noStrike">
                <a:solidFill>
                  <a:srgbClr val="0f5494"/>
                </a:solidFill>
                <a:latin typeface="Verdana"/>
              </a:rPr>
              <a:t>2016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99"/>
              </a:spcBef>
              <a:spcAft>
                <a:spcPts val="1199"/>
              </a:spcAft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No clear </a:t>
            </a:r>
            <a:r>
              <a:rPr b="1" i="1" lang="en-GB" sz="2000" spc="-1" strike="noStrike">
                <a:solidFill>
                  <a:srgbClr val="0f5494"/>
                </a:solidFill>
                <a:latin typeface="Verdana"/>
              </a:rPr>
              <a:t>diversion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of Turkish exports to EU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3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87854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3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87854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3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87854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2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87854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Dashboard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57200" y="2565360"/>
            <a:ext cx="836280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f5494"/>
                </a:solidFill>
                <a:latin typeface="Verdana"/>
              </a:rPr>
              <a:t>Currently cover: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omatoe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Apple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Citrus (oranges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199"/>
              </a:spcAft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Peaches &amp; nectarine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000" spc="-1" strike="noStrike">
                <a:solidFill>
                  <a:srgbClr val="0f5494"/>
                </a:solidFill>
                <a:latin typeface="Verdana"/>
              </a:rPr>
              <a:t>Available on "europa":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http://ec.europa.eu/agriculture/dashboards/index_en.htm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24000" y="2923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Thank you for your attention!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8" name="Title 1"/>
          <p:cNvSpPr/>
          <p:nvPr/>
        </p:nvSpPr>
        <p:spPr>
          <a:xfrm>
            <a:off x="1476360" y="4365720"/>
            <a:ext cx="655308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3c8c93"/>
                </a:solidFill>
                <a:latin typeface="Verdana"/>
              </a:rPr>
              <a:t>Unit C.2. - Wine, spirits, horticultural products, specialised crops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  <a:p>
            <a:pPr marL="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  <a:p>
            <a:pPr marL="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3c8c93"/>
                </a:solidFill>
                <a:latin typeface="Verdana"/>
              </a:rPr>
              <a:t>European Commission</a:t>
            </a:r>
            <a:br>
              <a:rPr sz="1200"/>
            </a:br>
            <a:r>
              <a:rPr b="0" i="1" lang="en-GB" sz="1200" spc="-1" strike="noStrike">
                <a:solidFill>
                  <a:srgbClr val="3c8c93"/>
                </a:solidFill>
                <a:latin typeface="Verdana"/>
              </a:rPr>
              <a:t>DG Agriculture and Rural Development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  <a:p>
            <a:pPr marL="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3c8c93"/>
                </a:solidFill>
                <a:latin typeface="Verdana"/>
              </a:rPr>
              <a:t>Directorate C. Single CMO, economics and analysis of agricultural markets</a:t>
            </a:r>
            <a:br>
              <a:rPr sz="1200"/>
            </a:b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Market contex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457200" y="2565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f5494"/>
                </a:solidFill>
                <a:latin typeface="Verdana"/>
              </a:rPr>
              <a:t>Alternative export destination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Gradual </a:t>
            </a:r>
            <a:r>
              <a:rPr b="1" i="1" lang="en-GB" sz="2000" spc="-1" strike="noStrike">
                <a:solidFill>
                  <a:srgbClr val="0f5494"/>
                </a:solidFill>
                <a:latin typeface="Verdana"/>
              </a:rPr>
              <a:t>opening of new markets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(lift SPS bans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Focused on Asian and American countrie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99"/>
              </a:spcBef>
              <a:spcAft>
                <a:spcPts val="1199"/>
              </a:spcAft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But has not compensated for loss of Russian market yet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f5494"/>
                </a:solidFill>
                <a:latin typeface="Verdana"/>
              </a:rPr>
              <a:t>EU Fruit exports </a:t>
            </a:r>
            <a:r>
              <a:rPr b="0" i="1" lang="fr-BE" sz="2000" spc="-1" strike="noStrike">
                <a:solidFill>
                  <a:srgbClr val="0f5494"/>
                </a:solidFill>
                <a:latin typeface="Verdana"/>
              </a:rPr>
              <a:t>(volume &amp; value, % 15/14, % 15/13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4.115 million tonnes </a:t>
            </a: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(-7.3%, +1.6%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3 542 € million </a:t>
            </a:r>
            <a:r>
              <a:rPr b="0" i="1" lang="fr-BE" sz="2000" spc="-1" strike="noStrike">
                <a:solidFill>
                  <a:srgbClr val="0f5494"/>
                </a:solidFill>
                <a:latin typeface="Verdana"/>
              </a:rPr>
              <a:t>(-8%, -8%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Market contex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456840" y="2565360"/>
            <a:ext cx="843588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f5494"/>
                </a:solidFill>
                <a:latin typeface="Verdana"/>
              </a:rPr>
              <a:t>Fruit exports by country </a:t>
            </a:r>
            <a:r>
              <a:rPr b="0" i="1" lang="fr-BE" sz="2000" spc="-1" strike="noStrike">
                <a:solidFill>
                  <a:srgbClr val="0f5494"/>
                </a:solidFill>
                <a:latin typeface="Verdana"/>
              </a:rPr>
              <a:t>(million tonnes, % 15/14, % 15/13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Russia &amp; neighbour countries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: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51"/>
              </a:spcBef>
              <a:spcAft>
                <a:spcPts val="300"/>
              </a:spcAft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Belarus: 1.256 </a:t>
            </a:r>
            <a:r>
              <a:rPr b="0" i="1" lang="en-GB" sz="1800" spc="-1" strike="noStrike">
                <a:solidFill>
                  <a:srgbClr val="0f5494"/>
                </a:solidFill>
                <a:latin typeface="Verdana"/>
              </a:rPr>
              <a:t>(+80%, 4-fold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51"/>
              </a:spcBef>
              <a:spcAft>
                <a:spcPts val="300"/>
              </a:spcAft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Ukraine: 0.147 </a:t>
            </a:r>
            <a:r>
              <a:rPr b="0" i="1" lang="en-GB" sz="1800" spc="-1" strike="noStrike">
                <a:solidFill>
                  <a:srgbClr val="0f5494"/>
                </a:solidFill>
                <a:latin typeface="Verdana"/>
              </a:rPr>
              <a:t>(-20%, -35%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51"/>
              </a:spcBef>
              <a:spcAft>
                <a:spcPts val="300"/>
              </a:spcAft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Kazakhstan, Serbia: 0.113-0.125 </a:t>
            </a:r>
            <a:r>
              <a:rPr b="0" i="1" lang="en-GB" sz="1800" spc="-1" strike="noStrike">
                <a:solidFill>
                  <a:srgbClr val="0f5494"/>
                </a:solidFill>
                <a:latin typeface="Verdana"/>
              </a:rPr>
              <a:t>(&gt; +9%, &gt; +32%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51"/>
              </a:spcBef>
              <a:spcAft>
                <a:spcPts val="601"/>
              </a:spcAft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Russia: 0.104 </a:t>
            </a:r>
            <a:r>
              <a:rPr b="0" i="1" lang="en-GB" sz="1800" spc="-1" strike="noStrike">
                <a:solidFill>
                  <a:srgbClr val="0f5494"/>
                </a:solidFill>
                <a:latin typeface="Verdana"/>
              </a:rPr>
              <a:t>(1/10, 1/15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99"/>
              </a:spcBef>
              <a:spcAft>
                <a:spcPts val="300"/>
              </a:spcAft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FTA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: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51"/>
              </a:spcBef>
              <a:spcAft>
                <a:spcPts val="300"/>
              </a:spcAft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f5494"/>
                </a:solidFill>
                <a:latin typeface="Verdana"/>
              </a:rPr>
              <a:t>Norway,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Switzerland: </a:t>
            </a:r>
            <a:r>
              <a:rPr b="0" lang="fr-BE" sz="1800" spc="-1" strike="noStrike">
                <a:solidFill>
                  <a:srgbClr val="0f5494"/>
                </a:solidFill>
                <a:latin typeface="Verdana"/>
              </a:rPr>
              <a:t>0.231-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0.373 </a:t>
            </a:r>
            <a:r>
              <a:rPr b="0" i="1" lang="en-GB" sz="1800" spc="-1" strike="noStrike">
                <a:solidFill>
                  <a:srgbClr val="0f5494"/>
                </a:solidFill>
                <a:latin typeface="Verdana"/>
              </a:rPr>
              <a:t>(relatively stable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Market contex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457200" y="2565360"/>
            <a:ext cx="836280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f5494"/>
                </a:solidFill>
                <a:latin typeface="Verdana"/>
              </a:rPr>
              <a:t>EU Fruit exports </a:t>
            </a:r>
            <a:r>
              <a:rPr b="0" i="1" lang="fr-BE" sz="2000" spc="-1" strike="noStrike">
                <a:solidFill>
                  <a:srgbClr val="0f5494"/>
                </a:solidFill>
                <a:latin typeface="Verdana"/>
              </a:rPr>
              <a:t>(million tonnes, % 15/14, % 15/13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Asia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: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51"/>
              </a:spcBef>
              <a:spcAft>
                <a:spcPts val="300"/>
              </a:spcAft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China: 0.036 </a:t>
            </a:r>
            <a:r>
              <a:rPr b="0" i="1" lang="en-GB" sz="1800" spc="-1" strike="noStrike">
                <a:solidFill>
                  <a:srgbClr val="0f5494"/>
                </a:solidFill>
                <a:latin typeface="Verdana"/>
              </a:rPr>
              <a:t>(-10%, +8%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51"/>
              </a:spcBef>
              <a:spcAft>
                <a:spcPts val="601"/>
              </a:spcAft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f5494"/>
                </a:solidFill>
                <a:latin typeface="Verdana"/>
              </a:rPr>
              <a:t>Singapore, Taiwan, Thailand, Vietnam: 0.002-0.013 </a:t>
            </a:r>
            <a:r>
              <a:rPr b="0" i="1" lang="fr-BE" sz="1800" spc="-1" strike="noStrike">
                <a:solidFill>
                  <a:srgbClr val="0f5494"/>
                </a:solidFill>
                <a:latin typeface="Verdana"/>
              </a:rPr>
              <a:t>(</a:t>
            </a:r>
            <a:r>
              <a:rPr b="0" i="1" lang="en-GB" sz="1800" spc="-1" strike="noStrike">
                <a:solidFill>
                  <a:srgbClr val="0f5494"/>
                </a:solidFill>
                <a:latin typeface="Verdana"/>
              </a:rPr>
              <a:t>=, &gt;20%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Middle East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: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51"/>
              </a:spcBef>
              <a:spcAft>
                <a:spcPts val="300"/>
              </a:spcAft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Saudi Arabia, United Arab Emirates: 0.116-0.119 </a:t>
            </a:r>
            <a:r>
              <a:rPr b="0" i="1" lang="en-GB" sz="1800" spc="-1" strike="noStrike">
                <a:solidFill>
                  <a:srgbClr val="0f5494"/>
                </a:solidFill>
                <a:latin typeface="Verdana"/>
              </a:rPr>
              <a:t>(&gt;8%, &gt;80%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America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: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51"/>
              </a:spcBef>
              <a:spcAft>
                <a:spcPts val="300"/>
              </a:spcAft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USA: 0.095 </a:t>
            </a:r>
            <a:r>
              <a:rPr b="0" i="1" lang="en-GB" sz="1800" spc="-1" strike="noStrike">
                <a:solidFill>
                  <a:srgbClr val="0f5494"/>
                </a:solidFill>
                <a:latin typeface="Verdana"/>
              </a:rPr>
              <a:t>(+6%, +9%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51"/>
              </a:spcBef>
              <a:spcAft>
                <a:spcPts val="300"/>
              </a:spcAft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f5494"/>
                </a:solidFill>
                <a:latin typeface="Verdana"/>
              </a:rPr>
              <a:t>Canada: 0.071 </a:t>
            </a:r>
            <a:r>
              <a:rPr b="0" i="1" lang="fr-BE" sz="1800" spc="-1" strike="noStrike">
                <a:solidFill>
                  <a:srgbClr val="0f5494"/>
                </a:solidFill>
                <a:latin typeface="Verdana"/>
              </a:rPr>
              <a:t>(-5%, 2-fold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99"/>
              </a:spcBef>
              <a:spcAft>
                <a:spcPts val="300"/>
              </a:spcAft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Market contex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457200" y="2565360"/>
            <a:ext cx="857880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f5494"/>
                </a:solidFill>
                <a:latin typeface="Verdana"/>
              </a:rPr>
              <a:t>EU Vegetable exports </a:t>
            </a:r>
            <a:r>
              <a:rPr b="0" i="1" lang="fr-BE" sz="2000" spc="-1" strike="noStrike">
                <a:solidFill>
                  <a:srgbClr val="0f5494"/>
                </a:solidFill>
                <a:latin typeface="Verdana"/>
              </a:rPr>
              <a:t>(% 15/14, % 15/13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51"/>
              </a:spcBef>
              <a:spcAft>
                <a:spcPts val="300"/>
              </a:spcAft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4.661 million tonnes </a:t>
            </a:r>
            <a:r>
              <a:rPr b="0" i="1" lang="en-GB" sz="1800" spc="-1" strike="noStrike">
                <a:solidFill>
                  <a:srgbClr val="0f5494"/>
                </a:solidFill>
                <a:latin typeface="Verdana"/>
              </a:rPr>
              <a:t>(+4.5%, +13%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51"/>
              </a:spcBef>
              <a:spcAft>
                <a:spcPts val="1199"/>
              </a:spcAft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f5494"/>
                </a:solidFill>
                <a:latin typeface="Verdana"/>
              </a:rPr>
              <a:t>2 902 € million </a:t>
            </a:r>
            <a:r>
              <a:rPr b="0" i="1" lang="fr-BE" sz="1800" spc="-1" strike="noStrike">
                <a:solidFill>
                  <a:srgbClr val="0f5494"/>
                </a:solidFill>
                <a:latin typeface="Verdana"/>
              </a:rPr>
              <a:t>(+2.2%, -4.3%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f5494"/>
                </a:solidFill>
                <a:latin typeface="Verdana"/>
              </a:rPr>
              <a:t>Veg exports by country </a:t>
            </a:r>
            <a:r>
              <a:rPr b="0" i="1" lang="fr-BE" sz="2000" spc="-1" strike="noStrike">
                <a:solidFill>
                  <a:srgbClr val="0f5494"/>
                </a:solidFill>
                <a:latin typeface="Verdana"/>
              </a:rPr>
              <a:t>(million tonnes, % 15/14, % 15/13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Russia &amp; neighbour countries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: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51"/>
              </a:spcBef>
              <a:spcAft>
                <a:spcPts val="300"/>
              </a:spcAft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Belarus: 0.428 </a:t>
            </a:r>
            <a:r>
              <a:rPr b="0" i="1" lang="en-GB" sz="1800" spc="-1" strike="noStrike">
                <a:solidFill>
                  <a:srgbClr val="0f5494"/>
                </a:solidFill>
                <a:latin typeface="Verdana"/>
              </a:rPr>
              <a:t>(+62%, 3-fold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51"/>
              </a:spcBef>
              <a:spcAft>
                <a:spcPts val="601"/>
              </a:spcAft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Russia: 0.081 </a:t>
            </a:r>
            <a:r>
              <a:rPr b="0" i="1" lang="en-GB" sz="1800" spc="-1" strike="noStrike">
                <a:solidFill>
                  <a:srgbClr val="0f5494"/>
                </a:solidFill>
                <a:latin typeface="Verdana"/>
              </a:rPr>
              <a:t>(1/8, 1/12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Market contex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456840" y="2565360"/>
            <a:ext cx="843588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f5494"/>
                </a:solidFill>
                <a:latin typeface="Verdana"/>
              </a:rPr>
              <a:t>EU Vegetable exports </a:t>
            </a:r>
            <a:r>
              <a:rPr b="0" i="1" lang="fr-BE" sz="2000" spc="-1" strike="noStrike">
                <a:solidFill>
                  <a:srgbClr val="0f5494"/>
                </a:solidFill>
                <a:latin typeface="Verdana"/>
              </a:rPr>
              <a:t>(million tonnes, % 15/14, % 15/13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99"/>
              </a:spcBef>
              <a:spcAft>
                <a:spcPts val="300"/>
              </a:spcAft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FTA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: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51"/>
              </a:spcBef>
              <a:spcAft>
                <a:spcPts val="300"/>
              </a:spcAft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f5494"/>
                </a:solidFill>
                <a:latin typeface="Verdana"/>
              </a:rPr>
              <a:t>Norway,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Switzerland: </a:t>
            </a:r>
            <a:r>
              <a:rPr b="0" lang="fr-BE" sz="1800" spc="-1" strike="noStrike">
                <a:solidFill>
                  <a:srgbClr val="0f5494"/>
                </a:solidFill>
                <a:latin typeface="Verdana"/>
              </a:rPr>
              <a:t>0.266-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0.275 </a:t>
            </a:r>
            <a:r>
              <a:rPr b="0" i="1" lang="en-GB" sz="1800" spc="-1" strike="noStrike">
                <a:solidFill>
                  <a:srgbClr val="0f5494"/>
                </a:solidFill>
                <a:latin typeface="Verdana"/>
              </a:rPr>
              <a:t>(relatively stable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Asia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: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51"/>
              </a:spcBef>
              <a:spcAft>
                <a:spcPts val="300"/>
              </a:spcAft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India: 0.247 </a:t>
            </a:r>
            <a:r>
              <a:rPr b="0" i="1" lang="en-GB" sz="1800" spc="-1" strike="noStrike">
                <a:solidFill>
                  <a:srgbClr val="0f5494"/>
                </a:solidFill>
                <a:latin typeface="Verdana"/>
              </a:rPr>
              <a:t>(2-fold, 10-fold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51"/>
              </a:spcBef>
              <a:spcAft>
                <a:spcPts val="300"/>
              </a:spcAft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f5494"/>
                </a:solidFill>
                <a:latin typeface="Verdana"/>
              </a:rPr>
              <a:t>Malaysia: 0.092 </a:t>
            </a:r>
            <a:r>
              <a:rPr b="0" i="1" lang="fr-BE" sz="1800" spc="-1" strike="noStrike">
                <a:solidFill>
                  <a:srgbClr val="0f5494"/>
                </a:solidFill>
                <a:latin typeface="Verdana"/>
              </a:rPr>
              <a:t>(+30%, +48%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51"/>
              </a:spcBef>
              <a:spcAft>
                <a:spcPts val="601"/>
              </a:spcAft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f5494"/>
                </a:solidFill>
                <a:latin typeface="Verdana"/>
              </a:rPr>
              <a:t>Israel: 0.116 </a:t>
            </a:r>
            <a:r>
              <a:rPr b="0" i="1" lang="fr-BE" sz="1800" spc="-1" strike="noStrike">
                <a:solidFill>
                  <a:srgbClr val="0f5494"/>
                </a:solidFill>
                <a:latin typeface="Verdana"/>
              </a:rPr>
              <a:t>(</a:t>
            </a:r>
            <a:r>
              <a:rPr b="0" i="1" lang="en-GB" sz="1800" spc="-1" strike="noStrike">
                <a:solidFill>
                  <a:srgbClr val="0f5494"/>
                </a:solidFill>
                <a:latin typeface="Verdana"/>
              </a:rPr>
              <a:t>2-fold, 2-fold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Middle East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: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51"/>
              </a:spcBef>
              <a:spcAft>
                <a:spcPts val="300"/>
              </a:spcAft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Saudi Arabia, United Arab Emirates: 0.085 </a:t>
            </a:r>
            <a:r>
              <a:rPr b="0" i="1" lang="en-GB" sz="1800" spc="-1" strike="noStrike">
                <a:solidFill>
                  <a:srgbClr val="0f5494"/>
                </a:solidFill>
                <a:latin typeface="Verdana"/>
              </a:rPr>
              <a:t>(&lt;-10% , &gt;50%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Market contex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456840" y="2565360"/>
            <a:ext cx="843588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f5494"/>
                </a:solidFill>
                <a:latin typeface="Verdana"/>
              </a:rPr>
              <a:t>EU Vegetable exports </a:t>
            </a:r>
            <a:r>
              <a:rPr b="0" i="1" lang="fr-BE" sz="2000" spc="-1" strike="noStrike">
                <a:solidFill>
                  <a:srgbClr val="0f5494"/>
                </a:solidFill>
                <a:latin typeface="Verdana"/>
              </a:rPr>
              <a:t>(million tonnes, % 15/14, % 15/13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America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: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51"/>
              </a:spcBef>
              <a:spcAft>
                <a:spcPts val="300"/>
              </a:spcAft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f5494"/>
                </a:solidFill>
                <a:latin typeface="Verdana"/>
              </a:rPr>
              <a:t>Brazil: 0.223 </a:t>
            </a:r>
            <a:r>
              <a:rPr b="0" i="1" lang="fr-BE" sz="1800" spc="-1" strike="noStrike">
                <a:solidFill>
                  <a:srgbClr val="0f5494"/>
                </a:solidFill>
                <a:latin typeface="Verdana"/>
              </a:rPr>
              <a:t>(4-fold, 3-fold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51"/>
              </a:spcBef>
              <a:spcAft>
                <a:spcPts val="300"/>
              </a:spcAft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USA: 0.153 </a:t>
            </a:r>
            <a:r>
              <a:rPr b="0" i="1" lang="en-GB" sz="1800" spc="-1" strike="noStrike">
                <a:solidFill>
                  <a:srgbClr val="0f5494"/>
                </a:solidFill>
                <a:latin typeface="Verdana"/>
              </a:rPr>
              <a:t>(+40%, +58%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Africa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: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51"/>
              </a:spcBef>
              <a:spcAft>
                <a:spcPts val="300"/>
              </a:spcAft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Egypt: 0.508 </a:t>
            </a:r>
            <a:r>
              <a:rPr b="0" i="1" lang="en-GB" sz="1800" spc="-1" strike="noStrike">
                <a:solidFill>
                  <a:srgbClr val="0f5494"/>
                </a:solidFill>
                <a:latin typeface="Verdana"/>
              </a:rPr>
              <a:t>(relatively stable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51"/>
              </a:spcBef>
              <a:spcAft>
                <a:spcPts val="300"/>
              </a:spcAft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f5494"/>
                </a:solidFill>
                <a:latin typeface="Verdana"/>
              </a:rPr>
              <a:t>Senegal: 0.261 </a:t>
            </a:r>
            <a:r>
              <a:rPr b="0" i="1" lang="fr-BE" sz="1800" spc="-1" strike="noStrike">
                <a:solidFill>
                  <a:srgbClr val="0f5494"/>
                </a:solidFill>
                <a:latin typeface="Verdana"/>
              </a:rPr>
              <a:t>(+4%, +10%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51"/>
              </a:spcBef>
              <a:spcAft>
                <a:spcPts val="300"/>
              </a:spcAft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f5494"/>
                </a:solidFill>
                <a:latin typeface="Verdana"/>
              </a:rPr>
              <a:t>Algeria: 0.198 </a:t>
            </a:r>
            <a:r>
              <a:rPr b="0" i="1" lang="fr-BE" sz="1800" spc="-1" strike="noStrike">
                <a:solidFill>
                  <a:srgbClr val="0f5494"/>
                </a:solidFill>
                <a:latin typeface="Verdana"/>
              </a:rPr>
              <a:t>(</a:t>
            </a:r>
            <a:r>
              <a:rPr b="0" i="1" lang="en-GB" sz="1800" spc="-1" strike="noStrike">
                <a:solidFill>
                  <a:srgbClr val="0f5494"/>
                </a:solidFill>
                <a:latin typeface="Verdana"/>
              </a:rPr>
              <a:t>-3%, +21%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51"/>
              </a:spcBef>
              <a:spcAft>
                <a:spcPts val="601"/>
              </a:spcAft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f5494"/>
                </a:solidFill>
                <a:latin typeface="Verdana"/>
              </a:rPr>
              <a:t>Ivory Coast: 0.145 </a:t>
            </a:r>
            <a:r>
              <a:rPr b="0" i="1" lang="en-GB" sz="1800" spc="-1" strike="noStrike">
                <a:solidFill>
                  <a:srgbClr val="0f5494"/>
                </a:solidFill>
                <a:latin typeface="Verdana"/>
              </a:rPr>
              <a:t>(+34%, +37%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f5494"/>
                </a:solidFill>
                <a:latin typeface="Verdana"/>
              </a:rPr>
              <a:t>Vegetables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57200" y="220464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360" indent="-343080" algn="just">
              <a:lnSpc>
                <a:spcPct val="100000"/>
              </a:lnSpc>
              <a:spcAft>
                <a:spcPts val="601"/>
              </a:spcAft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684360" indent="-34308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Calibri"/>
                <a:ea typeface="Calibri"/>
              </a:rPr>
              <a:t>Tomatoes</a:t>
            </a:r>
            <a:r>
              <a:rPr b="0" lang="en-GB" sz="2400" spc="-1" strike="noStrike">
                <a:solidFill>
                  <a:srgbClr val="0f5494"/>
                </a:solidFill>
                <a:latin typeface="Calibri"/>
                <a:ea typeface="Calibri"/>
              </a:rPr>
              <a:t>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684360" indent="-343080" algn="just">
              <a:lnSpc>
                <a:spcPct val="100000"/>
              </a:lnSpc>
              <a:spcAft>
                <a:spcPts val="300"/>
              </a:spcAft>
              <a:buClr>
                <a:srgbClr val="0f5494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Calibri"/>
                <a:ea typeface="Calibri"/>
              </a:rPr>
              <a:t>Low EU prices during winter season (1</a:t>
            </a:r>
            <a:r>
              <a:rPr b="0" lang="en-GB" sz="2400" spc="-1" strike="noStrike" baseline="30000">
                <a:solidFill>
                  <a:srgbClr val="0f5494"/>
                </a:solidFill>
                <a:latin typeface="Calibri"/>
                <a:ea typeface="Calibri"/>
              </a:rPr>
              <a:t>st</a:t>
            </a:r>
            <a:r>
              <a:rPr b="0" lang="en-GB" sz="2400" spc="-1" strike="noStrike">
                <a:solidFill>
                  <a:srgbClr val="0f5494"/>
                </a:solidFill>
                <a:latin typeface="Calibri"/>
                <a:ea typeface="Calibri"/>
              </a:rPr>
              <a:t> half 2016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684360" indent="-343080" algn="just">
              <a:lnSpc>
                <a:spcPct val="100000"/>
              </a:lnSpc>
              <a:spcAft>
                <a:spcPts val="300"/>
              </a:spcAft>
              <a:buClr>
                <a:srgbClr val="0f5494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Calibri"/>
                <a:ea typeface="Calibri"/>
              </a:rPr>
              <a:t>Market situation improved from June onward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684360" indent="-343080" algn="just">
              <a:lnSpc>
                <a:spcPct val="100000"/>
              </a:lnSpc>
              <a:spcAft>
                <a:spcPts val="1199"/>
              </a:spcAft>
              <a:buClr>
                <a:srgbClr val="0f5494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Calibri"/>
                <a:ea typeface="Calibri"/>
              </a:rPr>
              <a:t>Prices in September-October around 3-year average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684360" indent="-34308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Calibri"/>
                <a:ea typeface="Calibri"/>
              </a:rPr>
              <a:t>Other vegetabl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684360" indent="-343080" algn="just">
              <a:lnSpc>
                <a:spcPct val="100000"/>
              </a:lnSpc>
              <a:spcAft>
                <a:spcPts val="300"/>
              </a:spcAft>
              <a:buClr>
                <a:srgbClr val="0f5494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Calibri"/>
                <a:ea typeface="Calibri"/>
              </a:rPr>
              <a:t>Hot temperatures in September prompted high production and low prices in Southern EU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684360" indent="-343080" algn="just">
              <a:lnSpc>
                <a:spcPct val="100000"/>
              </a:lnSpc>
              <a:spcAft>
                <a:spcPts val="601"/>
              </a:spcAft>
              <a:buClr>
                <a:srgbClr val="0f5494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Calibri"/>
                <a:ea typeface="Calibri"/>
              </a:rPr>
              <a:t>Recent signs of recovery </a:t>
            </a:r>
            <a:r>
              <a:rPr b="0" i="1" lang="fr-BE" sz="2400" spc="-1" strike="noStrike">
                <a:solidFill>
                  <a:srgbClr val="0f5494"/>
                </a:solidFill>
                <a:latin typeface="Calibri"/>
                <a:ea typeface="Calibri"/>
              </a:rPr>
              <a:t>(peppers, </a:t>
            </a:r>
            <a:r>
              <a:rPr b="0" i="1" lang="fr-BE" sz="2400" spc="-1" strike="noStrike" u="sng">
                <a:solidFill>
                  <a:srgbClr val="0f5494"/>
                </a:solidFill>
                <a:uFillTx/>
                <a:latin typeface="Calibri"/>
                <a:ea typeface="Calibri"/>
              </a:rPr>
              <a:t>cucumbers</a:t>
            </a:r>
            <a:r>
              <a:rPr b="0" i="1" lang="fr-BE" sz="2400" spc="-1" strike="noStrike">
                <a:solidFill>
                  <a:srgbClr val="0f5494"/>
                </a:solidFill>
                <a:latin typeface="Calibri"/>
                <a:ea typeface="Calibri"/>
              </a:rPr>
              <a:t>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684360" indent="-3430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684360" indent="-3430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f5494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DE ANGELIS Antonio (AGRI)</dc:creator>
  <dc:description/>
  <dc:language>en-US</dc:language>
  <cp:lastModifiedBy>GONZALEZ GARCIA Jesus (AGRI)</cp:lastModifiedBy>
  <cp:lastPrinted>2016-10-17T09:34:00Z</cp:lastPrinted>
  <dcterms:modified xsi:type="dcterms:W3CDTF">2016-10-18T09:15:07Z</dcterms:modified>
  <cp:revision>581</cp:revision>
  <dc:subject>European Commission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  <property fmtid="{D5CDD505-2E9C-101B-9397-08002B2CF9AE}" pid="3" name="Is Document Visible">
    <vt:lpwstr>0</vt:lpwstr>
  </property>
  <property fmtid="{D5CDD505-2E9C-101B-9397-08002B2CF9AE}" pid="4" name="PublishingExpirationDate">
    <vt:lpwstr/>
  </property>
  <property fmtid="{D5CDD505-2E9C-101B-9397-08002B2CF9AE}" pid="5" name="PublishingStartDate">
    <vt:lpwstr/>
  </property>
</Properties>
</file>