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90B-6978-48AD-B599-535900C8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AC1-CA22-4729-9263-51684DEB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2E9ED-4DD3-44D8-9B8C-1B389CAF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01AC1-24BA-4668-AA4A-BBE1C097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C9532-9B89-4E3A-BB8E-4A21B09B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1F0D4-6D98-42B1-A11F-515DD5C2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EE6DF-0BC0-474C-91EA-FD666D09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00A75-2008-4EE6-852C-56FE3CA0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1082A-3F9B-4741-9C98-26A06D0E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C9B50-7F69-42D3-AE07-29D76D9C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9271B-5F3A-484C-946C-D9340FF1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EC3B0-B5EF-4F13-A69E-C8BC423B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ACC-EF54-4231-9ECD-056E0D85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43A33-E578-46EA-82B6-01FA12C0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C33E6-F114-420F-8940-F19D082F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A05EA-8F46-44BA-9484-6D40C59B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B43DA-9729-4751-92F7-2543C9AF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3E965-38E2-48FB-9199-1F910F1D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DCB50-56B7-4236-BB0C-E8B914C2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7391E-0741-4F60-88F0-4184BFCD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C0B9B-3AD3-46A3-95D7-C2DA042D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30F8D-3434-40A7-8CA9-D155B0E6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23B73-353A-4E72-B3FC-6BBC8FE5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7285-D519-4806-9FC6-DB35CC6B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04D5B-00D6-4CED-88F5-4BB19FF8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94446-5A41-4A3C-8C76-08187859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C0AA1-C611-4811-AE5D-5DA974ED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26D57-0D5D-43A4-9A89-6B6AB073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1ECB8-F3C0-4CDA-9203-18DCD9DE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DFCC6-3D9E-4446-A5FE-613D1BA2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A7C10-D572-4A68-ABED-64023058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F7EAE-9224-4DD7-AC4C-8056B7BE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25202-1784-4CDF-960A-E5D40B87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710D6-6369-40E8-8456-57A47B00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1BB8-7780-472A-BDBC-3A754D72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BD17D-E664-4002-B8F4-EEA913AB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8E4DB-0830-4102-A180-C09FF8FB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A3372-5B0B-41A5-B5FD-A1D6E0DB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AA9BB-D013-4AAC-860D-D3CE1C90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651EA-DE1F-4F23-A127-66F7AE2B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2EE24-1A6D-412F-BA70-6A75747F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9E61D-1982-4FD9-B319-220B50E9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06A6C-D031-42F3-A54F-C558C224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75C41-8421-4DDD-9655-7DC09AC1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046A9-0339-4D90-A14C-BD70696B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A824-7058-4341-B750-B1AB6B91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17963-643E-4827-BCC9-B79721A7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2BAAA-579C-4DD8-BA45-464832E4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E3527-50C4-4BA9-AC79-B1006336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7BF2D-02B0-4371-832E-E6BD1C0B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3E0FA-0B73-42E1-9B9D-E7302D74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F9FF-D1A5-4D2B-95ED-B85786BC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514D-6DBD-463D-9715-47BD6291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76CD-A490-4658-B4C6-A3A842FB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3A6C-FAF9-4594-8BAC-72D4B06D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C2D2-512F-42CD-A53C-1C0C6937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551-74BE-4CC1-9F01-3D53281D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B914-EF93-40CF-A894-A2DB7037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7F89-24C5-4F00-B278-95156DB2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101D-75A6-438E-A87D-785C213A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BB4A-0812-4671-A167-0196E0F8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CB9E-94A8-442B-85A2-AF77CFD9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CE5F2-7144-40D7-AC4B-B429C587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E773D-3A8A-479C-A24F-16C73CCA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23605-0B16-4E9F-A929-61024F1D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555C3-3B1F-4F57-8572-D44292D0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3C223-0A07-43B7-AA89-32A5AE71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4C9-177B-49EC-92D3-AF60A1E2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38B50-217A-4A34-8968-C82F4563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0D371-B479-4F32-AA7A-7F10277C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60556-8955-43B7-89E6-D6E9AE60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AEFCC-E2EE-4AFA-89A5-092CB454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52580-D77E-44F0-8123-2AA83374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80DE0-DC05-4A1C-9AF4-DD54DE33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AC23C-5115-4F7B-B8FE-9E22F0B6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10018-3E56-4DE9-BA71-2D9F3E63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15FB2-A2D3-42F6-8C24-A957210B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07F77-ABA0-479C-8906-A8F3C41F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A053-3542-40E0-97F3-C93EA435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72CC0-8C74-42DB-8C68-CFB3A096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1A273-0075-4B3E-80C3-ED0DF064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7AFFC-C51A-4E00-BB15-773A4BD0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0C709-DD39-4D54-B9EE-ED0F2E8F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659F0-2199-48A3-8CF4-A87ABC64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29FEB-73A8-4B84-89E2-EC863825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17C2B-B1DF-4CA4-BCC5-3EDDE3BD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60CBF-AC41-4726-ADCD-E200BE4A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E0C8C-22DB-4011-AAEF-8A351BB9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A8A36-A312-4090-946D-5EB0A7D0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121-82DC-443C-993C-FADC975D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F3692-AF5B-4E33-A058-2FEA5CB7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9D6DB-C3A9-48E7-8AB0-DD0CDF4B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156AE-9D09-4FA7-851C-D7D2C205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15049-FDDE-4A17-9AAA-A1ED2510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9FA00-74D3-44F1-80A0-619DE7DB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B0E9E-3155-4668-B708-47710856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FCD6B-C310-46A7-9EBF-63D22895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4B7A6-6CEF-42B0-97F3-C161F122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42BF9-3EE7-415A-BE14-A86AB348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A1341-24FE-49A8-BCEF-36AF3971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1DF-C45F-4050-8945-0EFB3176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E0820-546B-4F55-9C82-74C8E1E2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14A87-012D-48D6-9033-29E71EDC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53E4C-590C-44A4-B058-9D40B77C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D083A-3D6C-486D-BBC5-5C133E4D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D8FBB-268C-4304-A5EE-47F2875E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262AC-C9DE-4760-B61F-AF4FE361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11DDA-E058-4ECC-AC03-9BC07F14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4A580-29EC-469C-9CA5-F4E62E10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805EE-F8E1-43FA-9EAE-C1866CA0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6EF51-E064-467A-ACC1-98D413DA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5401-AC16-4448-93F0-6C075829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6E92D-62A7-4192-9346-730A8AEF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BFE1A-34B7-457B-B8D1-A2BF98E7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AACFD-744E-4FBC-B861-7D3286E0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6ED57-8482-45A7-9D6E-2D90E04D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F6B01-E955-467B-B024-74869C18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798CA-5BB1-4BFB-9528-8DBF2609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9D7C4-D957-4E46-B72F-803F9D8A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43EA5-AD63-47E3-B813-2DB7AAC3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52DBE-8B33-40F3-A86F-5A4AED48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4D936-0BF9-40FC-9555-D53F1441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DCC-4EB8-4A7A-AD4D-A6CDEBA8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095AA-CFCE-490B-B334-8A1C5A76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185CE-CA26-49ED-A791-1F57A05D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42393-E2FF-4F0D-A981-217EAC6D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749D9-7160-4508-A1FC-57BA8F96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F245D-09E6-4425-9F72-213E7327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AA707-D320-421C-BEED-1E23C370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7F989-EFED-4D31-B6A6-E238D401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6D7B7-8EDD-461A-97B2-632EAE58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8A778-F252-4DDA-8782-BE97F325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38325-EAEB-4897-A5CD-383F243A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8951-4545-40A1-845E-A2D1BEE9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E7AF4-56AA-457D-B735-998B600E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4347D-3C50-44BA-80A1-88F7B940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6660F-D6B5-41BC-9620-4928191B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7823B-60DB-4218-B14F-E259E69D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71480-FAF7-4C8F-B43A-9AB1551C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15F15-ECF7-423C-9B9E-665ED1AD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886A8-9D34-4899-B3ED-8F93E6EF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142A5-814F-4112-BCF6-4E4757D1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9EDEF-8246-4DB8-8ED6-7154F70E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D52C6-C369-4A6D-B649-C05C8212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7D28-9797-44A0-81C0-738CAE21C7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B216-E722-41DA-8C32-485C9DD4F9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8017-062B-43E7-9773-1C5516F5B6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E91E-54B1-4BFA-A19D-EC5CCCF601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13A8-478B-477F-916B-8640A6A2074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D0E5-F28C-4EF4-9E59-73E67937FC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4094-23A6-4293-814A-02700BE734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6E21-6A60-45E7-A0E7-226681D5E0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4C3F-952C-4970-9B0E-4F1F3D7481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201C-06BC-42E0-A1C1-60E895BC02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5639-7ACB-4910-BF0C-9236F30858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2F38-F79B-4FF3-8ECC-086F8CCD8B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179280" y="1719360"/>
            <a:ext cx="87314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GUNTINAS RUBIO Helena (AGRI)</dc:creator>
  <dc:description/>
  <dc:language>en-US</dc:language>
  <cp:lastModifiedBy>BUTTINI-PROVENZANO Roberta (AGRI)</cp:lastModifiedBy>
  <dcterms:modified xsi:type="dcterms:W3CDTF">2016-10-18T08:19:40Z</dcterms:modified>
  <cp:revision>152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