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dt" idx="73"/>
          </p:nvPr>
        </p:nvSpPr>
        <p:spPr>
          <a:xfrm>
            <a:off x="3852720" y="-360"/>
            <a:ext cx="29512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ftr" idx="74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 type="sldNum" idx="75"/>
          </p:nvPr>
        </p:nvSpPr>
        <p:spPr>
          <a:xfrm>
            <a:off x="3852720" y="944352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3570-9417-4D05-A64F-DA53A97EBD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lide Number Placeholder 3"/>
          <p:cNvSpPr/>
          <p:nvPr/>
        </p:nvSpPr>
        <p:spPr>
          <a:xfrm>
            <a:off x="385272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BC05-A815-440D-809B-442283E1FA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5272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7545-B432-4FAD-8273-0D7AA733DB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AA3-F336-400D-9736-B6908EFD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76BE-4C37-424B-9B0C-FC58E3D0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7FE52-28F8-47E5-8557-B2FF60D5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C48C3-43E7-4DA4-8A9C-E8616D4C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E095C-99BE-4180-AB0B-DAE855FB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C1817-A576-463E-8563-71FED6CC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46341-1F1C-476F-840D-86A89FBC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66981-FF8D-49D6-B1C8-8FFD5073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59E11-E5DD-4C41-AF48-384B0606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03548-CADC-4943-A4AF-CF428FCF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48143-54E5-461F-9AF9-29C72B76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F29CD-98F0-4217-ACB5-FC214DB6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B70A-A0AC-4D3D-B9CC-2DDBC2D7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86568-05B4-475D-8DB3-9DE51534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7DADC-A4C4-4AD5-B998-DB2FC552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2AF46-CAA5-4486-BEDA-7A542843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8DE02-34E0-4928-8467-8B94D5A5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D8A1F-635F-4F61-A9C1-F912E6B5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E1195-B7FF-45D6-A09D-E42DA8C4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E3A96-CFB0-41FF-B067-6FF199AF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02AE4-74BE-48CF-93EE-68D63C64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ED8B0-2C40-4FAF-9A3F-A100BC0B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28551-354E-4C31-941E-36B76BE2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FB6-1507-44FB-B18A-9F8F9F88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C53D9-E8BB-442D-B8EA-AF3860CE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2909E-5184-4015-A547-2D3023F1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76D7E-7FAA-405B-BCDB-AC27CA99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1C6A5-B048-4B5B-B389-DDEE3053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52C79-CA78-4242-BE51-58DF918B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1A424-E288-4C11-ADA1-76B4DD47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F47EB-122E-43A7-AEB2-D5C98BFB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62995-D72A-4EDC-AE7B-AA7EFF86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D82E9-340B-4B20-BDE4-ED664913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4AE59-BB16-4D55-8E3B-C62BB60C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8D87-1422-4B8D-8BC7-AD303594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DF9DB-FD51-402A-A170-015CE4A6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CD087-8427-44E1-8456-7F746A6F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9BE48-1896-444D-A523-6359CEAE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86299-B418-4920-AC96-35C74A19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59909-1876-4B86-A289-ECB63DB3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C0C49-A699-4C3B-A84E-1B1AD0CF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37D4D-061C-4464-828D-C5BC8023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F9F5D-294E-48D1-8719-1B1E4061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F311E-2244-4F2A-832B-C4F8FC79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DB8B1-686B-4A2D-BDC2-EA2A92EB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EFC8-CEF1-4CBF-BB00-38E3C370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5A1D9-F738-43E0-8F8F-A1E89F6B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E73EF-99FC-416C-945D-2245F54F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9B3EB-2D7B-4E33-A4F2-EE8D24D0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AB73C-3566-45C8-9EF7-A70A0B66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40AEC-37D9-4136-9866-744F6010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B4835-8B9B-4C7C-B049-4D8F620B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62937-8403-4A01-8034-EB5823B4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FEBA6-6644-4E57-89A5-6C86062F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552E4-0845-40DC-92C0-24275423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AE670-5776-46E6-B70E-3930072F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7F76-7FBA-4889-B7F9-089E891E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F4C52-0F24-4943-8DB7-844E8CDB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334A1-D0ED-482B-8179-F9D33B2A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79AE0-4A50-4E0A-A296-CA107AE4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7E312-C413-4416-BD1E-F710C08C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A5F69-862E-4907-B81B-1EBBA1E1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F0074C-BD26-4184-B3BC-186F8FBE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28BD0-5371-478B-9702-23185B61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BC5553-62D2-4086-8524-6A37E329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25C9E-99E3-4D82-9AA4-1DB3960B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4AA8A-4AE9-4E5E-AE7B-599D81E4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6286-D3B6-44E5-AA80-4CC25361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875AC-77FA-4FEF-93DE-D80CCC11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C0B6B-4499-4997-97CD-16E71C02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602E6-9650-4C37-AA7B-A4DDDCE6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76FA2-5182-4A25-B8F1-3BE58C14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993FC-61C9-445C-AAA3-767B3A7F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49581-6D69-4147-912A-367B313D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20FA9-9592-4F74-96A6-92BE1A1D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9EEC5-7CF6-48A9-8A24-240903BB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226233-55EF-4FA3-BB01-386EB827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812A78-D676-44DF-AF14-6539F294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0C6B-BFE7-4AF3-A78E-19AF70B8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75E93E-21F5-43AA-84D0-0A0BD0A0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3540AD-DA0D-4018-81FF-5C56E62F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D7E96-FD90-43F1-82D9-1A13FDE8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4DC780-C6BB-4889-89D5-AFFFB707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8F9B34-0F76-41D7-A600-99C225D1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234F1F-80EC-4A34-9D74-CE353E69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3C8C44-D53D-422C-8D1F-50CCA7C0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A65EE5-30F8-4742-9980-3C06FC50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778515-228C-4302-8D1A-CBB6730E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935A39-C93E-45B7-9322-DADE3AE2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FA88-9C7A-4F88-AF6E-ED1278B1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EFDD74-720F-48A2-B3CA-88B3D8EC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18536F-DCD6-4709-BD55-B905E0CF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EF930D-2F84-480C-8244-6F22A3C1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9C2743-E0E2-4513-A1F0-98C126B3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D2B565-8C25-41E6-A8F0-E0A3A6D1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00A97E-3202-41E2-8780-E5083F90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3A0922-14FA-4B8C-A677-08D09436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436603-F8DF-4D8D-A311-F0B38B97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7CBF5E-FC3B-4FB9-8450-9F73DBBC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9C999-7BA8-484A-B434-F8D78B9A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D16D-4B8E-4A4F-9DC9-D5C99C0F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DB724-8600-42C1-B5BA-8E22F362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7AF8E0-7EDB-4FA8-83E3-248F04F6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8830B1-C8E8-405B-B978-28430804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290D67-E5D1-4DAF-956A-94EBD1C2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9C89FC-A821-4C21-83F8-A3D6F563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3ABBB-F60E-4AEB-9F02-5A8ED136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57C777-2D88-4C10-B679-83559C1A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945BE1-C397-440E-AF6F-C0A6ACE0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8BDC0D-B367-4827-A0C9-10CFB6F6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51C5EB-BFA5-4143-A195-C2ECF6D8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9E6-D4DA-4A9E-8329-38FF6F2B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48BB-E637-4759-866A-61011C29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37217C-7A9C-49AA-9129-174065B3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D84EA1-4ED8-477E-AA00-D789A391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240B21-9D66-4A1B-8B69-41C49D0B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455BF9-CD4E-43EF-B801-3E71B41E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1F2702-AF8F-467D-B62A-74DB8332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C143E2-3B30-40C0-B2DB-03109D3E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7CFC58-59A2-4A98-B997-D40A2192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8F0535-ADAC-43D0-AB60-5F217F2C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D03891-F7A9-479B-9CB3-301AA9A1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4729AE-93BE-4E02-B93D-E8DAC732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C97F-2F07-4DCD-9977-E88CE89D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F0363D-C1B6-4678-A001-998ADFD5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03B7D7-F255-406A-BFA6-71DBE438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800114-D4F6-47C3-A163-5D518D2F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3B9FD-EC14-40A4-80D1-C4494D3F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056DE3-A8B9-4A87-A2E3-4E0FF789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957966-2BBA-4E27-9334-3DE810D1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1923C8-B2BF-4DC7-A5F8-8FAF57BE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07D229-547B-4946-A600-3EFA4D46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1F638C-CBA0-4576-BA98-EBC8F470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E865C4-6BC0-4EAD-B26D-3EDFC530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F67D-A9CD-411A-A60C-D652EBF5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320C1D-9B88-4E91-B440-6DF2D330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B235E0-4219-44B8-A6B0-1E0CED20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930679-DDC5-4738-8C11-BD188AEC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B22A86-C6A9-4D79-80D8-26B89706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CDACDC-8E19-403D-B0A0-359AF8C9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466D69-5A07-469E-AAC9-04703D04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B71587-53F0-447F-A8BC-E4998170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2A3311-8ECD-48E5-B357-22525765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AE2332-A2B3-4976-921B-43414BDB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C3933C-4DD6-46C8-88B8-16FE0843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08B3-A142-4A8F-86B4-98210AC7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8E7AC3-2AD7-4BDB-9AD6-AAAD91DF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85E256-0CD5-4A3B-B319-4B608D9D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798B73-1C4A-4264-B481-261B040B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2E155E-95AC-4130-AFC1-08B5AD36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D175F7-000E-4784-AA11-56E01FDE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D3BF53-793A-4429-BC7F-2435E335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EC99C6-6782-45B9-B05B-F701345C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7F8DA5-7605-48FE-9F17-C30DE9A4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6CE839-5196-44FD-BEF9-DCCCF183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DD0817-DF6E-4DD5-A295-885B3BE9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2A09-2339-4464-816F-5DBEA3EE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3B642F-0ACA-4A1B-AEF3-F511747D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B051C6-1959-4993-ACEB-E4ACC1E8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FCD1A6-5528-4EC8-B688-B2D6F202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BD879D-7C02-4248-A44F-DBE853F6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DDAC1E-55CE-438F-AF80-E059EA30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28F80F-4089-4204-858E-C1A3C14A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10945C-7DCF-402B-B5C4-72912A1C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EC40B8-927B-4D9D-BF98-1F7B55C2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E178ED-18C8-40D1-9C38-293420F9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AC422C-0BEC-43BB-962C-F12AF91F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9F08-B96C-4461-A8FA-2F41FA84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45440E-C2D9-4803-9B67-C3881DB3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E9A2DF-261C-4F87-8CD7-992AB98A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14D64A-21CA-49D2-AA24-82A410A0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F47DE4-8512-4CEE-A522-B883C934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498806-9DDC-453A-B278-7E5D3CBD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36C5C7-05D0-4187-8877-31A86422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C14796-CFC1-4502-9DA1-F88769ED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E7EE16-1D2D-4BB8-8D14-D0A36817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156755-5488-42F1-87C2-5F78F973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C94708-FA7B-4E29-B7F6-6ED4375F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35DEB-5361-4CA4-A964-C2284192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2172C5-5CD1-4CF5-AAA3-8FCC11DD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9DB184-7393-4D54-AC85-50D1A2CD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62DC0C-E3F6-489B-B2EA-A14303B1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3501E5-C41E-4C78-AC7C-0578C7BB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321386-CD7E-4D7B-9D10-B5E1C3CD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7445F4-470A-408C-B1DB-10F9EA0B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6048F1-097C-4475-B11F-3382F9AA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D46756-5B63-4B64-AA7F-35456873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17B7EE-6F34-4CD4-A0B3-A7A28895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27914B-8C22-4FFC-BFDB-C0C2A87E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1BB85-B0DD-4431-ACA4-CFCC1763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3414A9-9AA2-484F-BF8C-B308E5AE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5302B5-EE1C-4E85-AF2E-62EC642F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CCDEEB-3B7B-4641-9FA5-99267068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FE1148-8EAC-4419-94AE-E69CA455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B7A6BC-84D3-4E27-B5B6-EC44FE38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953942-1C37-48EE-AD65-5623AEB8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142044-6CD7-4A84-A6ED-311F231A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49F314-F519-48DF-85E2-6AB52951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BEE2F4-EEEE-4EB4-834C-B6F18B47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D6A1CD-10CA-444F-9562-E263FC54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3170B-9773-4E61-A519-5E707768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F7AAF1-DC76-4CD6-8E15-39E772F0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38A873-B39B-43EF-8083-E528925C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F84EE2-9D0A-4705-BFED-3286024C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98578A-C376-4182-A2B2-D5B9417C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34E12F-947B-4896-9F36-26AD99CF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A13B48-32F6-4742-99A6-DCDB5ADC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AE1049-366C-4E1F-9FB2-E8C1096D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0FAB6E-1D1E-4BBF-A6AB-3EF52638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A0AD4D-C1CE-403B-AC7A-B3A2AF49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C70F7-9D45-41A9-8EE2-ED42676C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0F28-67A7-43D1-B407-714FA53A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1EE7F-6227-4F81-A372-F6170008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D0430-D50B-4E39-A20D-14905351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7768-6D93-440C-8163-50031820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20C12-F1E4-47B4-9CBF-F0E7B9B1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CE5F7-C0F5-4687-AA99-AB5104B5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4C32E-4668-4E15-8779-01D74847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482FC-F5B7-4CEE-AD9A-1340D65E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DF054-8352-4EB3-80CD-11FD959D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96141-0A6D-4BAE-A299-0D5EECA9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C5AB1-A57D-4C0F-897F-56D35768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96A-7211-417E-B010-BEA11CCE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2F75C-7701-46A5-9D92-81F172C4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CA582-6089-45BF-B91F-053F45D7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DC1B9-BA04-4706-BF56-74E90270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2CFE4-9055-42A8-889F-8533DB6F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509B3-8DEC-44C5-87C4-DDA0C719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F12AE-7F4E-4BC8-AA0F-2DC9D409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C6D0A-9A14-46EB-B11A-5E8C118B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FDECC-EAF9-48C7-A8DF-9B5CAD3F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20B6C-0A02-41B8-9A53-8609480A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CF124-08C2-4015-AB97-D0EE03E6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38FD-1EB8-47E2-897C-94DC9927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59AF3-FE61-486D-831A-3AB7D22C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8DC56-0DF8-49B0-9FF4-BD9923E7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6833F-1275-4FB9-B0CA-132BF084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19CD4-A0EA-4E68-A504-A36BE3A7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267DE-0616-4049-8C14-56036CD2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3DF23-308C-45C0-B3D8-1A4F35AA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7D37D-B5E2-4E08-A9FA-46C46A81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C241E-0AA5-4F25-81B6-2666F2FB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97E19-B6C2-49E6-A989-E7C45531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BA591-9EBF-4A72-B047-949EE40A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145-099A-4268-ACF6-D65B5ACF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B3C03-EE87-412C-9F3F-70A08DC1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81C06-7886-4969-835C-D3E26710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9FD44-A883-4BC4-BC6F-E5453FB0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868CA-E115-442A-8AC8-EAE9D81B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07C9B-4B64-4527-B1CA-3BF540FA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2606D-1AD0-4364-83D6-4DB9F00B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22C76-E7FA-48A3-810F-1968E5AF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1DF59-C88E-4C4E-8E7A-AB62CF8E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5C475-B316-4EFC-9B56-2E989507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4ECC3-DFF9-4554-B75F-7FAE67CD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65C6-F109-45E8-8A76-19B4E4AA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DDFD3-3CAF-41F2-B32B-9CE5C155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71F96-759C-48BA-9279-FA11FCA5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60569-C084-4668-9323-81561FDF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C4071-F23D-4BBD-A7EF-D942AEC4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DB6CC-F9B6-4390-B1D4-7CFDCA28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FF1F9-6CB0-440C-8FB4-C8647B54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387DB-28C6-459E-8468-B8F6C701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18BD1-19E6-4034-B77C-F23C5E7B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B1013-BA22-4533-9432-C58AC6CC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71B37-E817-4BF3-8C82-FD322EAC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0FFF-8AE1-4467-A7AA-5C884F11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50E4C-1195-4813-8B1A-0A380075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FFCE1-908A-4680-B4EF-D33CB14D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6F549-11EA-4D29-A10C-0E30F74F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76504-D607-4682-B447-35F6ED9E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7E8C4-5F7A-4326-A504-D43D2627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12E9E-C6C5-4F65-BF72-372A3401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86F02-36BA-4FB7-85D9-317F2522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9E0EA-DC73-4A43-9991-B72E5F14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03566-2901-4662-BD19-34EEE747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437A9-D324-481F-A99D-647167C1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28F0-9A2B-4E54-88A6-D787C737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AAFC6-189C-4608-A027-BEA9E17B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F772B-570D-45DD-8E0C-F9E548E9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C1E02-A516-45D1-9DCD-E68A49E9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8211A-3A29-4011-A244-33FB4146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0D1D6-8B5D-4F79-829C-7B484B9D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C5CA0-0252-4F36-AC28-796B14D4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9C00A-BD78-4F2E-864C-E32E67D2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AF614-9C00-4BEC-83C7-5BE2D428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1598A-389E-4FCF-A1C8-F98D7327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CC29D-3915-44BB-813F-5F9E914D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847F-71D6-41BD-8381-47908174FB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77D7-E2CB-4D3D-8353-2BCBA8CD55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3673-FAA5-409D-A761-A5DF83362B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530A-2890-4D9F-8673-324CABF148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C41F-3440-4971-9C86-51643685C4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7B0C-A4F1-4B3A-96A1-EC8049560DC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84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AD6E-C9DD-4EF7-9A52-120FF87DA5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65DA-3276-4FF1-8303-431BCD0E4A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B567-5FB8-4B03-8453-7B364774D9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26C9-FF8E-436A-B37B-74F96A97EC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F30B-BCDB-44AB-A6F6-3E9B4D85A5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752B-9CEA-454A-B5FB-D2F8A1D8EF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B8D3-9BEA-4752-9D1F-3492421E22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9ABE-65BE-4878-A32F-4B6E6ACA25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4167-6CB1-40EC-8E43-3FB8C789D5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D86A-DF6E-4727-860A-4EF3355AA9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445F-120F-433B-989E-A5A0D81293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DAF4-590D-4235-857A-C981896058A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BF45-FEEA-42F6-812F-8BD6941526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BF94-3BFF-41ED-8E2C-FFB50318C8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F83A-E4F0-4863-A8C7-00E0EB057D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B707-2C20-494E-B63D-E317263FD5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1310-B0E4-401C-BEF1-0F0B7D9C9B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A702-E227-4F66-9614-87A05AE098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50560" y="1557360"/>
            <a:ext cx="8785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Common Market Organisation (CMO)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Fruit and vegetables sector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4" name="TextBox 1"/>
          <p:cNvSpPr/>
          <p:nvPr/>
        </p:nvSpPr>
        <p:spPr>
          <a:xfrm>
            <a:off x="539640" y="33764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a62a"/>
                </a:solidFill>
                <a:latin typeface="Verdana"/>
              </a:rPr>
              <a:t>European Market Observatory for F&amp;V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5" name="Rectangle 5"/>
          <p:cNvSpPr/>
          <p:nvPr/>
        </p:nvSpPr>
        <p:spPr>
          <a:xfrm>
            <a:off x="1835280" y="4724280"/>
            <a:ext cx="67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Unit G.2. - Wine, spirits, and horticultural product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DG Agriculture and Rural Development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6" name="TextBox 2"/>
          <p:cNvSpPr/>
          <p:nvPr/>
        </p:nvSpPr>
        <p:spPr>
          <a:xfrm>
            <a:off x="755640" y="595008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200" spc="-1" strike="noStrike">
                <a:solidFill>
                  <a:srgbClr val="ffff66"/>
                </a:solidFill>
                <a:latin typeface="Verdana"/>
              </a:rPr>
              <a:t>Civil Dialogue Group "Fruits &amp; Vegetables" – 5 April 2019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26B9-CE38-4A8C-A1CB-E3881D29D9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323640" y="242064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algn="just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f5494"/>
                </a:solidFill>
                <a:uFillTx/>
                <a:latin typeface="Calibri"/>
                <a:ea typeface="Calibri"/>
              </a:rPr>
              <a:t>Composition Economic Board</a:t>
            </a:r>
            <a:r>
              <a:rPr b="1" lang="fr-BE" sz="2800" spc="-1" strike="noStrike">
                <a:solidFill>
                  <a:srgbClr val="0f5494"/>
                </a:solidFill>
                <a:latin typeface="Calibri"/>
                <a:ea typeface="Calibri"/>
              </a:rPr>
              <a:t>: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4 sub-groups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3. Market Observatory for F&amp;V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57" name="Picture 1" descr=""/>
          <p:cNvPicPr/>
          <p:nvPr/>
        </p:nvPicPr>
        <p:blipFill>
          <a:blip r:embed="rId1"/>
          <a:stretch/>
        </p:blipFill>
        <p:spPr>
          <a:xfrm>
            <a:off x="3203640" y="2992320"/>
            <a:ext cx="2384280" cy="1592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2" descr=""/>
          <p:cNvPicPr/>
          <p:nvPr/>
        </p:nvPicPr>
        <p:blipFill>
          <a:blip r:embed="rId2"/>
          <a:stretch/>
        </p:blipFill>
        <p:spPr>
          <a:xfrm>
            <a:off x="5821200" y="2965320"/>
            <a:ext cx="1798920" cy="17989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3"/>
          <a:stretch/>
        </p:blipFill>
        <p:spPr>
          <a:xfrm>
            <a:off x="3203640" y="4805280"/>
            <a:ext cx="2311200" cy="14274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4"/>
          <a:stretch/>
        </p:blipFill>
        <p:spPr>
          <a:xfrm>
            <a:off x="5819760" y="4513320"/>
            <a:ext cx="188424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16BA-F665-47A7-B503-B63D2F6B1F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23640" y="242064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9320" algn="just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f5494"/>
                </a:solidFill>
                <a:uFillTx/>
                <a:latin typeface="Calibri"/>
                <a:ea typeface="Calibri"/>
              </a:rPr>
              <a:t>Composition Economic Board</a:t>
            </a:r>
            <a:r>
              <a:rPr b="1" lang="fr-BE" sz="2800" spc="-1" strike="noStrike">
                <a:solidFill>
                  <a:srgbClr val="0f5494"/>
                </a:solidFill>
                <a:latin typeface="Calibri"/>
                <a:ea typeface="Calibri"/>
              </a:rPr>
              <a:t>: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19320" algn="just">
              <a:lnSpc>
                <a:spcPct val="100000"/>
              </a:lnSpc>
              <a:spcBef>
                <a:spcPts val="649"/>
              </a:spcBef>
              <a:spcAft>
                <a:spcPts val="10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Members: EU organisations operating supply chain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19320" algn="just">
              <a:lnSpc>
                <a:spcPct val="100000"/>
              </a:lnSpc>
              <a:spcBef>
                <a:spcPts val="649"/>
              </a:spcBef>
              <a:spcAft>
                <a:spcPts val="10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Up to 20 experts nominated by organisations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19320" algn="just">
              <a:lnSpc>
                <a:spcPct val="100000"/>
              </a:lnSpc>
              <a:spcBef>
                <a:spcPts val="649"/>
              </a:spcBef>
              <a:spcAft>
                <a:spcPts val="10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Experts to provide advice, expertise, information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19320" algn="just">
              <a:lnSpc>
                <a:spcPct val="100000"/>
              </a:lnSpc>
              <a:spcBef>
                <a:spcPts val="649"/>
              </a:spcBef>
              <a:spcAft>
                <a:spcPts val="10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Chair: DG AGRI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19320" algn="just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Frequency meetings: Three per year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19320" algn="just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3. Market Observatory for F&amp;V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464B-60F6-48D6-AC48-E9039BF838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456840" y="2420640"/>
            <a:ext cx="8435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algn="just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f5494"/>
                </a:solidFill>
                <a:uFillTx/>
                <a:latin typeface="Calibri"/>
                <a:ea typeface="Calibri"/>
              </a:rPr>
              <a:t>Calendar</a:t>
            </a:r>
            <a:r>
              <a:rPr b="1" lang="fr-BE" sz="2800" spc="-1" strike="noStrike">
                <a:solidFill>
                  <a:srgbClr val="0f5494"/>
                </a:solidFill>
                <a:latin typeface="Calibri"/>
                <a:ea typeface="Calibri"/>
              </a:rPr>
              <a:t>: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Call for applications members Board: 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By</a:t>
            </a: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 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5 April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Selection members Board: 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April/May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First version webpage: 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June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Kick-off meeting: 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Autumn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3. Market Observatory for F&amp;V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32F5-E3AC-44CA-80C0-5ED3A60510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6840" y="2420640"/>
            <a:ext cx="8435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algn="just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f5494"/>
                </a:solidFill>
                <a:uFillTx/>
                <a:latin typeface="Calibri"/>
                <a:ea typeface="Calibri"/>
              </a:rPr>
              <a:t>Useful links</a:t>
            </a:r>
            <a:r>
              <a:rPr b="1" lang="fr-BE" sz="2800" spc="-1" strike="noStrike">
                <a:solidFill>
                  <a:srgbClr val="0f5494"/>
                </a:solidFill>
                <a:latin typeface="Calibri"/>
                <a:ea typeface="Calibri"/>
              </a:rPr>
              <a:t>: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Market Observatories: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Calibri"/>
                <a:ea typeface="Calibri"/>
              </a:rPr>
              <a:t>https://ec.europa.eu/agriculture/market-observatory_e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Call for applications F&amp;V Observatory: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Calibri"/>
                <a:ea typeface="Calibri"/>
              </a:rPr>
              <a:t>http://ec.europa.eu/transparency/regexpert/index.cfm?do=calls.calls_for_ap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3. Market Observatory for F&amp;V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24000" y="2923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Thank you for your attention!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1" name="Title 1"/>
          <p:cNvSpPr/>
          <p:nvPr/>
        </p:nvSpPr>
        <p:spPr>
          <a:xfrm>
            <a:off x="1476360" y="4365720"/>
            <a:ext cx="6553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3c8c93"/>
                </a:solidFill>
                <a:latin typeface="Verdana"/>
              </a:rPr>
              <a:t>Unit G.2. - Wine, spirits, horticultural products, specialised crop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3c8c93"/>
                </a:solidFill>
                <a:latin typeface="Verdana"/>
              </a:rPr>
              <a:t>European Commission</a:t>
            </a:r>
            <a:br>
              <a:rPr sz="1200"/>
            </a:br>
            <a:r>
              <a:rPr b="0" i="1" lang="en-GB" sz="1200" spc="-1" strike="noStrike">
                <a:solidFill>
                  <a:srgbClr val="3c8c93"/>
                </a:solidFill>
                <a:latin typeface="Verdana"/>
              </a:rPr>
              <a:t>DG Agriculture and Rural Development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3c8c93"/>
                </a:solidFill>
                <a:latin typeface="Verdana"/>
              </a:rPr>
              <a:t>Directorate G. Markets and observatories</a:t>
            </a:r>
            <a:br>
              <a:rPr sz="1200"/>
            </a:b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72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F913-47C3-4ED9-A87F-95173C8E54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uropean Market Observatory for F&amp;V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1403280" y="2637000"/>
            <a:ext cx="6408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f5494"/>
                </a:solidFill>
                <a:latin typeface="Calibri"/>
              </a:rPr>
              <a:t>Market Observatories for Agri Products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Calibri"/>
              </a:rPr>
              <a:t>1.1.  Objectiv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Calibri"/>
              </a:rPr>
              <a:t>1.2.  Tool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</a:rPr>
              <a:t>New Market Observatories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</a:rPr>
              <a:t>Market Observatory for F&amp;V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0f5494"/>
              </a:buClr>
              <a:buSzPct val="12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0f5494"/>
              </a:buClr>
              <a:buSzPct val="12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1. Market Observatories Agri Product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CE51-C123-414B-A85C-02B2B98D71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1" lang="fr-BE" sz="28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1" lang="fr-BE" sz="28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7192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7192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7192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7192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7192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7192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719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12" name="Picture 11" descr="H:\my documents\My Pictures\pictures\Seminar G\meat.png"/>
          <p:cNvPicPr/>
          <p:nvPr/>
        </p:nvPicPr>
        <p:blipFill>
          <a:blip r:embed="rId1"/>
          <a:stretch/>
        </p:blipFill>
        <p:spPr>
          <a:xfrm>
            <a:off x="1908000" y="2557440"/>
            <a:ext cx="1629000" cy="162720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2" descr="H:\my documents\My Pictures\pictures\Seminar G\milk.png"/>
          <p:cNvPicPr/>
          <p:nvPr/>
        </p:nvPicPr>
        <p:blipFill>
          <a:blip r:embed="rId2"/>
          <a:stretch/>
        </p:blipFill>
        <p:spPr>
          <a:xfrm>
            <a:off x="1944720" y="4508640"/>
            <a:ext cx="1595520" cy="15951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3" descr="H:\my documents\My Pictures\pictures\Seminar G\crop.png"/>
          <p:cNvPicPr/>
          <p:nvPr/>
        </p:nvPicPr>
        <p:blipFill>
          <a:blip r:embed="rId3"/>
          <a:stretch/>
        </p:blipFill>
        <p:spPr>
          <a:xfrm>
            <a:off x="5375160" y="2716200"/>
            <a:ext cx="1568520" cy="15969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4" descr="H:\my documents\My Pictures\pictures\Seminar G\sugar.jpg"/>
          <p:cNvPicPr/>
          <p:nvPr/>
        </p:nvPicPr>
        <p:blipFill>
          <a:blip r:embed="rId4"/>
          <a:stretch/>
        </p:blipFill>
        <p:spPr>
          <a:xfrm>
            <a:off x="5106960" y="4508640"/>
            <a:ext cx="210492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CD17-1940-4424-8AF9-A604AEBE5A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456840" y="2204640"/>
            <a:ext cx="84358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Market transparency – Dissemination data &amp; analyses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Tackle price volatility – Make informed decisions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Monitoring market crises – Russian ban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1.1. Objectives Market Observatori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1.2. Tools Market Observatori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38E8-F5CC-4541-949B-CCBEE9BB6C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250560" y="2204640"/>
            <a:ext cx="8785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51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Calibri"/>
                <a:ea typeface="Calibri"/>
              </a:rPr>
              <a:t>Economic Board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251928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251928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251928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Calibri"/>
                <a:ea typeface="Calibri"/>
              </a:rPr>
              <a:t>Dedicated webpag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251928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251928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251928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Calibri"/>
                <a:ea typeface="Calibri"/>
              </a:rPr>
              <a:t>Dashboard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22" name="Picture 8" descr="H:\my documents\My Pictures\pictures\Seminar G\meeting 2.png"/>
          <p:cNvPicPr/>
          <p:nvPr/>
        </p:nvPicPr>
        <p:blipFill>
          <a:blip r:embed="rId1"/>
          <a:stretch/>
        </p:blipFill>
        <p:spPr>
          <a:xfrm>
            <a:off x="1692360" y="2349360"/>
            <a:ext cx="1380960" cy="10796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2" descr="H:\my documents\My Pictures\pictures\Seminar G\webpage.png"/>
          <p:cNvPicPr/>
          <p:nvPr/>
        </p:nvPicPr>
        <p:blipFill>
          <a:blip r:embed="rId2"/>
          <a:stretch/>
        </p:blipFill>
        <p:spPr>
          <a:xfrm>
            <a:off x="1628640" y="3576600"/>
            <a:ext cx="1508400" cy="15066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1774800" y="5189400"/>
            <a:ext cx="1305000" cy="12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1.2. Tools Market Observatori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0EBC-011E-4778-8786-815B04283C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250560" y="2204640"/>
            <a:ext cx="8713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5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Calibri"/>
                <a:ea typeface="Calibri"/>
              </a:rPr>
              <a:t>Statistics production, prices, trad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5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5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Calibri"/>
                <a:ea typeface="Calibri"/>
              </a:rPr>
              <a:t>                </a:t>
            </a:r>
            <a:r>
              <a:rPr b="1" lang="en-GB" sz="28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1" lang="en-GB" sz="28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1" lang="en-GB" sz="28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5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Calibri"/>
                <a:ea typeface="Calibri"/>
              </a:rPr>
              <a:t>Reports, minutes, presentation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5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5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5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Calibri"/>
                <a:ea typeface="Calibri"/>
              </a:rPr>
              <a:t>Outlook information (ST, MT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5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28" name="Picture 9" descr="H:\my documents\My Pictures\pictures\Seminar G\statistics 6.png"/>
          <p:cNvPicPr/>
          <p:nvPr/>
        </p:nvPicPr>
        <p:blipFill>
          <a:blip r:embed="rId1"/>
          <a:stretch/>
        </p:blipFill>
        <p:spPr>
          <a:xfrm>
            <a:off x="1585800" y="2205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1530360" y="3786120"/>
            <a:ext cx="1427040" cy="14335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2" descr=""/>
          <p:cNvPicPr/>
          <p:nvPr/>
        </p:nvPicPr>
        <p:blipFill>
          <a:blip r:embed="rId3"/>
          <a:stretch/>
        </p:blipFill>
        <p:spPr>
          <a:xfrm>
            <a:off x="1530360" y="5248440"/>
            <a:ext cx="146376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2. New Market Observatori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9448-D93C-4921-BC48-4B3EFAFD51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34" name="Picture 11" descr="H:\my documents\My Pictures\pictures\F&amp;V\wine-bottle 2.jpg"/>
          <p:cNvPicPr/>
          <p:nvPr/>
        </p:nvPicPr>
        <p:blipFill>
          <a:blip r:embed="rId1"/>
          <a:stretch/>
        </p:blipFill>
        <p:spPr>
          <a:xfrm>
            <a:off x="5003640" y="2924280"/>
            <a:ext cx="2251080" cy="22525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900000" y="3003480"/>
            <a:ext cx="342900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3. Market Observatory for F&amp;V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C440-26BB-4C3F-B5FE-5E38F51020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250560" y="2204640"/>
            <a:ext cx="8713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5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5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5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Calibri"/>
                <a:ea typeface="Calibri"/>
              </a:rPr>
              <a:t>                </a:t>
            </a:r>
            <a:r>
              <a:rPr b="1" lang="en-GB" sz="28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1" lang="en-GB" sz="28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1" lang="en-GB" sz="28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5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5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5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5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39" name="Picture 6" descr="H:\my documents\My Pictures\pictures\Seminar G\dashboard 2.png"/>
          <p:cNvPicPr/>
          <p:nvPr/>
        </p:nvPicPr>
        <p:blipFill>
          <a:blip r:embed="rId1"/>
          <a:stretch/>
        </p:blipFill>
        <p:spPr>
          <a:xfrm>
            <a:off x="2109960" y="3727440"/>
            <a:ext cx="1304640" cy="1301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9" descr="H:\my documents\My Pictures\pictures\Seminar G\statistics 6.png"/>
          <p:cNvPicPr/>
          <p:nvPr/>
        </p:nvPicPr>
        <p:blipFill>
          <a:blip r:embed="rId2"/>
          <a:stretch/>
        </p:blipFill>
        <p:spPr>
          <a:xfrm>
            <a:off x="6343560" y="36320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2" descr="H:\my documents\My Pictures\pictures\Seminar G\webpage.png"/>
          <p:cNvPicPr/>
          <p:nvPr/>
        </p:nvPicPr>
        <p:blipFill>
          <a:blip r:embed="rId3"/>
          <a:stretch/>
        </p:blipFill>
        <p:spPr>
          <a:xfrm>
            <a:off x="6343560" y="2335320"/>
            <a:ext cx="1508040" cy="15066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8" descr="H:\my documents\My Pictures\pictures\Seminar G\meeting 2.png"/>
          <p:cNvPicPr/>
          <p:nvPr/>
        </p:nvPicPr>
        <p:blipFill>
          <a:blip r:embed="rId4"/>
          <a:stretch/>
        </p:blipFill>
        <p:spPr>
          <a:xfrm>
            <a:off x="2125800" y="2414520"/>
            <a:ext cx="1380960" cy="10796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H:\my documents\My Pictures\pictures\Seminar G\report 2.png"/>
          <p:cNvPicPr/>
          <p:nvPr/>
        </p:nvPicPr>
        <p:blipFill>
          <a:blip r:embed="rId5"/>
          <a:stretch/>
        </p:blipFill>
        <p:spPr>
          <a:xfrm>
            <a:off x="1992240" y="5137200"/>
            <a:ext cx="1432080" cy="14317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H:\my documents\My Pictures\pictures\Seminar G\outlook icon.jpg"/>
          <p:cNvPicPr/>
          <p:nvPr/>
        </p:nvPicPr>
        <p:blipFill>
          <a:blip r:embed="rId6"/>
          <a:stretch/>
        </p:blipFill>
        <p:spPr>
          <a:xfrm>
            <a:off x="6302520" y="4975200"/>
            <a:ext cx="1465200" cy="14670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6" descr="H:\my documents\My Pictures\pictures\Seminar G\NO icon.PNG"/>
          <p:cNvPicPr/>
          <p:nvPr/>
        </p:nvPicPr>
        <p:blipFill>
          <a:blip r:embed="rId7"/>
          <a:stretch/>
        </p:blipFill>
        <p:spPr>
          <a:xfrm>
            <a:off x="1042920" y="2565360"/>
            <a:ext cx="455760" cy="503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6" descr="H:\my documents\My Pictures\pictures\Seminar G\NO icon.PNG"/>
          <p:cNvPicPr/>
          <p:nvPr/>
        </p:nvPicPr>
        <p:blipFill>
          <a:blip r:embed="rId8"/>
          <a:stretch/>
        </p:blipFill>
        <p:spPr>
          <a:xfrm>
            <a:off x="5380200" y="2662200"/>
            <a:ext cx="455400" cy="503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H:\my documents\My Pictures\pictures\Seminar G\OK icon.PNG"/>
          <p:cNvPicPr/>
          <p:nvPr/>
        </p:nvPicPr>
        <p:blipFill>
          <a:blip r:embed="rId9"/>
          <a:stretch/>
        </p:blipFill>
        <p:spPr>
          <a:xfrm>
            <a:off x="941400" y="4008600"/>
            <a:ext cx="557280" cy="510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H:\my documents\My Pictures\pictures\Seminar G\OK icon.PNG"/>
          <p:cNvPicPr/>
          <p:nvPr/>
        </p:nvPicPr>
        <p:blipFill>
          <a:blip r:embed="rId10"/>
          <a:stretch/>
        </p:blipFill>
        <p:spPr>
          <a:xfrm>
            <a:off x="992160" y="5340240"/>
            <a:ext cx="557280" cy="5112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H:\my documents\My Pictures\pictures\Seminar G\OK icon.PNG"/>
          <p:cNvPicPr/>
          <p:nvPr/>
        </p:nvPicPr>
        <p:blipFill>
          <a:blip r:embed="rId11"/>
          <a:stretch/>
        </p:blipFill>
        <p:spPr>
          <a:xfrm>
            <a:off x="5329080" y="4008600"/>
            <a:ext cx="557280" cy="510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H:\my documents\My Pictures\pictures\Seminar G\OK icon.PNG"/>
          <p:cNvPicPr/>
          <p:nvPr/>
        </p:nvPicPr>
        <p:blipFill>
          <a:blip r:embed="rId12"/>
          <a:stretch/>
        </p:blipFill>
        <p:spPr>
          <a:xfrm>
            <a:off x="5280120" y="5484960"/>
            <a:ext cx="55728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6E75-9F5C-45AB-8C41-A753DF57A2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324000" y="2420640"/>
            <a:ext cx="8640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algn="just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f5494"/>
                </a:solidFill>
                <a:uFillTx/>
                <a:latin typeface="Calibri"/>
                <a:ea typeface="Calibri"/>
              </a:rPr>
              <a:t>Tasks Economic Board</a:t>
            </a:r>
            <a:r>
              <a:rPr b="1" lang="fr-BE" sz="2800" spc="-1" strike="noStrike">
                <a:solidFill>
                  <a:srgbClr val="0f5494"/>
                </a:solidFill>
                <a:latin typeface="Calibri"/>
                <a:ea typeface="Calibri"/>
              </a:rPr>
              <a:t>: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Advice on economic factors market developments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Provide information/data on market situation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Assess market situation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Complement Civil Dialogue Group – Policy issues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6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3. Market Observatory for F&amp;V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DE ANGELIS Antonio (AGRI)</dc:creator>
  <dc:description/>
  <dc:language>en-US</dc:language>
  <cp:lastModifiedBy>GERIN Luc (AGRI)</cp:lastModifiedBy>
  <cp:lastPrinted>2017-10-03T10:49:08Z</cp:lastPrinted>
  <dcterms:modified xsi:type="dcterms:W3CDTF">2019-05-08T13:26:33Z</dcterms:modified>
  <cp:revision>707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