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D2FF-D7CA-4122-B7BE-22FD8B8258D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BD22-1105-4325-8E6C-927C168FBC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2778-B4B8-41D6-80DC-AC7797C78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AA50-D141-4530-AE3E-06C86446B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5C2E-F24D-4390-9977-FA7E48CA2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DE00-0625-4928-8321-715EDAEB2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8103-A16C-4C48-8941-845634F609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543C-EFEF-46F7-9325-F8FC8102E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385A-87C5-4E6B-89AD-877147D1A8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CBD4-5621-4771-A449-FF2C00031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6556-B799-40E5-9806-8D6DDF7F3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F8B-C689-4CAB-87CF-38637B8F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974-2BF6-4BDD-98A5-7B828950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061-EBFD-46B3-A5BD-EFC98764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D36-4C49-4F93-80D3-087192E6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F0C5-7368-4563-92DF-A90F681B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00A6-A812-44BF-B7F4-6B6D07D8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65B8-F8A0-4D21-8107-83D1E4A7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7B0C-168C-4F57-AA88-14989444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6309-8D8F-41FB-AC7A-8960B6A1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700A-5C05-4805-AA74-327E85C5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1DD4-CDD7-4EC0-9E4A-E907F626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345-FC64-4DB1-ADF3-E047DB38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6A0E-B171-4249-8250-62546955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0906-3C47-4815-A13D-9D90845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D01E-C8B9-4714-AC22-3C588675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E921-D178-45AA-8EE8-C6E5F400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4794-A510-4374-B821-CCEFA203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87A-9F6E-4685-9FFD-95C64CFF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296-B0F6-47F0-A19B-6DF1CFE0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E9F-8215-4EBF-802F-F3BE90F2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9E6-2466-41D6-B29C-45203921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4EB-E1EE-4C79-A012-123DBE75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0BB-A1B6-4F50-B702-5D706644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E97-242A-4C16-851B-43920B6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56D7-6076-4EED-936D-BF4E318F9A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6CBF-2DBC-4FE5-9BA1-C75B678C34F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lant_protection_products/legislation/" TargetMode="External"/><Relationship Id="rId2" Type="http://schemas.openxmlformats.org/officeDocument/2006/relationships/hyperlink" Target="http://ec.europa.eu/food/plant/plant_protection_products/legislatio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9440" y="2852280"/>
            <a:ext cx="853128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Minor Uses</a:t>
            </a:r>
            <a:br>
              <a:rPr sz="4000"/>
            </a:b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-</a:t>
            </a:r>
            <a:br>
              <a:rPr sz="4000"/>
            </a:b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187280" y="3527280"/>
            <a:ext cx="68407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1225440" y="5349960"/>
            <a:ext cx="68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Jeroen Meeusse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DG SANC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06360" y="1400040"/>
            <a:ext cx="8531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DG AGRI – Advisory Group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IPM ERANE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RANETs are research coordination instruments whereby Member States can coordinate their national research activit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o find EU-viable solutions with a focus on IPM-practices, low risk substances and biopesticid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IPM ERANET has started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early 2014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nd involves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32 partners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is activity is led by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G RTD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urrent statu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204640"/>
            <a:ext cx="84358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Adoption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of the report by COM on 18 February 2014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;</a:t>
            </a:r>
            <a:r>
              <a:rPr b="0" i="1" lang="fr-BE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 </a:t>
            </a:r>
            <a:r>
              <a:rPr b="0" i="1" lang="fr-BE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food/plant/plant_protection_products/legislation/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port has been presented to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GRI-Council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 May 2014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doption of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Financial Decision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in October 2014.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Proposal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from interested party: November 2014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Start of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technical secretariat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early 2015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589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  <a:ea typeface="MS PGothic"/>
              </a:rPr>
              <a:t>ANY QUES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0" name="Picture 2" descr="C:\Users\meeusje\Pictures\imagesCAKL7UM2.jpg"/>
          <p:cNvPicPr/>
          <p:nvPr/>
        </p:nvPicPr>
        <p:blipFill>
          <a:blip r:embed="rId1"/>
          <a:stretch/>
        </p:blipFill>
        <p:spPr>
          <a:xfrm>
            <a:off x="4500720" y="2781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meeusje\Pictures\imagesCAE1GUOP.jpg"/>
          <p:cNvPicPr/>
          <p:nvPr/>
        </p:nvPicPr>
        <p:blipFill>
          <a:blip r:embed="rId2"/>
          <a:stretch/>
        </p:blipFill>
        <p:spPr>
          <a:xfrm>
            <a:off x="2268360" y="256536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inor Uses (definition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Use of a plant protection product in a particular Member State on plants or plant products which are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a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not widely grow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in that Member State,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o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b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widely grow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to meet an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exceptional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plant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    protection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 need</a:t>
            </a:r>
            <a:br>
              <a:rPr sz="2000"/>
            </a:b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0000"/>
                </a:solidFill>
                <a:latin typeface="Verdana"/>
              </a:rPr>
              <a:t>Representing 22% of the value of EU total agricultural production; 3% of the cultivated are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ack of sufficient market potential can lead to: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Illegal uses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consequences for human health and the environment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Loss of crop produc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its economic impact on agricultur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rticle 51(9)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y 14 December 2011, the Commission shall present a report to the European Parliament and the Council on the establishment of a European fund for minor uses, accompanied, if appropriate, by a legislative proposal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port was adopted on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18 February 2014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Key-message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will assist in the creation of an independent coordination facility ("Technical Secretariat") on minor uses which is co-funded by the Commission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will support an ERANET on Integrated Pest Management with specific reference to minor us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Report was presented to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AGRI-Council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 on 19 May 2014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trong support for the Report was expressed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majority supported COM in identifying 'option 3' as the better solution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e details of the secretariat should be further discussed at technical level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Expert-meeting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xpert-meeting with MS and stakeholders was organised on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1 July 2014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to discuss a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draft outline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of the Coordination Facilit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perational issues: organisation and structure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inancial arrangement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ocation and facilit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ordination facility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-funded by the Commission: grant of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€350,000/year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is activity is led by DG SANCO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Budget will be allocated in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Financial Decision for 2014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(to be adopted)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ordination facility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asks of 'technical secretariat'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haring of informa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nd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experience gained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t national level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oordination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of minor use work between Member States and stakeholder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reation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nd maintenance of a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ata bas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n minor use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timulation of harmonisa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(e.g. crop group and pest group definitions, development of guidance)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7:49:02Z</dcterms:created>
  <dc:creator>MEEUSSEN Jeroen (SANCO)</dc:creator>
  <dc:description/>
  <dc:language>en-US</dc:language>
  <cp:lastModifiedBy>MEEUSSEN Jeroen (SANCO)</cp:lastModifiedBy>
  <cp:lastPrinted>2014-09-29T14:54:08Z</cp:lastPrinted>
  <dcterms:modified xsi:type="dcterms:W3CDTF">2014-10-09T16:59:06Z</dcterms:modified>
  <cp:revision>38</cp:revision>
  <dc:subject/>
  <dc:title>Utilisations mineures</dc:title>
</cp:coreProperties>
</file>