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png" ContentType="image/png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0.jpeg" ContentType="image/jpeg"/>
  <Override PartName="/ppt/media/image7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78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9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30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A751-D905-4227-B81D-80E1D55A3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78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2397-EC4E-406F-AB3C-4880916D2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78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867F-C66A-48A7-8507-FA90AA288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0A4-F657-432E-85D2-0D757516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EDD-5745-4F5F-BD28-E75148B5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31AA6-A6C3-4B95-9196-8587BFBC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8214A-A84C-4725-BB85-B8250224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BD7D0-8FBF-48D7-A30E-72AC32CB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B11AE-0CBF-482A-B489-BF656D7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BC994-B22C-44F6-B06F-DA7DE879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39D07-08A2-41D3-A43D-8AD1EDD6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8279C-EF88-47AF-B3F3-6E26FF8E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113CB-6064-4C62-B2F8-4A16ABB6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25984-A6F4-4719-A282-5AABFC91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E795A-3F3F-433A-8A72-042422F6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390-3951-451C-A081-2594EF22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D164E-6386-414A-B32E-082BFAC2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E6F06-C9E8-409D-AFE3-5DFE43BF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D610D-0FAE-498B-8922-CB78881C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B8905-3AA9-472D-9F69-2AD19F40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4DFCE-93E6-4B8A-8739-E8B60EFA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B2D3F-05DF-4C1E-B9F2-0C11B403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7040D-62BB-46AF-98F9-0277CE4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BFF13-4A92-4CC5-AB1D-EB617CD2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CDE8A-17F3-4A33-9AC9-8FE18EE8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32AC5-5CAC-4EDE-99BE-76B5766B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D5A-C9A3-4DCD-9667-0B9B1309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CB9A3-7473-4CC4-A6A5-2DFA7FE8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0F61-A0D9-49C6-9A39-83116625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42B8-0610-4DE9-8D92-CD4E6BD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82E5-6302-4833-A810-84D7573B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977D-566A-42C9-937B-2238E5D6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A9DB-BACE-4726-ABB8-029FDF7E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918E-6DD4-47D9-95FD-90F78DA3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7E5E-2760-402D-91C5-56D4D51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B40-4A99-4640-8C00-2460BB5D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DE92-B585-498E-8BA1-E7C06EA5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CA5E-B3C5-4E16-B581-508E3EC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B3BD-B2A1-48D3-A14A-AC7416F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30DB-A7D3-4B06-B56B-346D0968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414E-C393-407E-9AA0-BADCDB94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C56E-B23B-41D9-8AF9-D7A92555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CDAC-F703-47E2-AFD0-EB519629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B598-3192-4BE6-BA2D-39BFEDCF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7F36-8E3A-4E76-862A-32FBA81B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FC7F-3935-448E-A9DF-BCC6D8B0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B5E-411F-4551-A9D6-E4A7E606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CC50-342B-45F1-8820-74509E8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49BD-EEA2-47BD-AFA4-527F6D1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3148-ADE0-421F-AA04-013E5D1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021E-E6DA-486E-BE90-60F0E41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DE48-C671-42A4-8746-09F809FB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A65D-231B-40D9-BF78-BAD392E0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E676-C2B9-43C9-823A-F5A2C0B3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AAAB5-2DF9-4343-8C43-F9D43AF0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3413-2BAA-4D6F-A633-1BD13F21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3A00-6ABF-4DAB-AD4F-049B3F7C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0ED-33EF-44C8-A9B0-23DA97D1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2C08-29A5-4062-990C-17483054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FC50-B554-4272-B054-B9182291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152F-1658-4135-A3B7-3EF1DE45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CDF6-0E60-4625-95A1-168C270B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B175-ADFB-4CD1-BC04-7E3D56A8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F991-CF96-44E4-B9B7-53BADA1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5CA0-FFEB-4FB9-8D1D-6EF4680C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CEF4-3E4F-4566-80A9-BD122613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2EEE-C23F-44E1-9175-C45875FE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B75-60E9-4A4B-A54C-395E6F41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ECC-72D9-4D9A-9F67-C02972A4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8635-A67D-481A-B002-0D3DD336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91B50-6719-4534-9057-4709C4E8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229D8-BD79-4490-9053-2396532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F7611-E720-40C5-8EFE-84B5AE8B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70803-9FD4-466E-B779-9FA7FEE0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ADE5D-D683-4892-9F9E-7196944D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239E-641B-42CC-A006-24DE674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47CBA-BC41-4B33-B8B3-E4E28882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516D8-196E-4ED3-A03D-D26DC96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8AB-7BFB-4EAB-811C-19256953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4C70E-9363-4FEC-A6C7-C2A35A7A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0EE2-F793-413C-8F36-9F59E4FF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6F561-E321-47F7-A0D5-4BA815C5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A824-66D0-4C04-AC4F-4398B3D3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F5F5-F93E-4B7F-B49F-DF8E556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F5C3-B733-4DD5-9655-49FA8DBA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9445B-A6D7-422F-8E1B-F86102CF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7D3C6-7B67-4C3C-8E08-C8B95C4C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BC6C2-568F-4320-8BA7-463947F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1300-9EBD-4F59-B3D7-E1451A5B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E18-F9E8-4FCC-BF3C-C32F3A6E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53E46-95B5-44C1-82B4-14555A81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AA31B-5204-486B-BD68-368D221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D991A-D6E7-4DC0-990B-AA13102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3E40-441A-43AF-831E-0E9E299B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6897A-3598-47C2-BFD1-84956544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7E5F5-B783-46AE-92B9-525D030D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78E5C-726D-41BD-9DF5-2A93BE93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44D84-216D-4BB4-AA74-576DEB09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4F49-3F00-4FEB-8F8E-54445A06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49665-8FED-4FAA-B455-3BD9CA2C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864-9878-460C-A7C0-BBF807AC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F90FF-86BF-4040-A97F-E8F9609E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EBB5F-0DC6-40D5-A478-24E5994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887FD-CD27-4C5D-8406-E97C0103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8501C-B9DD-4F46-9C73-4D70553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D2293-18B7-46E9-A6EC-A1222C8F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34DF-798F-4165-B94A-8668C66E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D1073-F189-464C-A48C-EBA8F428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8F6CF-2E6E-4612-8002-A96ED2E2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8286D-B665-447C-8F0D-83DFB4E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A9518-CDB8-4445-A0F8-10A7B93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Wednesday, 11 January 201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Febr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3A0D-85CF-48C5-A3C2-4804F3F67A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2"/>
          <a:stretch/>
        </p:blipFill>
        <p:spPr>
          <a:xfrm>
            <a:off x="3635280" y="450720"/>
            <a:ext cx="1621080" cy="1249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89" name="Picture 6" descr="LOGO CE-EN-quadri.eps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9986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eated Wednesday, 11 January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Prepared for Unit 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D198-A4E9-4E08-94A4-32836C9393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23E7-C764-4C8C-8DAD-21DF2BE2F7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3B4F-9909-495F-9080-EA392010A9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3649680" y="17784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4"/>
          <a:stretch/>
        </p:blipFill>
        <p:spPr>
          <a:xfrm>
            <a:off x="422928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-360" y="6665400"/>
            <a:ext cx="2771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pyright_borojoint_thinkstockphotos_135155824_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597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AEE3-F80E-4121-A51D-DC4310AF1D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3649680" y="17784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4"/>
          <a:stretch/>
        </p:blipFill>
        <p:spPr>
          <a:xfrm>
            <a:off x="422928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2"/>
          <p:cNvSpPr/>
          <p:nvPr/>
        </p:nvSpPr>
        <p:spPr>
          <a:xfrm>
            <a:off x="311040" y="6292800"/>
            <a:ext cx="13543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4840" y="2565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7DDC-0653-49F2-872F-386E781AA76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6470-7D5F-4B48-902A-BA47395813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BCBB-5E27-4214-8B71-63BC9E92FDC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1F87-3851-4603-BA2C-FF43D02011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675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EU Cereals balance sheets 2013/2014 and forecasts 2014/15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50920" y="3573000"/>
            <a:ext cx="8642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GRI C 4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Group of Civil Dialo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 October 2014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94A0-0BB3-49F8-AC5B-82B5F4B747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69" name="Picture 2" descr="\\net1.cec.eu.int\AGRI\c\4\C5 DATA\3. GENERALE\GIS\Maps\20140924\2014_All cereals_production.png"/>
          <p:cNvPicPr/>
          <p:nvPr/>
        </p:nvPicPr>
        <p:blipFill>
          <a:blip r:embed="rId1"/>
          <a:stretch/>
        </p:blipFill>
        <p:spPr>
          <a:xfrm>
            <a:off x="1371600" y="1200240"/>
            <a:ext cx="54324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F62-AFC2-4AE8-A3EF-11B32E0393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71" name="Picture 2" descr="\\net1.cec.eu.int\AGRI\c\4\C5 DATA\3. GENERALE\GIS\Maps\20140924\2014_Soft wheat_production.png"/>
          <p:cNvPicPr/>
          <p:nvPr/>
        </p:nvPicPr>
        <p:blipFill>
          <a:blip r:embed="rId1"/>
          <a:stretch/>
        </p:blipFill>
        <p:spPr>
          <a:xfrm>
            <a:off x="1371600" y="1128600"/>
            <a:ext cx="550404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3B90-4470-4B36-A6CF-8D331AB5A1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73" name="Picture 2" descr="\\net1.cec.eu.int\AGRI\c\4\C5 DATA\3. GENERALE\GIS\Maps\20140924\2014_Barley_production.png"/>
          <p:cNvPicPr/>
          <p:nvPr/>
        </p:nvPicPr>
        <p:blipFill>
          <a:blip r:embed="rId1"/>
          <a:stretch/>
        </p:blipFill>
        <p:spPr>
          <a:xfrm>
            <a:off x="1371600" y="1271520"/>
            <a:ext cx="5361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85B5-0ED2-4CC1-B392-620F3F19BC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75" name="Picture 2" descr="\\net1.cec.eu.int\AGRI\c\4\C5 DATA\3. GENERALE\GIS\Maps\20140924\2014_Maize_production.png"/>
          <p:cNvPicPr/>
          <p:nvPr/>
        </p:nvPicPr>
        <p:blipFill>
          <a:blip r:embed="rId1"/>
          <a:stretch/>
        </p:blipFill>
        <p:spPr>
          <a:xfrm>
            <a:off x="1371600" y="1271520"/>
            <a:ext cx="5361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3" descr=""/>
          <p:cNvPicPr/>
          <p:nvPr/>
        </p:nvPicPr>
        <p:blipFill>
          <a:blip r:embed="rId1"/>
          <a:stretch/>
        </p:blipFill>
        <p:spPr>
          <a:xfrm>
            <a:off x="142920" y="1557360"/>
            <a:ext cx="8839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84FA-DF77-48F8-8FB4-7A7597428D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468360" y="1262160"/>
            <a:ext cx="820404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662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d624"/>
                </a:solidFill>
                <a:latin typeface="Verdana"/>
              </a:rPr>
              <a:t>EU Oilseeds </a:t>
            </a: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balance sheets and forecasts 2014/15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"/>
          <p:cNvPicPr/>
          <p:nvPr/>
        </p:nvPicPr>
        <p:blipFill>
          <a:blip r:embed="rId1"/>
          <a:stretch/>
        </p:blipFill>
        <p:spPr>
          <a:xfrm>
            <a:off x="333360" y="1268280"/>
            <a:ext cx="84758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ank you for your attention!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Balance sheet updates &amp; market presentation  available:</a:t>
            </a:r>
            <a:br>
              <a:rPr sz="3200"/>
            </a:b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http://ec.europa.eu/agriculture/cereals/balance-sheets/index_en.htm</a:t>
            </a: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50920" y="2924280"/>
            <a:ext cx="86421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60AF-0023-4BFC-8419-8132C958FF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71280" y="1557360"/>
            <a:ext cx="9072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5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DC56-77F4-4063-B5E5-B8FAEF1F85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EU 28- 2014 Cereals areas Forecas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900000" y="2130480"/>
            <a:ext cx="72853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F5A8-ACFC-4675-B479-74C1DEEB67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46" name="Picture 2" descr="\\net1.cec.eu.int\AGRI\c\4\C5 DATA\3. GENERALE\GIS\Maps\20140924\2014_All cereals_area.png"/>
          <p:cNvPicPr/>
          <p:nvPr/>
        </p:nvPicPr>
        <p:blipFill>
          <a:blip r:embed="rId1"/>
          <a:stretch/>
        </p:blipFill>
        <p:spPr>
          <a:xfrm>
            <a:off x="1619280" y="1271520"/>
            <a:ext cx="5361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1"/>
          <a:stretch/>
        </p:blipFill>
        <p:spPr>
          <a:xfrm>
            <a:off x="635040" y="2184480"/>
            <a:ext cx="4133880" cy="41338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612800"/>
            <a:ext cx="86868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eather anomalies 15 August – 19 September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ECE8-8D37-422A-937E-2E3D29B55668}" type="slidenum">
              <a:rPr b="0" lang="en-US" sz="1000" spc="-1" strike="noStrike">
                <a:solidFill>
                  <a:srgbClr val="004494"/>
                </a:solidFill>
                <a:latin typeface="Verdana"/>
                <a:ea typeface="MS PGothic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0" name="Date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75BE-5833-4928-8740-40063E8D9DE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1" name="Oval 8"/>
          <p:cNvSpPr/>
          <p:nvPr/>
        </p:nvSpPr>
        <p:spPr>
          <a:xfrm rot="2493000">
            <a:off x="3462120" y="3051000"/>
            <a:ext cx="1077840" cy="1845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2" name="Oval 18"/>
          <p:cNvSpPr/>
          <p:nvPr/>
        </p:nvSpPr>
        <p:spPr>
          <a:xfrm rot="2493000">
            <a:off x="2271240" y="4221000"/>
            <a:ext cx="1078200" cy="903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5" descr=""/>
          <p:cNvPicPr/>
          <p:nvPr/>
        </p:nvPicPr>
        <p:blipFill>
          <a:blip r:embed="rId1"/>
          <a:stretch/>
        </p:blipFill>
        <p:spPr>
          <a:xfrm>
            <a:off x="636480" y="2187720"/>
            <a:ext cx="4132440" cy="41306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612800"/>
            <a:ext cx="86868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eather anomalies 15 August – 19 September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4444-9056-4289-9046-CE19684D2B25}" type="slidenum">
              <a:rPr b="0" lang="en-US" sz="1000" spc="-1" strike="noStrike">
                <a:solidFill>
                  <a:srgbClr val="004494"/>
                </a:solidFill>
                <a:latin typeface="Verdana"/>
                <a:ea typeface="MS PGothic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6" name="Date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63EF-69BC-48F3-A96A-F8F06B2AFBA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7" name="Oval 15"/>
          <p:cNvSpPr/>
          <p:nvPr/>
        </p:nvSpPr>
        <p:spPr>
          <a:xfrm rot="2493000">
            <a:off x="3462120" y="3051000"/>
            <a:ext cx="1077840" cy="1845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8" name="Oval 18"/>
          <p:cNvSpPr/>
          <p:nvPr/>
        </p:nvSpPr>
        <p:spPr>
          <a:xfrm rot="2493000">
            <a:off x="2271240" y="4221000"/>
            <a:ext cx="1078200" cy="903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5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CE41-1553-4A94-A284-4EE15C23E8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U </a:t>
            </a: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28- 2014 Production Forecas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1" name="Picture 5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7119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5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DCCD-507E-42E2-A90E-D8D2040232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f5494"/>
                </a:solidFill>
                <a:latin typeface="Verdana"/>
              </a:rPr>
              <a:t>EU 28 - 2014 production Forecasts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619360" y="2268360"/>
            <a:ext cx="360828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759720" y="63086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52C8-3FF9-4BE7-AC64-A3E33FF4F7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EU 28- 2014 production Forecas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1454040" y="2136600"/>
            <a:ext cx="6070680" cy="37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Rafal.BUCZKOWSKI@ec.europa.eu</dc:creator>
  <dc:description/>
  <dc:language>en-US</dc:language>
  <cp:lastModifiedBy>BERTRAND Jean-Marie (AGRI)</cp:lastModifiedBy>
  <cp:lastPrinted>2014-10-06T12:32:10Z</cp:lastPrinted>
  <dcterms:modified xsi:type="dcterms:W3CDTF">2014-10-06T12:33:20Z</dcterms:modified>
  <cp:revision>1322</cp:revision>
  <dc:subject/>
  <dc:title>Slide 1</dc:title>
</cp:coreProperties>
</file>