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E29-F40D-4188-A3B0-0895C468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8B7-41D3-4F19-A67B-72252359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2D90A-BD35-41CE-9FA8-F8A97E7C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A9ADE-ED16-449B-874B-C59332F0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789B2-A577-4BDB-AEE1-15529020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E8AED-C765-4F0C-A87C-91C09648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D9633-ADEF-4FFF-ACEE-08B92CAB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E3986-2114-4949-A9AD-48526E5B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DDA42-73A9-4F6D-B5D7-0F0F5D9B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700CB-A619-48C0-9951-3054D40C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A4CEE-6AD4-4C53-9CDD-53C8CAC1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84B39-E107-480C-B6EE-C7A6C028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CA0-393A-446C-950D-52F88EBB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D7BCE-F0E7-4280-AF48-AC345D04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6B976-4A7E-4CF1-841F-D93D2684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AA658-873B-4291-95CA-BD537654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3B262-19B7-4F45-91DF-94CF7A37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8B8A9-434F-48C0-8B40-370CDB03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8AB86-CB39-4504-9FDD-5F862F73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67610-6B21-413D-92DA-16F7D779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4DACD-B533-470F-B24A-D73CDC93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66430-D965-4D99-94F0-0A079A4D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F5FC0-ED3B-4144-8F5F-0915920B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CA6-2F77-4F13-82D1-0F439819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942EF-848E-4541-A026-F7A0D6C7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AC4E0-D607-4400-AD4A-900D0959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E4B40-7C0A-4798-A35D-DEF5B8CB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3C949-F2F8-4E8F-B432-62FCB7B2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5B2B8-B4F2-42AC-8F3A-3DEE4EB2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4313D-CCE4-4E78-BD20-9034C35F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04506-C40B-4CE9-A6C6-72A1E01C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2B44F-A9D3-41BB-B921-24789D61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17432-259B-4EBA-9FB2-65D1BD82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0F916-80D0-4422-A05D-A56E4ECE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AA8E-42DB-4A0B-9FFA-1B51EB0C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11D1E-C737-4EDB-A390-2BD0127C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89978-9BC9-4627-A289-F57E8289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EB50A-7BCE-44C6-A59D-2CF2A362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3287D-27B6-48DB-A6EB-5C5365B1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7C49B-5DFD-4F73-BDA1-B29AABEB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90278-C702-410A-9BFC-3A0EB7E1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386BD-3F11-4E18-A212-57E41BC5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9EFB2-E633-4705-A211-E625BE8C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32F96-6393-4B60-9F4C-5486E421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46075-60C1-48F9-9570-7F3BACBB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13F4-1429-4506-B8CA-CAFD8035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84FDD-DD35-4700-80CA-E66806AF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461B3-2821-4470-8474-DDC91E58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DE80A-CE58-4159-97A2-682B5B81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70E5B-7936-4625-B8FF-A52DED60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B9533-65C2-478F-AB48-3E35BB50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29046-5828-44CC-80FF-00EFD0C9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D7E4B-B39D-4E01-AF9D-EF00D4E9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954B0-78A6-482D-AA78-38D6384A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CA650-278A-4C07-9AC8-633F6C6B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7EB2C-1692-47B8-BFD3-659DC545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5B96-E5A8-472E-BB45-3AF4041C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56D82-4BB8-4C0A-8B39-95FB9BBB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30070-587B-449A-B36C-A3F3D50A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02F9C-16FE-4A52-BB98-32F7256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CB93C-69A8-454F-B6DE-F8BD73F2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697A7-15E8-449B-82B5-CE1A7289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75169-65DE-4F74-8DCB-FD16BDAE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876F1-0D33-40B8-816E-6DF89BBB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0FAB0-A35F-4FB0-9A97-7C6FD744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AB691-7F1D-4E39-8EA5-8A9BFF12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EBD30-5915-4C6E-9A43-A5D3340B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91EF-F217-4D7D-9DA8-2466BB1A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9F95C-2AA0-4783-BF2B-A9D17381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45437-0771-4C13-89FB-78E8D02C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2CFC8-51D7-481D-BDE3-DC357619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76072-0DA6-4615-8CD5-39327C1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1AB9CE-09DC-49A4-AA1D-3D0F8DCB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5B9BA-EAA9-40A2-8E6E-BA3B8BFF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BBABE-0A50-42CA-BDDE-A81CEE46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E0734-A9FF-4C3F-8AC1-91977806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0C6E4-DCF7-4001-949B-2C27B383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2665BC-B60F-4F72-A3CC-8858245A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D951-F24C-46C0-937A-A47B6C88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FC8DA-4339-4715-AD3A-8ECC4F65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841F9-1B71-4520-9218-ECB3EF95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42120-9E9F-4691-9E28-9BED7805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7AEEA-1276-4FA0-9025-FAEFB66E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734AB-BF28-42E9-AD71-799DDF73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7941C-19C7-45EE-BE68-F60E4F3C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53CC2-E759-4427-949A-9132F81B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4291C-2659-4DEF-B7AB-3DBA4451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33CBB-58ED-4F01-8A5B-020B919B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A74E0-3869-4F03-907D-4A648BB6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2568-C59E-482F-A02C-822DC464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7B1A6-EAFD-423F-B794-720EB0FA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46C3-32AB-4923-A0FA-51C7F7DF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76085-E987-44F5-B9DB-6BFA1223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7C859-B277-46C0-B284-2414E2C5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E942B-224B-4474-9FB1-AD934A23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E4F2F-641B-4DB3-B2E2-2F1B21B7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AE734-CA42-4303-AEEB-78FB6A42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088C9-17F3-4F2F-88E4-ECBB945D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D3ED1-A19F-4B7F-857D-EB3AC47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9CFC-D0CA-41B5-A254-B5784112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F37A-C9AC-4914-826C-380BC6AC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43FB3-E58A-42BD-AB11-4BEE0DE2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232D2-15AA-4379-B802-60DE615C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733C3-3E76-45F0-8CAD-5315AB65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19DB7-20AA-4DB3-8FC9-D6071966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114E6-024A-46F0-AD91-6AC53756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8FC4F-3CC5-4162-B386-86B883F5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9F10C-7182-4FD1-A0C8-4B7DC807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E1895-8985-4B2C-B663-EF4B29E8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D08D3-C47D-4B8E-A226-1A853452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87402-C74E-42EC-80EE-7CFFCE72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9684-2228-4CC8-9B96-0360C05B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83AC77-67D2-4B9F-B0C2-AC9698C5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7CC415-DC2A-4DB7-B77F-30EF8B7E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7175C-2CF0-470C-927E-2E46111A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D21517-9E77-44E7-9A9A-B9A6F30A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DD128-5FF7-4243-9409-3468A946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BB605-77D1-4F34-B169-6694B745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37AA0D-1CB3-4075-98DD-083FB299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D2543-7A17-4B0F-AF36-8EB2A85F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191F7-0A98-4363-8524-44999542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89BC2-6A2B-4F25-9138-FFB7F6F5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EB24-3EC1-4236-ADEA-934FB027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8EA287-F78E-4D64-B69E-1F57790C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77EB4B-C04B-41C9-9A5D-92983824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634D1A-782F-4E55-B307-DC7C0C12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E26716-CE35-407C-A4A2-E91CDA12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F540B-9C7A-42E0-90E3-23F1DC6C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57BF8-EA09-4AE3-98B0-A5508165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58968-9B6B-4244-A7FA-5A0471A3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E1067-D70B-4D97-8111-0C0D595A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32CF4-65FD-417E-A41B-90718E39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FCF69-55B9-49C5-B7BB-EF021067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ADEE-0847-48D4-BFAF-72090E7C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24ADB6-4801-45CD-B3C6-FB2198C4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076273-F083-42F5-A553-5AD5304A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891E4-6F54-42EE-B5EF-C0682E1B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AB4576-3243-448F-855B-F07462CF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3D13B-433F-417D-9E4B-15EA4530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BB8B0-76FD-4245-B904-23C7FA9A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4B64A-D7DA-4C5A-9600-DA05AA9F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8AB6A-8D61-430F-8419-83D33082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2823E-216F-497E-966C-C462BBF2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E1B00-9D28-4A0C-90E1-2CEA0281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A614-CB34-4DB1-8290-6081A36F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788AF-E9C4-4AC4-8A4C-592FFC88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40BA6-3EAF-401F-86F3-EBC7B0CB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1E0662-513C-4037-AF48-55F101FB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51D2B-D699-46B6-8CAC-3FF2BF2B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5F9999-A083-4FBF-BC99-DC1812D3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35650-50C8-4420-9CE5-8A97441B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62FF12-97A7-4AF2-8F68-9AC7A2AF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16E218-AD60-429E-8625-12A8A40B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C0E4DB-0696-4445-927B-B2A2E0AF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AC325C-2205-43FE-A266-F957BD14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A4EAD-DCD1-47E1-ABA4-C7923BDD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F6EDB7-D322-4B7A-AA31-5568E178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70D93-3CE5-4B72-88F0-6C800CCD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033F92-F102-4143-8250-9C4BA855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988BE6-B27C-409A-99C2-4E8B9AEF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60CCD0-2EAD-4155-A29F-EAB4A7FF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F57B17-9269-4BDB-BAA8-59A6583C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730D1E-980F-4903-8242-590E1BB0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290D3-A5C2-40A4-9412-CEC47D28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61FDB4-3853-4B18-9C79-2F11EB45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299CB2-F0AE-4DDE-91C3-C1B84F92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5A8C-D08A-41DE-9DE3-8F977540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D0A9D-3DE9-421A-BF89-C6805565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A0C43-BE77-424D-9D22-F32350CE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AED39A-8A12-4AC5-8D3A-40034380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4E94BF-5EE6-4378-ABD9-9C0FF4DD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F3DCFB-E811-46A3-90F4-96133782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68F234-E808-405C-9F85-53DBB174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1E8FF6-E1B8-4656-ADF2-A7DB2473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3AEB7F-2306-4BA0-B37E-AA8F5C81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8D3CF-DE67-41DE-8D51-C14F7C77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ACAFDE-4BFB-4A90-9635-9225BC7D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A9AF-4E49-4AD6-B82E-B00CD731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4B22A9-6DB0-4DAD-B4B4-3F78FB51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B177E6-C6BA-4598-AB04-83FF0C80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EDBEBB-C1BD-4636-82AD-4762D29B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6F8968-EC4C-4C82-ADDD-7A8C1186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D021F2-89CA-4E0C-9549-129F8F0C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A3D7B3-455C-48FF-A428-97C44F1E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3A5A1D-DD40-4785-81E5-B08A52C4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C440AB-A974-4002-832D-B36EF368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B185E4-2B6B-4741-BFCE-44A8582D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F29BA8-1F6C-46B3-B953-4D4934B2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75554-8CDA-4B5E-B2B2-C10217DA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760E14-1B67-451C-A2F3-020988B7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15ED92-BED1-47A5-8B91-E7D7675A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E65A40-B013-496D-A291-6CAB00AB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47F54B-0320-408C-BA14-7B496F5F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F84B9C-A737-4C44-A380-B8562059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7FDAAF-9861-4CC8-9802-E23C411F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4094AD-EDF8-473D-B5D4-44F42653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2B6EFB-9792-4F20-9E2E-E5B5941E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82980E-2C4D-4446-B4AE-1F6EC447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A840BA-2B80-4C71-989C-544CFB9E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145A8-38EB-490E-A419-D41516EF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40BA0E-6149-464C-B34D-92382B7A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F09574-FF37-4E03-AB26-5F1236CC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9F2B28-D13C-4441-AF02-9AD7AAF3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E5BF0A-AFD3-42DF-BFC7-9B6A9A40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CD920E-1B2D-4D8B-A181-E0169219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074D2E-8394-45BB-A4FA-3FDA5911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ABAB9E-263F-45B9-8ADD-C664E98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B8FA1F-3FE1-4337-8ED2-111B4A1A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B027A5-68CC-4D36-B495-5CABE848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4F2516-D05C-4747-BE58-C16E99A0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6AE-BE03-42B1-8225-F124E78A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6E83-EFAB-417B-B259-8B54C708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B0AF2D-B095-4076-A703-459F423E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192837-AE11-409D-8403-DF632A90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40A075-8524-4D29-9A6B-83F65340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110F58-FE90-4665-BF26-727BE2D3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F9B988-F4C7-4688-8AB0-AA132C8D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E6C297-1594-413A-AB5A-7E75E652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6A3E34-F3FF-44A5-BEA1-2E24C0B0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B189A3-9E9E-459E-B9F9-78821824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7D63C1-70C7-43CE-91A1-F1864233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DCF379-A8A9-421B-93B5-978366A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5AB0-C88E-4DEE-81DD-398069D8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1D07B3-6F39-4455-85A3-0A7A013A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1CB6F7-163D-4B64-8144-21297006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5069A3-BE38-4054-9183-51FD1474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C5D4CB-78B8-4FF7-BD5A-4D95E5DA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E6F59E-F3A5-4739-A925-54B61548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03C81B-7ECB-4B4B-91EF-2A4C0C60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593787-8BE8-4306-A149-75074890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862009-0949-4FE5-8EBF-CC9DA660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15E6F8-8C6B-40D3-9853-04178543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BB7BA9-D740-4476-9618-0BEDC511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1231-4E83-45AC-9243-6885D38E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24FDC4-F6BD-42CA-A041-405D25FC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86CDA2-5663-4D52-9423-7D32EB5F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DC28B6-AC8B-45B2-AFA5-065F98D4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6DBA2F-88A3-4ADD-A237-74465032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8344C2-478C-4441-B6D0-55BF590C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253133-4768-427A-A719-3B712A6B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39CC19-9CE1-4657-A6AD-81B49009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B2AB54-FA04-49C7-AE80-C3F62C4D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95238C-1637-4310-BAA4-D546D818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CE7E7D-8D31-476D-A74E-3AB3AD45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DA34E-C8CC-4583-81A8-9FBACCF5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7CE3C3-A00E-46E9-8724-A8C07ACB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5064EA-39F1-46A8-A372-F3E20BF6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47FFC3-9E21-4306-8268-1FF4A1D8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3B14C7-DF9C-42E8-99BB-6591077B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46DB70-4B13-43B3-86B1-F43F1D03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A16B5D-C4FE-4405-B20F-DD409705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097E4C-3387-42E7-8D9E-9E8A6399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2763E-1D36-43A6-9D1E-C3A5AD3B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D369-E361-4C3F-A42D-FC6CAB53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D8B02-B5F0-4D40-AFDB-4EE466C9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8F33F-520A-4801-803F-41FF0F42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C5854-DD39-4628-9360-A96DAC3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1496-41E1-4388-BC5C-0161F296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B9F-F498-4152-9EAD-19B5D0B4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2F97E-99F5-479A-9CC5-DE842C61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A2A4-25F5-4F6D-A95C-24458D5A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DF1E-6CF8-44D8-B1B3-F085915F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1EDE-F001-4D93-940A-0ED536A0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B0C20-856D-42F2-A532-6ACF817B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12FB3-4064-4F26-8579-0467ECE2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7AA1E-8E3F-489B-AB28-A3DDCFE9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6A463-846E-42CB-B155-B5372D9C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037CB-1C6A-4EE2-88D5-FF634F95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7CA18-B2A5-48F5-8267-AFE4BAE0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1D3-6457-487B-8100-722A9CAF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34C8-13FA-4EB9-88C3-91D574BD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32CC-A262-4C5F-8497-BCE0BFBD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5A5A2-7DDC-490D-A554-22BA247D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663FE-2CBF-48D9-9B5A-09A92620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16425-5984-4C73-850C-1F0600E3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3F972-0AF3-4990-8B16-C69254A5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E1CF0-098B-4C37-9D11-DDD268EA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4C18A-65E8-48B9-B8B3-7D793F00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7A596-3BB8-45FB-90EC-7D059824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82D4B-E905-4363-A55F-4BE82DF8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519-C3C6-4B00-9BD4-13472039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8BD57-561C-4FC7-A389-304E47C8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790C8-C609-4FF1-AD96-79082DA2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964A8-C5D2-4401-86F3-E642E8F7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C0A5A-4BE3-42BE-98DC-33EB7BCD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64E85-0D92-4872-B69E-E1E714A4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5687F-F113-48F2-A908-B9F555A6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F13C8-1643-4358-ABC9-84BDF3BE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191B6-D815-43F8-9CEE-09EBA155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5AE41-AEF7-4B94-9F00-EAD35E7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E2D33-30A8-4B2D-A1D9-DCE40C4A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415-2274-4343-935F-D79CE217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75700-488D-402A-9DD3-84C0C096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1C7F5-0992-4EC7-B429-1FB2F96E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95594-5827-4773-8FB7-6365E55C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D850D-7F82-4941-962A-4444F90D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8FBB-8CFC-482C-B45F-1216C13C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188E8-3DD6-4F3C-878E-E5D711D3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028A8-90B3-4F08-9BC5-9B0A0A3B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B1845-B43B-435A-A7B5-E9C46903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1E731-826A-490A-9599-BB20B424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4FD6A-AFEF-4851-BCA7-9445AE3D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D52-B75D-46D4-9E5E-186034D5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3E190-5CC5-486E-8615-C5CAFEEE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7FD86-7B95-4B54-8088-C32AF7C1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38635-1916-4F55-AA4B-1186C92C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91D9B-D9B4-43E0-B668-B99643FA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DAA85-5569-4638-9EC5-05CA7CDA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CAA2B-36CB-4B41-89E0-D82AE36D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1D302-5EDD-4AE0-91C7-FCCD5DC0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4BCA0-3522-449C-BF95-044B1D92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6A52F-0833-4609-9C75-36C021FA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39AB7-3F0F-4455-99C7-77C621EB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7E9-72F0-4928-976C-66AF71C0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41D01-0E47-4188-881C-28941D1D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DAF50-1D81-494C-9E7C-BF5C27FE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DE5F8-C54D-4AF4-BCB1-0326CBBB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ABC9F-8C4D-41B1-BB0E-1DBB193B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4840" y="440856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07AB9-ED44-4F6D-A475-5A8F5DAA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1880" y="25650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7484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91880" y="440856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3D40B-53CD-4CA6-A0B5-F9CDA79B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5728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39720" y="25650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7484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5728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39720" y="440856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CE85C-C9F1-4D9C-9890-2EF86723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C9355-91B5-4BA3-8DAD-06EFE1C9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B717B-E3C5-46C9-9EC4-B72ECECA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F8DEE-02F8-4B25-BFB4-FAFAEAD8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220F-CE62-436A-9ACB-37B583C073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DCA1-5FDF-4FE8-B170-56F1BD5E7E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25A5-8CA9-4520-A797-995FDE4702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47ED-8A54-41A0-9BFA-7056E98103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9DE1-1F47-46C0-B735-5D9867B46C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8CA0-B9A0-4F25-BBC8-F82E2CCD77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3"/>
          <a:stretch/>
        </p:blipFill>
        <p:spPr>
          <a:xfrm>
            <a:off x="3649680" y="17784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"/>
          <p:cNvPicPr/>
          <p:nvPr/>
        </p:nvPicPr>
        <p:blipFill>
          <a:blip r:embed="rId4"/>
          <a:stretch/>
        </p:blipFill>
        <p:spPr>
          <a:xfrm>
            <a:off x="422928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-360" y="6665400"/>
            <a:ext cx="2771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pyright_borojoint_thinkstockphotos_135155824_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FC01-FAC0-4930-96EC-A0C62D81D2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3"/>
          <a:stretch/>
        </p:blipFill>
        <p:spPr>
          <a:xfrm>
            <a:off x="3649680" y="17784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" descr=""/>
          <p:cNvPicPr/>
          <p:nvPr/>
        </p:nvPicPr>
        <p:blipFill>
          <a:blip r:embed="rId4"/>
          <a:stretch/>
        </p:blipFill>
        <p:spPr>
          <a:xfrm>
            <a:off x="422928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630" name="TextBox 12"/>
          <p:cNvSpPr/>
          <p:nvPr/>
        </p:nvSpPr>
        <p:spPr>
          <a:xfrm>
            <a:off x="311040" y="6292800"/>
            <a:ext cx="13543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8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551C-1D55-42D3-A4EF-7BFE2A1EE4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1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C46C-C342-41CA-9209-3745D0BE4A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758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54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EF1F-A5BC-4ED6-9AFD-08DE93656E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A40D-6EA7-480E-BF10-CC28E710754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57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6738-BACF-4438-9093-8D283D2F9D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60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9A66-F1C3-4130-8A81-9D9F9AD392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0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3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E0AD-B58F-49E7-9301-75A3F0AF6C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34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6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9B98-9B25-4B2B-BBC8-6B3E8BD08C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69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404F-597E-40D7-B4D4-537F41EA31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022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2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B5FE-6E4D-4BE8-B5D1-45182469CE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066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75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3D61-B702-43DE-ACFA-7EACF32629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10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78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2851-8250-45BA-8ABD-9E54759ECB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54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81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33D9-A2B9-49BF-8FF3-E74799F2E1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D7F1-F29C-4F7B-B864-FBD51CCC9D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4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B644-0228-42A5-89D5-DBD660FB206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8B18-18F6-446C-8025-EF76CEE8C5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FE13-E73D-4FF5-9A92-1A98BBCA25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E20A-140F-4C01-B483-8561E6CEAF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D702-604D-4575-A329-42FA39DB10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7F9F-F423-4543-9155-52EF560BAA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08000" y="184428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29fb"/>
                </a:solidFill>
                <a:latin typeface="Verdana"/>
              </a:rPr>
              <a:t>Balance sheet for Ethyl Alcohol 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250920" y="2924280"/>
            <a:ext cx="86421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29fb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29fb"/>
                </a:solidFill>
                <a:latin typeface="Verdana"/>
              </a:rPr>
              <a:t>«CDG ARABLE CROPS – COP (CEREALS OLEO-PROTEIN)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29fb"/>
                </a:solidFill>
                <a:latin typeface="Verdana"/>
              </a:rPr>
              <a:t>+ ENERGY AND NON-FOOD CROPS »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29fb"/>
                </a:solidFill>
                <a:latin typeface="Verdana"/>
              </a:rPr>
              <a:t>13 October 2014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9" name="TextBox 2"/>
          <p:cNvSpPr/>
          <p:nvPr/>
        </p:nvSpPr>
        <p:spPr>
          <a:xfrm>
            <a:off x="7164360" y="12682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3329fb"/>
                </a:solidFill>
                <a:latin typeface="Verdana"/>
              </a:rPr>
              <a:t>DG AGRI - C4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2013 Balance sheet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01" name="Picture 1" descr=""/>
          <p:cNvPicPr/>
          <p:nvPr/>
        </p:nvPicPr>
        <p:blipFill>
          <a:blip r:embed="rId1"/>
          <a:stretch/>
        </p:blipFill>
        <p:spPr>
          <a:xfrm>
            <a:off x="1309680" y="2276640"/>
            <a:ext cx="65246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2013 Ethyl Alcohol Product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3" name="TextBox 2"/>
          <p:cNvSpPr/>
          <p:nvPr/>
        </p:nvSpPr>
        <p:spPr>
          <a:xfrm>
            <a:off x="179280" y="6337440"/>
            <a:ext cx="302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Source: MS notifications</a:t>
            </a:r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04" name="Picture 2" descr=""/>
          <p:cNvPicPr/>
          <p:nvPr/>
        </p:nvPicPr>
        <p:blipFill>
          <a:blip r:embed="rId1"/>
          <a:stretch/>
        </p:blipFill>
        <p:spPr>
          <a:xfrm>
            <a:off x="42840" y="1998720"/>
            <a:ext cx="3724200" cy="43146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" descr=""/>
          <p:cNvPicPr/>
          <p:nvPr/>
        </p:nvPicPr>
        <p:blipFill>
          <a:blip r:embed="rId2"/>
          <a:stretch/>
        </p:blipFill>
        <p:spPr>
          <a:xfrm>
            <a:off x="3639960" y="1984320"/>
            <a:ext cx="5391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U Production by main raw material </a:t>
            </a:r>
            <a:br>
              <a:rPr sz="2000"/>
            </a:br>
            <a:r>
              <a:rPr b="1" lang="sv-SE" sz="2000" spc="-1" strike="noStrike">
                <a:solidFill>
                  <a:srgbClr val="0f5494"/>
                </a:solidFill>
                <a:latin typeface="Verdana"/>
              </a:rPr>
              <a:t>IMPORT from  extra EU under NC 2207-220890</a:t>
            </a:r>
            <a:br>
              <a:rPr sz="20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07" name="Picture 1" descr=""/>
          <p:cNvPicPr/>
          <p:nvPr/>
        </p:nvPicPr>
        <p:blipFill>
          <a:blip r:embed="rId1"/>
          <a:stretch/>
        </p:blipFill>
        <p:spPr>
          <a:xfrm>
            <a:off x="447840" y="2446200"/>
            <a:ext cx="8248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2013 Ethyl Alcohol Disposal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9" name="TextBox 1"/>
          <p:cNvSpPr/>
          <p:nvPr/>
        </p:nvSpPr>
        <p:spPr>
          <a:xfrm>
            <a:off x="108000" y="6251400"/>
            <a:ext cx="259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Source: MS notifications</a:t>
            </a:r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10" name="Picture 2" descr=""/>
          <p:cNvPicPr/>
          <p:nvPr/>
        </p:nvPicPr>
        <p:blipFill>
          <a:blip r:embed="rId1"/>
          <a:stretch/>
        </p:blipFill>
        <p:spPr>
          <a:xfrm>
            <a:off x="52560" y="1984320"/>
            <a:ext cx="3724200" cy="432432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" descr=""/>
          <p:cNvPicPr/>
          <p:nvPr/>
        </p:nvPicPr>
        <p:blipFill>
          <a:blip r:embed="rId2"/>
          <a:stretch/>
        </p:blipFill>
        <p:spPr>
          <a:xfrm>
            <a:off x="3713040" y="1990800"/>
            <a:ext cx="53913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thyl Alcohol from Agriculture origin</a:t>
            </a:r>
            <a:br>
              <a:rPr sz="2800"/>
            </a:b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Disposal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13" name="Picture 1" descr=""/>
          <p:cNvPicPr/>
          <p:nvPr/>
        </p:nvPicPr>
        <p:blipFill>
          <a:blip r:embed="rId1"/>
          <a:stretch/>
        </p:blipFill>
        <p:spPr>
          <a:xfrm>
            <a:off x="399960" y="2424240"/>
            <a:ext cx="82677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ank you for your attention!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copyright_borojoint_thinkstockphotos_135155824_low</a:t>
            </a: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FAGNINI Massimo (AGRI)</dc:creator>
  <dc:description/>
  <dc:language>en-US</dc:language>
  <cp:lastModifiedBy>FAGNINI Massimo (AGRI)</cp:lastModifiedBy>
  <cp:lastPrinted>2014-10-10T09:03:37Z</cp:lastPrinted>
  <dcterms:modified xsi:type="dcterms:W3CDTF">2014-10-10T09:53:13Z</dcterms:modified>
  <cp:revision>184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