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9D3C-810D-491F-89CC-C0B80B7AF8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8B9A-4D0F-49B1-91DB-CB6E11683A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039C-400E-4B70-91F8-F092650402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BF02-EC3D-4F3B-97D2-0846935A68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27E1-BDBF-4A7F-AFE9-406247566C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94A4-90F6-41D2-83D6-BC65ADFD14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E5F5-55DE-4F6D-A9FA-65CC910A27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1271-E19D-47F7-8DEF-DE60BF18AF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64A2-B862-4548-AE33-5136C6B372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9185-CA20-4D57-92ED-811156D2C9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59A0-3EC3-40F2-BEDF-008D4348AC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B9A5-FD1A-4F9D-B443-A5F571B0B8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B6D2-8D7F-4E7F-A302-277B9CA0B6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F4A0-8D1E-4D56-B9D0-E917CB64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E2F-BE2B-48CC-805B-AE26C21F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88155-197C-48CE-B1C4-045278B6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A66C2-D225-498D-9C61-B3BC719E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3196A-DD36-4D7C-A964-E098A11C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461AD-656A-4A20-A6AC-949F94D9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2933F-85AE-4811-A391-B8B46075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FEB7A-8286-427F-9C13-C3F71D11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64EC7-B3D7-4FD8-A06C-C36FC5C4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882D9-6871-46FF-843F-86C34EF6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B2046-E90B-4949-B511-35331191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4E678-34F0-4326-96D8-0B46116B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9E9-CEFC-4003-A072-F370A926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8A155-CA2F-42C6-A922-2B654E3A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471BB-0E61-49AB-A3C6-F0A9EBAF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D20BF-D586-4AB6-BED1-8FB56FD8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81F73-E1E6-40B4-B341-911CE315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9F190-C0C7-41EB-BB91-D83086F8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F1BF8-82D4-4416-BE8F-9667263A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19203-7B39-46D4-91EB-5D86D68E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69C11-CF30-463F-A25E-97713114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4677C-C3A2-4A69-8489-2D1821E3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9205E-F5C8-4439-A866-4362ED53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0C4-6514-4205-8B3B-1EF2EE10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5D2CC-89F5-4DB8-878E-90EDCD6B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8D771-A29D-4E27-841E-750D5080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30FA0-39E9-434B-8189-B3DD31E4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307A8-7240-4091-836D-44445334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97BDC-BA94-48A6-844A-A91FAC31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E15DC-56D8-4C61-AE1F-3E044C22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83B82-6FD9-464F-AEDA-6170C6BF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CBBBC-F16F-4325-895F-750C820C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FA781-4854-4A1D-A941-7771C6CE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CBE05-7109-4E4C-A62F-21A21A7C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0545-5C2E-43B3-9209-5151EBC8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58FDB-0091-4D5C-9DD5-E56937B7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53EC4-7F22-4E71-8CBA-B4F66F6E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46961-9C8B-4FFD-A296-9DEE6D80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F9C0A-1648-4D24-AA7C-47BBDC10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43ED5-9531-4EAC-9195-7582D322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977F4-5B84-417C-A064-632B0235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EB427-EFC0-4582-AC8C-CCEB1A4C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89DFF-E234-4132-9867-CFA15278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6E0B8-AAE5-4E31-94E9-B60F44B3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FA649-59A2-408F-BE33-C558CACF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9BB2-CB38-47C4-8EA9-7FFA82CC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23A5B-A4C0-4CA1-A72A-7D6812DB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CCC6D-8122-402B-9949-4C6AB5F2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6BBBF-851C-4766-9C74-F142D894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B38A0-2737-46F9-9C8B-31480093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EEC6D-11C7-4C01-A2A4-B2CAC1FA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6B3B-A23C-40F2-83A4-72261122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429C-F6DA-4616-AB15-2888B731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176B-E10F-4E84-A8A9-7BF86C51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27AE-7B02-4EA4-9638-A133D42E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23DD-F703-4731-B6F5-E7DE6F09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654-7FBC-4986-80B2-7F04CED9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7774-D120-449D-A2E5-8AD133BD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0DB5-F486-4B48-AC92-9AB8E4DE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6595-00DF-4028-B34B-D79C8054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3F10-7BF4-44C2-91C7-9844771E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E083-E674-48E7-9317-BF29D501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619B8-CE5D-4AF3-B5BC-99269401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80BCB-790F-4F10-995F-A20DB245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EDD44-EAD3-41E6-9897-A9DB4B8D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32A44-65B6-477E-B435-02A7151D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0DC8A-824C-401C-96D6-673F1F9C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D63-50C0-4933-BCA3-52807A22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5D8EF-0BB1-4205-9557-92BFB392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7449F-EFDB-4164-A183-FE8F2721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B94D3-A23D-4101-9713-8F0FFCC4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60889-FCC1-412D-9A9A-01AA941B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13535-95E1-4468-9E99-A064A369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76CDE-897B-4AA7-838F-6C793254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982AD-6F32-4701-8FEC-85CB37B4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4018E-463E-413D-BAB0-D835C82E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89525-7F72-4ED4-84E1-26FA6219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6D542-41DA-4526-991D-7760F3F6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16DF-0208-4E35-9B90-F1BB0488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FED26-C8DD-46FB-989C-DF473B76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9AB4F-A57F-41FC-8116-F63A5B23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93C44-CB2E-45B4-8F96-2F34C861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6F02A-59BB-4D9B-90DB-1CF2CB92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B58BE-4C93-4986-946D-2C0D4354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A8DF7-08E6-4BC2-8E58-30034289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0A5EF-6B23-47B6-B4A2-D03B4E56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F870A-39EA-4F21-99D8-21C465C5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0A764-3A68-45CC-B774-DCB6921C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447E7-6EFE-4766-B111-58DFDA79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4014-A45D-4BA9-BCF1-2689D15D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BFED9-949F-43AD-9B92-4DB0950A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33281-B998-4AC3-BE78-60311E2E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A8D85-610D-44CE-A0E8-ADCCF86F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983E4-777A-40B7-BA51-4A40E5A5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56D4F-45FF-449D-BEB3-51EB363B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BDDD5-DEEC-4781-A519-831C97E4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1A7D3-4617-4C06-8B7F-1DF30AD4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51D18-2F4F-429A-84BD-F668910F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1D730-A26A-4C0B-9159-1B2B8EA1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02E6A-93B8-4B94-A814-7309DEED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E56-D32A-468B-AE94-1CB6840C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90652-DC6C-40A2-A806-F60A0E2D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67B46-B41C-4A54-80E8-21A06A52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70F18-D0C1-4D93-8C44-B1EC4801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8E165-E531-4480-8031-09F8ABFB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19B18-8F78-4CC9-A6A2-FBBCF4E5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BC29A-4A6A-40D6-BEA6-C8DA3A62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AFC85-5D73-4AFA-8528-460CE295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84AA1-CCF9-4F87-BD1A-B407CB4C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87EE5-CB2C-47BB-8C5C-16CEADED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D7DA7-5118-4717-A52E-9CF20270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08E-2A8D-4A35-89CA-AC042A1F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5566A-0A7F-4B94-8E47-95823ACB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7DFC6-CD83-4512-9278-22491665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99ACC-1054-40DF-A319-B1F1B483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09378-0092-4B0F-8987-A63207FB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6DA6A-BFFD-4B72-8265-3102EDA1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1F6B1-3E15-4C91-8F0C-91A0F4FA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AA76B-B121-4C3C-A77E-F4D97D3A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23B62-DA85-4B72-A058-32E76AAD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9201F-5102-480B-8634-983E1D0A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51E06-958D-497D-B8DD-1353CB00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FCC-9B0E-4522-BD86-9D163248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6B8BD-10A0-4EC8-B3C3-91ED4D36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F13E4-9508-483A-9E3B-05D50E48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2AF2B-3452-4056-A24F-19AC4DFA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E5407-8B3C-423D-AD87-D246B49F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8E26C-10A1-4DF2-A945-D3C7142E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858E4-B154-4F4A-92E5-915CCA3F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7511F-3858-46AC-B615-531B2C6F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8586F-892F-4AD0-A416-61328671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39D37-6C25-4B23-8ED6-17D9ECFF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42C1E-43D5-4E4A-A790-B27EFA65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3E38-F355-4F76-AFC9-F7585F88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E457A-5A7A-45E6-B878-17494A4B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4581D-1AA7-49C3-BDDF-58E0902D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FBEBA-81C7-4EC0-951D-D99426AF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5E864-FA85-4541-A2D9-1B8F55CF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F61AB-C597-4E0B-AC3F-819B5F27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3B68A-7E54-4938-9820-8DDF8317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94481-6A13-41BF-8BEB-73036C3B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69919-C70D-4745-AB13-87A4793F1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D3E72-5B8A-4A1A-B6DF-8F55C03A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E0FDE-1667-43A3-9F4E-B4BA8B80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C197-5BB2-419D-A0BF-78B2C45587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C812-EACF-4421-944E-F593729943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C073-040B-480E-88FC-E38ED0F384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8381-B667-4D9F-A227-2EDCC2FFDC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746F-DE46-41B6-AE96-EE1742D5EBC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02AD-AB67-4AE4-8A72-ADB1A35881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E69F-DDB4-4AEF-B561-8C15ADA2D7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4071-5B47-4202-928B-1A0449B093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D3E8-43ED-4DEE-862F-F1FE19300A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B50F-690C-41F9-95ED-CBD197C15D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04B8-6F16-424B-9E98-40FE432C93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2689-1808-4CF0-A514-A888CAE2AA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0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4"/>
          <p:cNvGrpSpPr/>
          <p:nvPr/>
        </p:nvGrpSpPr>
        <p:grpSpPr>
          <a:xfrm>
            <a:off x="57240" y="3357720"/>
            <a:ext cx="9043920" cy="2079360"/>
            <a:chOff x="57240" y="3357720"/>
            <a:chExt cx="9043920" cy="2079360"/>
          </a:xfrm>
        </p:grpSpPr>
        <p:pic>
          <p:nvPicPr>
            <p:cNvPr id="506" name="Picture 9" descr="U:\09. Strategy and coordination\Presentations\2014 Presentations\watermelons ec_organic_28_big.jpg"/>
            <p:cNvPicPr/>
            <p:nvPr/>
          </p:nvPicPr>
          <p:blipFill>
            <a:blip r:embed="rId1"/>
            <a:stretch/>
          </p:blipFill>
          <p:spPr>
            <a:xfrm>
              <a:off x="57240" y="3357720"/>
              <a:ext cx="3107880" cy="20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10" descr="U:\09. Strategy and coordination\Presentations\2014 Presentations\bread ec_organic_183_big.jpg"/>
            <p:cNvPicPr/>
            <p:nvPr/>
          </p:nvPicPr>
          <p:blipFill>
            <a:blip r:embed="rId2"/>
            <a:stretch/>
          </p:blipFill>
          <p:spPr>
            <a:xfrm>
              <a:off x="3079800" y="3357720"/>
              <a:ext cx="3107880" cy="20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11" descr="C:\Users\mahylou\Desktop\EU_Organic_Logo_Colour_OuterLine_rgb.jpg"/>
            <p:cNvPicPr/>
            <p:nvPr/>
          </p:nvPicPr>
          <p:blipFill>
            <a:blip r:embed="rId3"/>
            <a:srcRect l="10326" t="4040" r="7090" b="7445"/>
            <a:stretch/>
          </p:blipFill>
          <p:spPr>
            <a:xfrm>
              <a:off x="6188040" y="3357720"/>
              <a:ext cx="2913120" cy="20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TextBox 3"/>
          <p:cNvSpPr/>
          <p:nvPr/>
        </p:nvSpPr>
        <p:spPr>
          <a:xfrm>
            <a:off x="1377360" y="1484280"/>
            <a:ext cx="598860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Action Plan for the future of 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organic production in the 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European union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Verdana"/>
              </a:rPr>
              <a:t>State of Play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0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4C24-CB82-46E5-9276-8E59EFB6AB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mpetitiveness</a:t>
            </a:r>
            <a:br>
              <a:rPr sz="2400"/>
            </a:b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Research and Innov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95280" y="2204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Recommendation to stakeholders to set up a database on availability of organic seeds.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Similar initiatives encouraged for aquaculture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Workshops and conferen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Conference on research and innovation priorities - Expo Milano – May 2015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Very successful ev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Wide particip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The results will fit into the H2020 work programm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Organic in Horizon 2020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Close collaboration with other Commission teams for the preparation of the work programm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Organic is increasingly present and visibl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mpetitiveness</a:t>
            </a:r>
            <a:br>
              <a:rPr sz="2400"/>
            </a:b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Research and Innov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08000" y="2204640"/>
            <a:ext cx="885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Regular facts and figures on organic productio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During 2014 and 2015: enhanced collaboration with EUROSTAT and simplification of the questionnaire;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Results: more statistics available and published on EUROSTAT's website (by November 2015, all MS provided – at least some - data).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Ongoing work: clarification of definitions in order to improve data quality and consistency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Study on the added-value along the organic food supply chain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Survey on the attractiveness of the organic scheme for small farmer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In preparation – foreseen for 2017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7402680" y="5950080"/>
            <a:ext cx="7650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27040" y="1206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Distribution of the added value along the  organic food chain</a:t>
            </a: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554040" y="2060640"/>
            <a:ext cx="8066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Study launched in 2015, 2 offers received in September 2015, procurement procedure about to be finalised and study completed by end of 2016.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Contractor: Thuenen Institute of Farm Economics.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7381800" y="6093000"/>
            <a:ext cx="765360" cy="512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"/>
          <p:cNvPicPr/>
          <p:nvPr/>
        </p:nvPicPr>
        <p:blipFill>
          <a:blip r:embed="rId2"/>
          <a:stretch/>
        </p:blipFill>
        <p:spPr>
          <a:xfrm>
            <a:off x="471600" y="3259080"/>
            <a:ext cx="822960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nsumer awareness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95280" y="2204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Encourage MS to explore synergies of the accreditation bodies and competent authoriti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08440" indent="-2214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Discussion in RCOP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08440" indent="-2214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The revision of guidelines on control is ongoing and will be completed once the new regulation is approve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Liaising with Acreditation Bodies for Control Bodies in Third Countri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08440" indent="-2214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Participate in major events with relevant partner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Integration of organic production legislation in the TARIC databas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08440" indent="-221400">
              <a:spcBef>
                <a:spcPts val="349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Preparatory action have been finalised in close collaboration with DG TAXUD and M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08440" indent="-221400">
              <a:spcBef>
                <a:spcPts val="349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Need to finalise the elettronic certification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08440" indent="-221400">
              <a:spcBef>
                <a:spcPts val="349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Likely to be completed in 2016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nsumer awareness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95280" y="1844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Electronic certification for import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electronic certificate ready in TRACES for January 2016;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amendments of Regulation No 1235/2008 are being discussed with MS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the e-certificate to be used once the amended regulation enters into force (transitional period foreseen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Electronic certification for internal marke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Kick off development in  early 2016 . Operational in 2018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Objective: to create a publicly available database on organic certificates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00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Documentary evidence translated into IT tools + some new features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Targetted workshops to assist MS with fraud prevention polic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f7f7f"/>
                </a:solidFill>
                <a:latin typeface="Verdana"/>
              </a:rPr>
              <a:t>Liaising with </a:t>
            </a: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SANTE</a:t>
            </a:r>
            <a:r>
              <a:rPr b="0" lang="en-GB" sz="1400" spc="-1" strike="noStrike">
                <a:solidFill>
                  <a:srgbClr val="7f7f7f"/>
                </a:solidFill>
                <a:latin typeface="Verdana"/>
              </a:rPr>
              <a:t> (Food Fraud Network) and OLAF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HLConference on fraud controls July 2015, Milan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IT tool, administrative assistance and coopération system, November2015.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7f7f7f"/>
                </a:solidFill>
                <a:latin typeface="Verdana"/>
              </a:rPr>
              <a:t>Compedia/casebook of fraud cas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Closely working with SANTE</a:t>
            </a:r>
            <a:r>
              <a:rPr b="0" lang="en-GB" sz="1400" spc="-1" strike="noStrike">
                <a:solidFill>
                  <a:srgbClr val="7f7f7f"/>
                </a:solidFill>
                <a:latin typeface="Verdana"/>
              </a:rPr>
              <a:t> </a:t>
            </a: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Food Fraud Network, FVO and OLAF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31480" indent="-22608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 </a:t>
            </a: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will follow (2017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External dimension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23640" y="1844640"/>
            <a:ext cx="856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Support and cooperate with trade partners from developing countri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Liaising with DEVCO; first results are appear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Plurilateral agreement among leading organic partners in the World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Long term proces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A priority to lead the agenda for convergence of standard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Statistical data on trade with third countri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A study to be carried out "analysis of EU trade of organic products"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7f7f7f"/>
                </a:solidFill>
                <a:latin typeface="Verdana"/>
              </a:rPr>
              <a:t>Codex Alimentariu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Aquacultur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Organic wine rul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7f7f7f"/>
                </a:solidFill>
                <a:latin typeface="Verdana"/>
              </a:rPr>
              <a:t>Aim to increase protection of EU organic logo in 3rd countrie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       </a:t>
            </a: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- Protection of EU logo in international agreement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onclu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22762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Medium term process (2014-2020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We are making important progres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A strategic framework for the sector, a major priority for the Commiss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Available at : </a:t>
            </a:r>
            <a:br>
              <a:rPr sz="1600"/>
            </a:b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http://ec.europa.eu/agriculture/organic/eu-policy/european-action-plan/index_en.htm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3059280" y="3357720"/>
            <a:ext cx="285408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118120" cy="4730760"/>
          </a:xfrm>
          <a:prstGeom prst="rect">
            <a:avLst/>
          </a:prstGeom>
          <a:ln w="0">
            <a:noFill/>
          </a:ln>
        </p:spPr>
      </p:pic>
      <p:sp>
        <p:nvSpPr>
          <p:cNvPr id="551" name="TextBox 3"/>
          <p:cNvSpPr/>
          <p:nvPr/>
        </p:nvSpPr>
        <p:spPr>
          <a:xfrm>
            <a:off x="7020000" y="278136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Verdana"/>
              </a:rPr>
              <a:t>Released in 2013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171360" indent="-17136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Verdana"/>
              </a:rPr>
              <a:t>Data till 2010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52" name="Picture 2" descr=""/>
          <p:cNvPicPr/>
          <p:nvPr/>
        </p:nvPicPr>
        <p:blipFill>
          <a:blip r:embed="rId2"/>
          <a:stretch/>
        </p:blipFill>
        <p:spPr>
          <a:xfrm>
            <a:off x="7402680" y="5950080"/>
            <a:ext cx="7650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5694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Electronic COI – results and next step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227664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spcBef>
                <a:spcPts val="451"/>
              </a:spcBef>
              <a:buClr>
                <a:srgbClr val="0066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Aim of e-COI in TRACES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51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Better trace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51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Better control at import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51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Simpler administrative proces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17160" indent="-317160">
              <a:spcBef>
                <a:spcPts val="451"/>
              </a:spcBef>
              <a:buClr>
                <a:srgbClr val="0066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NEW: E-COI ready to use!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https://webgate.ec.europa.eu/tracesnt/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17160" indent="-317160">
              <a:spcBef>
                <a:spcPts val="451"/>
              </a:spcBef>
              <a:buClr>
                <a:srgbClr val="0066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Will be adapted to include amendments to R1235/2008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17160" indent="-317160">
              <a:spcBef>
                <a:spcPts val="451"/>
              </a:spcBef>
              <a:buClr>
                <a:srgbClr val="0066cc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Workshops/trainings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51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Presentation in Biofach – 10-12 Feb 2016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51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Workshops with national experts – end Feb 2016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51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EOCC training – 11 May 2016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90840" indent="-265680">
              <a:spcBef>
                <a:spcPts val="451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Next workshop with national experts – Sep 2016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17160" indent="-317160"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7785000" y="6165720"/>
            <a:ext cx="76536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Action Plan on the future of Organic Production in Europe (short summary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263700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Previous Action Plan in 2004, 21 actions including creation of new log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New Action Plan: 18 actions to be implemented till 2020 and 2 recommenda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3 priority domains: producers competitiveness, consumer confidence and external dimens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3348000" y="5381640"/>
            <a:ext cx="21607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mpetitiveness</a:t>
            </a:r>
            <a:br>
              <a:rPr sz="2400"/>
            </a:b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Information on CAP Instru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95280" y="2204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Recommendation on use of RD funds, Common Fisheries Polic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End of 2015, adoption of 118 RD programme. All but NL included OF. NL used state aid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Unit actively involved in the analysis and future modifications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Informative document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	</a:t>
            </a: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- see leaflet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Inclusion of organic farming as a specific theme in calls for tender for information measur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Done for 2014 ca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Raising awareness on promotion instrument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Ongo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mpetitiveness</a:t>
            </a:r>
            <a:br>
              <a:rPr sz="2400"/>
            </a:b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wareness of EU scheme and log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95280" y="2204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Periodical surveys on consumers awareness of the logo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Takes place every two years through the Eurobarometer; in 2015 last survey. Data will be available in January 2016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f5494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Repetition of Questions so as to see the evolution/tren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Survey on consumers awareness and confidence in and understanding of the schem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Preparation ongo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Date still to be decide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5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7f7f7f"/>
                </a:solidFill>
                <a:latin typeface="Verdana"/>
              </a:rPr>
              <a:t>Revision of Green Public Procurement criteria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Study carried on by JRC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First meeting of the ad-hoc working group in Jan 2016.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f7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7f7f7f"/>
                </a:solidFill>
                <a:latin typeface="Verdana"/>
              </a:rPr>
              <a:t>Revised GPP criteria for food and catering planned to be adopted end of 2016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8" name="Picture 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80360" y="5970600"/>
            <a:ext cx="7650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3348000" y="5381640"/>
            <a:ext cx="2160720" cy="14763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449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"/>
          <p:cNvPicPr/>
          <p:nvPr/>
        </p:nvPicPr>
        <p:blipFill>
          <a:blip r:embed="rId3"/>
          <a:stretch/>
        </p:blipFill>
        <p:spPr>
          <a:xfrm>
            <a:off x="0" y="4076640"/>
            <a:ext cx="9144000" cy="2890800"/>
          </a:xfrm>
          <a:prstGeom prst="rect">
            <a:avLst/>
          </a:prstGeom>
          <a:ln w="0">
            <a:noFill/>
          </a:ln>
        </p:spPr>
      </p:pic>
      <p:sp>
        <p:nvSpPr>
          <p:cNvPr id="522" name="Content Placeholder 3"/>
          <p:cNvSpPr/>
          <p:nvPr/>
        </p:nvSpPr>
        <p:spPr>
          <a:xfrm>
            <a:off x="250920" y="5732640"/>
            <a:ext cx="87138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4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f5494"/>
                </a:solidFill>
                <a:latin typeface="Verdana"/>
              </a:rPr>
              <a:t>http://ec.europa.eu/COMMFrontOffice/PublicOpinion/index.cfm/Survey/getSurveyDetail/instruments/SPECIAL/surveyKy/2087</a:t>
            </a:r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611280" y="1557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Recognition of quality labels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Slightly more than six out of ten Europeans (63%, +3 percentage points since 2013) are aware of at least one logo, which is a trend that is unchanged since the survey in 2012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The Fair trade logo is the most recognised (37%, unchanged) followed by the Organic Farming logo (23%, -2)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99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Respondents are now much more likely to recognise the Protected Designation of Origin logo than they were in previous years (20%, +7 percentage points since 2013)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Recognition of quality label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1311120" y="1989000"/>
            <a:ext cx="66456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50560" y="1557360"/>
            <a:ext cx="8497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Analysis</a:t>
            </a: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per country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Organic farming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: Lithuania has experienced the greatest increase in awareness of the organic farming logo and has the highest awareness level across all countries (56%, +25pp since 2013 survey)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The country with the highest awareness level during the last survey, Austria has experienced the largest decrease in awareness during the 2015 survey (47%, -13pp)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Analysis by type of responden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68360" y="26049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Politically aware respondents are more likely to recognise at least one logo (74% with strong political interests for 63% with low political interest, or 49% with none at all). In particular, politically aware respondents are more like to recognise the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Organic farming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nd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Fair trade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logos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 algn="just">
              <a:spcBef>
                <a:spcPts val="451"/>
              </a:spcBef>
              <a:buClr>
                <a:srgbClr val="0f5494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Organic farming - 31% of respondents with strong interests for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- 22% with low political interest,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- 16% with none at all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30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4400" y="5732640"/>
            <a:ext cx="76536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PLANCHENSTEINER Daniela (AGRI)</dc:creator>
  <dc:description/>
  <dc:language>en-US</dc:language>
  <cp:lastModifiedBy>BUTTINI-PROVENZANO Roberta (AGRI)</cp:lastModifiedBy>
  <cp:lastPrinted>2016-04-14T06:33:07Z</cp:lastPrinted>
  <dcterms:modified xsi:type="dcterms:W3CDTF">2016-04-14T06:33:55Z</dcterms:modified>
  <cp:revision>234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