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A141-F68D-4817-8D7F-D00A6AA41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57EB-E54C-4E50-A1E4-FF22401D32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5EEA-1402-4B2F-B7B5-3485C186A5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4F4-17EA-475C-B541-09BE51F548A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BCEE-80B3-4E35-8F54-3580A9E2E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BE96-A6AA-41D8-8ED3-D5AB7D057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6AAE-D713-4A37-ABC6-D8461D7CE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365-B2F6-4B39-B955-C0BA3AA6A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5F7-91D2-43B1-AD18-65BE8AFDC8C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DF62-BE16-414C-B6E5-A1965D427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3498-CD36-4BAE-A563-86C68A54B7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277B-76F4-4BC2-96B1-FD5D0FDCC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655B-A991-4E51-A353-D3BEDE78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83A-7D0F-4D70-9F74-1F70E66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598-C6A7-44B7-A51C-C819EF68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ADC2-C5DB-43CD-8B78-8C04293C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153-A6B7-4774-985B-29EE4102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9B01-3C57-40A2-A390-E3DA4BC5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E9EB-A2F3-42B9-81C8-FF3B1A4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6BB4-65D4-4AC8-ACE7-35B7C62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B11-275B-4800-B855-CE21EAAC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8CF-7414-424E-8E24-4DBA0C2E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500-7B05-4E8B-A523-C3F03E1C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E91-2129-431C-8B61-BF39637D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C2C2-26E7-4A58-9334-B1C5BD9B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319-577E-407D-B9C1-DC083CB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5801-3D7A-4CDE-9F98-12B7896F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5F4-F367-4592-8F4F-1EA179B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D033-ADF2-49EE-B821-D94A3B10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2BED-0E86-485E-8664-75F01F5D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3809-EAA1-44EE-9843-F02F2E4F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CD28-B4A5-4A1C-9178-158119E9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CE5F-F6E8-4B5B-9B84-4E4A91B4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C287-2714-4A0E-BEFA-54B3EE5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022-6DA7-4955-8359-9A214F4A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EF25-8BC9-42C2-AF50-3ED82822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B30C-2FC7-4400-81EA-3C2A5D6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8171-66C1-4C1E-9238-81F9A013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9A79-19EF-4CCF-A95B-D99CE3D7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4827-D1C3-4BD6-ABCF-6A0850DC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0362-6244-429A-B9D9-DB1A26B8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C70D-E78C-464F-AA45-31A6FEC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4BD-1EAB-4FF1-8CDD-826A285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674-DC18-42F8-927D-071D10D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B81-519C-4215-BF62-FC13D50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A63C-45A2-4103-A50E-C2FA85D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609-CE46-413E-B138-15BC12D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F01-8790-4652-9BE1-B2D2075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7B61-9F1D-418B-A080-B54AD426A1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E59-D8D2-476B-9B9E-3B0D12A180A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5717-4FE5-498A-8893-85F3D6B685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ubtitle 2"/>
          <p:cNvSpPr/>
          <p:nvPr/>
        </p:nvSpPr>
        <p:spPr>
          <a:xfrm>
            <a:off x="611280" y="5300640"/>
            <a:ext cx="83898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DG Agriculture and Rural Development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Arial"/>
              </a:rPr>
              <a:t>Unit B.4, Organics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250920" y="2421000"/>
            <a:ext cx="8785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0000"/>
          </a:bodyPr>
          <a:p>
            <a:pPr marL="71640" indent="-7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  <a:ea typeface="Arial"/>
              </a:rPr>
              <a:t>State of play of equivalence recognitions with third countries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71640" indent="-7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marL="71640" indent="-71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Civil Dialogue Group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Organic farming  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Verdana"/>
                <a:ea typeface="Arial"/>
              </a:rPr>
              <a:t>Brussels – 14 April 2016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Latest development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220464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greement with Chile initialled on 7 Apri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irst new-generation agreement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First mutual recognition with LA country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de coverag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cope extension of EU-Canada arrangement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Wi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mported ingredients in Canadian processed produc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egotiations on-going with Latin American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xploratory talks with Brazi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797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ttp://ec.europa.eu/agriculture/organic/eu-policy/policy-development/index_en.ht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rade regime: current situation ….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. 834/2007 only covers import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57240">
              <a:spcBef>
                <a:spcPts val="45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Imports based on equivalenc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143000" indent="-285840">
              <a:spcBef>
                <a:spcPts val="45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12 equivalent third countrie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Argentina, Australia, Canada, Costa Rica, India, Israel, New Zealand, Japan, Korea, Switzerland, Tunisia, and the United States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143000" indent="-285840">
              <a:spcBef>
                <a:spcPts val="45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54 control bodie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recognised for the purpose of equivalenc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143000" indent="-285840">
              <a:spcBef>
                <a:spcPts val="451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mport authorisations by MS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(ended in July 2014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57240">
              <a:spcBef>
                <a:spcPts val="45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Imports based on complianc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: foreseen in R. 834/2007 for control bodies but not activated ye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5724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History of recogni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2204640"/>
            <a:ext cx="8291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1996: Argentina, Australia, Israel, Switzerland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02: New Zealand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03: Costa Ric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06: Indi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09: Tunisia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10: Japan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11: Canada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12: US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2015: South Korea*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5 unilateral, 7 reciprocal, 1 fully-fledged international agre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pplicant countri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4000" y="234900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17 applications received by the cut-off date of 1 July 2014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98720" indent="-35568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12 Latin American countries (Peru, Chile, Bolivia, Colombia, Paraguay, El Salvador, Honduras, Ecuador, Nicaragua, Mexico, Dominican Republic, Uruguay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98720" indent="-35568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3 Asian countries (China, Taiwan, Thailand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98720" indent="-35568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2 neighbour countries (Turkey and Serbia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098720" indent="-35568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International strateg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23493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rganic review package adopted in March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ommission Proposal for a Regulation of the EP and the Council on organic production and labelling of organic products (COM(2014)180 fi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Action Plan for the future of organic production in the EU (COM(2014)179 fin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Recommendation for negotiating directives, adopted by the Council in June 2014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dapt trade regime, improve level playing field for EU and TC operators, ensure consumer confidenc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…</a:t>
            </a: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what will change in the review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New provisions on expor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Imports based on equivalence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ill remain for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cognise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third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1143000" indent="-34272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cognition of third countries will be granted only through international agreement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1143000" indent="-342720">
              <a:spcBef>
                <a:spcPts val="499"/>
              </a:spcBef>
              <a:buClr>
                <a:srgbClr val="42a62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Phasing out of the list of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cognised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 TC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f5494"/>
                </a:solidFill>
                <a:uFillTx/>
                <a:latin typeface="Verdana"/>
              </a:rPr>
              <a:t>Imports based on compliance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: recognition of control bodies will shift from equivalence to compliance. Equivalence will be phased-out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ction Plan on the future of Organic Production in Europ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000" y="2637000"/>
            <a:ext cx="8218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18 actions to be implemented till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3 areas: competitiveness producers, consumer confidence and external dimen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trategic objectives of external dimension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increase trade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nsure compliance with EU rules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guarantee of integrity of control systems in third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768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xternal dimension of organics: ac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000" y="2492280"/>
            <a:ext cx="8372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operation and consultation with trade partners in developing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vergence of standards between trade partners, explore plurilateral agree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atistical data on organic trade with third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dex: support development of organic aquaculture and possibly win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crease protection of EU logo in Third countr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Council's negotiating directi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shall negotiate agreements of equivalence recogni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a reciprocal and mutual ba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nsider replacing existing arrangements by international agreemen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nsure high level of respect of principles of organic produc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otection of the EU log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CORDONNIER Vincent (AGRI)</dc:creator>
  <dc:description/>
  <dc:language>en-US</dc:language>
  <cp:lastModifiedBy>BUTTINI-PROVENZANO Roberta (AGRI)</cp:lastModifiedBy>
  <cp:lastPrinted>2016-04-14T06:36:09Z</cp:lastPrinted>
  <dcterms:modified xsi:type="dcterms:W3CDTF">2016-04-14T06:36:41Z</dcterms:modified>
  <cp:revision>33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