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5416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6611-3C49-45F8-AA6F-D173B97A4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27B6-3043-4715-B69F-AC0282BE61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DDAD-53E2-45E3-BD7B-27397D02BF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8F0-28C2-4787-8E12-EAE69C705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07F3-0B13-4C12-BFDD-0BA02B092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FF8-6EBC-4900-885D-EB632FD86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D0F9-116D-4ED7-AE22-259EBFBC3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187F-93CE-4E4A-A8AB-321B448A5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E609-F913-4560-A842-D64F8A3EC3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09E2-7155-4D1B-B6C0-BD3F198106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7F38-839D-45C6-B70B-FEF51CB36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4B06-4FFB-4CB8-8E8D-404ECF6FEE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A289-D932-4A48-8026-216F79534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AABB-2598-489A-B752-260F57E0F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4356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4520" y="94471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0DC1-3FAB-4667-A284-0002333B4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A281-28D5-4192-97B3-EAFED311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937F-EBE0-4F90-B9FF-299EC4EF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1117C-549C-417E-AD61-77AB5D71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2996-682A-4015-A204-34B07BB2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B8A98-9D45-4A2B-9CEC-099568DA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D003F-DC20-4186-853B-1053CCE0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E45A9-24FC-46A1-9B1C-3DF99A16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BF694-F053-4FB5-BA21-100A762D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44BB4-BD0A-4A31-B6AA-1A3FBCFA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8643D-F7C6-4C54-A774-CDF546C1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B05A0-616E-46AA-9509-0D71577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BA89-2F24-4C04-A37F-DC4FF737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1DFB8-A9FB-4441-9D2F-F9F63D5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4A1BF-1245-4A72-860D-B9999903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94FB4-C006-4903-8F0C-88088DE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31AF-DC90-4FFA-AB18-8F14CC61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0CFD9-ADA2-4AF5-B0F7-C08BBBDB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1F952-C26E-41B5-BF03-923032C7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DC445-9BB0-4384-9B28-2206395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3EEA3-C5A9-44F6-AFE2-24EC2028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D3C89-58AF-4BFA-BCD0-3FD3E13E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2BAE7-BF35-470E-85FD-BD2EDCB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46CF-C6A9-4089-9F5A-31BAA69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27E45-CDB2-4C10-834E-F0336F80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1B65B-889D-4BCB-99B5-82282B73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64DBB6-A191-4B7B-AD67-4338CCD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CB02E-3277-452F-B8B8-5BBE3CBF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82E60-3496-4382-A4F7-80365154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7EF3A-F191-4AD5-895E-C4DFBABC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0AE9C-EC9C-44AC-BED4-0012EE79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A690-0096-465D-AA49-8868B6DD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19EC1-27C5-4D3F-A7CD-7A8E2A9B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7DCB-F86E-439C-BE0A-79286486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3175-ABD8-460D-95C0-44B33320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4518-5DE4-4B22-99F9-6242B096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92AAE-9072-4010-AF31-D77EC41E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81733-78B0-4345-9254-5864B524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89C12-C8EE-4944-9A35-97221E97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E9D6-BE18-4222-A3EF-FD693A5A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5D16-D658-48CD-BA17-78053052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F1C15-D107-4103-8C93-F8F301DC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52B4-3926-4788-9365-3ADDDEF5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9C4C-B620-4CA8-916A-D67CC725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13002-986D-4CF8-8EC5-F4BB0815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D915-6C70-4B86-BC98-D6690ECD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184D-51BE-47C1-BAFB-9EC2485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5B70-E6D3-46BE-AD57-DD9DC1E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A69F-5971-4550-919B-894DCF2E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5ec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d5ec1"/>
                </a:solidFill>
                <a:latin typeface="Arial"/>
              </a:rPr>
              <a:t>31.01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d5ec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538B-6482-4AB3-AE04-F33DE0890B70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662520"/>
            <a:ext cx="2895840" cy="207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8000" bIns="18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1.01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55E3-6647-4AED-BA34-6C49CF112C6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3124080" y="6654960"/>
            <a:ext cx="2895840" cy="209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8000" bIns="180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5ec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d5ec1"/>
                </a:solidFill>
                <a:latin typeface="Arial"/>
              </a:rPr>
              <a:t>31.01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65527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d5ec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C1AC-F3EE-49E0-A81E-2DD7F52112C0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3124080" y="6662520"/>
            <a:ext cx="2895840" cy="207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8000" bIns="18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4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6" name="Picture 5" descr="LOGO CE-EN-NEG-quadri.ai"/>
          <p:cNvPicPr/>
          <p:nvPr/>
        </p:nvPicPr>
        <p:blipFill>
          <a:blip r:embed="rId3"/>
          <a:stretch/>
        </p:blipFill>
        <p:spPr>
          <a:xfrm>
            <a:off x="3921120" y="3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4262400" y="666900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8000" bIns="18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d5ec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6FE8-6AF1-4BE8-B7AA-DA16619618C5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D7C3-9696-4D01-9E28-DC6DF702329D}" type="slidenum">
              <a:rPr b="0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124080" y="6654960"/>
            <a:ext cx="28958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301760"/>
            <a:ext cx="8785080" cy="34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fd624"/>
                </a:solidFill>
                <a:latin typeface="Verdana"/>
              </a:rPr>
              <a:t>Fitness Check on Regulation 178/2002 on General Food Law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4797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14 April 2016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r Tim Gumbel, Deputy Head of Unit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G SANTE Unit E1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Overall findings – general par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verall, the GFL as such has </a:t>
            </a:r>
            <a:r>
              <a:rPr b="1" lang="en-GB" sz="1800" spc="-1" strike="noStrike">
                <a:solidFill>
                  <a:srgbClr val="0033cc"/>
                </a:solidFill>
                <a:latin typeface="Verdana"/>
              </a:rPr>
              <a:t>achieved its core objective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protection of human health; internal market)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mpared to the baseline pre-GFL: considerable </a:t>
            </a:r>
            <a:r>
              <a:rPr b="1" lang="en-GB" sz="1800" spc="-1" strike="noStrike">
                <a:solidFill>
                  <a:srgbClr val="0033cc"/>
                </a:solidFill>
                <a:latin typeface="Verdana"/>
              </a:rPr>
              <a:t>improve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have been </a:t>
            </a:r>
            <a:r>
              <a:rPr b="1" lang="en-GB" sz="1800" spc="-1" strike="noStrike">
                <a:solidFill>
                  <a:srgbClr val="0033cc"/>
                </a:solidFill>
                <a:latin typeface="Verdana"/>
              </a:rPr>
              <a:t>observed in all area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, including traceability, FBO responsibilities, risk analysis, transparency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his has brought about </a:t>
            </a:r>
            <a:r>
              <a:rPr b="1" lang="en-GB" sz="1800" spc="-1" strike="noStrike">
                <a:solidFill>
                  <a:srgbClr val="0033cc"/>
                </a:solidFill>
                <a:latin typeface="Verdana"/>
              </a:rPr>
              <a:t>enhanced harmonisat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secondary legislation; intra EU), which enabled better targeting of food safety risks and the effective functioning of the internal market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ome problems, and therefore need for improvement, have been indicated mostly at the level of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Implementation in some secondary legislation;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Member State enforcement (differences)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BFF-3473-4E35-B01A-4CD02107110F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ain findings: RASF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836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verall, the core objectives related to information exchange within the RASFF members have been achieved and the requirements of the regulation have been met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he increased level of globalisation reinforces the need for rapid exchange of information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educed overlap and increased efficiency can be achieved through integrated information exchange system between RASFF and other existing alert systems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he procedures of RASFF could be optimized for fitting better into crisis management, e.g. risk evaluation, incident management, analysing traceability information etc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ctive EFSA support could reinforce RASFF to harmonise rapid risk evaluation between Member States in the context of a RASFF notification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2C72-B0C6-499C-87C5-D56E2E39EEFD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ain findings: Crisis managemen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xisting arrangements at EU/MS levels have achieved the main goals on consumer protection, efficient crisis management and setting the most effective measures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e-considering the established structures (e.g. the crisis unit) was partly suggested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While the role of the Commission as coordinator in past serious food/feed safety incidents has been praised, a greater role for the Commission in the coordination of the communication with the public/relevant competent authorities is deemed necessary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8E1E-0372-4C8D-BA0B-C43291ADBB49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FSA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Basis: EFSA's external evaluation reports (last report from 2012 covering the period until 2010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Updated by Commission, EFSA with contribution from MSs (Expert Group of GFL – 29 June 2015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findings on EFSA as updated have been presented to the expert group on 16 September 2015 and to the stakeholders on 21 September 2015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C2BB-9B0A-45B6-A63E-D24D2E6EDF8A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imelin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April 2014: Launch of Fitness Check on General Food Law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eptember 2014 – early November 2015: External studi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1</a:t>
            </a:r>
            <a:r>
              <a:rPr b="1" lang="en-GB" sz="2400" spc="-1" strike="noStrike" baseline="30000">
                <a:solidFill>
                  <a:srgbClr val="0f5494"/>
                </a:solidFill>
                <a:latin typeface="Verdana"/>
              </a:rPr>
              <a:t>st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trimester 2016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Presentation of the outcome of the Fitness Check on General Food Law (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mmission Staff Working Document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Verdana"/>
              </a:rPr>
              <a:t>2017: 15 years of General Food Law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CA66-0EB3-4439-B6A2-9A7E504C7660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  <a:ea typeface="MS PGothic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45720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835E-E4DA-4911-9C21-049842E9D9B6}" type="slidenum">
              <a:rPr b="0" lang="en-GB" sz="1200" spc="-1" strike="noStrike">
                <a:solidFill>
                  <a:srgbClr val="2d5ec1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4" name="Content Placeholder 6" descr="C:\Users\nenovpe\Desktop\iStock_000005172869Medium.jpg"/>
          <p:cNvPicPr/>
          <p:nvPr/>
        </p:nvPicPr>
        <p:blipFill>
          <a:blip r:embed="rId1"/>
          <a:stretch/>
        </p:blipFill>
        <p:spPr>
          <a:xfrm>
            <a:off x="1187280" y="3213000"/>
            <a:ext cx="68580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2" descr="Puzzles 4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91" name="Content Placeholder 2"/>
          <p:cNvSpPr/>
          <p:nvPr/>
        </p:nvSpPr>
        <p:spPr>
          <a:xfrm>
            <a:off x="90000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211640" y="404640"/>
            <a:ext cx="4464000" cy="3506040"/>
          </a:xfrm>
          <a:prstGeom prst="rect">
            <a:avLst/>
          </a:prstGeom>
          <a:solidFill>
            <a:srgbClr val="0070c0"/>
          </a:soli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Overlaps?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Gaps?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Inconsistencies?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Cumulative impacts?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Obsolete measures?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Excessive burdens?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Scope for simplification?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24000" y="515304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f5494"/>
                </a:solidFill>
                <a:latin typeface="Calibri"/>
              </a:rPr>
              <a:t>What a FC can do that an evaluation of a single measure can't?</a:t>
            </a:r>
            <a:endParaRPr b="1" lang="en-US" sz="4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044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riteria to be covered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ounded Rectangle 3"/>
          <p:cNvSpPr/>
          <p:nvPr/>
        </p:nvSpPr>
        <p:spPr>
          <a:xfrm>
            <a:off x="460440" y="2960640"/>
            <a:ext cx="1950840" cy="1009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166cf"/>
                </a:solidFill>
                <a:latin typeface="Verdana"/>
              </a:rPr>
              <a:t>Relevance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6" name="Rounded Rectangle 5"/>
          <p:cNvSpPr/>
          <p:nvPr/>
        </p:nvSpPr>
        <p:spPr>
          <a:xfrm>
            <a:off x="5292720" y="5081760"/>
            <a:ext cx="1800360" cy="1039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166cf"/>
                </a:solidFill>
                <a:latin typeface="Verdana"/>
              </a:rPr>
              <a:t>Coherence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7" name="Straight Connector 9"/>
          <p:cNvSpPr/>
          <p:nvPr/>
        </p:nvSpPr>
        <p:spPr>
          <a:xfrm flipV="1">
            <a:off x="3432240" y="5601960"/>
            <a:ext cx="18604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8" name="Straight Connector 11"/>
          <p:cNvSpPr/>
          <p:nvPr/>
        </p:nvSpPr>
        <p:spPr>
          <a:xfrm>
            <a:off x="1436760" y="3970440"/>
            <a:ext cx="903240" cy="13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9" name="Straight Connector 12"/>
          <p:cNvSpPr/>
          <p:nvPr/>
        </p:nvSpPr>
        <p:spPr>
          <a:xfrm flipH="1">
            <a:off x="6267600" y="3860640"/>
            <a:ext cx="925200" cy="122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Straight Connector 26"/>
          <p:cNvSpPr/>
          <p:nvPr/>
        </p:nvSpPr>
        <p:spPr>
          <a:xfrm flipV="1">
            <a:off x="1763640" y="2420640"/>
            <a:ext cx="187164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6443640" y="2935440"/>
            <a:ext cx="1951200" cy="101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166cf"/>
                </a:solidFill>
                <a:latin typeface="Verdana"/>
              </a:rPr>
              <a:t>EU Added Value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Rounded Rectangle 4"/>
          <p:cNvSpPr/>
          <p:nvPr/>
        </p:nvSpPr>
        <p:spPr>
          <a:xfrm>
            <a:off x="1631880" y="5081760"/>
            <a:ext cx="1800360" cy="1050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166cf"/>
                </a:solidFill>
                <a:latin typeface="Verdana"/>
              </a:rPr>
              <a:t>Effectivenes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3" name="Straight Connector 12"/>
          <p:cNvSpPr/>
          <p:nvPr/>
        </p:nvSpPr>
        <p:spPr>
          <a:xfrm flipH="1" flipV="1">
            <a:off x="5192640" y="2382480"/>
            <a:ext cx="200016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4" name="Rounded Rectangle 6"/>
          <p:cNvSpPr/>
          <p:nvPr/>
        </p:nvSpPr>
        <p:spPr>
          <a:xfrm>
            <a:off x="3432240" y="1889280"/>
            <a:ext cx="1820880" cy="1028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166cf"/>
                </a:solidFill>
                <a:latin typeface="Verdana"/>
              </a:rPr>
              <a:t>Efficiency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Data sources of Fitness Check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2 external studies focusing on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he general provisions of Regulation 178/2002 (e.g. definitions, principles, requirements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tc. - 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rticles 1-21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ASFF/emergencies/crisis manage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xisting EFSA evaluation reports as updated by the Commission, EFSA and the Expert Group on GF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ther relevant information: complaints/infringements, other Commission reports, previous evaluations/impact assessments, implementation findings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tc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179280" y="6958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237360"/>
            <a:ext cx="28958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D5E2-C7A9-47EC-8723-8A4D408669FE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Main findings: traceability (Art. 18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1592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he impact of the GFL has generally been positive: although traceability already in place pre-GFL, Art. 18 has brought about greater harmonisation in implementation across EU feed/food businesses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sts for implementing Art. 18 could not be established, but benefits -  according to both MS CAs and FBOs - outweigh costs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nefits of traceability assessed by industry to have been ‘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significant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’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ssible to trace within a short time frame all products affected by one ingredient/one supplier;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lignment of procedures/communication across MS;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tter targeted withdrawals/recalls;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for consumers: affected products more rapidly/effectively differentiated from non-affected products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6DCB-13BB-41FD-AC3A-404CF5FB343B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Distribution of responsibilities (FBOs)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42064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mpact of GFL has generally been positive: although systems already in place pre-GFL, Art. 17.1 has brought about greater harmonisation in implementation (GMPs, HACCP, verifications; private certification)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Nonetheless, secondary legislation lays down the specific requirements against which FBOs have compliance responsibility and legal liability (furthermore, liability rules/sanctions: MS law)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129F-70DA-4902-8F97-F233008C9DB5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Distribution of responsibilities (FBOs)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249192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Costs for implementing Art. 17.1 could not be established, but benefits -  according to both MS CAs and FBOs - outweigh costs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Benefits of traceability assessed by industry to have been largely achieved, particularly in terms of ensuring consumer protection, and trust amongst FBOs along the supply chain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However, fuller benefits e.g. in terms of better targeted withdrawals/recalls to some extent hampered by lack of harmonised implementation by MS CAs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E4EA-FD87-46A4-AA33-E196F848E674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Risk analysis/PP (Art. 6 and 7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act of GFL has generally been positive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31720" indent="-25884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eparation of risk assessment and risk management (EU, MS);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31720" indent="-25884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herence/complementarity with MS interventions: creation of independent scientific bodies for risk analysis;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31720" indent="-25884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fficiency gains: cost savings from the central approach followed at EFSA; pooling of EU/MS scientific resources;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31720" indent="-25884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ffectiveness: improved scientific basis/transparency of measures adopted both at national and EU level;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risk analysis process, including consideration of other legitimate factors had a substantial positive impact on consumer health and protection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ome concerns over coherence/consistency in implementation in secondary legislation (harmonised and non-harmonised areas), including application of legitimate factors, deadlines foreseen etc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118-3F1E-4E46-B4CF-450F0284011A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ransparency (Art. 9 and 10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act of GFL has generally been positive, particularly in the case of public information (Art. 10):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38200" indent="-26532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ublic consultation (Art. 9): more systematic application; involvement of wider spectrum of stakeholders/interest groups; increase in general public consultation (facilitated by online tools)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38200" indent="-265320"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ublic information (Art. 10): continues to improve, taking into account lessons learnt from previous crises </a:t>
            </a:r>
            <a:r>
              <a:rPr b="0" lang="nl-NL" sz="1800" spc="-1" strike="noStrike">
                <a:solidFill>
                  <a:srgbClr val="0f5494"/>
                </a:solidFill>
                <a:latin typeface="Verdana"/>
              </a:rPr>
              <a:t>(e.g. dioxin, E. coli, etc.)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ome concerns over coherence/consistency in implementation on a systematic basis (application of Art.10 remains ad hoc i.e. case by case – difficult to establish fixed rules), as well as amongst MS - this can be counter-productive in terms of ensuring consumer trust/confidence.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rocess of developing public information mechanisms remains dynamic.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>
              <a:spcBef>
                <a:spcPts val="5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177840" indent="-17784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C07D-AE22-4528-B033-4071B5223BBB}" type="slidenum">
              <a:rPr b="0" lang="en-GB" sz="1200" spc="-1" strike="noStrike">
                <a:solidFill>
                  <a:srgbClr val="2d5ec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21:38:59Z</dcterms:created>
  <dc:creator>THERACE Christine (SG)</dc:creator>
  <dc:description/>
  <dc:language>en-US</dc:language>
  <cp:lastModifiedBy>BUTTINI-PROVENZANO Roberta (AGRI)</cp:lastModifiedBy>
  <cp:lastPrinted>2015-11-03T16:10:16Z</cp:lastPrinted>
  <dcterms:modified xsi:type="dcterms:W3CDTF">2016-04-08T05:42:10Z</dcterms:modified>
  <cp:revision>232</cp:revision>
  <dc:subject/>
  <dc:title>Title</dc:title>
</cp:coreProperties>
</file>