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de-DE" sz="13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2491565-AF67-4614-8A6A-E1AC5DE47C95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dsholder til slide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0F206E7-313C-43B3-B645-BC7508ABA9C4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B79E484-D6CD-4E24-986D-40EAE3F80303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8983650-8FC6-4FE1-BA3A-68ED25A94D7F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5D956E8-7593-4304-8AB7-EE3FFAF5F9CA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dsholder til slide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9B639C7-54E6-4042-BEA2-B8FED548B3ED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dsholder til slide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377F2B7-8F7A-414B-99E8-9831599B9FA0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dsholder til slide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4D108AD-DCBD-4436-BD33-C0CF3D233C80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dsholder til slide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2D4D00A-60EA-46B0-8AC1-90070AE2A27A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dsholder til slide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B6B16DD-54C5-45E7-B79E-5639FDC6DEB1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7EF1414-1898-4E96-AC5F-B5856652E1E9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14532A7-88AA-4D48-8069-C6B753CC1A18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3E91168-AFEB-489F-81B0-87FE2071529A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E10A185-312D-4095-9F0F-F598C262B514}" type="slidenum">
              <a:rPr b="0" lang="de-DE" sz="13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84502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50800" y="3919680"/>
            <a:ext cx="84502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50800" y="391968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80880" y="391968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8120" y="169992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5440" y="169992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50800" y="391968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208120" y="391968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65440" y="391968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0800" y="404280"/>
            <a:ext cx="84502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50800" y="391968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80880" y="391968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50800" y="3919680"/>
            <a:ext cx="84502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84502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50800" y="3919680"/>
            <a:ext cx="84502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50800" y="391968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80880" y="391968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8120" y="169992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65440" y="169992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50800" y="391968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208120" y="391968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65440" y="3919680"/>
            <a:ext cx="27208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50800" y="404280"/>
            <a:ext cx="84502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50800" y="391968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80880" y="391968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5080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80880" y="1699920"/>
            <a:ext cx="412344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50800" y="3919680"/>
            <a:ext cx="8450280" cy="20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31640" y="1413000"/>
            <a:ext cx="1536840" cy="1150920"/>
          </a:xfrm>
          <a:prstGeom prst="rect">
            <a:avLst/>
          </a:prstGeom>
          <a:solidFill>
            <a:srgbClr val="6b7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1968480" y="260280"/>
            <a:ext cx="9791640" cy="1150920"/>
          </a:xfrm>
          <a:prstGeom prst="rect">
            <a:avLst/>
          </a:prstGeom>
          <a:solidFill>
            <a:srgbClr val="ca6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buClr>
                <a:srgbClr val="000000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buClr>
                <a:srgbClr val="5858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buClr>
                <a:srgbClr val="585858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buClr>
                <a:srgbClr val="585858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Line 10"/>
          <p:cNvSpPr/>
          <p:nvPr/>
        </p:nvSpPr>
        <p:spPr>
          <a:xfrm>
            <a:off x="2351160" y="6165720"/>
            <a:ext cx="9408960" cy="0"/>
          </a:xfrm>
          <a:prstGeom prst="line">
            <a:avLst/>
          </a:prstGeom>
          <a:ln w="46800">
            <a:solidFill>
              <a:srgbClr val="6b72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" name="Picture 16" descr="CopaCogeca_4C_C"/>
          <p:cNvPicPr/>
          <p:nvPr/>
        </p:nvPicPr>
        <p:blipFill>
          <a:blip r:embed="rId2"/>
          <a:stretch/>
        </p:blipFill>
        <p:spPr>
          <a:xfrm>
            <a:off x="8209080" y="6267600"/>
            <a:ext cx="271116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2735280" y="3716280"/>
            <a:ext cx="8832960" cy="2160720"/>
          </a:xfrm>
          <a:prstGeom prst="rect">
            <a:avLst/>
          </a:prstGeom>
          <a:solidFill>
            <a:srgbClr val="ca6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623880" y="2133720"/>
            <a:ext cx="2112840" cy="1582560"/>
          </a:xfrm>
          <a:prstGeom prst="rect">
            <a:avLst/>
          </a:prstGeom>
          <a:solidFill>
            <a:srgbClr val="6b7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Picture 10" descr="CopaCogeca_4C_C"/>
          <p:cNvPicPr/>
          <p:nvPr/>
        </p:nvPicPr>
        <p:blipFill>
          <a:blip r:embed="rId2"/>
          <a:stretch/>
        </p:blipFill>
        <p:spPr>
          <a:xfrm>
            <a:off x="8113680" y="189000"/>
            <a:ext cx="3149640" cy="590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buClr>
                <a:srgbClr val="000000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buClr>
                <a:srgbClr val="5858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buClr>
                <a:srgbClr val="585858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buClr>
                <a:srgbClr val="585858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59160" y="25992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Copa-Cogeca: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The united voice of farmers and their cooperatives in the European Un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965400" y="1433520"/>
            <a:ext cx="51246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ositive DAFC experience with FTA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351160" y="1773000"/>
            <a:ext cx="98409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EU-Japan EPA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EU-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outhern African Development Community (SADC) EPA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EU-Canada FTA (CETA)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Key tools to improve FTA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350800" y="1699920"/>
            <a:ext cx="84502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Reasoning in term of consumers rather than geographical approach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trategic monitoring of agri-food market via EU market intelligence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EU economic diplomacy strategy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Promotion of EU technical standards to facilitate trade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umulative effects of trade agreement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Verification of  the farmer income benefits of trade and trade agreement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EIB export credit insurance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ertiliser issue in the energy chapter of FTA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Agreement on SPS issues prior to new FTA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Annual priority list of NTBs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Perspectives and conclus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968480" y="1413000"/>
            <a:ext cx="92152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Perspectives: Elements of uncertaint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lnSpc>
                <a:spcPct val="100000"/>
              </a:lnSpc>
              <a:spcAft>
                <a:spcPts val="2001"/>
              </a:spcAft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MS PGothic"/>
              </a:rPr>
              <a:t>Budget and CAP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lnSpc>
                <a:spcPct val="100000"/>
              </a:lnSpc>
              <a:spcAft>
                <a:spcPts val="2001"/>
              </a:spcAft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MS PGothic"/>
              </a:rPr>
              <a:t>Brexi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lnSpc>
                <a:spcPct val="100000"/>
              </a:lnSpc>
              <a:spcAft>
                <a:spcPts val="2001"/>
              </a:spcAft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MS PGothic"/>
              </a:rPr>
              <a:t>Plant protection products and new technolog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PGothic"/>
              </a:rPr>
              <a:t>Conclusions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lnSpc>
                <a:spcPct val="100000"/>
              </a:lnSpc>
              <a:spcAft>
                <a:spcPts val="2001"/>
              </a:spcAft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MS PGothic"/>
              </a:rPr>
              <a:t>Increase of agri-food exports, yet, limited economic benefit at farm gat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lnSpc>
                <a:spcPct val="100000"/>
              </a:lnSpc>
              <a:spcAft>
                <a:spcPts val="2001"/>
              </a:spcAft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MS PGothic"/>
              </a:rPr>
              <a:t>Possible to maximise benefits to farmers and agri-cooperatives, but conditions to be fulfill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lnSpc>
                <a:spcPct val="100000"/>
              </a:lnSpc>
              <a:spcAft>
                <a:spcPts val="2001"/>
              </a:spcAft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MS PGothic"/>
              </a:rPr>
              <a:t>Need of verifying the benefits of trade and trade agreements in terms of farmers’ incom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lnSpc>
                <a:spcPct val="100000"/>
              </a:lnSpc>
              <a:spcAft>
                <a:spcPts val="2001"/>
              </a:spcAft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512640" indent="-285480">
              <a:lnSpc>
                <a:spcPct val="100000"/>
              </a:lnSpc>
              <a:spcAft>
                <a:spcPts val="2001"/>
              </a:spcAft>
              <a:buClr>
                <a:srgbClr val="5858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0" descr="DSC06257"/>
          <p:cNvPicPr/>
          <p:nvPr/>
        </p:nvPicPr>
        <p:blipFill>
          <a:blip r:embed="rId1"/>
          <a:stretch/>
        </p:blipFill>
        <p:spPr>
          <a:xfrm>
            <a:off x="3432240" y="371628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DSC05557"/>
          <p:cNvPicPr/>
          <p:nvPr/>
        </p:nvPicPr>
        <p:blipFill>
          <a:blip r:embed="rId2"/>
          <a:stretch/>
        </p:blipFill>
        <p:spPr>
          <a:xfrm>
            <a:off x="3432240" y="1557360"/>
            <a:ext cx="3251160" cy="2166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DSC00510"/>
          <p:cNvPicPr/>
          <p:nvPr/>
        </p:nvPicPr>
        <p:blipFill>
          <a:blip r:embed="rId3"/>
          <a:stretch/>
        </p:blipFill>
        <p:spPr>
          <a:xfrm>
            <a:off x="6672240" y="155736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DSC07597"/>
          <p:cNvPicPr/>
          <p:nvPr/>
        </p:nvPicPr>
        <p:blipFill>
          <a:blip r:embed="rId4"/>
          <a:stretch/>
        </p:blipFill>
        <p:spPr>
          <a:xfrm>
            <a:off x="6672240" y="3716280"/>
            <a:ext cx="324000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4"/>
          <p:cNvSpPr/>
          <p:nvPr/>
        </p:nvSpPr>
        <p:spPr>
          <a:xfrm>
            <a:off x="3935520" y="2852640"/>
            <a:ext cx="56894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Georgia"/>
              </a:rPr>
              <a:t>Copa-Cogeca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Georgia"/>
              </a:rPr>
              <a:t>Promoting and developing the European Model of Agricultu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087880" y="53006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www.copa-cogeca.e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169040" y="5289480"/>
            <a:ext cx="3711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eorgia"/>
              </a:rPr>
              <a:t>Peter Michael Heller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Georgia"/>
              </a:rPr>
              <a:t>Danish Agriculture &amp; Food Council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Copa and Cogeca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#DynamicAgri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@copacogeca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927520" y="213372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Increasing exports of EU agri-food products –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what is in it for farmer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eorgia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opa and Cogeca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Importance of agri-food exports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What is in it for farmers?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erspectives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eorgia"/>
              </a:rPr>
              <a:t>Who are Copa and Cogeca?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334960" y="1699920"/>
            <a:ext cx="6337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Two organisations….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Georgia"/>
              </a:rPr>
              <a:t>Copa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35640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eorgia"/>
              </a:rPr>
              <a:t>Created in 1958, Copa represents 23 million European farmers and family member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Georgia"/>
              </a:rPr>
              <a:t>Cogeca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35640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eorgia"/>
              </a:rPr>
              <a:t>Created in 1959, Cogeca represents 22, 000 European agricultural cooperative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Georgia"/>
              </a:rPr>
              <a:t>Copa and Cogeca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eorgia"/>
              </a:rPr>
              <a:t>In 1962, a joint Secretariat was created, making it one of the biggest and most active lobby organisations in Brussels</a:t>
            </a:r>
            <a:endParaRPr b="1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896240" y="316080"/>
            <a:ext cx="2654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9289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</a:rPr>
              <a:t>Importance of agri-food exports: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Georgia"/>
              </a:rPr>
              <a:t>World growth food demand…but mature EU market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315880" y="151740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No increase in value of EU market across categorie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ignificant growth in demand on export markets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2473200" y="2563920"/>
          <a:ext cx="285444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2563920"/>
                    <a:ext cx="285444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7434360" y="2770200"/>
          <a:ext cx="2643120" cy="336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4360" y="2770200"/>
                    <a:ext cx="264312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38"/>
          <p:cNvSpPr/>
          <p:nvPr/>
        </p:nvSpPr>
        <p:spPr>
          <a:xfrm>
            <a:off x="5517720" y="431316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030a0"/>
                </a:solidFill>
                <a:latin typeface="Tahoma"/>
              </a:rPr>
              <a:t>Developing countri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5589720" y="50896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ECD countrie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5587920" y="54878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Tahoma"/>
              </a:rPr>
              <a:t>European Un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9289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griculture as a driver of the EU economy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…well integrated in the World Marke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EU agri-food export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- net trade balance of €21 billion in 2017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- 1/3 of EU’s total net trade balance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Strong employment link to agri-food sector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Well integrated in the world market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- EU imports reached €117 billion (the highest in the world)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- EU exports of agri-food products exceeded €138 billion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- 30% of the raw materials processed in the EU are of non-EU origin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- EU imports agricultural inputs (energy, fertilizers, fuel, etc)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Largest importer of agri-food products from developing countries!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1" name="Picture 3" descr="PICT9032.JPG"/>
          <p:cNvPicPr/>
          <p:nvPr/>
        </p:nvPicPr>
        <p:blipFill>
          <a:blip r:embed="rId1"/>
          <a:srcRect l="26850" t="0" r="45167" b="0"/>
          <a:stretch/>
        </p:blipFill>
        <p:spPr>
          <a:xfrm>
            <a:off x="766800" y="2637000"/>
            <a:ext cx="11444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What is in it for farmers?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350800" y="1699920"/>
            <a:ext cx="84502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Increasing exports of EU agri-food products are highly important: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ntribution to overall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valorisation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of EU produce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arket access helps distribution of competitiveness risk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lancing of product categories and ensuring sustainability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viding market balance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All in all: Trading ensures funding for investment in own production/higher standards and matching of consumer preference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ur views on agri-food international trade I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351160" y="1700280"/>
            <a:ext cx="9361440" cy="32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Priority to WTO multilateral agreements: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apacity to address all issues in a balanced manner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Full EU agri implementation of all requirement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Solution to GI recognition in coexistence with trade marks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Modernisation of WTO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50800" y="404280"/>
            <a:ext cx="8450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ur views on agri-food international trade II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51160" y="1628640"/>
            <a:ext cx="98409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Bilateral FTAs as parallel track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Bilateral negotiations as a challenge for the EU agricultural sector: 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</a:rPr>
              <a:t>Cumulative impact differences across agricultural segments, e.g. beef and rice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Bilateral negotiations as an an opportunity, provided:</a:t>
            </a: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lanced agreement within agri-chapt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clusion of the entire agri-food value chain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rovement of trade facilit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tandards and GIs recogni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mplementation/administration effor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nforcem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Utilisation effor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28728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58:33Z</dcterms:created>
  <dc:creator>*</dc:creator>
  <dc:description>Template Presentation;
Version 1.0;
2008-10-15;</dc:description>
  <dc:language>en-US</dc:language>
  <cp:lastModifiedBy>BUSANA Marc (AGRI)</cp:lastModifiedBy>
  <cp:lastPrinted>2018-10-12T10:42:01Z</cp:lastPrinted>
  <dcterms:modified xsi:type="dcterms:W3CDTF">2018-10-15T08:42:44Z</dcterms:modified>
  <cp:revision>221</cp:revision>
  <dc:subject/>
  <dc:title>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arbeiter">
    <vt:lpwstr>gadamovich | office implementation</vt:lpwstr>
  </property>
  <property fmtid="{D5CDD505-2E9C-101B-9397-08002B2CF9AE}" pid="3" name="ContentTypeId">
    <vt:lpwstr>0x0101003C08B156F4CB4AC0BAEB6C8446E34CE40017A6FD9710B7B144AC58E151661DA670</vt:lpwstr>
  </property>
  <property fmtid="{D5CDD505-2E9C-101B-9397-08002B2CF9AE}" pid="4" name="Erstellt am">
    <vt:lpwstr>09-10-2008</vt:lpwstr>
  </property>
  <property fmtid="{D5CDD505-2E9C-101B-9397-08002B2CF9AE}" pid="5" name="Erstellt von">
    <vt:lpwstr>SpiekermannPartners</vt:lpwstr>
  </property>
  <property fmtid="{D5CDD505-2E9C-101B-9397-08002B2CF9AE}" pid="6" name="TaxCatchAll">
    <vt:lpwstr/>
  </property>
  <property fmtid="{D5CDD505-2E9C-101B-9397-08002B2CF9AE}" pid="7" name="Version">
    <vt:lpwstr>1.0</vt:lpwstr>
  </property>
  <property fmtid="{D5CDD505-2E9C-101B-9397-08002B2CF9AE}" pid="8" name="Version vom">
    <vt:lpwstr>15-10-2008</vt:lpwstr>
  </property>
</Properties>
</file>