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AAFE-4ADE-4D1A-930D-FE88FF604A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5D7C-C2A2-41D2-9F75-6B631F5B2B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083-3AFF-4431-A2B7-9F7F023F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D9C-E194-4FED-BBFB-752F57F3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6A5-A1E3-423F-8684-16CFE4B4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A0A-8841-4920-B954-800E8790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65F6-6D69-415D-9685-AC90F166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CC57-A80E-4E31-8D10-C80300FF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5EBB-8210-40ED-B1FA-3D92EEC8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997B-B4A5-4679-84BF-3C7A3118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74F0-DDDB-40CB-A2EC-312072F8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E7CA-A4A6-46C8-BC2B-1D98AFC4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56D0-D605-4E9C-ABA8-EB670085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F6F-4DAB-4B52-A3A3-8A41D4D2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61E5-C0A4-4E98-AD51-833DD96B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AA0A-8FCA-4154-AF45-A7866391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289A-C955-48B2-947F-89B1CC40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69B7-C71F-4019-9338-94563BBB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62D7-3A0B-4A01-BCE1-4BBECBF7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48EF9-8F7C-4B1D-816E-2622A51D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AB3B-8C50-4251-A76B-75CB050E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2A0A-3B8E-47F7-A1F6-463102BF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E3854-1C67-498B-AA31-DDE7B8A1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BF074-E8B0-47A7-AEB0-528F94C3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2AA-A6BC-46B7-8D6A-27AFD476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D49E0-0C6B-4D8B-AA3C-52788667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2C09A-AEEE-463A-8609-2D4EDF37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D995-EFBD-4104-8546-7A973520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EC6A-C9F5-4B5E-98AB-904EB8B2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6878D-FC92-4DF0-B5EB-88D064FC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C9B30-224D-42BC-A204-E152D1C3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52CE9-F3DC-412A-8207-55E3E408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9C6-30A1-4C9E-8F97-FBAC4B11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F9A0-E933-4A48-BE85-72F47F8F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74C-089A-4CEE-9F56-D714D60A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ED5-0B8E-42C7-8C42-11538295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897-F77D-406A-A0E7-48FC1CB3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259-1B1A-4C64-828B-7B7EF721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1B99-D312-4F9A-9A97-DC777D4B08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2378-82C6-40E2-8337-3373D3D1EF1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EC44-BD8C-4179-855D-99927461D7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ubtitle 2"/>
          <p:cNvSpPr/>
          <p:nvPr/>
        </p:nvSpPr>
        <p:spPr>
          <a:xfrm>
            <a:off x="611280" y="4797360"/>
            <a:ext cx="83898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European Commission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G Agriculture and Rural Development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nit D3, Implementation Support, monitoring, IACS and LPIS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rie van der Gref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250920" y="2421000"/>
            <a:ext cx="8785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EFA-layer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Civil Dialogue Group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CDG DIRECT PAYMENTS AND GREENING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Brussels – 7 May 2015</a:t>
            </a:r>
            <a:br>
              <a:rPr sz="2000"/>
            </a:b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FA-layer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ference layer specifically for EFA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ndatory in respect of claim year 2018 at the latest (art. 70(2) of R1306/2013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f not in place -&gt; increase of the control rate of the on-the-spot checks with 5%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91AB-2259-4BCB-8E0C-C31991C6C4B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3413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2" name="Picture 4" descr="C:\Users\greftar\AppData\Local\Microsoft\Windows\Temporary Internet Files\Content.Outlook\DYUZQ4TD\EFA_example_0.jpg"/>
          <p:cNvPicPr/>
          <p:nvPr/>
        </p:nvPicPr>
        <p:blipFill>
          <a:blip r:embed="rId1"/>
          <a:stretch/>
        </p:blipFill>
        <p:spPr>
          <a:xfrm>
            <a:off x="1619280" y="1341360"/>
            <a:ext cx="554508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3413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4" name="Picture 4" descr="C:\Users\greftar\AppData\Local\Microsoft\Windows\Temporary Internet Files\Content.Outlook\DYUZQ4TD\EFA_example_0.jpg"/>
          <p:cNvPicPr/>
          <p:nvPr/>
        </p:nvPicPr>
        <p:blipFill>
          <a:blip r:embed="rId1"/>
          <a:stretch/>
        </p:blipFill>
        <p:spPr>
          <a:xfrm>
            <a:off x="1619280" y="1341360"/>
            <a:ext cx="5545080" cy="5027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greftar\AppData\Local\Microsoft\Windows\Temporary Internet Files\Content.Outlook\DYUZQ4TD\EFA_example_1 (2).jpg"/>
          <p:cNvPicPr/>
          <p:nvPr/>
        </p:nvPicPr>
        <p:blipFill>
          <a:blip r:embed="rId2"/>
          <a:stretch/>
        </p:blipFill>
        <p:spPr>
          <a:xfrm>
            <a:off x="1620720" y="1341360"/>
            <a:ext cx="55436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3413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7" name="Picture 4" descr="C:\Users\greftar\AppData\Local\Microsoft\Windows\Temporary Internet Files\Content.Outlook\DYUZQ4TD\EFA_example_0.jpg"/>
          <p:cNvPicPr/>
          <p:nvPr/>
        </p:nvPicPr>
        <p:blipFill>
          <a:blip r:embed="rId1"/>
          <a:stretch/>
        </p:blipFill>
        <p:spPr>
          <a:xfrm>
            <a:off x="1619280" y="1341360"/>
            <a:ext cx="5545080" cy="5027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greftar\AppData\Local\Microsoft\Windows\Temporary Internet Files\Content.Outlook\DYUZQ4TD\EFA_example_2c.jpg"/>
          <p:cNvPicPr/>
          <p:nvPr/>
        </p:nvPicPr>
        <p:blipFill>
          <a:blip r:embed="rId2"/>
          <a:stretch/>
        </p:blipFill>
        <p:spPr>
          <a:xfrm>
            <a:off x="1568520" y="1332000"/>
            <a:ext cx="55958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3413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0" name="Picture 4" descr="C:\Users\greftar\AppData\Local\Microsoft\Windows\Temporary Internet Files\Content.Outlook\DYUZQ4TD\EFA_example_0.jpg"/>
          <p:cNvPicPr/>
          <p:nvPr/>
        </p:nvPicPr>
        <p:blipFill>
          <a:blip r:embed="rId1"/>
          <a:stretch/>
        </p:blipFill>
        <p:spPr>
          <a:xfrm>
            <a:off x="1619280" y="1341360"/>
            <a:ext cx="5545080" cy="5027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greftar\AppData\Local\Microsoft\Windows\Temporary Internet Files\Content.Outlook\DYUZQ4TD\EFA_example_2a.jpg"/>
          <p:cNvPicPr/>
          <p:nvPr/>
        </p:nvPicPr>
        <p:blipFill>
          <a:blip r:embed="rId2"/>
          <a:stretch/>
        </p:blipFill>
        <p:spPr>
          <a:xfrm>
            <a:off x="1573200" y="1341360"/>
            <a:ext cx="554508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3413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4" descr="C:\Users\greftar\AppData\Local\Microsoft\Windows\Temporary Internet Files\Content.Outlook\DYUZQ4TD\EFA_example_0.jpg"/>
          <p:cNvPicPr/>
          <p:nvPr/>
        </p:nvPicPr>
        <p:blipFill>
          <a:blip r:embed="rId1"/>
          <a:stretch/>
        </p:blipFill>
        <p:spPr>
          <a:xfrm>
            <a:off x="1619280" y="1341360"/>
            <a:ext cx="5545080" cy="5027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greftar\AppData\Local\Microsoft\Windows\Temporary Internet Files\Content.Outlook\DYUZQ4TD\EFA_example_2b.jpg"/>
          <p:cNvPicPr/>
          <p:nvPr/>
        </p:nvPicPr>
        <p:blipFill>
          <a:blip r:embed="rId2"/>
          <a:stretch/>
        </p:blipFill>
        <p:spPr>
          <a:xfrm>
            <a:off x="1596960" y="1341360"/>
            <a:ext cx="554508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FA-layer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otential EFA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djacent to arable land (landscape features and buffer strip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table EFAs , 3 years princip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19EE-215F-46A5-B44D-47E60602138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FA-layer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6640" indent="-29664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Guideline (DSCG-2014-31 EFA-layer FINAL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6640" indent="-29664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6640" indent="-29664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ield cases onlin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6640" indent="-29664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6640" indent="-29664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urrently already a lot of MS are working on i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6640" indent="-29664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6640" indent="-29664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nce established it will be beneficial for the farmer and Paying Agenc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6640" indent="-29664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6640" indent="-29664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8BCA-1551-46D1-ADF1-CD00D6A22BF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382920" y="3716280"/>
            <a:ext cx="576108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CORDONNIER Vincent (AGRI)</dc:creator>
  <dc:description/>
  <dc:language>en-US</dc:language>
  <cp:lastModifiedBy>VAN DER GREFT Arie Hendrik (AGRI)</cp:lastModifiedBy>
  <cp:lastPrinted>2014-10-14T10:08:09Z</cp:lastPrinted>
  <dcterms:modified xsi:type="dcterms:W3CDTF">2015-05-04T15:01:17Z</dcterms:modified>
  <cp:revision>309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