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9D3-F170-4F09-AB38-CCD5A6BBA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A443-0283-4CFA-9E63-D81E39CD0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D8A947E-702C-495B-ACB6-70DB6E4C3DF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BC7B33D-CA6A-44A9-90A3-9CB9113AC65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26BBC75-319D-4CCB-B409-B694A1930C5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234B2EF-5F8E-4E23-9F43-1303557A17F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2763255-5E26-4BE8-A6FA-7C4E6A2AB9C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6FCF2E8-0E0A-4C5A-9596-05854815F9C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F36F582-DC65-4DC1-850B-CCE0918AD3C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EA7-040A-474F-B391-6277DA9C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38B-B2E1-4EA5-9C7D-8A42E1F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C21-FEBE-4492-A9E5-62D15B03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5C6-F532-4739-9202-225E90F8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9876-0363-4C5A-8596-383EBC47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F7DF-57E6-40BF-BC18-FF230B88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30A2-5A0B-4B29-B829-0DBE8B21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CC91-277F-464C-A8A7-A95B618D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8AE4-2D38-4FAD-BF44-AAD601BF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A012-0F96-4A52-BF8B-D6255D12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48BA-BAA6-41D4-9913-36001FA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C19-DB92-4BCF-B5DF-8B44A23E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78D4-E4BC-4316-AC08-8ABF172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65D-A9A3-465B-9F63-478ACC3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CBE0-AC13-4C53-917E-D5737C7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8D62-2085-4DC6-B0DB-A7322C78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8413-6B1D-4260-AA18-AC1C5A7A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0BE1-FD90-42FF-800E-54073349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6C50-F0B5-424B-A02C-5AC836C1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76BB-7A4E-47CD-9E16-3E52370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3802-04BE-4A05-9E1E-48AD201A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97EF-EDFE-47AC-A14D-024BC52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4D8-3799-468E-8AD7-281998CF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04C4-B244-405F-BEB0-C88F2C9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1B74-82A1-4046-AD2B-149FD4F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83A5-9399-4484-AD86-FCF1E6CF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E961-1ED2-400E-822C-E8E8FCDC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20F0-141B-4EB7-AF61-30A4B57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FEA9-9FEA-4356-819B-277132B5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ACB3-EE89-4F26-ABF4-0953DD49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F5DF-B0EA-42C1-A491-73BA7F3C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7E56-36FC-4531-84CB-E67B35D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B06A-6783-4E7A-BD5B-D8673EC2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9E4-F6E7-4426-B879-A95A350E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8E63-D207-45EE-8BA3-2847FB53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876E-EC1A-459D-A0D4-CEB021E9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E453-BAF9-4128-856F-BADDAEE1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C945-505A-4846-84DB-E1929AD4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C684-98C8-46A7-A3D3-67EA9EC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1312-A771-442A-8F35-6D33D4E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93279-F60C-4328-A512-87C1C9D3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88DA-D8A8-4781-899C-DAF4D2B4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AC41-4E0D-4EAF-8C21-0107B09D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532-57DE-497A-B625-BE85485E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747-0B74-49DC-98A4-F7D6032D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EC3-DB63-4A87-881D-A6C1E89A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BAD-7493-428F-B8B2-B76A56E5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5ED-0B11-4087-B433-A0965F8D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BD79-D9C7-4351-B867-CE225E23BD0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42C1-670B-4520-B371-39B7197AC2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782-8942-4BF8-A326-DDB3A9C56D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98C3-C33B-4777-9528-D16A2BF8A6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24360" y="1844640"/>
            <a:ext cx="5400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Verdana"/>
              </a:rPr>
              <a:t>Simplification of the CAP </a:t>
            </a: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State of play &amp; next steps</a:t>
            </a:r>
            <a:br>
              <a:rPr sz="2800"/>
            </a:br>
            <a:br>
              <a:rPr sz="1700"/>
            </a:br>
            <a:br>
              <a:rPr sz="1700"/>
            </a:br>
            <a:endParaRPr b="1" lang="en-US" sz="24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211280" y="5445000"/>
            <a:ext cx="475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Marijke van Schage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46BC-02F1-473A-B336-92252D1E7199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Simplification is …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03BB-CDED-4797-8877-9680BDD20B65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key priority for Commissioner Hogan and the Commission as a wh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timely because it comes after a comprehensive policy re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hared responsibility of the EU institutions and Member States, notably in view of the flexibility enjoyed by Member States in the areas of direct payments and rural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480-F955-430E-9999-90D45CFF06BA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What has happened so far ?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640" y="198864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G AGRI has launched internal screening exercise of the entire agricultural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acquis 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onclusion ph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mmissioner Hogan's letters to Member States, Council and COMAG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51"/>
              </a:spcBef>
              <a:spcAft>
                <a:spcPts val="56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27 Member States replied with 580 pages of ideas and proposals for simplifying the C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51"/>
              </a:spcBef>
              <a:spcAft>
                <a:spcPts val="56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MEPs responded with</a:t>
            </a: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 110 pages of simplification propos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irst discussion in Council was held on 16 March. Next Council on May 11 - Council Conclu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irst discussion in COMAGRI was held on 24 M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iscussions in Civil Dialogue Groups (on-go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FDAD-5B92-43AF-948C-021CB8AF0057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Guiding principles for simplification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7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The basic political decisions taken in the 2013 reform should be respected, so work to concentrate on elements which can be changed within the current policy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Simplification proposals should not jeopardize the sound financial management of the CAP or make it more prone to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riority should be given to those areas which are of most concern to farmers and other beneficiaries and where there is the largest benefit from a reduction in administrative bu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EB24-2832-4C42-8271-FEFCB0A9B102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Next step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7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nalysis of Member States', MEP's and stakeholders proposals in the context of DG AGRI's screening exercise (ongo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mmissioner Hogan's detailed simplification and subsidiarity intentions later this y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C64D-5D2F-4499-9C28-DFD046A06D05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Main sectors and their timeline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7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mmon Market Orga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00"/>
              </a:spcBef>
              <a:spcAft>
                <a:spcPts val="4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New delegated and implementing acts throughout 2015-201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irect pay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00"/>
              </a:spcBef>
              <a:spcAft>
                <a:spcPts val="4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First-year review following Commission's commitment of 4/20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00"/>
              </a:spcBef>
              <a:spcAft>
                <a:spcPts val="4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Next steps remain to be deci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Rural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00"/>
              </a:spcBef>
              <a:spcAft>
                <a:spcPts val="4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Work to start after the approval of Member States' program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85840">
              <a:spcBef>
                <a:spcPts val="499"/>
              </a:spcBef>
              <a:spcAft>
                <a:spcPts val="624"/>
              </a:spcAft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Quality policy /Organic far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A08-E82B-4A9B-B93C-4D7516559596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Thank You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VAN SCHAGEN Marijke (AGRI)</cp:lastModifiedBy>
  <cp:lastPrinted>2015-03-04T20:15:18Z</cp:lastPrinted>
  <dcterms:modified xsi:type="dcterms:W3CDTF">2015-04-23T06:53:29Z</dcterms:modified>
  <cp:revision>522</cp:revision>
  <dc:subject/>
  <dc:title>Slide 1</dc:title>
</cp:coreProperties>
</file>