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9475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A988-ED43-49AE-905E-3020060AC2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CA3B-E5A3-44D2-A476-27D0E39EE1C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BC6F-3C55-4F47-9E87-19221AB7D8D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AF1E-965F-4579-80DB-85C4FAFDE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311E-BF03-48E8-862F-E07C54CB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31FB-BC1B-4DA5-B35F-66A3E6BD0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7A6E-3745-4EB0-AEC2-2556C07C9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F896-E13E-457D-8759-67331C6A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A53C-436C-4741-9C97-FA8C099D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BE12-7E83-436B-9F15-E2451207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B251-6821-4621-9BF8-421C400A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0CA3-C575-4F6E-8991-1613DAAC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0487-BAC2-4276-9CFE-E59FC442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58EC-5C8C-4E1C-BF99-9A55F96B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05C3-D1BE-4A39-BA89-6714562D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DDF3-E750-4378-8AA3-D892A5FD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C2B2-FC04-480A-BEF3-DB100660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7EC1-1D63-412B-B615-85BDEF1A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ECB4-F95D-4DF5-AF65-D28BEF75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5EC0-277C-4FD2-816A-09DDD2DC8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6815F-36EB-4B6F-9525-F0E03EF39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FA94B-3884-4200-92AF-837E491F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DE2DD-553A-4338-9B8A-7F711515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94918-2942-4B2C-A825-A3BE5FB1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233A0-EE0D-4E2F-BBE5-95892162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525C-E6F8-43E2-AB22-34A66F18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CD726-922A-4CB2-9A55-C386B11C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901E8-625B-4480-92AE-8D0BE80F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68A3D-3BAF-47A1-BA81-4B56BD45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C0C4D-9BFC-47D8-A487-B33C083B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8B3C6-ED37-4D83-9C83-D64961F4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A4B7A-0C45-4445-995D-7E7440E4E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6C0FE-D997-4855-9624-CA5D7C62A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8F5F-92ED-48E1-8A2A-5DA5DFFD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182D-83C0-42D7-9277-76EFA407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40A1-69A8-4F60-97D6-9127D8F3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C6CE-3742-43E9-BB17-73DD7224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3947-D741-4A7F-9FFF-A43E78E5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B26C-3B75-426F-9CA7-75F1499B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8344-EF7A-45BB-A212-FFD7AE4D3D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4219560" y="6437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A8C4-E138-4235-90C7-F124F2FCD6C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3780000" y="40464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9620-A0F6-4C30-B7FE-538C9A8C98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ubtitle 2"/>
          <p:cNvSpPr/>
          <p:nvPr/>
        </p:nvSpPr>
        <p:spPr>
          <a:xfrm>
            <a:off x="611280" y="4797360"/>
            <a:ext cx="83898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  <a:ea typeface="Arial"/>
              </a:rPr>
              <a:t>European Commission 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Arial"/>
              </a:rPr>
              <a:t>DG Agriculture and Rural Development 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Arial"/>
              </a:rPr>
              <a:t>Unit D1 – Caroline JEANDIN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7" name="Title 1"/>
          <p:cNvSpPr/>
          <p:nvPr/>
        </p:nvSpPr>
        <p:spPr>
          <a:xfrm>
            <a:off x="289080" y="2392200"/>
            <a:ext cx="87850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2000"/>
          </a:bodyPr>
          <a:p>
            <a:pPr marL="78840" indent="-78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Verdana"/>
                <a:ea typeface="Arial"/>
              </a:rPr>
              <a:t>The ACTIVE FARMER provisions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 marL="78840" indent="-78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2000" spc="-1" strike="noStrike">
                <a:solidFill>
                  <a:srgbClr val="ffffff"/>
                </a:solidFill>
                <a:latin typeface="Verdana"/>
                <a:ea typeface="Arial"/>
              </a:rPr>
              <a:t>Civil Dialogue Group 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Verdana"/>
                <a:ea typeface="Arial"/>
              </a:rPr>
              <a:t>CDG DIRECT PAYMENTS AND GREENING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marL="78840" indent="-78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Verdana"/>
                <a:ea typeface="Arial"/>
              </a:rPr>
              <a:t>Brussels – 7 May 2015</a:t>
            </a:r>
            <a:br>
              <a:rPr sz="2000"/>
            </a:b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6836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Basic act: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Article 9 of R. (EU) No 1307/2013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34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Delegated act: 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rticles 10 to 13 of R. (EU) No 639/2014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34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+ Guidance document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on active farmer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Title 1"/>
          <p:cNvSpPr/>
          <p:nvPr/>
        </p:nvSpPr>
        <p:spPr>
          <a:xfrm>
            <a:off x="620640" y="1484280"/>
            <a:ext cx="8229600" cy="936720"/>
          </a:xfrm>
          <a:prstGeom prst="rect">
            <a:avLst/>
          </a:prstGeom>
          <a:gradFill rotWithShape="0">
            <a:gsLst>
              <a:gs pos="0">
                <a:srgbClr val="42a62a"/>
              </a:gs>
              <a:gs pos="100000">
                <a:srgbClr val="b8e3e6"/>
              </a:gs>
            </a:gsLst>
            <a:lin ang="5400000"/>
          </a:gradFill>
          <a:ln w="255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f5494"/>
                </a:solidFill>
                <a:latin typeface="Verdana"/>
                <a:ea typeface="Arial"/>
              </a:rPr>
              <a:t>The legal provisions</a:t>
            </a:r>
            <a:br>
              <a:rPr sz="2400"/>
            </a:b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gradFill rotWithShape="0">
            <a:gsLst>
              <a:gs pos="0">
                <a:srgbClr val="42a62a"/>
              </a:gs>
              <a:gs pos="100000">
                <a:srgbClr val="b8e3e6"/>
              </a:gs>
            </a:gsLst>
            <a:lin ang="5400000"/>
          </a:gradFill>
          <a:ln w="25560">
            <a:solidFill>
              <a:srgbClr val="42a62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The objective of the Active Farmer provisions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74840" y="267156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to better target the support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by excluding natural or legal persons whose business purpose is not or only marginally targeted at an agricultural activity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42" name="Straight Arrow Connector 2"/>
          <p:cNvCxnSpPr/>
          <p:nvPr/>
        </p:nvCxnSpPr>
        <p:spPr>
          <a:xfrm flipH="1">
            <a:off x="2572560" y="3860280"/>
            <a:ext cx="201708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3" name="Straight Arrow Connector 5"/>
          <p:cNvCxnSpPr/>
          <p:nvPr/>
        </p:nvCxnSpPr>
        <p:spPr>
          <a:xfrm>
            <a:off x="4589280" y="3860280"/>
            <a:ext cx="1080" cy="484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4" name="Straight Arrow Connector 6"/>
          <p:cNvCxnSpPr/>
          <p:nvPr/>
        </p:nvCxnSpPr>
        <p:spPr>
          <a:xfrm>
            <a:off x="4589280" y="3860640"/>
            <a:ext cx="208980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5" name="TextBox 13"/>
          <p:cNvSpPr/>
          <p:nvPr/>
        </p:nvSpPr>
        <p:spPr>
          <a:xfrm>
            <a:off x="395280" y="4378320"/>
            <a:ext cx="23763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70c0"/>
                </a:solidFill>
                <a:latin typeface="Verdana"/>
                <a:ea typeface="Arial"/>
              </a:rPr>
              <a:t>Excluding from the support entities whose agricultural areas are mainly</a:t>
            </a:r>
            <a:r>
              <a:rPr b="1" lang="fr-FR" sz="1100" spc="-1" strike="noStrike">
                <a:solidFill>
                  <a:srgbClr val="0070c0"/>
                </a:solidFill>
                <a:latin typeface="Verdana"/>
                <a:ea typeface="Arial"/>
              </a:rPr>
              <a:t> </a:t>
            </a:r>
            <a:r>
              <a:rPr b="1" lang="fr-FR" sz="1200" spc="-1" strike="noStrike">
                <a:solidFill>
                  <a:srgbClr val="0070c0"/>
                </a:solidFill>
                <a:latin typeface="Verdana"/>
                <a:ea typeface="Arial"/>
              </a:rPr>
              <a:t>"</a:t>
            </a:r>
            <a:r>
              <a:rPr b="1" i="1" lang="fr-FR" sz="1200" spc="-1" strike="noStrike">
                <a:solidFill>
                  <a:srgbClr val="0070c0"/>
                </a:solidFill>
                <a:latin typeface="Verdana"/>
                <a:ea typeface="Arial"/>
              </a:rPr>
              <a:t>self-maintained</a:t>
            </a:r>
            <a:r>
              <a:rPr b="1" lang="fr-FR" sz="1200" spc="-1" strike="noStrike">
                <a:solidFill>
                  <a:srgbClr val="0070c0"/>
                </a:solidFill>
                <a:latin typeface="Verdana"/>
                <a:ea typeface="Arial"/>
              </a:rPr>
              <a:t>" areas and who do not carry out </a:t>
            </a:r>
            <a:r>
              <a:rPr b="1" lang="fr-FR" sz="1400" spc="-1" strike="noStrike" u="sng">
                <a:solidFill>
                  <a:srgbClr val="0070c0"/>
                </a:solidFill>
                <a:uFillTx/>
                <a:latin typeface="Verdana"/>
                <a:ea typeface="Arial"/>
              </a:rPr>
              <a:t>minimum activity</a:t>
            </a:r>
            <a:r>
              <a:rPr b="1" lang="fr-FR" sz="1200" spc="-1" strike="noStrike">
                <a:solidFill>
                  <a:srgbClr val="0070c0"/>
                </a:solidFill>
                <a:latin typeface="Verdana"/>
                <a:ea typeface="Arial"/>
              </a:rPr>
              <a:t> defined by MS (art. 9(1)).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6" name="TextBox 16"/>
          <p:cNvSpPr/>
          <p:nvPr/>
        </p:nvSpPr>
        <p:spPr>
          <a:xfrm>
            <a:off x="3384720" y="4448160"/>
            <a:ext cx="24112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70c0"/>
                </a:solidFill>
                <a:latin typeface="Verdana"/>
                <a:ea typeface="Arial"/>
              </a:rPr>
              <a:t>Establishing a </a:t>
            </a:r>
            <a:r>
              <a:rPr b="1" lang="en-GB" sz="1400" spc="-1" strike="noStrike" u="sng">
                <a:solidFill>
                  <a:srgbClr val="0070c0"/>
                </a:solidFill>
                <a:uFillTx/>
                <a:latin typeface="Verdana"/>
                <a:ea typeface="Arial"/>
              </a:rPr>
              <a:t>negative presumption</a:t>
            </a:r>
            <a:r>
              <a:rPr b="1" lang="en-GB" sz="1200" spc="-1" strike="noStrike">
                <a:solidFill>
                  <a:srgbClr val="0070c0"/>
                </a:solidFill>
                <a:latin typeface="Verdana"/>
                <a:ea typeface="Arial"/>
              </a:rPr>
              <a:t> for those entities* which have land at their disposal but whose activities are typically not (or only to a marginal extent) agricultural (art. 9(2))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7" name="TextBox 17"/>
          <p:cNvSpPr/>
          <p:nvPr/>
        </p:nvSpPr>
        <p:spPr>
          <a:xfrm>
            <a:off x="6678720" y="4448160"/>
            <a:ext cx="1996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70c0"/>
                </a:solidFill>
                <a:latin typeface="Verdana"/>
                <a:ea typeface="Arial"/>
              </a:rPr>
              <a:t>(opt.) </a:t>
            </a:r>
            <a:r>
              <a:rPr b="1" lang="en-GB" sz="1200" spc="-1" strike="noStrike" u="sng">
                <a:solidFill>
                  <a:srgbClr val="0070c0"/>
                </a:solidFill>
                <a:uFillTx/>
                <a:latin typeface="Verdana"/>
                <a:ea typeface="Arial"/>
              </a:rPr>
              <a:t>Further excluding</a:t>
            </a:r>
            <a:r>
              <a:rPr b="1" lang="en-GB" sz="1200" spc="-1" strike="noStrike">
                <a:solidFill>
                  <a:srgbClr val="0070c0"/>
                </a:solidFill>
                <a:latin typeface="Verdana"/>
                <a:ea typeface="Arial"/>
              </a:rPr>
              <a:t> entities* whose agricultural activity is marginal (test(s) applied to all claimants) (art. 9(3))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8" name="Rectangle 20"/>
          <p:cNvSpPr/>
          <p:nvPr/>
        </p:nvSpPr>
        <p:spPr>
          <a:xfrm>
            <a:off x="2771640" y="6165720"/>
            <a:ext cx="63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70c0"/>
                </a:solidFill>
                <a:latin typeface="Verdana"/>
                <a:ea typeface="Arial"/>
              </a:rPr>
              <a:t>* (exemption for smaller part-time farmers under a certain threshold of DP)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9" name="Right Brace 21"/>
          <p:cNvSpPr/>
          <p:nvPr/>
        </p:nvSpPr>
        <p:spPr>
          <a:xfrm rot="5400000">
            <a:off x="5897880" y="3960000"/>
            <a:ext cx="155520" cy="4392360"/>
          </a:xfrm>
          <a:custGeom>
            <a:avLst/>
            <a:gdLst>
              <a:gd name="textAreaLeft" fmla="*/ 0 w 155520"/>
              <a:gd name="textAreaRight" fmla="*/ 56160 w 155520"/>
              <a:gd name="textAreaTop" fmla="*/ 3960 h 4392360"/>
              <a:gd name="textAreaBottom" fmla="*/ 4388400 h 43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2"/>
                  <a:pt x="10800" y="64"/>
                </a:cubicBezTo>
                <a:lnTo>
                  <a:pt x="10800" y="10736"/>
                </a:lnTo>
                <a:cubicBezTo>
                  <a:pt x="10800" y="10768"/>
                  <a:pt x="16200" y="10800"/>
                  <a:pt x="21600" y="10800"/>
                </a:cubicBezTo>
                <a:cubicBezTo>
                  <a:pt x="16200" y="10800"/>
                  <a:pt x="10800" y="10832"/>
                  <a:pt x="10800" y="10864"/>
                </a:cubicBezTo>
                <a:lnTo>
                  <a:pt x="10800" y="21536"/>
                </a:lnTo>
                <a:cubicBezTo>
                  <a:pt x="10800" y="2156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gradFill rotWithShape="0">
            <a:gsLst>
              <a:gs pos="0">
                <a:srgbClr val="42a62a"/>
              </a:gs>
              <a:gs pos="100000">
                <a:srgbClr val="b8e3e6"/>
              </a:gs>
            </a:gsLst>
            <a:lin ang="5400000"/>
          </a:gradFill>
          <a:ln w="25560">
            <a:solidFill>
              <a:srgbClr val="42a62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The "negative list"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8000" y="2636640"/>
            <a:ext cx="835164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Establishes a negative presumption on operators of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20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- Airports,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20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- railway services,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20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- waterworks,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20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- real estate services,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20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- permanent sport and recreational grounds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20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+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any similar businesses/activities (option for the MS)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Possibility to rebut the negative presumption by demonstrating that agricultural activity is not marginal (3 test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gradFill rotWithShape="0">
            <a:gsLst>
              <a:gs pos="0">
                <a:srgbClr val="42a62a"/>
              </a:gs>
              <a:gs pos="100000">
                <a:srgbClr val="b8e3e6"/>
              </a:gs>
            </a:gsLst>
            <a:lin ang="5400000"/>
          </a:gradFill>
          <a:ln w="25560">
            <a:solidFill>
              <a:srgbClr val="42a62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How to get out of the negative list?</a:t>
            </a:r>
            <a:br>
              <a:rPr sz="2400"/>
            </a:b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3 possibilities </a:t>
            </a: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(art 9(2) 3</a:t>
            </a:r>
            <a:r>
              <a:rPr b="1" lang="en-US" sz="1600" spc="-1" strike="noStrike" baseline="30000">
                <a:solidFill>
                  <a:srgbClr val="0f5494"/>
                </a:solidFill>
                <a:latin typeface="Verdana"/>
              </a:rPr>
              <a:t>rd</a:t>
            </a: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 sub§)</a:t>
            </a:r>
            <a:br>
              <a:rPr sz="2400"/>
            </a:b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(farmers have to provide the evidence)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250920" y="2660760"/>
            <a:ext cx="2387520" cy="352908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5400000"/>
          </a:gradFill>
          <a:ln w="38160">
            <a:solidFill>
              <a:srgbClr val="ffd6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  <a:ea typeface="Arial"/>
              </a:rPr>
              <a:t>Total amount of DP &gt; 5 % total gross receipts from non- agricultural activities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grpSp>
        <p:nvGrpSpPr>
          <p:cNvPr id="154" name="Rectangle 3"/>
          <p:cNvGrpSpPr/>
          <p:nvPr/>
        </p:nvGrpSpPr>
        <p:grpSpPr>
          <a:xfrm>
            <a:off x="3303720" y="2639880"/>
            <a:ext cx="2427120" cy="3565800"/>
            <a:chOff x="3303720" y="2639880"/>
            <a:chExt cx="2427120" cy="3565800"/>
          </a:xfrm>
        </p:grpSpPr>
        <p:pic>
          <p:nvPicPr>
            <p:cNvPr id="155" name="Rectangle 3" descr=""/>
            <p:cNvPicPr/>
            <p:nvPr/>
          </p:nvPicPr>
          <p:blipFill>
            <a:blip r:embed="rId1"/>
            <a:stretch/>
          </p:blipFill>
          <p:spPr>
            <a:xfrm>
              <a:off x="3303720" y="2639880"/>
              <a:ext cx="2427120" cy="356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324240" y="2660760"/>
              <a:ext cx="2386080" cy="35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f5494"/>
                  </a:solidFill>
                  <a:latin typeface="Verdana"/>
                </a:rPr>
                <a:t>Agricultural activities are not insignificant</a:t>
              </a:r>
              <a:endParaRPr b="1" lang="en-US" sz="2000" spc="-1" strike="noStrike">
                <a:solidFill>
                  <a:srgbClr val="ffd624"/>
                </a:solidFill>
                <a:latin typeface="Verdana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f5494"/>
                  </a:solidFill>
                  <a:latin typeface="Verdana"/>
                </a:rPr>
                <a:t>(MS to decide on the criteria)</a:t>
              </a:r>
              <a:endParaRPr b="1" lang="en-US" sz="1600" spc="-1" strike="noStrike">
                <a:solidFill>
                  <a:srgbClr val="ffd624"/>
                </a:solidFill>
                <a:latin typeface="Verdana"/>
              </a:endParaRPr>
            </a:p>
            <a:p>
              <a:pPr>
                <a:spcBef>
                  <a:spcPts val="300"/>
                </a:spcBef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200" spc="-1" strike="noStrike">
                  <a:solidFill>
                    <a:srgbClr val="0070c0"/>
                  </a:solidFill>
                  <a:latin typeface="Verdana"/>
                  <a:ea typeface="바탕"/>
                </a:rPr>
                <a:t>Total amount of receipts obtained from agricultural activities &gt; (max 1/3) total amount of receipts</a:t>
              </a:r>
              <a:endParaRPr b="1" lang="en-US" sz="1200" spc="-1" strike="noStrike">
                <a:solidFill>
                  <a:srgbClr val="ffd624"/>
                </a:solidFill>
                <a:latin typeface="Verdana"/>
              </a:endParaRPr>
            </a:p>
            <a:p>
              <a:pPr>
                <a:spcBef>
                  <a:spcPts val="300"/>
                </a:spcBef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200" spc="-1" strike="noStrike">
                  <a:solidFill>
                    <a:srgbClr val="0070c0"/>
                  </a:solidFill>
                  <a:latin typeface="Verdana"/>
                  <a:ea typeface="바탕"/>
                </a:rPr>
                <a:t>By derogation, alternative criteria</a:t>
              </a:r>
              <a:endParaRPr b="1" lang="en-US" sz="1200" spc="-1" strike="noStrike">
                <a:solidFill>
                  <a:srgbClr val="ffd624"/>
                </a:solidFill>
                <a:latin typeface="Verdana"/>
              </a:endParaRPr>
            </a:p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d624"/>
                </a:solidFill>
                <a:latin typeface="Verdana"/>
              </a:endParaRPr>
            </a:p>
          </p:txBody>
        </p:sp>
      </p:grpSp>
      <p:grpSp>
        <p:nvGrpSpPr>
          <p:cNvPr id="157" name="Rectangle 3"/>
          <p:cNvGrpSpPr/>
          <p:nvPr/>
        </p:nvGrpSpPr>
        <p:grpSpPr>
          <a:xfrm>
            <a:off x="6351480" y="2639880"/>
            <a:ext cx="2427480" cy="3565800"/>
            <a:chOff x="6351480" y="2639880"/>
            <a:chExt cx="2427480" cy="3565800"/>
          </a:xfrm>
        </p:grpSpPr>
        <p:pic>
          <p:nvPicPr>
            <p:cNvPr id="158" name="Rectangle 3" descr=""/>
            <p:cNvPicPr/>
            <p:nvPr/>
          </p:nvPicPr>
          <p:blipFill>
            <a:blip r:embed="rId2"/>
            <a:stretch/>
          </p:blipFill>
          <p:spPr>
            <a:xfrm>
              <a:off x="6351480" y="2639880"/>
              <a:ext cx="2427480" cy="356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6372360" y="2660760"/>
              <a:ext cx="2385720" cy="35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f5494"/>
                  </a:solidFill>
                  <a:latin typeface="Verdana"/>
                </a:rPr>
                <a:t>Agricultural activity is the principal business or company object</a:t>
              </a:r>
              <a:endParaRPr b="1" lang="en-US" sz="2000" spc="-1" strike="noStrike">
                <a:solidFill>
                  <a:srgbClr val="ffd624"/>
                </a:solidFill>
                <a:latin typeface="Verdana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f5494"/>
                  </a:solidFill>
                  <a:latin typeface="Verdana"/>
                </a:rPr>
                <a:t>(MS to decide on the criteria)</a:t>
              </a:r>
              <a:endParaRPr b="1" lang="en-US" sz="1600" spc="-1" strike="noStrike">
                <a:solidFill>
                  <a:srgbClr val="ffd624"/>
                </a:solidFill>
                <a:latin typeface="Verdana"/>
              </a:endParaRPr>
            </a:p>
            <a:p>
              <a:pPr>
                <a:spcBef>
                  <a:spcPts val="300"/>
                </a:spcBef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200" spc="-1" strike="noStrike">
                  <a:solidFill>
                    <a:srgbClr val="0f5494"/>
                  </a:solidFill>
                  <a:latin typeface="Verdana"/>
                </a:rPr>
                <a:t>Official business register or equivalent evidence</a:t>
              </a:r>
              <a:endParaRPr b="1" lang="en-US" sz="1200" spc="-1" strike="noStrike">
                <a:solidFill>
                  <a:srgbClr val="ffd624"/>
                </a:solidFill>
                <a:latin typeface="Verdana"/>
              </a:endParaRPr>
            </a:p>
            <a:p>
              <a:pPr>
                <a:spcBef>
                  <a:spcPts val="300"/>
                </a:spcBef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200" spc="-1" strike="noStrike">
                  <a:solidFill>
                    <a:srgbClr val="0f5494"/>
                  </a:solidFill>
                  <a:latin typeface="Verdana"/>
                </a:rPr>
                <a:t> </a:t>
              </a:r>
              <a:r>
                <a:rPr b="1" i="1" lang="fr-FR" sz="1200" spc="-1" strike="noStrike">
                  <a:solidFill>
                    <a:srgbClr val="0f5494"/>
                  </a:solidFill>
                  <a:latin typeface="Verdana"/>
                </a:rPr>
                <a:t>By way of derogation, alternative criteria</a:t>
              </a:r>
              <a:endParaRPr b="1" lang="en-US" sz="1200" spc="-1" strike="noStrike">
                <a:solidFill>
                  <a:srgbClr val="ffd624"/>
                </a:solidFill>
                <a:latin typeface="Verdana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d624"/>
                </a:solidFill>
                <a:latin typeface="Verdana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d624"/>
                </a:solidFill>
                <a:latin typeface="Verdana"/>
              </a:endParaRPr>
            </a:p>
          </p:txBody>
        </p:sp>
      </p:grpSp>
      <p:sp>
        <p:nvSpPr>
          <p:cNvPr id="160" name="TextBox 1"/>
          <p:cNvSpPr/>
          <p:nvPr/>
        </p:nvSpPr>
        <p:spPr>
          <a:xfrm>
            <a:off x="2644920" y="4113360"/>
            <a:ext cx="52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f5494"/>
                </a:solidFill>
                <a:latin typeface="Verdana"/>
                <a:ea typeface="Arial"/>
              </a:rPr>
              <a:t>or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1" name="TextBox 1"/>
          <p:cNvSpPr/>
          <p:nvPr/>
        </p:nvSpPr>
        <p:spPr>
          <a:xfrm>
            <a:off x="5724360" y="4116240"/>
            <a:ext cx="52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f5494"/>
                </a:solidFill>
                <a:latin typeface="Verdana"/>
                <a:ea typeface="Arial"/>
              </a:rPr>
              <a:t>or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gradFill rotWithShape="0">
            <a:gsLst>
              <a:gs pos="0">
                <a:srgbClr val="42a62a"/>
              </a:gs>
              <a:gs pos="100000">
                <a:srgbClr val="b8e3e6"/>
              </a:gs>
            </a:gsLst>
            <a:lin ang="5400000"/>
          </a:gradFill>
          <a:ln w="25560">
            <a:solidFill>
              <a:srgbClr val="42a62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(art 9.3) </a:t>
            </a:r>
            <a:r>
              <a:rPr b="1" lang="en-US" sz="2400" spc="-1" strike="noStrike" u="sng">
                <a:solidFill>
                  <a:srgbClr val="0f5494"/>
                </a:solidFill>
                <a:uFillTx/>
                <a:latin typeface="Verdana"/>
              </a:rPr>
              <a:t>Optional</a:t>
            </a: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 further exclusion of entities whose…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163" name="Rectangle 3"/>
          <p:cNvGrpSpPr/>
          <p:nvPr/>
        </p:nvGrpSpPr>
        <p:grpSpPr>
          <a:xfrm>
            <a:off x="378000" y="2657520"/>
            <a:ext cx="3736800" cy="1476360"/>
            <a:chOff x="378000" y="2657520"/>
            <a:chExt cx="3736800" cy="1476360"/>
          </a:xfrm>
        </p:grpSpPr>
        <p:pic>
          <p:nvPicPr>
            <p:cNvPr id="164" name="Rectangle 3" descr=""/>
            <p:cNvPicPr/>
            <p:nvPr/>
          </p:nvPicPr>
          <p:blipFill>
            <a:blip r:embed="rId1"/>
            <a:stretch/>
          </p:blipFill>
          <p:spPr>
            <a:xfrm>
              <a:off x="378000" y="2657520"/>
              <a:ext cx="373680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395280" y="2673360"/>
              <a:ext cx="370188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f5494"/>
                  </a:solidFill>
                  <a:latin typeface="Verdana"/>
                </a:rPr>
                <a:t>(point a)</a:t>
              </a:r>
              <a:endParaRPr b="1" lang="en-US" sz="2000" spc="-1" strike="noStrike">
                <a:solidFill>
                  <a:srgbClr val="ffd624"/>
                </a:solidFill>
                <a:latin typeface="Verdana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f5494"/>
                  </a:solidFill>
                  <a:latin typeface="Verdana"/>
                </a:rPr>
                <a:t>agricultural activities form an insignificant part of the overall economic activities</a:t>
              </a:r>
              <a:endParaRPr b="1" lang="en-US" sz="2000" spc="-1" strike="noStrike">
                <a:solidFill>
                  <a:srgbClr val="ffd624"/>
                </a:solidFill>
                <a:latin typeface="Verdana"/>
              </a:endParaRPr>
            </a:p>
          </p:txBody>
        </p:sp>
      </p:grpSp>
      <p:grpSp>
        <p:nvGrpSpPr>
          <p:cNvPr id="166" name="Rectangle 3"/>
          <p:cNvGrpSpPr/>
          <p:nvPr/>
        </p:nvGrpSpPr>
        <p:grpSpPr>
          <a:xfrm>
            <a:off x="5126040" y="2523960"/>
            <a:ext cx="3652920" cy="1803600"/>
            <a:chOff x="5126040" y="2523960"/>
            <a:chExt cx="3652920" cy="1803600"/>
          </a:xfrm>
        </p:grpSpPr>
        <p:pic>
          <p:nvPicPr>
            <p:cNvPr id="167" name="Rectangle 3" descr=""/>
            <p:cNvPicPr/>
            <p:nvPr/>
          </p:nvPicPr>
          <p:blipFill>
            <a:blip r:embed="rId2"/>
            <a:stretch/>
          </p:blipFill>
          <p:spPr>
            <a:xfrm>
              <a:off x="5126040" y="2523960"/>
              <a:ext cx="3652920" cy="18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5148360" y="2543040"/>
              <a:ext cx="3609720" cy="17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f5494"/>
                  </a:solidFill>
                  <a:latin typeface="Verdana"/>
                </a:rPr>
                <a:t>(point b)</a:t>
              </a:r>
              <a:endParaRPr b="1" lang="en-US" sz="2000" spc="-1" strike="noStrike">
                <a:solidFill>
                  <a:srgbClr val="ffd624"/>
                </a:solidFill>
                <a:latin typeface="Verdana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f5494"/>
                  </a:solidFill>
                  <a:latin typeface="Verdana"/>
                </a:rPr>
                <a:t>principal business or company object is not the exercise of an agricultural activity</a:t>
              </a:r>
              <a:endParaRPr b="1" lang="en-US" sz="2000" spc="-1" strike="noStrike">
                <a:solidFill>
                  <a:srgbClr val="ffd624"/>
                </a:solidFill>
                <a:latin typeface="Verdana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d624"/>
                </a:solidFill>
                <a:latin typeface="Verdana"/>
              </a:endParaRPr>
            </a:p>
          </p:txBody>
        </p:sp>
      </p:grpSp>
      <p:sp>
        <p:nvSpPr>
          <p:cNvPr id="169" name="TextBox 1"/>
          <p:cNvSpPr/>
          <p:nvPr/>
        </p:nvSpPr>
        <p:spPr>
          <a:xfrm>
            <a:off x="4146480" y="32400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f5494"/>
                </a:solidFill>
                <a:latin typeface="Verdana"/>
                <a:ea typeface="Arial"/>
              </a:rPr>
              <a:t>And/or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5148360" y="4675320"/>
            <a:ext cx="3609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Verdana"/>
                <a:ea typeface="바탕"/>
              </a:rPr>
              <a:t>Official business or equivalent register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171360" indent="-17136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Verdana"/>
                <a:ea typeface="바탕"/>
              </a:rPr>
              <a:t>By derogation, alternative criteria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1" name="TextBox 1"/>
          <p:cNvSpPr/>
          <p:nvPr/>
        </p:nvSpPr>
        <p:spPr>
          <a:xfrm>
            <a:off x="4097160" y="5037120"/>
            <a:ext cx="86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f5494"/>
                </a:solidFill>
                <a:latin typeface="Verdana"/>
                <a:ea typeface="Arial"/>
              </a:rPr>
              <a:t>In the DA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2" name="Right Brace 1"/>
          <p:cNvSpPr/>
          <p:nvPr/>
        </p:nvSpPr>
        <p:spPr>
          <a:xfrm>
            <a:off x="3987720" y="4292640"/>
            <a:ext cx="109440" cy="2076480"/>
          </a:xfrm>
          <a:custGeom>
            <a:avLst/>
            <a:gdLst>
              <a:gd name="textAreaLeft" fmla="*/ 0 w 109440"/>
              <a:gd name="textAreaRight" fmla="*/ 39600 w 109440"/>
              <a:gd name="textAreaTop" fmla="*/ 2520 h 2076480"/>
              <a:gd name="textAreaBottom" fmla="*/ 2073960 h 20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7"/>
                  <a:pt x="10800" y="94"/>
                </a:cubicBezTo>
                <a:lnTo>
                  <a:pt x="10800" y="10706"/>
                </a:lnTo>
                <a:cubicBezTo>
                  <a:pt x="10800" y="10753"/>
                  <a:pt x="16200" y="10800"/>
                  <a:pt x="21600" y="10800"/>
                </a:cubicBezTo>
                <a:cubicBezTo>
                  <a:pt x="16200" y="10800"/>
                  <a:pt x="10800" y="10847"/>
                  <a:pt x="10800" y="10894"/>
                </a:cubicBezTo>
                <a:lnTo>
                  <a:pt x="10800" y="21506"/>
                </a:lnTo>
                <a:cubicBezTo>
                  <a:pt x="10800" y="21553"/>
                  <a:pt x="5400" y="21600"/>
                  <a:pt x="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3e6f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3" name="Right Brace 13"/>
          <p:cNvSpPr/>
          <p:nvPr/>
        </p:nvSpPr>
        <p:spPr>
          <a:xfrm flipH="1">
            <a:off x="5009400" y="4548240"/>
            <a:ext cx="142920" cy="1565280"/>
          </a:xfrm>
          <a:custGeom>
            <a:avLst/>
            <a:gdLst>
              <a:gd name="textAreaLeft" fmla="*/ 0 w 142920"/>
              <a:gd name="textAreaRight" fmla="*/ 51480 w 142920"/>
              <a:gd name="textAreaTop" fmla="*/ 3600 h 1565280"/>
              <a:gd name="textAreaBottom" fmla="*/ 1561680 h 156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2"/>
                  <a:pt x="10800" y="164"/>
                </a:cubicBezTo>
                <a:lnTo>
                  <a:pt x="10800" y="10636"/>
                </a:lnTo>
                <a:cubicBezTo>
                  <a:pt x="10800" y="10718"/>
                  <a:pt x="16200" y="10800"/>
                  <a:pt x="21600" y="10800"/>
                </a:cubicBezTo>
                <a:cubicBezTo>
                  <a:pt x="16200" y="10800"/>
                  <a:pt x="10800" y="10882"/>
                  <a:pt x="10800" y="10964"/>
                </a:cubicBezTo>
                <a:lnTo>
                  <a:pt x="10800" y="21436"/>
                </a:lnTo>
                <a:cubicBezTo>
                  <a:pt x="10800" y="21518"/>
                  <a:pt x="5400" y="21600"/>
                  <a:pt x="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3e6f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4" name="TextBox 13"/>
          <p:cNvSpPr/>
          <p:nvPr/>
        </p:nvSpPr>
        <p:spPr>
          <a:xfrm>
            <a:off x="485640" y="4170240"/>
            <a:ext cx="3611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Verdana"/>
                <a:ea typeface="바탕"/>
              </a:rPr>
              <a:t>Total amount of DP &lt; 5% receipts from non-agricultural activities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171360" indent="-17136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d624"/>
              </a:solidFill>
              <a:latin typeface="Verdana"/>
            </a:endParaRPr>
          </a:p>
          <a:p>
            <a:pPr marL="171360" indent="-17136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Verdana"/>
                <a:ea typeface="바탕"/>
              </a:rPr>
              <a:t>Total amount of receipts obtained from agricultural activities &lt; (max 1/3) total amount of receipts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171360" indent="-17136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d624"/>
              </a:solidFill>
              <a:latin typeface="Verdana"/>
            </a:endParaRPr>
          </a:p>
          <a:p>
            <a:pPr marL="171360" indent="-17136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Verdana"/>
                <a:ea typeface="바탕"/>
              </a:rPr>
              <a:t>By derogation, alternative criteria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171360" indent="-17136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itle 1"/>
          <p:cNvSpPr/>
          <p:nvPr/>
        </p:nvSpPr>
        <p:spPr>
          <a:xfrm>
            <a:off x="198360" y="2997360"/>
            <a:ext cx="87854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  <a:ea typeface="Arial"/>
              </a:rPr>
              <a:t>Thanks a lot for your attention!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CORDONNIER Vincent (AGRI)</dc:creator>
  <dc:description/>
  <dc:language>en-US</dc:language>
  <cp:lastModifiedBy>BOURJOU Marie (AGRI)</cp:lastModifiedBy>
  <cp:lastPrinted>2014-10-14T10:08:09Z</cp:lastPrinted>
  <dcterms:modified xsi:type="dcterms:W3CDTF">2015-04-24T19:56:47Z</dcterms:modified>
  <cp:revision>313</cp:revision>
  <dc:subject>European Commission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Is Document Visible">
    <vt:lpwstr>0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  <property fmtid="{D5CDD505-2E9C-101B-9397-08002B2CF9AE}" pid="6" name="_AdHocReviewCycleID">
    <vt:r8>-1191302221</vt:r8>
  </property>
  <property fmtid="{D5CDD505-2E9C-101B-9397-08002B2CF9AE}" pid="7" name="_AuthorEmail">
    <vt:lpwstr>Marie.BOURJOU@ec.europa.eu</vt:lpwstr>
  </property>
  <property fmtid="{D5CDD505-2E9C-101B-9397-08002B2CF9AE}" pid="8" name="_AuthorEmailDisplayName">
    <vt:lpwstr>BOURJOU Marie (AGRI)</vt:lpwstr>
  </property>
  <property fmtid="{D5CDD505-2E9C-101B-9397-08002B2CF9AE}" pid="9" name="_EmailSubject">
    <vt:lpwstr>CDG Direct payments 7 May</vt:lpwstr>
  </property>
  <property fmtid="{D5CDD505-2E9C-101B-9397-08002B2CF9AE}" pid="10" name="_NewReviewCycle">
    <vt:lpwstr/>
  </property>
</Properties>
</file>