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038-6049-4616-BBC2-0569BCE4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0A8-0501-4239-A5D2-2BF2A912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4D6-BDFB-403F-AE6F-C876730A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B50-80AE-472D-8B72-E80AFC20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6005-E047-4CEC-ABD8-D1134D19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FA4E-B5DF-4E92-A41B-2E2A9D74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4427-C5D9-4A63-8D4E-429F8DFE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E4E3-993E-426A-BA51-B5907FA5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D10F-DB03-40B8-B14E-3A650550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1D3F-3287-4BE2-AA1A-C6DCC5C9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920D-9D61-418D-8FBD-A30A7E85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1FC-258A-47A7-88EB-DE90A482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CC0E-A88B-4486-BF9D-6DC49CE6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55A2-B912-4175-BAF6-6F34E955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2523-0852-4D54-A76C-AF010E29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FCF9-4BFD-49A2-B0F9-6750BBF0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9045-833B-4BAB-B6A5-4E5A2D8F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593CB-343A-4CA1-8437-2858AFA5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C768-9A13-4141-BECC-352A22C6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59CB3-7E1E-4E05-A7BE-EA6D08A7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FBBE2-6D0C-43BD-92D3-857F74C2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4DADC-8898-498B-A7F2-A0C10C04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9E4-4F84-4271-A5A4-37EF16D5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16A2-7FB1-4932-99C5-A80AA336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46793-D515-43A3-A303-34BD3A6F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EA63F-A91C-41FE-AFF1-B633714D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1A56-1313-4CAB-8012-F73DE71A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78F0C-E4F3-461C-99EA-74466F6F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3AD03-A26F-45C3-9136-E94C1792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F540-6AD2-40CD-9A52-EC1C0797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C71-AFF8-4F62-8079-1CABDA40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1D2-6387-422F-833A-CCF8D169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32E-837C-4F2A-9096-7019FA4A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DB2-9C46-431A-95E9-7110CECE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5490-E41E-4F8D-AE15-0BB9AF55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EEC0-26CC-4D5D-A065-20D20D12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‹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AA56-1810-4D37-95A6-0BE9EA1E3D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7164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‹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0672-C673-4EB4-B057-8E5E86085EA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24D6-25F4-45D3-8496-16C5F55638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773C-4FB5-4AE2-9547-19D049DA33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2133360"/>
            <a:ext cx="655344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Civil Dialog Group on "Wine"</a:t>
            </a:r>
            <a:br>
              <a:rPr sz="2800"/>
            </a:br>
            <a:br>
              <a:rPr sz="2400"/>
            </a:b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Tuesday,  February 10</a:t>
            </a:r>
            <a:r>
              <a:rPr b="1" lang="en-GB" sz="1600" spc="-1" strike="noStrike" baseline="30000">
                <a:solidFill>
                  <a:srgbClr val="ffd624"/>
                </a:solidFill>
                <a:latin typeface="Verdana"/>
              </a:rPr>
              <a:t>th</a:t>
            </a: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 2015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3a. </a:t>
            </a: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European wine market:</a:t>
            </a:r>
            <a:br>
              <a:rPr sz="2400"/>
            </a:b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Latest information on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d624"/>
                </a:solidFill>
                <a:latin typeface="Verdana"/>
              </a:rPr>
              <a:t>harvest estimations, stocks and on trade.</a:t>
            </a:r>
            <a:br>
              <a:rPr sz="2000"/>
            </a:br>
            <a:br>
              <a:rPr sz="2400"/>
            </a:b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42560" y="5516280"/>
            <a:ext cx="6913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Guy Dure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DG AGRI-C2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. CCAAM January 27th,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28560" y="1700280"/>
            <a:ext cx="775980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. CCAAM January 27th,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980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. CCAAM January 27th,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888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. CCAAM January 27th,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10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. CCAAM January 27th,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064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. CCAAM January 27th,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. CCAAM January 27th,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8483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. CCAAM January 27th,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914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. CCAAM January 27th, 2015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74760" y="1557360"/>
            <a:ext cx="779760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C595-5AC6-46E1-992E-CF67C5B361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A02C-54A2-481A-8683-339E30F4D6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18960" y="1341360"/>
            <a:ext cx="8574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3DFE-8E90-4E24-94ED-C77E927E6B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04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2"/>
          <p:cNvSpPr/>
          <p:nvPr/>
        </p:nvSpPr>
        <p:spPr>
          <a:xfrm>
            <a:off x="4464000" y="6404040"/>
            <a:ext cx="298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5FA2-B3E6-4152-AB2D-A9F55334B2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64072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. CCAAM December 12th, 2014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53880" y="1557360"/>
            <a:ext cx="84661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. CCAAM December 12th, 2014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96920" y="1557360"/>
            <a:ext cx="7210440" cy="1438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1116000" y="3284640"/>
            <a:ext cx="7209000" cy="1317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1116000" y="4797360"/>
            <a:ext cx="72090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. CCAAM December 12th, 2014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16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. CCAAM December 12th, 2014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6978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en-GB" sz="1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. CCAAM December 12th, 2014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j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1216080" y="1628640"/>
            <a:ext cx="6810480" cy="1467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1220760" y="3357720"/>
            <a:ext cx="6810480" cy="1211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3"/>
          <a:stretch/>
        </p:blipFill>
        <p:spPr>
          <a:xfrm>
            <a:off x="1208160" y="4797360"/>
            <a:ext cx="63291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09:08:58Z</dcterms:created>
  <dc:creator>DUREN Guy (AGRI)</dc:creator>
  <dc:description/>
  <dc:language>en-US</dc:language>
  <cp:lastModifiedBy>BUTTINI-PROVENZANO Roberta (AGRI)</cp:lastModifiedBy>
  <dcterms:modified xsi:type="dcterms:W3CDTF">2015-02-06T06:22:36Z</dcterms:modified>
  <cp:revision>15</cp:revision>
  <dc:subject/>
  <dc:title>Title</dc:title>
</cp:coreProperties>
</file>