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wmf" ContentType="image/x-wmf"/>
  <Override PartName="/ppt/media/image44.png" ContentType="image/png"/>
  <Override PartName="/ppt/media/image42.jpeg" ContentType="image/jpeg"/>
  <Override PartName="/ppt/media/image6.png" ContentType="image/png"/>
  <Override PartName="/ppt/media/image18.png" ContentType="image/png"/>
  <Override PartName="/ppt/media/image32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62.wmf" ContentType="image/x-wmf"/>
  <Override PartName="/ppt/media/image59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63.png" ContentType="image/png"/>
  <Override PartName="/ppt/media/image69.jpeg" ContentType="image/jpeg"/>
  <Override PartName="/ppt/media/image68.png" ContentType="image/png"/>
  <Override PartName="/ppt/media/image67.png" ContentType="image/png"/>
  <Override PartName="/ppt/media/image30.png" ContentType="image/png"/>
  <Override PartName="/ppt/media/image17.png" ContentType="image/png"/>
  <Override PartName="/ppt/media/image5.png" ContentType="image/png"/>
  <Override PartName="/ppt/media/image70.jpeg" ContentType="image/jpeg"/>
  <Override PartName="/ppt/media/image28.png" ContentType="image/png"/>
  <Override PartName="/ppt/media/image43.jpeg" ContentType="image/jpeg"/>
  <Override PartName="/ppt/media/image65.png" ContentType="image/png"/>
  <Override PartName="/ppt/media/image16.png" ContentType="image/png"/>
  <Override PartName="/ppt/media/image4.png" ContentType="image/png"/>
  <Override PartName="/ppt/media/image64.png" ContentType="image/png"/>
  <Override PartName="/ppt/media/image61.png" ContentType="image/png"/>
  <Override PartName="/ppt/media/image26.jpeg" ContentType="image/jpeg"/>
  <Override PartName="/ppt/media/image60.png" ContentType="image/png"/>
  <Override PartName="/ppt/media/image23.png" ContentType="image/png"/>
  <Override PartName="/ppt/media/image3.png" ContentType="image/png"/>
  <Override PartName="/ppt/media/image1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58.wmf" ContentType="image/x-wmf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33.jpeg" ContentType="image/jpeg"/>
  <Override PartName="/ppt/media/image40.png" ContentType="image/png"/>
  <Override PartName="/ppt/media/image66.png" ContentType="image/png"/>
  <Override PartName="/ppt/media/image41.jpeg" ContentType="image/jpe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D62D-2098-46CE-A826-1FAA7015CF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7898-454E-4D02-8408-DDC0B91F2F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65AB-4C43-40AB-84A8-706A096615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1D4F-92D7-4D29-8E56-4E1FFB4DDC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FAFB-CB08-46D3-8942-A62FA5909C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F7BE-6E6A-41C2-96EC-36069C7F2A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3DBE-D9F9-4205-A541-ADA73D4C52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ttangolo 4"/>
          <p:cNvSpPr/>
          <p:nvPr/>
        </p:nvSpPr>
        <p:spPr>
          <a:xfrm>
            <a:off x="2060640" y="3716280"/>
            <a:ext cx="3017880" cy="692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3920" bIns="43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Two extrem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China,: UP+ TR over 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Germany: EL+ CP  65% ( over 26% in the EL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3AD5-C3B0-40B4-818E-942D5B9EC8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517320" y="5071680"/>
            <a:ext cx="57690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C106-32FE-4ED6-A063-6D1391AE96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3778-0C10-4C9A-BD34-B6F0B997E6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2199-3FD0-4237-9214-DCDDD0D6B5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57E-FC18-4FA8-BDAE-2DD4820CF8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1E75-3682-4C97-986E-AC2CC9483F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9CB0-DE9E-496C-B61F-1A71059D9E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1429-A5F8-4EA1-BFD1-849A79EF38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7237-A110-4C43-9669-5F7E483AE5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627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C9FB-A8CC-402A-8A6C-AFB2737662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5613-DBCF-4492-96BF-B70FF0D007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9722-925D-49B2-BAB8-8B1A18590F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E9CF-E1A9-4AD2-9031-69C11097FB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D529-EAFB-4738-9711-83E7041354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A130-491D-487D-8695-8BA3671FC8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5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C38F-66F4-4292-998F-399954B2B5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39AE-E82F-405A-8EC1-1A2269F912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4DF6-B280-499A-8231-67C3AF3D91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A46C-C31F-49DF-A450-8403F7EE68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E109-DDBD-4DCB-89D4-1615FB99F7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C1D6-99D9-40E2-8769-1BEE6E45C7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9AAC-6C2F-4D0E-8D42-B75A562530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41EE-505D-490F-BFA4-01F2DA39ED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egnaposto numero diapositiva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3209-0C97-4869-AA36-5A233178AA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010-48B2-4032-BF61-537C8B5A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B1A-6698-43AD-B2E8-AA6924D5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5E3-5428-4BDC-9B6B-D1126930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93F-4241-4B22-BB17-70DCA338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EF6A-CE12-4221-86ED-F825CF81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7C6B-AF17-411B-A4B1-7F0A4898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54A1-A399-4928-B7AD-80E8F2E9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279-6A33-4968-9395-169CAB2A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B962-ECA6-494F-B2B6-917EF83F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A034-636B-459A-8D69-A914706B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7698-9118-4B56-B64D-D42A533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2E8-6138-4F86-8A29-6693B5E6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11D9-4DD2-4C64-A2EB-0140271E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28B8-EB84-48B3-B5B5-6E1E282F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5A03-BDFD-4EF6-8728-AD950B94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E7F9-082E-4FA9-B145-ED569DCC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10D6-2152-4DCF-A496-E0EEFF4E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6F8A4-A61E-4BCF-B842-0F7CA3A6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A73AA-9F75-4F8D-B860-D94254B4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050EB-D2D7-4F4E-A50B-D32EFC02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E423A4-6344-4FD8-ACF0-BEA12930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CD0EA-1713-47F9-A9F6-C7A26F53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355-10D0-4512-9F8B-F8C72851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9EB7D-59F8-446A-AA6E-7097271D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B9FA3-81AF-4512-97A5-51135B70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D068C-9FDC-4AAF-8DDA-46114CD5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0CBCE-AF60-49D5-B547-3D50FE6A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E78E2-1A7C-43BB-B1E8-FED3633E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BF419-BAA4-482D-B661-BE04C7A6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3E43F-869D-4102-AE41-B2C01B17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06F75-1A40-4A3F-8685-72847146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4EA9F-69FC-4135-A39E-99CDD73A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2B3C6-3EDD-4A5E-9E1E-BD78DA65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84C6-42B8-4A8C-AA45-8D06571C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25A4-8E1F-44B2-A9A5-6CB887E0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0246-3D09-4D58-812C-82E2E360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10F6-8EAB-4E0D-8B7A-BFC15197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4063E-6956-4579-897E-CC93E363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AD0F4-A994-4C2A-A613-49125934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8716-9015-4741-A272-511D4BCD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7976A-0E5E-49E7-AFB9-EB38B90D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4ABF3-A475-4AE1-91AD-393C13FD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0C11-198A-47AB-A01D-50EC40F6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DD1-46BD-41E9-9406-D4AFAB36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6B0-E782-4F39-BC3B-B2EF1A95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9A6-52FE-41DF-B9EA-DDC262BA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368-10F6-4964-9931-30167B3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3FB-79E0-487D-BF57-C12E4E20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E139-97AD-491A-A7F7-C55BB07511A0}" type="datetime">
              <a:rPr b="0" lang="it-IT" sz="800" spc="-1" strike="noStrike">
                <a:solidFill>
                  <a:srgbClr val="438086"/>
                </a:solidFill>
                <a:latin typeface="Times New Roman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511C-9B49-45C1-A16B-3759871CA058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tangolo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arrotondato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tangolo arrotondato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tangolo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tangolo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3C31-F43B-4ADE-988E-067E8DA9D90E}" type="datetime">
              <a:rPr b="0" lang="it-IT" sz="800" spc="-1" strike="noStrike">
                <a:solidFill>
                  <a:srgbClr val="438086"/>
                </a:solidFill>
                <a:latin typeface="Times New Roman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3C75-2F67-4907-B205-0DD0E2291C94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F40D-7EDC-4ACE-897F-C65926B9D463}" type="datetime">
              <a:rPr b="0" lang="it-IT" sz="800" spc="-1" strike="noStrike">
                <a:solidFill>
                  <a:srgbClr val="438086"/>
                </a:solidFill>
                <a:latin typeface="Times New Roman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E364-B8FA-4D42-A8BF-56F56F94728E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13AF-0678-4A8B-BD32-B4C6864853DD}" type="datetime">
              <a:rPr b="0" lang="it-IT" sz="800" spc="-1" strike="noStrike">
                <a:solidFill>
                  <a:srgbClr val="438086"/>
                </a:solidFill>
                <a:latin typeface="Times New Roman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960-4DA5-426E-B23A-80E8644416A8}" type="slidenum"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458200" cy="16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tudy on the competitiveness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f European wines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50560" y="4005360"/>
            <a:ext cx="281916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Arial"/>
              </a:rPr>
              <a:t>COGEA S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asellaDiTesto 3"/>
          <p:cNvSpPr/>
          <p:nvPr/>
        </p:nvSpPr>
        <p:spPr>
          <a:xfrm>
            <a:off x="4732560" y="557208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ussels, 10 February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478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Global competitiveness of EU still wines with respect </a:t>
            </a:r>
            <a:br>
              <a:rPr sz="2400"/>
            </a:b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to international trade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61" name="Segnaposto numero diapositiv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CBA9-2745-41B8-B731-3DA1949A4814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ttangolo 6"/>
          <p:cNvSpPr/>
          <p:nvPr/>
        </p:nvSpPr>
        <p:spPr>
          <a:xfrm>
            <a:off x="2058480" y="1857240"/>
            <a:ext cx="552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5696"/>
                </a:solidFill>
                <a:latin typeface="Arial"/>
              </a:rPr>
              <a:t>EU quality wines and varietal wine exports (average 2010-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6432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Global competitiveness of EU still wines with respect to international trade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23316"/>
                </a:solidFill>
                <a:latin typeface="Arial"/>
              </a:rPr>
              <a:t>Top10 + 3 EU markets: Bottled wine in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42920" y="2286000"/>
            <a:ext cx="4038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06630"/>
                </a:solidFill>
                <a:latin typeface="Arial"/>
              </a:rPr>
              <a:t>Top10 + 3 EU markets : Bulk wine in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egnaposto numero diapositiva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0139-EA0A-4C41-A583-BB81FB958F20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00040" y="2571840"/>
            <a:ext cx="3922560" cy="2643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2"/>
          <a:stretch/>
        </p:blipFill>
        <p:spPr>
          <a:xfrm>
            <a:off x="4572000" y="2571840"/>
            <a:ext cx="3916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Price competitiveness (FOB)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892B-9BC6-4785-936E-591EACCB1443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5138640" cy="3071520"/>
          </a:xfrm>
          <a:prstGeom prst="rect">
            <a:avLst/>
          </a:prstGeom>
          <a:ln w="0">
            <a:noFill/>
          </a:ln>
        </p:spPr>
      </p:pic>
      <p:grpSp>
        <p:nvGrpSpPr>
          <p:cNvPr id="373" name="Rettangolo 6"/>
          <p:cNvGrpSpPr/>
          <p:nvPr/>
        </p:nvGrpSpPr>
        <p:grpSpPr>
          <a:xfrm>
            <a:off x="6620040" y="1547640"/>
            <a:ext cx="2047680" cy="1189080"/>
            <a:chOff x="6620040" y="1547640"/>
            <a:chExt cx="2047680" cy="1189080"/>
          </a:xfrm>
        </p:grpSpPr>
        <p:pic>
          <p:nvPicPr>
            <p:cNvPr id="374" name="Rettangolo 6" descr=""/>
            <p:cNvPicPr/>
            <p:nvPr/>
          </p:nvPicPr>
          <p:blipFill>
            <a:blip r:embed="rId2"/>
            <a:stretch/>
          </p:blipFill>
          <p:spPr>
            <a:xfrm>
              <a:off x="6620040" y="1547640"/>
              <a:ext cx="20476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6643800" y="1571760"/>
              <a:ext cx="2000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2000-2009:  the gap between EU and NWC prices widens; 2010-2012 the price gap reduce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Rettangolo 7"/>
          <p:cNvGrpSpPr/>
          <p:nvPr/>
        </p:nvGrpSpPr>
        <p:grpSpPr>
          <a:xfrm>
            <a:off x="6620040" y="3402000"/>
            <a:ext cx="2047680" cy="1193760"/>
            <a:chOff x="6620040" y="3402000"/>
            <a:chExt cx="2047680" cy="1193760"/>
          </a:xfrm>
        </p:grpSpPr>
        <p:pic>
          <p:nvPicPr>
            <p:cNvPr id="377" name="Rettangolo 7" descr=""/>
            <p:cNvPicPr/>
            <p:nvPr/>
          </p:nvPicPr>
          <p:blipFill>
            <a:blip r:embed="rId3"/>
            <a:stretch/>
          </p:blipFill>
          <p:spPr>
            <a:xfrm>
              <a:off x="6620040" y="3402000"/>
              <a:ext cx="20476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643800" y="3429000"/>
              <a:ext cx="2000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Substitution  bottled /bulk exports of some NW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Rettangolo arrotondato 9"/>
          <p:cNvGrpSpPr/>
          <p:nvPr/>
        </p:nvGrpSpPr>
        <p:grpSpPr>
          <a:xfrm>
            <a:off x="762120" y="4973760"/>
            <a:ext cx="5260680" cy="1122120"/>
            <a:chOff x="762120" y="4973760"/>
            <a:chExt cx="5260680" cy="1122120"/>
          </a:xfrm>
        </p:grpSpPr>
        <p:pic>
          <p:nvPicPr>
            <p:cNvPr id="380" name="Rettangolo arrotondato 9" descr=""/>
            <p:cNvPicPr/>
            <p:nvPr/>
          </p:nvPicPr>
          <p:blipFill>
            <a:blip r:embed="rId4"/>
            <a:stretch/>
          </p:blipFill>
          <p:spPr>
            <a:xfrm>
              <a:off x="762120" y="4973760"/>
              <a:ext cx="52606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38080" y="5052960"/>
              <a:ext cx="51102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539640" indent="-28728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The highest prices: New Zealand + Fran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9640" indent="-28728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The lowest price: Spain (following the CMO refor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Freccia in giù 11"/>
          <p:cNvSpPr/>
          <p:nvPr/>
        </p:nvSpPr>
        <p:spPr>
          <a:xfrm>
            <a:off x="7286760" y="2857680"/>
            <a:ext cx="7142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ttangolo 12"/>
          <p:cNvSpPr/>
          <p:nvPr/>
        </p:nvSpPr>
        <p:spPr>
          <a:xfrm>
            <a:off x="1650960" y="135720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06630"/>
                </a:solidFill>
                <a:latin typeface="Arial"/>
              </a:rPr>
              <a:t>EU/NWC FOB unit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4000" y="785520"/>
            <a:ext cx="84628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Global competitiveness of EU still wines with respect </a:t>
            </a:r>
            <a:br>
              <a:rPr sz="2400"/>
            </a:b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to domestic consumption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85" name="Segnaposto numero diapositiv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1BEC-7ACC-4C08-9757-4B639EF1AB21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Rettangolo 6"/>
          <p:cNvGrpSpPr/>
          <p:nvPr/>
        </p:nvGrpSpPr>
        <p:grpSpPr>
          <a:xfrm>
            <a:off x="476280" y="1762200"/>
            <a:ext cx="3546360" cy="1120680"/>
            <a:chOff x="476280" y="1762200"/>
            <a:chExt cx="3546360" cy="1120680"/>
          </a:xfrm>
        </p:grpSpPr>
        <p:pic>
          <p:nvPicPr>
            <p:cNvPr id="387" name="Rettangolo 6" descr=""/>
            <p:cNvPicPr/>
            <p:nvPr/>
          </p:nvPicPr>
          <p:blipFill>
            <a:blip r:embed="rId1"/>
            <a:stretch/>
          </p:blipFill>
          <p:spPr>
            <a:xfrm>
              <a:off x="476280" y="1762200"/>
              <a:ext cx="35463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00040" y="1785960"/>
              <a:ext cx="35006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nalysis considers domestic consumption of all packaged wines, including “local” wines that may contain wine imported in bulk from other count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Rettangolo arrotondato 8"/>
          <p:cNvGrpSpPr/>
          <p:nvPr/>
        </p:nvGrpSpPr>
        <p:grpSpPr>
          <a:xfrm>
            <a:off x="5187960" y="1762200"/>
            <a:ext cx="2766960" cy="1120680"/>
            <a:chOff x="5187960" y="1762200"/>
            <a:chExt cx="2766960" cy="1120680"/>
          </a:xfrm>
        </p:grpSpPr>
        <p:pic>
          <p:nvPicPr>
            <p:cNvPr id="390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5187960" y="1762200"/>
              <a:ext cx="27669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267160" y="1838160"/>
              <a:ext cx="261000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he importance of European wines in the domestic consumption is underestim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Freccia in giù 9"/>
          <p:cNvSpPr/>
          <p:nvPr/>
        </p:nvSpPr>
        <p:spPr>
          <a:xfrm rot="16200000">
            <a:off x="4393080" y="2035800"/>
            <a:ext cx="5716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CasellaDiTesto 11"/>
          <p:cNvSpPr/>
          <p:nvPr/>
        </p:nvSpPr>
        <p:spPr>
          <a:xfrm>
            <a:off x="433800" y="307188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3f68"/>
                </a:solidFill>
                <a:latin typeface="Arial"/>
              </a:rPr>
              <a:t>EU wine market shares,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asellaDiTesto 12"/>
          <p:cNvSpPr/>
          <p:nvPr/>
        </p:nvSpPr>
        <p:spPr>
          <a:xfrm>
            <a:off x="4861440" y="3071880"/>
            <a:ext cx="20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3f68"/>
                </a:solidFill>
                <a:latin typeface="Arial"/>
              </a:rPr>
              <a:t>Map of competi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3"/>
          <a:stretch/>
        </p:blipFill>
        <p:spPr>
          <a:xfrm>
            <a:off x="4857840" y="3357720"/>
            <a:ext cx="3989160" cy="26571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8" descr=""/>
          <p:cNvPicPr/>
          <p:nvPr/>
        </p:nvPicPr>
        <p:blipFill>
          <a:blip r:embed="rId4"/>
          <a:stretch/>
        </p:blipFill>
        <p:spPr>
          <a:xfrm>
            <a:off x="500040" y="3357720"/>
            <a:ext cx="39290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Price/quality positioning of still wines in Case Study markets (bottles 0.75 lt)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98" name="Segnaposto numero diapositiva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7C2A-7C5B-40DB-B73B-597F92D4BAC9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928800" y="2071800"/>
            <a:ext cx="7078680" cy="3162240"/>
          </a:xfrm>
          <a:prstGeom prst="rect">
            <a:avLst/>
          </a:prstGeom>
          <a:ln w="0">
            <a:noFill/>
          </a:ln>
        </p:spPr>
      </p:pic>
      <p:grpSp>
        <p:nvGrpSpPr>
          <p:cNvPr id="400" name="Ritaglia angolo stesso lato rettangolo 4"/>
          <p:cNvGrpSpPr/>
          <p:nvPr/>
        </p:nvGrpSpPr>
        <p:grpSpPr>
          <a:xfrm>
            <a:off x="4621320" y="5334120"/>
            <a:ext cx="3475080" cy="1189080"/>
            <a:chOff x="4621320" y="5334120"/>
            <a:chExt cx="3475080" cy="1189080"/>
          </a:xfrm>
        </p:grpSpPr>
        <p:pic>
          <p:nvPicPr>
            <p:cNvPr id="401" name="Ritaglia angolo stesso lato rettangolo 4" descr=""/>
            <p:cNvPicPr/>
            <p:nvPr/>
          </p:nvPicPr>
          <p:blipFill>
            <a:blip r:embed="rId2"/>
            <a:stretch/>
          </p:blipFill>
          <p:spPr>
            <a:xfrm>
              <a:off x="4621320" y="5334120"/>
              <a:ext cx="347508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738680" y="5452920"/>
              <a:ext cx="323856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wo extrem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hina: UP + TR over 7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Germany: EL + CP  65% (over 26% in the EL)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ttangolo 7"/>
          <p:cNvSpPr/>
          <p:nvPr/>
        </p:nvSpPr>
        <p:spPr>
          <a:xfrm>
            <a:off x="928800" y="16430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6f8d"/>
                </a:solidFill>
                <a:latin typeface="Arial"/>
              </a:rPr>
              <a:t>Percentage distribution by pric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Callout 3 8"/>
          <p:cNvSpPr/>
          <p:nvPr/>
        </p:nvSpPr>
        <p:spPr>
          <a:xfrm>
            <a:off x="928800" y="5357880"/>
            <a:ext cx="335736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79" y="-33150"/>
                </a:moveTo>
                <a:lnTo>
                  <a:pt x="-3682" y="-9630"/>
                </a:lnTo>
                <a:lnTo>
                  <a:pt x="-3682" y="1920"/>
                </a:lnTo>
                <a:lnTo>
                  <a:pt x="-84" y="10960"/>
                </a:ln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Prices are not comparable across countries due to different taxation a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0560" y="714240"/>
            <a:ext cx="84978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Price/quality positioning of still wines in CS markets (bottles 0.75 lt)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06" name="Segnaposto numero diapositiv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EC7C-B3DB-4C8A-8293-912D9DC32748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8" descr=""/>
          <p:cNvPicPr/>
          <p:nvPr/>
        </p:nvPicPr>
        <p:blipFill>
          <a:blip r:embed="rId1"/>
          <a:stretch/>
        </p:blipFill>
        <p:spPr>
          <a:xfrm>
            <a:off x="714240" y="3143160"/>
            <a:ext cx="7734600" cy="905040"/>
          </a:xfrm>
          <a:prstGeom prst="rect">
            <a:avLst/>
          </a:prstGeom>
          <a:ln w="0">
            <a:noFill/>
          </a:ln>
        </p:spPr>
      </p:pic>
      <p:grpSp>
        <p:nvGrpSpPr>
          <p:cNvPr id="408" name="Rettangolo 10"/>
          <p:cNvGrpSpPr/>
          <p:nvPr/>
        </p:nvGrpSpPr>
        <p:grpSpPr>
          <a:xfrm>
            <a:off x="835200" y="4973760"/>
            <a:ext cx="1401480" cy="909360"/>
            <a:chOff x="835200" y="4973760"/>
            <a:chExt cx="1401480" cy="909360"/>
          </a:xfrm>
        </p:grpSpPr>
        <p:pic>
          <p:nvPicPr>
            <p:cNvPr id="409" name="Rettangolo 10" descr=""/>
            <p:cNvPicPr/>
            <p:nvPr/>
          </p:nvPicPr>
          <p:blipFill>
            <a:blip r:embed="rId2"/>
            <a:stretch/>
          </p:blipFill>
          <p:spPr>
            <a:xfrm>
              <a:off x="835200" y="4973760"/>
              <a:ext cx="140148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857160" y="5000760"/>
              <a:ext cx="13575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Local w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Rettangolo 11"/>
          <p:cNvGrpSpPr/>
          <p:nvPr/>
        </p:nvGrpSpPr>
        <p:grpSpPr>
          <a:xfrm>
            <a:off x="4906800" y="4973760"/>
            <a:ext cx="1401840" cy="909360"/>
            <a:chOff x="4906800" y="4973760"/>
            <a:chExt cx="1401840" cy="909360"/>
          </a:xfrm>
        </p:grpSpPr>
        <p:pic>
          <p:nvPicPr>
            <p:cNvPr id="412" name="Rettangolo 11" descr=""/>
            <p:cNvPicPr/>
            <p:nvPr/>
          </p:nvPicPr>
          <p:blipFill>
            <a:blip r:embed="rId3"/>
            <a:stretch/>
          </p:blipFill>
          <p:spPr>
            <a:xfrm>
              <a:off x="4906800" y="4973760"/>
              <a:ext cx="140184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929120" y="5000760"/>
              <a:ext cx="13575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EU w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4" name="Connettore 2 15"/>
          <p:cNvCxnSpPr/>
          <p:nvPr/>
        </p:nvCxnSpPr>
        <p:spPr>
          <a:xfrm flipV="1">
            <a:off x="5608800" y="4071600"/>
            <a:ext cx="217872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15" name="Connettore 2 17"/>
          <p:cNvCxnSpPr/>
          <p:nvPr/>
        </p:nvCxnSpPr>
        <p:spPr>
          <a:xfrm flipV="1">
            <a:off x="5607720" y="4000320"/>
            <a:ext cx="106920" cy="1000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16" name="Connettore 2 23"/>
          <p:cNvCxnSpPr/>
          <p:nvPr/>
        </p:nvCxnSpPr>
        <p:spPr>
          <a:xfrm flipH="1" flipV="1">
            <a:off x="1499400" y="4071600"/>
            <a:ext cx="35640" cy="929520"/>
          </a:xfrm>
          <a:prstGeom prst="straightConnector1">
            <a:avLst/>
          </a:prstGeom>
          <a:ln w="28440">
            <a:solidFill>
              <a:srgbClr val="53548a"/>
            </a:solidFill>
            <a:miter/>
            <a:tailEnd len="med" type="triangle" w="med"/>
          </a:ln>
        </p:spPr>
      </p:cxnSp>
      <p:grpSp>
        <p:nvGrpSpPr>
          <p:cNvPr id="417" name="Rettangolo 24"/>
          <p:cNvGrpSpPr/>
          <p:nvPr/>
        </p:nvGrpSpPr>
        <p:grpSpPr>
          <a:xfrm>
            <a:off x="5121360" y="1689120"/>
            <a:ext cx="1401840" cy="907920"/>
            <a:chOff x="5121360" y="1689120"/>
            <a:chExt cx="1401840" cy="907920"/>
          </a:xfrm>
        </p:grpSpPr>
        <p:pic>
          <p:nvPicPr>
            <p:cNvPr id="418" name="Rettangolo 24" descr=""/>
            <p:cNvPicPr/>
            <p:nvPr/>
          </p:nvPicPr>
          <p:blipFill>
            <a:blip r:embed="rId4"/>
            <a:stretch/>
          </p:blipFill>
          <p:spPr>
            <a:xfrm>
              <a:off x="5121360" y="1689120"/>
              <a:ext cx="14018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143680" y="1714680"/>
              <a:ext cx="13572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NWC w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0" name="Connettore 2 26"/>
          <p:cNvCxnSpPr/>
          <p:nvPr/>
        </p:nvCxnSpPr>
        <p:spPr>
          <a:xfrm flipH="1" flipV="1">
            <a:off x="1428120" y="4071600"/>
            <a:ext cx="3501000" cy="13579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421" name="Connettore 2 29"/>
          <p:cNvCxnSpPr/>
          <p:nvPr/>
        </p:nvCxnSpPr>
        <p:spPr>
          <a:xfrm flipH="1" flipV="1">
            <a:off x="3714120" y="4000320"/>
            <a:ext cx="1215000" cy="14292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422" name="Connettore 2 33"/>
          <p:cNvCxnSpPr/>
          <p:nvPr/>
        </p:nvCxnSpPr>
        <p:spPr>
          <a:xfrm flipV="1">
            <a:off x="1533960" y="4071600"/>
            <a:ext cx="1251720" cy="929520"/>
          </a:xfrm>
          <a:prstGeom prst="straightConnector1">
            <a:avLst/>
          </a:prstGeom>
          <a:ln w="28440">
            <a:solidFill>
              <a:srgbClr val="53548a"/>
            </a:solidFill>
            <a:miter/>
            <a:tailEnd len="med" type="triangle" w="med"/>
          </a:ln>
        </p:spPr>
      </p:cxnSp>
      <p:sp>
        <p:nvSpPr>
          <p:cNvPr id="423" name="CasellaDiTesto 35"/>
          <p:cNvSpPr/>
          <p:nvPr/>
        </p:nvSpPr>
        <p:spPr>
          <a:xfrm>
            <a:off x="5860080" y="4071960"/>
            <a:ext cx="128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rd-coun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asellaDiTesto 36"/>
          <p:cNvSpPr/>
          <p:nvPr/>
        </p:nvSpPr>
        <p:spPr>
          <a:xfrm>
            <a:off x="3006720" y="4286160"/>
            <a:ext cx="123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U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–UK,D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nettore 2 38"/>
          <p:cNvCxnSpPr/>
          <p:nvPr/>
        </p:nvCxnSpPr>
        <p:spPr>
          <a:xfrm flipV="1">
            <a:off x="5823000" y="1714320"/>
            <a:ext cx="2160" cy="21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426" name="Connettore 2 45"/>
          <p:cNvCxnSpPr/>
          <p:nvPr/>
        </p:nvCxnSpPr>
        <p:spPr>
          <a:xfrm flipH="1">
            <a:off x="4581000" y="2571480"/>
            <a:ext cx="1242000" cy="572040"/>
          </a:xfrm>
          <a:prstGeom prst="straightConnector1">
            <a:avLst/>
          </a:prstGeom>
          <a:ln w="28440">
            <a:solidFill>
              <a:srgbClr val="934c22"/>
            </a:solidFill>
            <a:miter/>
            <a:tailEnd len="med" type="triangle" w="med"/>
          </a:ln>
        </p:spPr>
      </p:cxnSp>
      <p:grpSp>
        <p:nvGrpSpPr>
          <p:cNvPr id="427" name="Callout con freccia a sinistra 51"/>
          <p:cNvGrpSpPr/>
          <p:nvPr/>
        </p:nvGrpSpPr>
        <p:grpSpPr>
          <a:xfrm>
            <a:off x="6540480" y="4761000"/>
            <a:ext cx="2341440" cy="1334880"/>
            <a:chOff x="6540480" y="4761000"/>
            <a:chExt cx="2341440" cy="1334880"/>
          </a:xfrm>
        </p:grpSpPr>
        <p:pic>
          <p:nvPicPr>
            <p:cNvPr id="428" name="Callout con freccia a sinistra 51" descr=""/>
            <p:cNvPicPr/>
            <p:nvPr/>
          </p:nvPicPr>
          <p:blipFill>
            <a:blip r:embed="rId5"/>
            <a:stretch/>
          </p:blipFill>
          <p:spPr>
            <a:xfrm>
              <a:off x="6540480" y="4761000"/>
              <a:ext cx="23414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6996240" y="4786200"/>
              <a:ext cx="18619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Information about GI is not explicitly used by retailers for communication to the consu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uppo 36"/>
          <p:cNvGrpSpPr/>
          <p:nvPr/>
        </p:nvGrpSpPr>
        <p:grpSpPr>
          <a:xfrm>
            <a:off x="1643040" y="2500200"/>
            <a:ext cx="6215040" cy="3643560"/>
            <a:chOff x="1643040" y="2500200"/>
            <a:chExt cx="6215040" cy="3643560"/>
          </a:xfrm>
        </p:grpSpPr>
        <p:sp>
          <p:nvSpPr>
            <p:cNvPr id="431" name="Rettangolo 5"/>
            <p:cNvSpPr/>
            <p:nvPr/>
          </p:nvSpPr>
          <p:spPr>
            <a:xfrm>
              <a:off x="1643040" y="2500200"/>
              <a:ext cx="6215040" cy="3643560"/>
            </a:xfrm>
            <a:prstGeom prst="rect">
              <a:avLst/>
            </a:prstGeom>
            <a:solidFill>
              <a:srgbClr val="7f7f7f"/>
            </a:solidFill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ttangolo 6"/>
            <p:cNvSpPr/>
            <p:nvPr/>
          </p:nvSpPr>
          <p:spPr>
            <a:xfrm>
              <a:off x="3921120" y="2808000"/>
              <a:ext cx="1323720" cy="666720"/>
            </a:xfrm>
            <a:prstGeom prst="rect">
              <a:avLst/>
            </a:prstGeom>
            <a:solidFill>
              <a:srgbClr val="dbdbe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26064"/>
                  </a:solidFill>
                  <a:latin typeface="Arial"/>
                  <a:ea typeface="Arial"/>
                </a:rPr>
                <a:t>Firm Stategy, Structure and Rival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ttangolo 7"/>
            <p:cNvSpPr/>
            <p:nvPr/>
          </p:nvSpPr>
          <p:spPr>
            <a:xfrm>
              <a:off x="5572080" y="4000320"/>
              <a:ext cx="1323720" cy="666720"/>
            </a:xfrm>
            <a:prstGeom prst="rect">
              <a:avLst/>
            </a:prstGeom>
            <a:solidFill>
              <a:srgbClr val="f5e0d3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26064"/>
                  </a:solidFill>
                  <a:latin typeface="Arial"/>
                  <a:ea typeface="Arial"/>
                </a:rPr>
                <a:t>Demand condi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ttangolo 8"/>
            <p:cNvSpPr/>
            <p:nvPr/>
          </p:nvSpPr>
          <p:spPr>
            <a:xfrm>
              <a:off x="2143080" y="4000320"/>
              <a:ext cx="1323720" cy="668160"/>
            </a:xfrm>
            <a:prstGeom prst="rect">
              <a:avLst/>
            </a:prstGeom>
            <a:solidFill>
              <a:srgbClr val="d6e9ea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26064"/>
                  </a:solidFill>
                  <a:latin typeface="Arial"/>
                  <a:ea typeface="Arial"/>
                </a:rPr>
                <a:t>Factor condi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ttangolo 9"/>
            <p:cNvSpPr/>
            <p:nvPr/>
          </p:nvSpPr>
          <p:spPr>
            <a:xfrm>
              <a:off x="3911400" y="5180040"/>
              <a:ext cx="1323720" cy="666720"/>
            </a:xfrm>
            <a:prstGeom prst="rect">
              <a:avLst/>
            </a:prstGeom>
            <a:solidFill>
              <a:srgbClr val="eddaee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26064"/>
                  </a:solidFill>
                  <a:latin typeface="Arial"/>
                  <a:ea typeface="Arial"/>
                </a:rPr>
                <a:t>Related and Supporting 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e 10"/>
            <p:cNvSpPr/>
            <p:nvPr/>
          </p:nvSpPr>
          <p:spPr>
            <a:xfrm>
              <a:off x="1811160" y="2881080"/>
              <a:ext cx="1120680" cy="539640"/>
            </a:xfrm>
            <a:prstGeom prst="ellipse">
              <a:avLst/>
            </a:prstGeom>
            <a:solidFill>
              <a:srgbClr val="eddaee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26064"/>
                  </a:solidFill>
                  <a:latin typeface="Arial"/>
                  <a:ea typeface="Arial"/>
                </a:rPr>
                <a:t>Ch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e 11"/>
            <p:cNvSpPr/>
            <p:nvPr/>
          </p:nvSpPr>
          <p:spPr>
            <a:xfrm>
              <a:off x="6118200" y="5212080"/>
              <a:ext cx="1668240" cy="573120"/>
            </a:xfrm>
            <a:prstGeom prst="ellipse">
              <a:avLst/>
            </a:prstGeom>
            <a:solidFill>
              <a:srgbClr val="dee9f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326064"/>
                  </a:solidFill>
                  <a:latin typeface="Arial"/>
                  <a:ea typeface="Arial"/>
                </a:rPr>
                <a:t>Gover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Connettore 2 12"/>
            <p:cNvCxnSpPr>
              <a:stCxn id="434" idx="0"/>
              <a:endCxn id="432" idx="1"/>
            </p:cNvCxnSpPr>
            <p:nvPr/>
          </p:nvCxnSpPr>
          <p:spPr>
            <a:xfrm flipV="1">
              <a:off x="2805120" y="3141000"/>
              <a:ext cx="1116720" cy="859680"/>
            </a:xfrm>
            <a:prstGeom prst="straightConnector1">
              <a:avLst/>
            </a:prstGeom>
            <a:ln w="28440">
              <a:solidFill>
                <a:srgbClr val="f2f2f2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39" name="Connettore 2 13"/>
            <p:cNvCxnSpPr>
              <a:stCxn id="434" idx="2"/>
              <a:endCxn id="435" idx="1"/>
            </p:cNvCxnSpPr>
            <p:nvPr/>
          </p:nvCxnSpPr>
          <p:spPr>
            <a:xfrm>
              <a:off x="2804040" y="4668840"/>
              <a:ext cx="1107000" cy="845280"/>
            </a:xfrm>
            <a:prstGeom prst="straightConnector1">
              <a:avLst/>
            </a:prstGeom>
            <a:ln w="28440">
              <a:solidFill>
                <a:srgbClr val="f2f2f2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0" name="Connettore 2 14"/>
            <p:cNvCxnSpPr>
              <a:stCxn id="433" idx="0"/>
              <a:endCxn id="432" idx="3"/>
            </p:cNvCxnSpPr>
            <p:nvPr/>
          </p:nvCxnSpPr>
          <p:spPr>
            <a:xfrm flipH="1" flipV="1">
              <a:off x="5244840" y="3141000"/>
              <a:ext cx="989280" cy="859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1" name="Connettore 2 15"/>
            <p:cNvCxnSpPr>
              <a:stCxn id="435" idx="3"/>
              <a:endCxn id="433" idx="2"/>
            </p:cNvCxnSpPr>
            <p:nvPr/>
          </p:nvCxnSpPr>
          <p:spPr>
            <a:xfrm flipV="1">
              <a:off x="5235120" y="4667040"/>
              <a:ext cx="999000" cy="846720"/>
            </a:xfrm>
            <a:prstGeom prst="straightConnector1">
              <a:avLst/>
            </a:prstGeom>
            <a:ln w="28440">
              <a:solidFill>
                <a:srgbClr val="f2f2f2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2" name="Connettore 2 16"/>
            <p:cNvCxnSpPr>
              <a:stCxn id="435" idx="0"/>
              <a:endCxn id="432" idx="2"/>
            </p:cNvCxnSpPr>
            <p:nvPr/>
          </p:nvCxnSpPr>
          <p:spPr>
            <a:xfrm flipV="1">
              <a:off x="4573440" y="3474720"/>
              <a:ext cx="8640" cy="1705680"/>
            </a:xfrm>
            <a:prstGeom prst="straightConnector1">
              <a:avLst/>
            </a:prstGeom>
            <a:ln w="28440">
              <a:solidFill>
                <a:srgbClr val="f2f2f2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3" name="Connettore 2 17"/>
            <p:cNvCxnSpPr>
              <a:stCxn id="434" idx="3"/>
              <a:endCxn id="433" idx="1"/>
            </p:cNvCxnSpPr>
            <p:nvPr/>
          </p:nvCxnSpPr>
          <p:spPr>
            <a:xfrm flipV="1">
              <a:off x="3466800" y="4333680"/>
              <a:ext cx="2105640" cy="2160"/>
            </a:xfrm>
            <a:prstGeom prst="straightConnector1">
              <a:avLst/>
            </a:prstGeom>
            <a:ln w="28440">
              <a:solidFill>
                <a:srgbClr val="f2f2f2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44" name="Connettore 2 18"/>
            <p:cNvCxnSpPr>
              <a:stCxn id="436" idx="6"/>
              <a:endCxn id="432" idx="1"/>
            </p:cNvCxnSpPr>
            <p:nvPr/>
          </p:nvCxnSpPr>
          <p:spPr>
            <a:xfrm flipV="1">
              <a:off x="2931480" y="3139560"/>
              <a:ext cx="989280" cy="11520"/>
            </a:xfrm>
            <a:prstGeom prst="straightConnector1">
              <a:avLst/>
            </a:prstGeom>
            <a:ln w="9360">
              <a:solidFill>
                <a:srgbClr val="f2f2f2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45" name="Connettore 2 19"/>
            <p:cNvCxnSpPr>
              <a:stCxn id="436" idx="6"/>
              <a:endCxn id="434" idx="0"/>
            </p:cNvCxnSpPr>
            <p:nvPr/>
          </p:nvCxnSpPr>
          <p:spPr>
            <a:xfrm flipH="1">
              <a:off x="2804760" y="3150720"/>
              <a:ext cx="127440" cy="849960"/>
            </a:xfrm>
            <a:prstGeom prst="straightConnector1">
              <a:avLst/>
            </a:prstGeom>
            <a:ln w="9360">
              <a:solidFill>
                <a:srgbClr val="f2f2f2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46" name="Connettore 2 20"/>
            <p:cNvCxnSpPr>
              <a:stCxn id="437" idx="2"/>
              <a:endCxn id="433" idx="2"/>
            </p:cNvCxnSpPr>
            <p:nvPr/>
          </p:nvCxnSpPr>
          <p:spPr>
            <a:xfrm flipV="1">
              <a:off x="6117120" y="4666680"/>
              <a:ext cx="116280" cy="832680"/>
            </a:xfrm>
            <a:prstGeom prst="straightConnector1">
              <a:avLst/>
            </a:prstGeom>
            <a:ln w="9360">
              <a:solidFill>
                <a:srgbClr val="f2f2f2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47" name="Connettore 2 21"/>
            <p:cNvCxnSpPr>
              <a:stCxn id="437" idx="2"/>
              <a:endCxn id="435" idx="3"/>
            </p:cNvCxnSpPr>
            <p:nvPr/>
          </p:nvCxnSpPr>
          <p:spPr>
            <a:xfrm flipH="1">
              <a:off x="5234760" y="5497560"/>
              <a:ext cx="883080" cy="16560"/>
            </a:xfrm>
            <a:prstGeom prst="straightConnector1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48" name="Connettore 2 22"/>
            <p:cNvCxnSpPr>
              <a:stCxn id="436" idx="6"/>
              <a:endCxn id="435" idx="0"/>
            </p:cNvCxnSpPr>
            <p:nvPr/>
          </p:nvCxnSpPr>
          <p:spPr>
            <a:xfrm>
              <a:off x="2931480" y="3151080"/>
              <a:ext cx="1641960" cy="2029680"/>
            </a:xfrm>
            <a:prstGeom prst="straightConnector1">
              <a:avLst/>
            </a:prstGeom>
            <a:ln w="9360">
              <a:solidFill>
                <a:srgbClr val="f2f2f2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49" name="Connettore 2 23"/>
            <p:cNvCxnSpPr>
              <a:stCxn id="436" idx="6"/>
              <a:endCxn id="433" idx="1"/>
            </p:cNvCxnSpPr>
            <p:nvPr/>
          </p:nvCxnSpPr>
          <p:spPr>
            <a:xfrm>
              <a:off x="2931480" y="3150720"/>
              <a:ext cx="2640600" cy="1183320"/>
            </a:xfrm>
            <a:prstGeom prst="straightConnector1">
              <a:avLst/>
            </a:prstGeom>
            <a:ln w="9360">
              <a:solidFill>
                <a:srgbClr val="f2f2f2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0" name="Connettore 2 24"/>
            <p:cNvCxnSpPr>
              <a:stCxn id="437" idx="2"/>
              <a:endCxn id="432" idx="2"/>
            </p:cNvCxnSpPr>
            <p:nvPr/>
          </p:nvCxnSpPr>
          <p:spPr>
            <a:xfrm flipH="1" flipV="1">
              <a:off x="4582800" y="3474360"/>
              <a:ext cx="1535760" cy="2025000"/>
            </a:xfrm>
            <a:prstGeom prst="straightConnector1">
              <a:avLst/>
            </a:prstGeom>
            <a:ln w="9360">
              <a:solidFill>
                <a:srgbClr val="f2f2f2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1" name="Connettore 2 25"/>
            <p:cNvCxnSpPr>
              <a:stCxn id="437" idx="2"/>
              <a:endCxn id="434" idx="3"/>
            </p:cNvCxnSpPr>
            <p:nvPr/>
          </p:nvCxnSpPr>
          <p:spPr>
            <a:xfrm flipH="1" flipV="1">
              <a:off x="3466800" y="4335120"/>
              <a:ext cx="2651760" cy="1164240"/>
            </a:xfrm>
            <a:prstGeom prst="straightConnector1">
              <a:avLst/>
            </a:prstGeom>
            <a:ln w="9360">
              <a:solidFill>
                <a:srgbClr val="f2f2f2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400" y="785880"/>
            <a:ext cx="8443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696"/>
                </a:solidFill>
                <a:latin typeface="Arial"/>
              </a:rPr>
              <a:t>Variables (and their interactions) that affect the domestic demand and the origin (EU/non EU) of wines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53" name="CasellaDiTesto 40"/>
          <p:cNvSpPr/>
          <p:nvPr/>
        </p:nvSpPr>
        <p:spPr>
          <a:xfrm>
            <a:off x="513000" y="200016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5696"/>
                </a:solidFill>
                <a:latin typeface="Arial"/>
              </a:rPr>
              <a:t>Porter’s Diam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egnaposto numero diapositiva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396A-597D-4D2B-8B62-BAF829A823A2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28760" y="785880"/>
          <a:ext cx="8072280" cy="543060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401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606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tructuring and conversion of viney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re balanced distribution of EU exports on large number of mar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606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crease of vineyard are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propensity to expor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6064"/>
                    </a:solidFill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mand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4c2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ood prospects in markets with growing GDP/per capita (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ltra Premium and Top Ran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4c2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4c22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ed and supporting indus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606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financing programmes for promotion on consumer mark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606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lexitank for bulk wine tra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606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m strategy, structure and rival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4c2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4c2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WC companies have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market pow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r portfoli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4c22"/>
                    </a:solidFill>
                  </a:tcPr>
                </a:tc>
              </a:tr>
              <a:tr h="1158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Gover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606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pport policies and regulatory measur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les relating to designations of origin and geographical indi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606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ateral trade agreeme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x regimes in consumer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606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a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4c2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4c2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xchange rate between the Euro and other currenci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4c2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7600" y="1642680"/>
            <a:ext cx="81151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5696"/>
                </a:solidFill>
                <a:latin typeface="Arial"/>
              </a:rPr>
              <a:t>Theme 2 - </a:t>
            </a:r>
            <a:r>
              <a:rPr b="1" lang="en-US" sz="3600" spc="-1" strike="noStrike">
                <a:solidFill>
                  <a:srgbClr val="005696"/>
                </a:solidFill>
                <a:latin typeface="Arial"/>
              </a:rPr>
              <a:t>Identification of the key factors of competitiveness </a:t>
            </a:r>
            <a:br>
              <a:rPr sz="2800"/>
            </a:br>
            <a:endParaRPr b="0" lang="en-US" sz="36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57" name="Segnaposto numero diapositiva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E7BC-FAFA-4C8F-BFB4-4EFBEE352405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Connettore 1 2"/>
          <p:cNvSpPr/>
          <p:nvPr/>
        </p:nvSpPr>
        <p:spPr>
          <a:xfrm>
            <a:off x="1143000" y="3714840"/>
            <a:ext cx="6696000" cy="0"/>
          </a:xfrm>
          <a:prstGeom prst="line">
            <a:avLst/>
          </a:prstGeom>
          <a:ln w="5724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Connettore 1 6"/>
          <p:cNvSpPr/>
          <p:nvPr/>
        </p:nvSpPr>
        <p:spPr>
          <a:xfrm>
            <a:off x="1143000" y="3643200"/>
            <a:ext cx="6696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Rettangolo 14"/>
          <p:cNvGrpSpPr/>
          <p:nvPr/>
        </p:nvGrpSpPr>
        <p:grpSpPr>
          <a:xfrm>
            <a:off x="615960" y="2335320"/>
            <a:ext cx="3554280" cy="3475080"/>
            <a:chOff x="615960" y="2335320"/>
            <a:chExt cx="3554280" cy="3475080"/>
          </a:xfrm>
        </p:grpSpPr>
        <p:pic>
          <p:nvPicPr>
            <p:cNvPr id="461" name="Rettangolo 14" descr=""/>
            <p:cNvPicPr/>
            <p:nvPr/>
          </p:nvPicPr>
          <p:blipFill>
            <a:blip r:embed="rId1"/>
            <a:stretch/>
          </p:blipFill>
          <p:spPr>
            <a:xfrm>
              <a:off x="615960" y="2335320"/>
              <a:ext cx="3554280" cy="34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42960" y="2357280"/>
              <a:ext cx="350028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920" y="642600"/>
            <a:ext cx="8478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96"/>
                </a:solidFill>
                <a:latin typeface="Arial"/>
              </a:rPr>
              <a:t>Identification of factors of competitiveness </a:t>
            </a:r>
            <a:r>
              <a:rPr b="1" lang="en-GB" sz="2800" spc="-1" strike="noStrike">
                <a:solidFill>
                  <a:srgbClr val="005696"/>
                </a:solidFill>
                <a:latin typeface="Arial"/>
              </a:rPr>
              <a:t>for packaged wines</a:t>
            </a:r>
            <a:endParaRPr b="0" lang="en-US" sz="2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64" name="Segnaposto numero diapositiva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BDE2-3A8F-4776-859A-3A93F21DB433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ttangolo 5"/>
          <p:cNvSpPr/>
          <p:nvPr/>
        </p:nvSpPr>
        <p:spPr>
          <a:xfrm>
            <a:off x="500040" y="1571760"/>
            <a:ext cx="821520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56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5696"/>
                </a:solidFill>
                <a:latin typeface="Arial"/>
                <a:ea typeface="Times New Roman"/>
              </a:rPr>
              <a:t>41</a:t>
            </a:r>
            <a:r>
              <a:rPr b="0" lang="en-GB" sz="1600" spc="-1" strike="noStrike">
                <a:solidFill>
                  <a:srgbClr val="005696"/>
                </a:solidFill>
                <a:latin typeface="Arial"/>
                <a:ea typeface="Times New Roman"/>
              </a:rPr>
              <a:t> factors of competitiveness (</a:t>
            </a:r>
            <a:r>
              <a:rPr b="0" lang="it-IT" sz="1600" spc="-1" strike="noStrike">
                <a:solidFill>
                  <a:srgbClr val="005696"/>
                </a:solidFill>
                <a:latin typeface="Arial"/>
              </a:rPr>
              <a:t>extremely important + important) grouped </a:t>
            </a:r>
            <a:r>
              <a:rPr b="0" lang="en-GB" sz="1600" spc="-1" strike="noStrike">
                <a:solidFill>
                  <a:srgbClr val="005696"/>
                </a:solidFill>
                <a:latin typeface="Arial"/>
                <a:ea typeface="Times New Roman"/>
              </a:rPr>
              <a:t>in 5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ttangolo 6"/>
          <p:cNvSpPr/>
          <p:nvPr/>
        </p:nvSpPr>
        <p:spPr>
          <a:xfrm>
            <a:off x="785880" y="2500200"/>
            <a:ext cx="3214800" cy="785880"/>
          </a:xfrm>
          <a:prstGeom prst="rect">
            <a:avLst/>
          </a:prstGeom>
          <a:solidFill>
            <a:srgbClr val="53548a"/>
          </a:solidFill>
          <a:ln w="28440">
            <a:solidFill>
              <a:srgbClr val="406f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: 9  Factors related  to bargaining  power and access to distribution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ttangolo 7"/>
          <p:cNvSpPr/>
          <p:nvPr/>
        </p:nvSpPr>
        <p:spPr>
          <a:xfrm>
            <a:off x="785880" y="3357720"/>
            <a:ext cx="3214800" cy="500040"/>
          </a:xfrm>
          <a:prstGeom prst="rect">
            <a:avLst/>
          </a:prstGeom>
          <a:solidFill>
            <a:srgbClr val="53548a"/>
          </a:solidFill>
          <a:ln w="28440">
            <a:solidFill>
              <a:srgbClr val="406f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: 13 Factors related to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ttangolo 8"/>
          <p:cNvSpPr/>
          <p:nvPr/>
        </p:nvSpPr>
        <p:spPr>
          <a:xfrm>
            <a:off x="785880" y="3929040"/>
            <a:ext cx="3214800" cy="500040"/>
          </a:xfrm>
          <a:prstGeom prst="rect">
            <a:avLst/>
          </a:prstGeom>
          <a:solidFill>
            <a:srgbClr val="53548a"/>
          </a:solidFill>
          <a:ln w="28440">
            <a:solidFill>
              <a:srgbClr val="406f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: 3 Factors related to br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ttangolo 9"/>
          <p:cNvSpPr/>
          <p:nvPr/>
        </p:nvSpPr>
        <p:spPr>
          <a:xfrm>
            <a:off x="785880" y="4500720"/>
            <a:ext cx="3214800" cy="500040"/>
          </a:xfrm>
          <a:prstGeom prst="rect">
            <a:avLst/>
          </a:prstGeom>
          <a:solidFill>
            <a:srgbClr val="53548a"/>
          </a:solidFill>
          <a:ln w="28440">
            <a:solidFill>
              <a:srgbClr val="406f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: 10 Factors related to market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ttangolo 10"/>
          <p:cNvSpPr/>
          <p:nvPr/>
        </p:nvSpPr>
        <p:spPr>
          <a:xfrm>
            <a:off x="785880" y="5072040"/>
            <a:ext cx="3214800" cy="500040"/>
          </a:xfrm>
          <a:prstGeom prst="rect">
            <a:avLst/>
          </a:prstGeom>
          <a:solidFill>
            <a:srgbClr val="53548a"/>
          </a:solidFill>
          <a:ln w="28440">
            <a:solidFill>
              <a:srgbClr val="406f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: 6 Factors related to posi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Callout con freccia in giù 11"/>
          <p:cNvGrpSpPr/>
          <p:nvPr/>
        </p:nvGrpSpPr>
        <p:grpSpPr>
          <a:xfrm>
            <a:off x="5114880" y="2255760"/>
            <a:ext cx="3632400" cy="1567080"/>
            <a:chOff x="5114880" y="2255760"/>
            <a:chExt cx="3632400" cy="1567080"/>
          </a:xfrm>
        </p:grpSpPr>
        <p:pic>
          <p:nvPicPr>
            <p:cNvPr id="472" name="Callout con freccia in giù 11" descr=""/>
            <p:cNvPicPr/>
            <p:nvPr/>
          </p:nvPicPr>
          <p:blipFill>
            <a:blip r:embed="rId2"/>
            <a:stretch/>
          </p:blipFill>
          <p:spPr>
            <a:xfrm>
              <a:off x="5114880" y="2255760"/>
              <a:ext cx="363240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143680" y="2286000"/>
              <a:ext cx="35715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5600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actors related to supplier behaviour are more numerous and more frequently mentioned compared to product fac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Rettangolo 13"/>
          <p:cNvGrpSpPr/>
          <p:nvPr/>
        </p:nvGrpSpPr>
        <p:grpSpPr>
          <a:xfrm>
            <a:off x="5114880" y="3828960"/>
            <a:ext cx="3632400" cy="1127160"/>
            <a:chOff x="5114880" y="3828960"/>
            <a:chExt cx="3632400" cy="1127160"/>
          </a:xfrm>
        </p:grpSpPr>
        <p:pic>
          <p:nvPicPr>
            <p:cNvPr id="475" name="Rettangolo 13" descr=""/>
            <p:cNvPicPr/>
            <p:nvPr/>
          </p:nvPicPr>
          <p:blipFill>
            <a:blip r:embed="rId3"/>
            <a:stretch/>
          </p:blipFill>
          <p:spPr>
            <a:xfrm>
              <a:off x="5114880" y="3828960"/>
              <a:ext cx="3632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3680" y="3857760"/>
              <a:ext cx="357156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ost important behaviour factors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Ability to select importers / distributors / buyers”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Reactive adaptation of the product to customers' demand”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Rettangolo 15"/>
          <p:cNvGrpSpPr/>
          <p:nvPr/>
        </p:nvGrpSpPr>
        <p:grpSpPr>
          <a:xfrm>
            <a:off x="5114880" y="4968720"/>
            <a:ext cx="3632400" cy="1346400"/>
            <a:chOff x="5114880" y="4968720"/>
            <a:chExt cx="3632400" cy="1346400"/>
          </a:xfrm>
        </p:grpSpPr>
        <p:pic>
          <p:nvPicPr>
            <p:cNvPr id="478" name="Rettangolo 15" descr=""/>
            <p:cNvPicPr/>
            <p:nvPr/>
          </p:nvPicPr>
          <p:blipFill>
            <a:blip r:embed="rId4"/>
            <a:stretch/>
          </p:blipFill>
          <p:spPr>
            <a:xfrm>
              <a:off x="5114880" y="4968720"/>
              <a:ext cx="363240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3680" y="5000760"/>
              <a:ext cx="35715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ost important product factors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Price” (Entry Level and Medium Range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Quality” (Top and Medium Rang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Origin of the product/terroir” (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TR and M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Indication of grape variety” (all segmen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Freccia a destra 16"/>
          <p:cNvSpPr/>
          <p:nvPr/>
        </p:nvSpPr>
        <p:spPr>
          <a:xfrm>
            <a:off x="4357800" y="2428920"/>
            <a:ext cx="571320" cy="2643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696"/>
                </a:solidFill>
                <a:latin typeface="Arial"/>
              </a:rPr>
              <a:t>Objectives of the </a:t>
            </a:r>
            <a:r>
              <a:rPr b="1" lang="en-US" sz="3200" spc="-1" strike="noStrike">
                <a:solidFill>
                  <a:srgbClr val="005696"/>
                </a:solidFill>
                <a:latin typeface="Arial"/>
              </a:rPr>
              <a:t>study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5" name="Segnaposto numero diapositiva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2851-7520-4C5F-800B-C178D235C25B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Rettangolo arrotondato 3"/>
          <p:cNvGrpSpPr/>
          <p:nvPr/>
        </p:nvGrpSpPr>
        <p:grpSpPr>
          <a:xfrm>
            <a:off x="1189080" y="2975040"/>
            <a:ext cx="1835280" cy="1047600"/>
            <a:chOff x="1189080" y="2975040"/>
            <a:chExt cx="1835280" cy="1047600"/>
          </a:xfrm>
        </p:grpSpPr>
        <p:pic>
          <p:nvPicPr>
            <p:cNvPr id="227" name="Rettangolo arrotondato 3" descr=""/>
            <p:cNvPicPr/>
            <p:nvPr/>
          </p:nvPicPr>
          <p:blipFill>
            <a:blip r:embed="rId1"/>
            <a:stretch/>
          </p:blipFill>
          <p:spPr>
            <a:xfrm>
              <a:off x="1189080" y="2975040"/>
              <a:ext cx="18352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263600" y="3049560"/>
              <a:ext cx="16876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hree study The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Ritaglia e arrotonda singolo angolo rettangolo 4"/>
          <p:cNvGrpSpPr/>
          <p:nvPr/>
        </p:nvGrpSpPr>
        <p:grpSpPr>
          <a:xfrm>
            <a:off x="4048200" y="1616040"/>
            <a:ext cx="2833560" cy="1054080"/>
            <a:chOff x="4048200" y="1616040"/>
            <a:chExt cx="2833560" cy="1054080"/>
          </a:xfrm>
        </p:grpSpPr>
        <p:pic>
          <p:nvPicPr>
            <p:cNvPr id="230" name="Ritaglia e arrotonda singolo angolo rettangolo 4" descr=""/>
            <p:cNvPicPr/>
            <p:nvPr/>
          </p:nvPicPr>
          <p:blipFill>
            <a:blip r:embed="rId2"/>
            <a:stretch/>
          </p:blipFill>
          <p:spPr>
            <a:xfrm>
              <a:off x="4048200" y="1616040"/>
              <a:ext cx="28335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121280" y="1692360"/>
              <a:ext cx="265248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 : Development of the competitiveness of EU still w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Ritaglia e arrotonda singolo angolo rettangolo 5"/>
          <p:cNvGrpSpPr/>
          <p:nvPr/>
        </p:nvGrpSpPr>
        <p:grpSpPr>
          <a:xfrm>
            <a:off x="4048200" y="3048120"/>
            <a:ext cx="2833560" cy="1047600"/>
            <a:chOff x="4048200" y="3048120"/>
            <a:chExt cx="2833560" cy="1047600"/>
          </a:xfrm>
        </p:grpSpPr>
        <p:pic>
          <p:nvPicPr>
            <p:cNvPr id="233" name="Ritaglia e arrotonda singolo angolo rettangolo 5" descr=""/>
            <p:cNvPicPr/>
            <p:nvPr/>
          </p:nvPicPr>
          <p:blipFill>
            <a:blip r:embed="rId3"/>
            <a:stretch/>
          </p:blipFill>
          <p:spPr>
            <a:xfrm>
              <a:off x="4048200" y="3048120"/>
              <a:ext cx="28335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4121280" y="3121200"/>
              <a:ext cx="265248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: Identification of the key factors of competitive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Ritaglia e arrotonda singolo angolo rettangolo 6"/>
          <p:cNvGrpSpPr/>
          <p:nvPr/>
        </p:nvGrpSpPr>
        <p:grpSpPr>
          <a:xfrm>
            <a:off x="4048200" y="4475160"/>
            <a:ext cx="2833560" cy="1047600"/>
            <a:chOff x="4048200" y="4475160"/>
            <a:chExt cx="2833560" cy="1047600"/>
          </a:xfrm>
        </p:grpSpPr>
        <p:pic>
          <p:nvPicPr>
            <p:cNvPr id="236" name="Ritaglia e arrotonda singolo angolo rettangolo 6" descr=""/>
            <p:cNvPicPr/>
            <p:nvPr/>
          </p:nvPicPr>
          <p:blipFill>
            <a:blip r:embed="rId4"/>
            <a:stretch/>
          </p:blipFill>
          <p:spPr>
            <a:xfrm>
              <a:off x="4048200" y="4475160"/>
              <a:ext cx="28335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121280" y="4549680"/>
              <a:ext cx="265248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: How to improve the competitiveness of EU still w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8" name="Connettore 4 8"/>
          <p:cNvCxnSpPr/>
          <p:nvPr/>
        </p:nvCxnSpPr>
        <p:spPr>
          <a:xfrm flipV="1">
            <a:off x="2999880" y="2071440"/>
            <a:ext cx="1072440" cy="1429200"/>
          </a:xfrm>
          <a:prstGeom prst="bentConnector3">
            <a:avLst>
              <a:gd name="adj1" fmla="val 50000"/>
            </a:avLst>
          </a:prstGeom>
          <a:ln w="57240">
            <a:solidFill>
              <a:srgbClr val="c991cb"/>
            </a:solidFill>
            <a:miter/>
            <a:tailEnd len="med" type="arrow" w="med"/>
          </a:ln>
        </p:spPr>
      </p:cxnSp>
      <p:cxnSp>
        <p:nvCxnSpPr>
          <p:cNvPr id="239" name="Connettore 4 10"/>
          <p:cNvCxnSpPr/>
          <p:nvPr/>
        </p:nvCxnSpPr>
        <p:spPr>
          <a:xfrm>
            <a:off x="2999880" y="3499920"/>
            <a:ext cx="1072440" cy="2520"/>
          </a:xfrm>
          <a:prstGeom prst="bentConnector3">
            <a:avLst>
              <a:gd name="adj1" fmla="val 50000"/>
            </a:avLst>
          </a:prstGeom>
          <a:ln w="57240">
            <a:solidFill>
              <a:srgbClr val="c991cb"/>
            </a:solidFill>
            <a:miter/>
            <a:tailEnd len="med" type="arrow" w="med"/>
          </a:ln>
        </p:spPr>
      </p:cxnSp>
      <p:cxnSp>
        <p:nvCxnSpPr>
          <p:cNvPr id="240" name="Connettore 4 12"/>
          <p:cNvCxnSpPr/>
          <p:nvPr/>
        </p:nvCxnSpPr>
        <p:spPr>
          <a:xfrm>
            <a:off x="2999880" y="3499920"/>
            <a:ext cx="1072440" cy="1429560"/>
          </a:xfrm>
          <a:prstGeom prst="bentConnector3">
            <a:avLst>
              <a:gd name="adj1" fmla="val 50000"/>
            </a:avLst>
          </a:prstGeom>
          <a:ln w="57240">
            <a:solidFill>
              <a:srgbClr val="c991c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67888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Response of EU packaged wines to factors of competitiveness (compared to NWC wines)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82" name="Segnaposto numero diapositiv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19AD-5F4A-4792-B90A-F80263DEFDA7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Rettangolo arrotondato 4"/>
          <p:cNvGrpSpPr/>
          <p:nvPr/>
        </p:nvGrpSpPr>
        <p:grpSpPr>
          <a:xfrm>
            <a:off x="262080" y="1901880"/>
            <a:ext cx="6619680" cy="981000"/>
            <a:chOff x="262080" y="1901880"/>
            <a:chExt cx="6619680" cy="981000"/>
          </a:xfrm>
        </p:grpSpPr>
        <p:pic>
          <p:nvPicPr>
            <p:cNvPr id="484" name="Rettangolo arrotondato 4" descr=""/>
            <p:cNvPicPr/>
            <p:nvPr/>
          </p:nvPicPr>
          <p:blipFill>
            <a:blip r:embed="rId1"/>
            <a:stretch/>
          </p:blipFill>
          <p:spPr>
            <a:xfrm>
              <a:off x="262080" y="1901880"/>
              <a:ext cx="66196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331920" y="1974960"/>
              <a:ext cx="6480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5600"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EU wines respond better to “Extremely important” FoC in all market segments, except for “Price” and “Price stability” at E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Rettangolo arrotondato 5"/>
          <p:cNvGrpSpPr/>
          <p:nvPr/>
        </p:nvGrpSpPr>
        <p:grpSpPr>
          <a:xfrm>
            <a:off x="2048040" y="2901960"/>
            <a:ext cx="6619680" cy="1054080"/>
            <a:chOff x="2048040" y="2901960"/>
            <a:chExt cx="6619680" cy="1054080"/>
          </a:xfrm>
        </p:grpSpPr>
        <p:pic>
          <p:nvPicPr>
            <p:cNvPr id="487" name="Rettangolo arrotondato 5" descr=""/>
            <p:cNvPicPr/>
            <p:nvPr/>
          </p:nvPicPr>
          <p:blipFill>
            <a:blip r:embed="rId2"/>
            <a:stretch/>
          </p:blipFill>
          <p:spPr>
            <a:xfrm>
              <a:off x="2048040" y="2901960"/>
              <a:ext cx="66196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120760" y="2978280"/>
              <a:ext cx="647388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5600"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Arial"/>
                </a:rPr>
                <a:t>For some “Extremely important” factors, EU wines are never worse than their competitors: “Ability to manage relationships with importers/distributors” and “Brand/Image of the product”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Rettangolo arrotondato 6"/>
          <p:cNvGrpSpPr/>
          <p:nvPr/>
        </p:nvGrpSpPr>
        <p:grpSpPr>
          <a:xfrm>
            <a:off x="262080" y="4048200"/>
            <a:ext cx="6692760" cy="974520"/>
            <a:chOff x="262080" y="4048200"/>
            <a:chExt cx="6692760" cy="974520"/>
          </a:xfrm>
        </p:grpSpPr>
        <p:pic>
          <p:nvPicPr>
            <p:cNvPr id="490" name="Rettangolo arrotondato 6" descr=""/>
            <p:cNvPicPr/>
            <p:nvPr/>
          </p:nvPicPr>
          <p:blipFill>
            <a:blip r:embed="rId3"/>
            <a:stretch/>
          </p:blipFill>
          <p:spPr>
            <a:xfrm>
              <a:off x="262080" y="4048200"/>
              <a:ext cx="669276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31920" y="4118040"/>
              <a:ext cx="655164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5600"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EU wines response improves moving from Entry Level to Top Ran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Rettangolo arrotondato 7"/>
          <p:cNvGrpSpPr/>
          <p:nvPr/>
        </p:nvGrpSpPr>
        <p:grpSpPr>
          <a:xfrm>
            <a:off x="2120760" y="5121360"/>
            <a:ext cx="6621480" cy="974520"/>
            <a:chOff x="2120760" y="5121360"/>
            <a:chExt cx="6621480" cy="974520"/>
          </a:xfrm>
        </p:grpSpPr>
        <p:pic>
          <p:nvPicPr>
            <p:cNvPr id="493" name="Rettangolo arrotondato 7" descr=""/>
            <p:cNvPicPr/>
            <p:nvPr/>
          </p:nvPicPr>
          <p:blipFill>
            <a:blip r:embed="rId4"/>
            <a:stretch/>
          </p:blipFill>
          <p:spPr>
            <a:xfrm>
              <a:off x="2120760" y="5121360"/>
              <a:ext cx="662148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2189160" y="5189400"/>
              <a:ext cx="64800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5600"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Overall, “Price”, “Type and quality of the packaging” and “Indication of grape variety” represent the main weaknesses of EU wines compared to NWC wi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Key factors for packaged wines: </a:t>
            </a:r>
            <a:br>
              <a:rPr sz="2400"/>
            </a:b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results of structural analysis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96" name="Segnaposto numero diapositiva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1CD5-AA5D-4C3F-97A1-6739C26DF283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magine 3" descr=""/>
          <p:cNvPicPr/>
          <p:nvPr/>
        </p:nvPicPr>
        <p:blipFill>
          <a:blip r:embed="rId1"/>
          <a:stretch/>
        </p:blipFill>
        <p:spPr>
          <a:xfrm>
            <a:off x="3143160" y="1335240"/>
            <a:ext cx="5403960" cy="4093920"/>
          </a:xfrm>
          <a:prstGeom prst="rect">
            <a:avLst/>
          </a:prstGeom>
          <a:ln w="0">
            <a:noFill/>
          </a:ln>
        </p:spPr>
      </p:pic>
      <p:grpSp>
        <p:nvGrpSpPr>
          <p:cNvPr id="498" name="Callout con freccia a destra 5"/>
          <p:cNvGrpSpPr/>
          <p:nvPr/>
        </p:nvGrpSpPr>
        <p:grpSpPr>
          <a:xfrm>
            <a:off x="615960" y="5407200"/>
            <a:ext cx="3913200" cy="1049040"/>
            <a:chOff x="615960" y="5407200"/>
            <a:chExt cx="3913200" cy="1049040"/>
          </a:xfrm>
        </p:grpSpPr>
        <p:pic>
          <p:nvPicPr>
            <p:cNvPr id="499" name="Callout con freccia a destra 5" descr=""/>
            <p:cNvPicPr/>
            <p:nvPr/>
          </p:nvPicPr>
          <p:blipFill>
            <a:blip r:embed="rId2"/>
            <a:stretch/>
          </p:blipFill>
          <p:spPr>
            <a:xfrm>
              <a:off x="615960" y="5407200"/>
              <a:ext cx="391320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642960" y="5429160"/>
              <a:ext cx="32781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A3 =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bility to manage relationsh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8 = PDO-PGI popula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A4 =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ensity of PR activ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Rettangolo 6"/>
          <p:cNvGrpSpPr/>
          <p:nvPr/>
        </p:nvGrpSpPr>
        <p:grpSpPr>
          <a:xfrm>
            <a:off x="4548240" y="5407200"/>
            <a:ext cx="3693960" cy="1049040"/>
            <a:chOff x="4548240" y="5407200"/>
            <a:chExt cx="3693960" cy="1049040"/>
          </a:xfrm>
        </p:grpSpPr>
        <p:pic>
          <p:nvPicPr>
            <p:cNvPr id="502" name="Rettangolo 6" descr=""/>
            <p:cNvPicPr/>
            <p:nvPr/>
          </p:nvPicPr>
          <p:blipFill>
            <a:blip r:embed="rId3"/>
            <a:stretch/>
          </p:blipFill>
          <p:spPr>
            <a:xfrm>
              <a:off x="4548240" y="5407200"/>
              <a:ext cx="36939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572000" y="5429160"/>
              <a:ext cx="36432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E4 = Correct price/quality positio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E2 =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ropriate advertising to consu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B6 = 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Pentagono 7"/>
          <p:cNvGrpSpPr/>
          <p:nvPr/>
        </p:nvGrpSpPr>
        <p:grpSpPr>
          <a:xfrm>
            <a:off x="549360" y="2048040"/>
            <a:ext cx="2266920" cy="2474640"/>
            <a:chOff x="549360" y="2048040"/>
            <a:chExt cx="2266920" cy="2474640"/>
          </a:xfrm>
        </p:grpSpPr>
        <p:pic>
          <p:nvPicPr>
            <p:cNvPr id="505" name="Pentagono 7" descr=""/>
            <p:cNvPicPr/>
            <p:nvPr/>
          </p:nvPicPr>
          <p:blipFill>
            <a:blip r:embed="rId4"/>
            <a:stretch/>
          </p:blipFill>
          <p:spPr>
            <a:xfrm>
              <a:off x="549360" y="2048040"/>
              <a:ext cx="2266920" cy="24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71680" y="2071800"/>
              <a:ext cx="1660320" cy="24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bjective: reduce the number of 41 FoC to few key factors, through their relationshi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2560" y="713880"/>
            <a:ext cx="871524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Key factors for packaged wines: </a:t>
            </a:r>
            <a:br>
              <a:rPr sz="2400"/>
            </a:b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results of structural analysis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6C17-61F3-4D9C-BD19-3E77EE72EBB7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tangolo 5"/>
          <p:cNvSpPr/>
          <p:nvPr/>
        </p:nvSpPr>
        <p:spPr>
          <a:xfrm>
            <a:off x="285840" y="1500120"/>
            <a:ext cx="8501040" cy="30708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First six Influence and Dependence Key factors by segment (in decreasing order of impor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3152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50560" y="71388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Factors of competitiveness for bulk wine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2" name="Segnaposto numero diapositiv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8614-C266-4C36-B23D-0E81AB502AAA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Callout con freccia a destra 4"/>
          <p:cNvGrpSpPr/>
          <p:nvPr/>
        </p:nvGrpSpPr>
        <p:grpSpPr>
          <a:xfrm>
            <a:off x="901800" y="1689120"/>
            <a:ext cx="3852720" cy="950760"/>
            <a:chOff x="901800" y="1689120"/>
            <a:chExt cx="3852720" cy="950760"/>
          </a:xfrm>
        </p:grpSpPr>
        <p:pic>
          <p:nvPicPr>
            <p:cNvPr id="514" name="Callout con freccia a destra 4" descr=""/>
            <p:cNvPicPr/>
            <p:nvPr/>
          </p:nvPicPr>
          <p:blipFill>
            <a:blip r:embed="rId1"/>
            <a:stretch/>
          </p:blipFill>
          <p:spPr>
            <a:xfrm>
              <a:off x="901800" y="1689120"/>
              <a:ext cx="38527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928800" y="1714680"/>
              <a:ext cx="29350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Two key fac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Callout con freccia a destra 5"/>
          <p:cNvGrpSpPr/>
          <p:nvPr/>
        </p:nvGrpSpPr>
        <p:grpSpPr>
          <a:xfrm>
            <a:off x="901800" y="2901960"/>
            <a:ext cx="3852720" cy="950760"/>
            <a:chOff x="901800" y="2901960"/>
            <a:chExt cx="3852720" cy="950760"/>
          </a:xfrm>
        </p:grpSpPr>
        <p:pic>
          <p:nvPicPr>
            <p:cNvPr id="517" name="Callout con freccia a destra 5" descr=""/>
            <p:cNvPicPr/>
            <p:nvPr/>
          </p:nvPicPr>
          <p:blipFill>
            <a:blip r:embed="rId2"/>
            <a:stretch/>
          </p:blipFill>
          <p:spPr>
            <a:xfrm>
              <a:off x="901800" y="2901960"/>
              <a:ext cx="38527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928800" y="2928960"/>
              <a:ext cx="29350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Other less important factor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(again related to price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Rettangolo 6"/>
          <p:cNvGrpSpPr/>
          <p:nvPr/>
        </p:nvGrpSpPr>
        <p:grpSpPr>
          <a:xfrm>
            <a:off x="4834080" y="1689120"/>
            <a:ext cx="3620880" cy="950760"/>
            <a:chOff x="4834080" y="1689120"/>
            <a:chExt cx="3620880" cy="950760"/>
          </a:xfrm>
        </p:grpSpPr>
        <p:pic>
          <p:nvPicPr>
            <p:cNvPr id="520" name="Rettangolo 6" descr=""/>
            <p:cNvPicPr/>
            <p:nvPr/>
          </p:nvPicPr>
          <p:blipFill>
            <a:blip r:embed="rId3"/>
            <a:stretch/>
          </p:blipFill>
          <p:spPr>
            <a:xfrm>
              <a:off x="4834080" y="1689120"/>
              <a:ext cx="36208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4857840" y="1714680"/>
              <a:ext cx="357192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size of supply volum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Rettangolo 7"/>
          <p:cNvGrpSpPr/>
          <p:nvPr/>
        </p:nvGrpSpPr>
        <p:grpSpPr>
          <a:xfrm>
            <a:off x="4834080" y="2901960"/>
            <a:ext cx="3620880" cy="950760"/>
            <a:chOff x="4834080" y="2901960"/>
            <a:chExt cx="3620880" cy="950760"/>
          </a:xfrm>
        </p:grpSpPr>
        <p:pic>
          <p:nvPicPr>
            <p:cNvPr id="523" name="Rettangolo 7" descr=""/>
            <p:cNvPicPr/>
            <p:nvPr/>
          </p:nvPicPr>
          <p:blipFill>
            <a:blip r:embed="rId4"/>
            <a:stretch/>
          </p:blipFill>
          <p:spPr>
            <a:xfrm>
              <a:off x="4834080" y="2901960"/>
              <a:ext cx="36208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857840" y="2928960"/>
              <a:ext cx="357192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price st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orrect price/quality positi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Rettangolo arrotondato 8"/>
          <p:cNvGrpSpPr/>
          <p:nvPr/>
        </p:nvGrpSpPr>
        <p:grpSpPr>
          <a:xfrm>
            <a:off x="901800" y="4334040"/>
            <a:ext cx="6626160" cy="834840"/>
            <a:chOff x="901800" y="4334040"/>
            <a:chExt cx="6626160" cy="834840"/>
          </a:xfrm>
        </p:grpSpPr>
        <p:pic>
          <p:nvPicPr>
            <p:cNvPr id="526" name="Rettangolo arrotondato 8" descr=""/>
            <p:cNvPicPr/>
            <p:nvPr/>
          </p:nvPicPr>
          <p:blipFill>
            <a:blip r:embed="rId5"/>
            <a:stretch/>
          </p:blipFill>
          <p:spPr>
            <a:xfrm>
              <a:off x="901800" y="4334040"/>
              <a:ext cx="6626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966960" y="4395960"/>
              <a:ext cx="6495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5600" algn="just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sponse of EU to FoC is not very good (better only in Russia and, partly, in Germany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Rettangolo arrotondato 9"/>
          <p:cNvGrpSpPr/>
          <p:nvPr/>
        </p:nvGrpSpPr>
        <p:grpSpPr>
          <a:xfrm>
            <a:off x="1974960" y="5334120"/>
            <a:ext cx="6553080" cy="834840"/>
            <a:chOff x="1974960" y="5334120"/>
            <a:chExt cx="6553080" cy="834840"/>
          </a:xfrm>
        </p:grpSpPr>
        <p:pic>
          <p:nvPicPr>
            <p:cNvPr id="529" name="Rettangolo arrotondato 9" descr=""/>
            <p:cNvPicPr/>
            <p:nvPr/>
          </p:nvPicPr>
          <p:blipFill>
            <a:blip r:embed="rId6"/>
            <a:stretch/>
          </p:blipFill>
          <p:spPr>
            <a:xfrm>
              <a:off x="1974960" y="5334120"/>
              <a:ext cx="65530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2038320" y="5396040"/>
              <a:ext cx="6424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5600" algn="just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n UK, the weakness of EU wines is the impossibility to import certain PDO wines in bulk, leaving a gap for NWC bulk wines of the same quality leve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17600" y="2362320"/>
            <a:ext cx="81151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600" spc="-1" strike="noStrike">
                <a:solidFill>
                  <a:srgbClr val="005696"/>
                </a:solidFill>
                <a:latin typeface="Arial"/>
              </a:rPr>
              <a:t>Theme 3 - </a:t>
            </a:r>
            <a:r>
              <a:rPr b="1" lang="en-US" sz="3600" spc="-1" strike="noStrike">
                <a:solidFill>
                  <a:srgbClr val="005696"/>
                </a:solidFill>
                <a:latin typeface="Arial"/>
              </a:rPr>
              <a:t>How to improve the competitiveness of EU still wines </a:t>
            </a:r>
            <a:br>
              <a:rPr sz="2800"/>
            </a:br>
            <a:endParaRPr b="0" lang="en-US" sz="36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32" name="Segnaposto numero diapositiva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9054-FE33-4ECC-911A-3F1F2BFB995A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Connettore 1 2"/>
          <p:cNvSpPr/>
          <p:nvPr/>
        </p:nvSpPr>
        <p:spPr>
          <a:xfrm>
            <a:off x="1143000" y="3643200"/>
            <a:ext cx="6696000" cy="0"/>
          </a:xfrm>
          <a:prstGeom prst="line">
            <a:avLst/>
          </a:prstGeom>
          <a:ln w="5724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Connettore 1 6"/>
          <p:cNvSpPr/>
          <p:nvPr/>
        </p:nvSpPr>
        <p:spPr>
          <a:xfrm>
            <a:off x="1143000" y="3714840"/>
            <a:ext cx="6696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696"/>
                </a:solidFill>
                <a:latin typeface="Arial"/>
              </a:rPr>
              <a:t>Prospects to the horizon 2025 : Growth-Market Share Matrix</a:t>
            </a:r>
            <a:endParaRPr b="0" lang="en-US" sz="2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36" name="Segnaposto numero diapositiva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6F7B-565E-47BC-BDBF-8045D850ACF7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2286000" y="1357200"/>
            <a:ext cx="4714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696"/>
                </a:solidFill>
                <a:latin typeface="Arial"/>
              </a:rPr>
              <a:t>Prospects to the horizon 2025: Identified needs and problem-areas</a:t>
            </a:r>
            <a:endParaRPr b="0" lang="en-US" sz="2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39" name="Segnaposto numero diapositiv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D64D-F838-4400-B8CF-127311015352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5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81388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ttangolo 4"/>
          <p:cNvSpPr/>
          <p:nvPr/>
        </p:nvSpPr>
        <p:spPr>
          <a:xfrm>
            <a:off x="357120" y="1143000"/>
            <a:ext cx="8572680" cy="5000760"/>
          </a:xfrm>
          <a:prstGeom prst="rect">
            <a:avLst/>
          </a:prstGeom>
          <a:solidFill>
            <a:srgbClr val="bed3e1"/>
          </a:solidFill>
          <a:ln w="19080">
            <a:solidFill>
              <a:srgbClr val="9dbe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egnaposto numero diapositiva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0F3E-54CE-48E8-8A84-DCA7F5D4A300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entagono 2"/>
          <p:cNvSpPr/>
          <p:nvPr/>
        </p:nvSpPr>
        <p:spPr>
          <a:xfrm>
            <a:off x="357120" y="1143000"/>
            <a:ext cx="8572680" cy="5000760"/>
          </a:xfrm>
          <a:custGeom>
            <a:avLst/>
            <a:gdLst>
              <a:gd name="textAreaLeft" fmla="*/ 0 w 8572680"/>
              <a:gd name="textAreaRight" fmla="*/ 8573040 w 8572680"/>
              <a:gd name="textAreaTop" fmla="*/ 0 h 5000760"/>
              <a:gd name="textAreaBottom" fmla="*/ 5001120 h 500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17" y="0"/>
                </a:lnTo>
                <a:lnTo>
                  <a:pt x="21600" y="10800"/>
                </a:lnTo>
                <a:lnTo>
                  <a:pt x="196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3548a"/>
          </a:solidFill>
          <a:ln w="38160">
            <a:solidFill>
              <a:srgbClr val="9dbe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itolo 1"/>
          <p:cNvSpPr/>
          <p:nvPr/>
        </p:nvSpPr>
        <p:spPr>
          <a:xfrm>
            <a:off x="214200" y="642960"/>
            <a:ext cx="81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696"/>
                </a:solidFill>
                <a:latin typeface="Arial"/>
              </a:rPr>
              <a:t>Suggestions for improvement the EU wines  competi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CasellaDiTesto 5"/>
          <p:cNvSpPr/>
          <p:nvPr/>
        </p:nvSpPr>
        <p:spPr>
          <a:xfrm>
            <a:off x="571680" y="1214280"/>
            <a:ext cx="771516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blem area 1: Market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courage EU businesses to use Promotion measure (wine CMO) to penetrate non-traditional markets (e.g. Rep. of Korea, Algeria, Philippi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ive priority to use of RDP measures and Investments measure of wine CMO for structural and organisational adaptation of export-oriented win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Speed up / start up  bilateral agreements between EU and partner countries: traditional (China, Russia, Japan, USA) and non-traditional (e.g. Philippi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llow funding of Public Relation activities under the Promotion measure of wine C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velop public initiatives to facilitate aggregate business forms and collaborative marketing to achieve critical size / depth of product offer, important for all markets (in particular, UK and US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Arial"/>
              </a:rPr>
              <a:t>Bulk wine transportation in Flexitank could help EU businesses extend trade beyond nearby markets, but there is need to overcome constraints of many PDO/PGI protocols (i.e. obligation to bottle within production area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ttangolo 4"/>
          <p:cNvSpPr/>
          <p:nvPr/>
        </p:nvSpPr>
        <p:spPr>
          <a:xfrm>
            <a:off x="357120" y="1143000"/>
            <a:ext cx="8572680" cy="5000760"/>
          </a:xfrm>
          <a:prstGeom prst="rect">
            <a:avLst/>
          </a:prstGeom>
          <a:solidFill>
            <a:srgbClr val="f5e0d3"/>
          </a:solidFill>
          <a:ln w="19080">
            <a:solidFill>
              <a:srgbClr val="e1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696"/>
                </a:solidFill>
                <a:latin typeface="Arial"/>
              </a:rPr>
              <a:t>Suggestions for improvement the EU wines  competitiveness</a:t>
            </a:r>
            <a:br>
              <a:rPr sz="2000"/>
            </a:br>
            <a:endParaRPr b="0" lang="en-US" sz="2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48" name="Segnaposto numero diapositiva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9669-957D-4DA8-84EB-67E7160B1414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entagono 3"/>
          <p:cNvSpPr/>
          <p:nvPr/>
        </p:nvSpPr>
        <p:spPr>
          <a:xfrm>
            <a:off x="357120" y="1143000"/>
            <a:ext cx="8572680" cy="4967280"/>
          </a:xfrm>
          <a:custGeom>
            <a:avLst/>
            <a:gdLst>
              <a:gd name="textAreaLeft" fmla="*/ 0 w 8572680"/>
              <a:gd name="textAreaRight" fmla="*/ 8573040 w 8572680"/>
              <a:gd name="textAreaTop" fmla="*/ 0 h 4967280"/>
              <a:gd name="textAreaBottom" fmla="*/ 4967640 h 49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9" y="0"/>
                </a:lnTo>
                <a:lnTo>
                  <a:pt x="21600" y="10800"/>
                </a:lnTo>
                <a:lnTo>
                  <a:pt x="195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34c22"/>
          </a:solidFill>
          <a:ln w="38160">
            <a:solidFill>
              <a:srgbClr val="e1a1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blem area 2- Decision-making of economic 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velopment of a central marketing intelligence system to improve knowledge of consumer markets and competitors’ strategic behavi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courage implementation of training in export business targeted to th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4"/>
          <p:cNvSpPr/>
          <p:nvPr/>
        </p:nvSpPr>
        <p:spPr>
          <a:xfrm>
            <a:off x="500040" y="1285920"/>
            <a:ext cx="8429760" cy="5000760"/>
          </a:xfrm>
          <a:prstGeom prst="rect">
            <a:avLst/>
          </a:prstGeom>
          <a:solidFill>
            <a:srgbClr val="dbb6dc"/>
          </a:solidFill>
          <a:ln w="19080">
            <a:solidFill>
              <a:srgbClr val="c99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696"/>
                </a:solidFill>
                <a:latin typeface="Arial"/>
              </a:rPr>
              <a:t>Suggestions for improvement the EU wines  competitiveness</a:t>
            </a:r>
            <a:br>
              <a:rPr sz="2000"/>
            </a:br>
            <a:endParaRPr b="0" lang="en-US" sz="2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52" name="Segnaposto numero diapositiva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36F0-3C5D-4F7F-BC65-4FA1D17E6803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entagono 3"/>
          <p:cNvSpPr/>
          <p:nvPr/>
        </p:nvSpPr>
        <p:spPr>
          <a:xfrm>
            <a:off x="357120" y="1285920"/>
            <a:ext cx="8572680" cy="4967280"/>
          </a:xfrm>
          <a:custGeom>
            <a:avLst/>
            <a:gdLst>
              <a:gd name="textAreaLeft" fmla="*/ 0 w 8572680"/>
              <a:gd name="textAreaRight" fmla="*/ 8573040 w 8572680"/>
              <a:gd name="textAreaTop" fmla="*/ 0 h 4967280"/>
              <a:gd name="textAreaBottom" fmla="*/ 4967640 h 49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1" y="0"/>
                </a:lnTo>
                <a:lnTo>
                  <a:pt x="21600" y="10800"/>
                </a:lnTo>
                <a:lnTo>
                  <a:pt x="193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04da3"/>
          </a:solidFill>
          <a:ln w="38160">
            <a:solidFill>
              <a:srgbClr val="783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sellaDiTesto 5"/>
          <p:cNvSpPr/>
          <p:nvPr/>
        </p:nvSpPr>
        <p:spPr>
          <a:xfrm>
            <a:off x="642960" y="1357200"/>
            <a:ext cx="7358040" cy="49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blem area 3- Product adaptation to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velop a single acronym and mandatory logo to be used worldwide for PDO and PGI wines positioned in Top Range and Ultra Premium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or Commercial and Super Premium wines, introduce EU indication of country/region (e.g. umbrella label), since “Origin of the product” is more important than PDO/PGI in these seg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or wines in the lower price/quality ranges, maintain or develop presence in specific markets requiring large volumes (e.g. Germany; Angola and Côte d’Ivoi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nsidering the demand potential for low or zero alcohol wines, it would be beneficial to ensure a clear legal framework for such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92d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courage the investments required to develop and implement the innovations demanded by different markets (RD measures and Investments measure of wine C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5696"/>
                </a:solidFill>
                <a:latin typeface="Arial"/>
                <a:ea typeface="Arial"/>
              </a:rPr>
              <a:t>Keyword: competitiveness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2" name="Segnaposto numero diapositiva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E2CC-D99C-42D2-A440-9839790B6870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Rettangolo 3"/>
          <p:cNvGrpSpPr/>
          <p:nvPr/>
        </p:nvGrpSpPr>
        <p:grpSpPr>
          <a:xfrm>
            <a:off x="1262160" y="1474920"/>
            <a:ext cx="6192720" cy="1195200"/>
            <a:chOff x="1262160" y="1474920"/>
            <a:chExt cx="6192720" cy="1195200"/>
          </a:xfrm>
        </p:grpSpPr>
        <p:pic>
          <p:nvPicPr>
            <p:cNvPr id="244" name="Rettangolo 3" descr=""/>
            <p:cNvPicPr/>
            <p:nvPr/>
          </p:nvPicPr>
          <p:blipFill>
            <a:blip r:embed="rId1"/>
            <a:stretch/>
          </p:blipFill>
          <p:spPr>
            <a:xfrm>
              <a:off x="1262160" y="1474920"/>
              <a:ext cx="619272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1285920" y="1500120"/>
              <a:ext cx="6143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etitiveness : the ability of a system to sustainably produce and sell goods and services on a given market, in such a way that buyers prefer these goods to those offered by competi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Rettangolo 4"/>
          <p:cNvGrpSpPr/>
          <p:nvPr/>
        </p:nvGrpSpPr>
        <p:grpSpPr>
          <a:xfrm>
            <a:off x="1335240" y="3260880"/>
            <a:ext cx="2120760" cy="1049040"/>
            <a:chOff x="1335240" y="3260880"/>
            <a:chExt cx="2120760" cy="1049040"/>
          </a:xfrm>
        </p:grpSpPr>
        <p:pic>
          <p:nvPicPr>
            <p:cNvPr id="247" name="Rettangolo 4" descr=""/>
            <p:cNvPicPr/>
            <p:nvPr/>
          </p:nvPicPr>
          <p:blipFill>
            <a:blip r:embed="rId2"/>
            <a:stretch/>
          </p:blipFill>
          <p:spPr>
            <a:xfrm>
              <a:off x="1335240" y="3260880"/>
              <a:ext cx="21207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1357200" y="3286080"/>
              <a:ext cx="20718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etitiveness of the country-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EU versus NWC, Other competito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Rettangolo 5"/>
          <p:cNvGrpSpPr/>
          <p:nvPr/>
        </p:nvGrpSpPr>
        <p:grpSpPr>
          <a:xfrm>
            <a:off x="5187960" y="3260880"/>
            <a:ext cx="2120760" cy="1049040"/>
            <a:chOff x="5187960" y="3260880"/>
            <a:chExt cx="2120760" cy="1049040"/>
          </a:xfrm>
        </p:grpSpPr>
        <p:pic>
          <p:nvPicPr>
            <p:cNvPr id="250" name="Rettangolo 5" descr=""/>
            <p:cNvPicPr/>
            <p:nvPr/>
          </p:nvPicPr>
          <p:blipFill>
            <a:blip r:embed="rId3"/>
            <a:stretch/>
          </p:blipFill>
          <p:spPr>
            <a:xfrm>
              <a:off x="5187960" y="3260880"/>
              <a:ext cx="21207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214960" y="3286080"/>
              <a:ext cx="20718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etitiveness of 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ne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entagono 6" descr=""/>
          <p:cNvPicPr/>
          <p:nvPr/>
        </p:nvPicPr>
        <p:blipFill>
          <a:blip r:embed="rId4"/>
          <a:stretch/>
        </p:blipFill>
        <p:spPr>
          <a:xfrm>
            <a:off x="3565440" y="4334040"/>
            <a:ext cx="1444680" cy="536400"/>
          </a:xfrm>
          <a:prstGeom prst="rect">
            <a:avLst/>
          </a:prstGeom>
          <a:ln w="0">
            <a:noFill/>
          </a:ln>
        </p:spPr>
      </p:pic>
      <p:grpSp>
        <p:nvGrpSpPr>
          <p:cNvPr id="253" name="Callout con frecce a sinistra/destra 7"/>
          <p:cNvGrpSpPr/>
          <p:nvPr/>
        </p:nvGrpSpPr>
        <p:grpSpPr>
          <a:xfrm>
            <a:off x="2603520" y="4973760"/>
            <a:ext cx="3436920" cy="1334880"/>
            <a:chOff x="2603520" y="4973760"/>
            <a:chExt cx="3436920" cy="1334880"/>
          </a:xfrm>
        </p:grpSpPr>
        <p:pic>
          <p:nvPicPr>
            <p:cNvPr id="254" name="Callout con frecce a sinistra/destra 7" descr=""/>
            <p:cNvPicPr/>
            <p:nvPr/>
          </p:nvPicPr>
          <p:blipFill>
            <a:blip r:embed="rId5"/>
            <a:stretch/>
          </p:blipFill>
          <p:spPr>
            <a:xfrm>
              <a:off x="2603520" y="4973760"/>
              <a:ext cx="343692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514680" y="5000760"/>
              <a:ext cx="16146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wth in volume/value sales and  Market Sh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Rettangolo arrotondato 8"/>
          <p:cNvGrpSpPr/>
          <p:nvPr/>
        </p:nvGrpSpPr>
        <p:grpSpPr>
          <a:xfrm>
            <a:off x="615960" y="5187960"/>
            <a:ext cx="1835280" cy="907920"/>
            <a:chOff x="615960" y="5187960"/>
            <a:chExt cx="1835280" cy="907920"/>
          </a:xfrm>
        </p:grpSpPr>
        <p:pic>
          <p:nvPicPr>
            <p:cNvPr id="257" name="Rettangolo arrotondato 8" descr=""/>
            <p:cNvPicPr/>
            <p:nvPr/>
          </p:nvPicPr>
          <p:blipFill>
            <a:blip r:embed="rId6"/>
            <a:stretch/>
          </p:blipFill>
          <p:spPr>
            <a:xfrm>
              <a:off x="615960" y="5187960"/>
              <a:ext cx="1835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84360" y="5256360"/>
              <a:ext cx="17031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 the overall country-mar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Rettangolo arrotondato 9"/>
          <p:cNvGrpSpPr/>
          <p:nvPr/>
        </p:nvGrpSpPr>
        <p:grpSpPr>
          <a:xfrm>
            <a:off x="6119640" y="5187960"/>
            <a:ext cx="1908360" cy="907920"/>
            <a:chOff x="6119640" y="5187960"/>
            <a:chExt cx="1908360" cy="907920"/>
          </a:xfrm>
        </p:grpSpPr>
        <p:pic>
          <p:nvPicPr>
            <p:cNvPr id="260" name="Rettangolo arrotondato 9" descr=""/>
            <p:cNvPicPr/>
            <p:nvPr/>
          </p:nvPicPr>
          <p:blipFill>
            <a:blip r:embed="rId7"/>
            <a:stretch/>
          </p:blipFill>
          <p:spPr>
            <a:xfrm>
              <a:off x="6119640" y="5187960"/>
              <a:ext cx="19083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184800" y="5256360"/>
              <a:ext cx="1774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 the different market segment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2" name="Connettore 2 11"/>
          <p:cNvCxnSpPr/>
          <p:nvPr/>
        </p:nvCxnSpPr>
        <p:spPr>
          <a:xfrm flipH="1">
            <a:off x="2356560" y="2713680"/>
            <a:ext cx="786600" cy="5007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263" name="Connettore 2 12"/>
          <p:cNvCxnSpPr/>
          <p:nvPr/>
        </p:nvCxnSpPr>
        <p:spPr>
          <a:xfrm>
            <a:off x="5715000" y="2714400"/>
            <a:ext cx="643320" cy="5007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tailEnd len="med" type="triangle" w="med"/>
          </a:ln>
        </p:spPr>
      </p:cxnSp>
      <p:cxnSp>
        <p:nvCxnSpPr>
          <p:cNvPr id="264" name="Connettore 2 16"/>
          <p:cNvCxnSpPr/>
          <p:nvPr/>
        </p:nvCxnSpPr>
        <p:spPr>
          <a:xfrm>
            <a:off x="3571560" y="3787920"/>
            <a:ext cx="1429560" cy="2160"/>
          </a:xfrm>
          <a:prstGeom prst="straightConnector1">
            <a:avLst/>
          </a:prstGeom>
          <a:ln w="38160">
            <a:solidFill>
              <a:srgbClr val="53548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5" name="Connettore 1 19"/>
          <p:cNvSpPr/>
          <p:nvPr/>
        </p:nvSpPr>
        <p:spPr>
          <a:xfrm flipH="1">
            <a:off x="4143240" y="3643200"/>
            <a:ext cx="214560" cy="28584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onnettore 1 20"/>
          <p:cNvSpPr/>
          <p:nvPr/>
        </p:nvSpPr>
        <p:spPr>
          <a:xfrm flipH="1">
            <a:off x="4286160" y="3643200"/>
            <a:ext cx="214560" cy="285840"/>
          </a:xfrm>
          <a:prstGeom prst="line">
            <a:avLst/>
          </a:prstGeom>
          <a:ln w="381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egnaposto numero diapositiva 1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2E17-DC8C-4838-AC9C-F6B341BDC17D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asellaDiTesto 2"/>
          <p:cNvSpPr/>
          <p:nvPr/>
        </p:nvSpPr>
        <p:spPr>
          <a:xfrm>
            <a:off x="2571840" y="2500200"/>
            <a:ext cx="392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5696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asellaDiTesto 3"/>
          <p:cNvSpPr/>
          <p:nvPr/>
        </p:nvSpPr>
        <p:spPr>
          <a:xfrm>
            <a:off x="900000" y="500076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http://ec.europa.eu/agriculture/external-studies/eu-wines-2014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696"/>
                </a:solidFill>
                <a:latin typeface="Arial"/>
              </a:rPr>
              <a:t>Overall approach to the study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8" name="Segnaposto numero diapositiva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A4A7-EEEE-43FA-A3E3-E9478ACD6BFE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Rettangolo arrotondato 3"/>
          <p:cNvGrpSpPr/>
          <p:nvPr/>
        </p:nvGrpSpPr>
        <p:grpSpPr>
          <a:xfrm>
            <a:off x="401760" y="3048120"/>
            <a:ext cx="1407960" cy="1047600"/>
            <a:chOff x="401760" y="3048120"/>
            <a:chExt cx="1407960" cy="1047600"/>
          </a:xfrm>
        </p:grpSpPr>
        <p:pic>
          <p:nvPicPr>
            <p:cNvPr id="270" name="Rettangolo arrotondato 3" descr=""/>
            <p:cNvPicPr/>
            <p:nvPr/>
          </p:nvPicPr>
          <p:blipFill>
            <a:blip r:embed="rId1"/>
            <a:stretch/>
          </p:blipFill>
          <p:spPr>
            <a:xfrm>
              <a:off x="401760" y="3048120"/>
              <a:ext cx="14079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121200"/>
              <a:ext cx="125892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till w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itaglia e arrotonda singolo angolo rettangolo 4"/>
          <p:cNvGrpSpPr/>
          <p:nvPr/>
        </p:nvGrpSpPr>
        <p:grpSpPr>
          <a:xfrm>
            <a:off x="1335240" y="1547640"/>
            <a:ext cx="1834920" cy="1262160"/>
            <a:chOff x="1335240" y="1547640"/>
            <a:chExt cx="1834920" cy="1262160"/>
          </a:xfrm>
        </p:grpSpPr>
        <p:pic>
          <p:nvPicPr>
            <p:cNvPr id="273" name="Ritaglia e arrotonda singolo angolo rettangolo 4" descr=""/>
            <p:cNvPicPr/>
            <p:nvPr/>
          </p:nvPicPr>
          <p:blipFill>
            <a:blip r:embed="rId2"/>
            <a:stretch/>
          </p:blipFill>
          <p:spPr>
            <a:xfrm>
              <a:off x="1335240" y="1547640"/>
              <a:ext cx="1834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415880" y="1630440"/>
              <a:ext cx="1625760" cy="11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Bottled and bran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NC 220421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(&lt; 2 l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itaglia e arrotonda singolo angolo rettangolo 5"/>
          <p:cNvGrpSpPr/>
          <p:nvPr/>
        </p:nvGrpSpPr>
        <p:grpSpPr>
          <a:xfrm>
            <a:off x="1335240" y="4475160"/>
            <a:ext cx="1620720" cy="1120680"/>
            <a:chOff x="1335240" y="4475160"/>
            <a:chExt cx="1620720" cy="1120680"/>
          </a:xfrm>
        </p:grpSpPr>
        <p:pic>
          <p:nvPicPr>
            <p:cNvPr id="276" name="Ritaglia e arrotonda singolo angolo rettangolo 5" descr=""/>
            <p:cNvPicPr/>
            <p:nvPr/>
          </p:nvPicPr>
          <p:blipFill>
            <a:blip r:embed="rId3"/>
            <a:stretch/>
          </p:blipFill>
          <p:spPr>
            <a:xfrm>
              <a:off x="1335240" y="4475160"/>
              <a:ext cx="16207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409760" y="4552920"/>
              <a:ext cx="143172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Bu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NC 220429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(&gt; 2 l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Esagono 6"/>
          <p:cNvGrpSpPr/>
          <p:nvPr/>
        </p:nvGrpSpPr>
        <p:grpSpPr>
          <a:xfrm>
            <a:off x="3475080" y="1547640"/>
            <a:ext cx="1908000" cy="1262160"/>
            <a:chOff x="3475080" y="1547640"/>
            <a:chExt cx="1908000" cy="1262160"/>
          </a:xfrm>
        </p:grpSpPr>
        <p:pic>
          <p:nvPicPr>
            <p:cNvPr id="279" name="Esagono 6" descr=""/>
            <p:cNvPicPr/>
            <p:nvPr/>
          </p:nvPicPr>
          <p:blipFill>
            <a:blip r:embed="rId4"/>
            <a:stretch/>
          </p:blipFill>
          <p:spPr>
            <a:xfrm>
              <a:off x="3475080" y="1547640"/>
              <a:ext cx="19080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3755880" y="1738440"/>
              <a:ext cx="134640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Final mar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On t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Off tr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Rettangolo 8"/>
          <p:cNvGrpSpPr/>
          <p:nvPr/>
        </p:nvGrpSpPr>
        <p:grpSpPr>
          <a:xfrm>
            <a:off x="5473800" y="2975040"/>
            <a:ext cx="2122560" cy="1262160"/>
            <a:chOff x="5473800" y="2975040"/>
            <a:chExt cx="2122560" cy="1262160"/>
          </a:xfrm>
        </p:grpSpPr>
        <p:pic>
          <p:nvPicPr>
            <p:cNvPr id="282" name="Rettangolo 8" descr=""/>
            <p:cNvPicPr/>
            <p:nvPr/>
          </p:nvPicPr>
          <p:blipFill>
            <a:blip r:embed="rId5"/>
            <a:stretch/>
          </p:blipFill>
          <p:spPr>
            <a:xfrm>
              <a:off x="5473800" y="2975040"/>
              <a:ext cx="21225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500800" y="3000240"/>
              <a:ext cx="207144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Bottled at place of consump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(with the producer's or retailer’s bran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Rettangolo 9"/>
          <p:cNvGrpSpPr/>
          <p:nvPr/>
        </p:nvGrpSpPr>
        <p:grpSpPr>
          <a:xfrm>
            <a:off x="5473800" y="5261040"/>
            <a:ext cx="2122560" cy="834840"/>
            <a:chOff x="5473800" y="5261040"/>
            <a:chExt cx="2122560" cy="834840"/>
          </a:xfrm>
        </p:grpSpPr>
        <p:pic>
          <p:nvPicPr>
            <p:cNvPr id="285" name="Rettangolo 9" descr=""/>
            <p:cNvPicPr/>
            <p:nvPr/>
          </p:nvPicPr>
          <p:blipFill>
            <a:blip r:embed="rId6"/>
            <a:stretch/>
          </p:blipFill>
          <p:spPr>
            <a:xfrm>
              <a:off x="5473800" y="5261040"/>
              <a:ext cx="21225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500800" y="5286240"/>
              <a:ext cx="2071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Blended with domestic w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Esagono 12"/>
          <p:cNvGrpSpPr/>
          <p:nvPr/>
        </p:nvGrpSpPr>
        <p:grpSpPr>
          <a:xfrm>
            <a:off x="3187800" y="4406760"/>
            <a:ext cx="1908000" cy="1262160"/>
            <a:chOff x="3187800" y="4406760"/>
            <a:chExt cx="1908000" cy="1262160"/>
          </a:xfrm>
        </p:grpSpPr>
        <p:pic>
          <p:nvPicPr>
            <p:cNvPr id="288" name="Esagono 12" descr=""/>
            <p:cNvPicPr/>
            <p:nvPr/>
          </p:nvPicPr>
          <p:blipFill>
            <a:blip r:embed="rId7"/>
            <a:stretch/>
          </p:blipFill>
          <p:spPr>
            <a:xfrm>
              <a:off x="3187800" y="4406760"/>
              <a:ext cx="190800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470400" y="4595760"/>
              <a:ext cx="134604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Intermediate mar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Forma 14"/>
          <p:cNvCxnSpPr/>
          <p:nvPr/>
        </p:nvCxnSpPr>
        <p:spPr>
          <a:xfrm flipH="1" flipV="1" rot="5400000">
            <a:off x="784800" y="2499120"/>
            <a:ext cx="894600" cy="25092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1" name="Forma 16"/>
          <p:cNvCxnSpPr/>
          <p:nvPr/>
        </p:nvCxnSpPr>
        <p:spPr>
          <a:xfrm flipH="1" rot="16200000">
            <a:off x="713520" y="4393440"/>
            <a:ext cx="1037160" cy="25092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2" name="Connettore 4 21"/>
          <p:cNvCxnSpPr/>
          <p:nvPr/>
        </p:nvCxnSpPr>
        <p:spPr>
          <a:xfrm flipV="1">
            <a:off x="3143160" y="2177280"/>
            <a:ext cx="357840" cy="1080"/>
          </a:xfrm>
          <a:prstGeom prst="bentConnector3">
            <a:avLst>
              <a:gd name="adj1" fmla="val 49949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3" name="Connettore 4 26"/>
          <p:cNvCxnSpPr/>
          <p:nvPr/>
        </p:nvCxnSpPr>
        <p:spPr>
          <a:xfrm flipV="1">
            <a:off x="2930400" y="5036400"/>
            <a:ext cx="285120" cy="1080"/>
          </a:xfrm>
          <a:prstGeom prst="bentConnector3">
            <a:avLst>
              <a:gd name="adj1" fmla="val 49936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4" name="Connettore 4 30"/>
          <p:cNvCxnSpPr/>
          <p:nvPr/>
        </p:nvCxnSpPr>
        <p:spPr>
          <a:xfrm flipV="1">
            <a:off x="5071680" y="3607560"/>
            <a:ext cx="429480" cy="142956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5" name="Connettore 4 32"/>
          <p:cNvCxnSpPr/>
          <p:nvPr/>
        </p:nvCxnSpPr>
        <p:spPr>
          <a:xfrm>
            <a:off x="5071680" y="5037120"/>
            <a:ext cx="429480" cy="64332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6" name="Connettore 4 34"/>
          <p:cNvCxnSpPr/>
          <p:nvPr/>
        </p:nvCxnSpPr>
        <p:spPr>
          <a:xfrm flipH="1" flipV="1">
            <a:off x="5357160" y="2177640"/>
            <a:ext cx="2215080" cy="1430640"/>
          </a:xfrm>
          <a:prstGeom prst="bentConnector3">
            <a:avLst>
              <a:gd name="adj1" fmla="val -103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7" name="Connettore 4 36"/>
          <p:cNvCxnSpPr/>
          <p:nvPr/>
        </p:nvCxnSpPr>
        <p:spPr>
          <a:xfrm flipH="1" flipV="1">
            <a:off x="5357160" y="2177640"/>
            <a:ext cx="2215080" cy="3502800"/>
          </a:xfrm>
          <a:prstGeom prst="bentConnector3">
            <a:avLst>
              <a:gd name="adj1" fmla="val -10321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6760" y="2285640"/>
            <a:ext cx="811548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696"/>
                </a:solidFill>
                <a:latin typeface="Arial"/>
              </a:rPr>
              <a:t>Theme 1 - </a:t>
            </a:r>
            <a:r>
              <a:rPr b="1" lang="en-US" sz="3600" spc="-1" strike="noStrike">
                <a:solidFill>
                  <a:srgbClr val="005696"/>
                </a:solidFill>
                <a:latin typeface="Arial"/>
              </a:rPr>
              <a:t> Development of the competitiveness of EU still wines </a:t>
            </a:r>
            <a:br>
              <a:rPr sz="2800"/>
            </a:br>
            <a:endParaRPr b="0" lang="en-US" sz="36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99" name="Segnaposto numero diapositiva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FF61-624D-4192-8176-7D83F0AEF1CD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onnettore 1 2"/>
          <p:cNvSpPr/>
          <p:nvPr/>
        </p:nvSpPr>
        <p:spPr>
          <a:xfrm>
            <a:off x="1071720" y="3571920"/>
            <a:ext cx="6696000" cy="0"/>
          </a:xfrm>
          <a:prstGeom prst="line">
            <a:avLst/>
          </a:prstGeom>
          <a:ln w="57240">
            <a:solidFill>
              <a:srgbClr val="2b4a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nettore 1 6"/>
          <p:cNvSpPr/>
          <p:nvPr/>
        </p:nvSpPr>
        <p:spPr>
          <a:xfrm>
            <a:off x="1071720" y="3500280"/>
            <a:ext cx="6696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96"/>
                </a:solidFill>
                <a:latin typeface="Arial"/>
              </a:rPr>
              <a:t>Development of the competitiveness 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03" name="Segnaposto numero diapositiv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51E5-11FB-48A1-8186-7391F2D6DCEE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uppo 22"/>
          <p:cNvGrpSpPr/>
          <p:nvPr/>
        </p:nvGrpSpPr>
        <p:grpSpPr>
          <a:xfrm>
            <a:off x="4572000" y="2500200"/>
            <a:ext cx="4071960" cy="3714840"/>
            <a:chOff x="4572000" y="2500200"/>
            <a:chExt cx="4071960" cy="3714840"/>
          </a:xfrm>
        </p:grpSpPr>
        <p:grpSp>
          <p:nvGrpSpPr>
            <p:cNvPr id="305" name="Gruppo 23"/>
            <p:cNvGrpSpPr/>
            <p:nvPr/>
          </p:nvGrpSpPr>
          <p:grpSpPr>
            <a:xfrm>
              <a:off x="4572000" y="2500200"/>
              <a:ext cx="4071960" cy="3714840"/>
              <a:chOff x="4572000" y="2500200"/>
              <a:chExt cx="4071960" cy="3714840"/>
            </a:xfrm>
          </p:grpSpPr>
          <p:sp>
            <p:nvSpPr>
              <p:cNvPr id="306" name="Rettangolo 28"/>
              <p:cNvSpPr/>
              <p:nvPr/>
            </p:nvSpPr>
            <p:spPr>
              <a:xfrm>
                <a:off x="4572000" y="2500200"/>
                <a:ext cx="4071960" cy="3714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783a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uppo 29"/>
              <p:cNvGrpSpPr/>
              <p:nvPr/>
            </p:nvGrpSpPr>
            <p:grpSpPr>
              <a:xfrm>
                <a:off x="5321520" y="2719440"/>
                <a:ext cx="3052080" cy="2903760"/>
                <a:chOff x="5321520" y="2719440"/>
                <a:chExt cx="3052080" cy="2903760"/>
              </a:xfrm>
            </p:grpSpPr>
            <p:sp>
              <p:nvSpPr>
                <p:cNvPr id="308" name="Rettangolo 41"/>
                <p:cNvSpPr/>
                <p:nvPr/>
              </p:nvSpPr>
              <p:spPr>
                <a:xfrm>
                  <a:off x="5321520" y="2719440"/>
                  <a:ext cx="1525320" cy="1446480"/>
                </a:xfrm>
                <a:prstGeom prst="rect">
                  <a:avLst/>
                </a:prstGeom>
                <a:solidFill>
                  <a:srgbClr val="dee9f0"/>
                </a:solidFill>
                <a:ln w="19080">
                  <a:solidFill>
                    <a:srgbClr val="5c92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Δ</a:t>
                  </a:r>
                  <a:r>
                    <a:rPr b="1" lang="it-IT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 IMP -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Δ</a:t>
                  </a:r>
                  <a:r>
                    <a:rPr b="1" lang="it-IT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 MS 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ttangolo 42"/>
                <p:cNvSpPr/>
                <p:nvPr/>
              </p:nvSpPr>
              <p:spPr>
                <a:xfrm>
                  <a:off x="6852960" y="4178520"/>
                  <a:ext cx="1520640" cy="1444680"/>
                </a:xfrm>
                <a:prstGeom prst="rect">
                  <a:avLst/>
                </a:prstGeom>
                <a:solidFill>
                  <a:srgbClr val="eddaee"/>
                </a:solidFill>
                <a:ln w="19080">
                  <a:solidFill>
                    <a:srgbClr val="5c92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Δ</a:t>
                  </a:r>
                  <a:r>
                    <a:rPr b="1" lang="it-IT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 IMP 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Δ</a:t>
                  </a:r>
                  <a:r>
                    <a:rPr b="1" lang="it-IT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 MS -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ttangolo 43"/>
                <p:cNvSpPr/>
                <p:nvPr/>
              </p:nvSpPr>
              <p:spPr>
                <a:xfrm>
                  <a:off x="6852960" y="2719440"/>
                  <a:ext cx="1520640" cy="1446480"/>
                </a:xfrm>
                <a:prstGeom prst="rect">
                  <a:avLst/>
                </a:prstGeom>
                <a:solidFill>
                  <a:srgbClr val="dbb6dc"/>
                </a:solidFill>
                <a:ln w="19080">
                  <a:solidFill>
                    <a:srgbClr val="5c92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Δ</a:t>
                  </a:r>
                  <a:r>
                    <a:rPr b="1" lang="it-IT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 IMP 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Δ</a:t>
                  </a:r>
                  <a:r>
                    <a:rPr b="1" lang="it-IT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 MS +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Rettangolo 44"/>
                <p:cNvSpPr/>
                <p:nvPr/>
              </p:nvSpPr>
              <p:spPr>
                <a:xfrm>
                  <a:off x="5321520" y="4178520"/>
                  <a:ext cx="1526760" cy="1444680"/>
                </a:xfrm>
                <a:prstGeom prst="rect">
                  <a:avLst/>
                </a:prstGeom>
                <a:solidFill>
                  <a:srgbClr val="9dbed3"/>
                </a:solidFill>
                <a:ln w="19080">
                  <a:solidFill>
                    <a:srgbClr val="5c92b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Δ</a:t>
                  </a:r>
                  <a:r>
                    <a:rPr b="1" lang="it-IT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 IMP -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Δ</a:t>
                  </a:r>
                  <a:r>
                    <a:rPr b="1" lang="it-IT" sz="1600" spc="-1" strike="noStrike">
                      <a:solidFill>
                        <a:srgbClr val="313340"/>
                      </a:solidFill>
                      <a:latin typeface="Arial"/>
                      <a:ea typeface="Arial"/>
                    </a:rPr>
                    <a:t> MS -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12" name="Connettore 2 30"/>
              <p:cNvCxnSpPr/>
              <p:nvPr/>
            </p:nvCxnSpPr>
            <p:spPr>
              <a:xfrm>
                <a:off x="6980040" y="5827320"/>
                <a:ext cx="1205640" cy="1080"/>
              </a:xfrm>
              <a:prstGeom prst="straightConnector1">
                <a:avLst/>
              </a:prstGeom>
              <a:ln w="19080">
                <a:solidFill>
                  <a:srgbClr val="53548a"/>
                </a:solidFill>
                <a:miter/>
                <a:tailEnd len="med" type="triangle" w="med"/>
              </a:ln>
            </p:spPr>
          </p:cxnSp>
          <p:cxnSp>
            <p:nvCxnSpPr>
              <p:cNvPr id="313" name="Connettore 2 31"/>
              <p:cNvCxnSpPr/>
              <p:nvPr/>
            </p:nvCxnSpPr>
            <p:spPr>
              <a:xfrm flipH="1">
                <a:off x="5371200" y="5819400"/>
                <a:ext cx="1369080" cy="1080"/>
              </a:xfrm>
              <a:prstGeom prst="straightConnector1">
                <a:avLst/>
              </a:prstGeom>
              <a:ln w="19080">
                <a:solidFill>
                  <a:srgbClr val="53548a"/>
                </a:solidFill>
                <a:miter/>
                <a:tailEnd len="med" type="triangle" w="med"/>
              </a:ln>
            </p:spPr>
          </p:cxnSp>
          <p:cxnSp>
            <p:nvCxnSpPr>
              <p:cNvPr id="314" name="Connettore 2 32"/>
              <p:cNvCxnSpPr/>
              <p:nvPr/>
            </p:nvCxnSpPr>
            <p:spPr>
              <a:xfrm flipV="1">
                <a:off x="5069880" y="2880360"/>
                <a:ext cx="1080" cy="1199160"/>
              </a:xfrm>
              <a:prstGeom prst="straightConnector1">
                <a:avLst/>
              </a:prstGeom>
              <a:ln w="19080">
                <a:solidFill>
                  <a:srgbClr val="53548a"/>
                </a:solidFill>
                <a:miter/>
                <a:tailEnd len="med" type="triangle" w="med"/>
              </a:ln>
            </p:spPr>
          </p:cxnSp>
          <p:cxnSp>
            <p:nvCxnSpPr>
              <p:cNvPr id="315" name="Connettore 2 33"/>
              <p:cNvCxnSpPr/>
              <p:nvPr/>
            </p:nvCxnSpPr>
            <p:spPr>
              <a:xfrm>
                <a:off x="5060520" y="4312800"/>
                <a:ext cx="1080" cy="1236960"/>
              </a:xfrm>
              <a:prstGeom prst="straightConnector1">
                <a:avLst/>
              </a:prstGeom>
              <a:ln w="19080">
                <a:solidFill>
                  <a:srgbClr val="53548a"/>
                </a:solidFill>
                <a:miter/>
                <a:tailEnd len="med" type="triangle" w="med"/>
              </a:ln>
            </p:spPr>
          </p:cxnSp>
          <p:sp>
            <p:nvSpPr>
              <p:cNvPr id="316" name="CasellaDiTesto 8"/>
              <p:cNvSpPr/>
              <p:nvPr/>
            </p:nvSpPr>
            <p:spPr>
              <a:xfrm>
                <a:off x="4923360" y="40734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313340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CasellaDiTesto 9"/>
              <p:cNvSpPr/>
              <p:nvPr/>
            </p:nvSpPr>
            <p:spPr>
              <a:xfrm>
                <a:off x="6741360" y="5705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313340"/>
                    </a:solidFill>
                    <a:latin typeface="Arial"/>
                    <a:ea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CasellaDiTesto 10"/>
              <p:cNvSpPr/>
              <p:nvPr/>
            </p:nvSpPr>
            <p:spPr>
              <a:xfrm>
                <a:off x="8199720" y="570240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313340"/>
                    </a:solidFill>
                    <a:latin typeface="Arial"/>
                    <a:ea typeface="Arial"/>
                  </a:rPr>
                  <a:t>&gt;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CasellaDiTesto 11"/>
              <p:cNvSpPr/>
              <p:nvPr/>
            </p:nvSpPr>
            <p:spPr>
              <a:xfrm>
                <a:off x="4907880" y="264276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313340"/>
                    </a:solidFill>
                    <a:latin typeface="Arial"/>
                    <a:ea typeface="Arial"/>
                  </a:rPr>
                  <a:t>&gt;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CasellaDiTesto 12"/>
              <p:cNvSpPr/>
              <p:nvPr/>
            </p:nvSpPr>
            <p:spPr>
              <a:xfrm>
                <a:off x="4840200" y="565308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313340"/>
                    </a:solidFill>
                    <a:latin typeface="Arial"/>
                    <a:ea typeface="Arial"/>
                  </a:rPr>
                  <a:t>&lt;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CasellaDiTesto 13"/>
              <p:cNvSpPr/>
              <p:nvPr/>
            </p:nvSpPr>
            <p:spPr>
              <a:xfrm rot="16200000">
                <a:off x="3656520" y="4218480"/>
                <a:ext cx="23274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313340"/>
                    </a:solidFill>
                    <a:latin typeface="Arial"/>
                    <a:ea typeface="Arial"/>
                  </a:rPr>
                  <a:t>MS variation (EU-Others</a:t>
                </a:r>
                <a:r>
                  <a:rPr b="1" lang="it-IT" sz="1600" spc="-1" strike="noStrike">
                    <a:solidFill>
                      <a:srgbClr val="313340"/>
                    </a:solidFill>
                    <a:latin typeface="Arial"/>
                    <a:ea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CasellaDiTesto 14"/>
              <p:cNvSpPr/>
              <p:nvPr/>
            </p:nvSpPr>
            <p:spPr>
              <a:xfrm>
                <a:off x="5041800" y="5913720"/>
                <a:ext cx="336708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313340"/>
                    </a:solidFill>
                    <a:latin typeface="Arial"/>
                    <a:ea typeface="Arial"/>
                  </a:rPr>
                  <a:t>Imp (or Exp) variation (EU-Other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3" name="Picture 2" descr="Face-plain.svg"/>
            <p:cNvPicPr/>
            <p:nvPr/>
          </p:nvPicPr>
          <p:blipFill>
            <a:blip r:embed="rId1"/>
            <a:stretch/>
          </p:blipFill>
          <p:spPr>
            <a:xfrm>
              <a:off x="5801760" y="3504960"/>
              <a:ext cx="5418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6" descr="http://upload.wikimedia.org/wikipedia/commons/thumb/b/bc/Face-grin.svg/48px-Face-grin.svg.png"/>
            <p:cNvPicPr/>
            <p:nvPr/>
          </p:nvPicPr>
          <p:blipFill>
            <a:blip r:embed="rId2"/>
            <a:stretch/>
          </p:blipFill>
          <p:spPr>
            <a:xfrm>
              <a:off x="7350120" y="3513240"/>
              <a:ext cx="5418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5" descr="Face-smile-big.svg"/>
            <p:cNvPicPr/>
            <p:nvPr/>
          </p:nvPicPr>
          <p:blipFill>
            <a:blip r:embed="rId3"/>
            <a:stretch/>
          </p:blipFill>
          <p:spPr>
            <a:xfrm>
              <a:off x="7401600" y="5041080"/>
              <a:ext cx="52452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7" descr="Face-angry red.png"/>
            <p:cNvPicPr/>
            <p:nvPr/>
          </p:nvPicPr>
          <p:blipFill>
            <a:blip r:embed="rId4"/>
            <a:stretch/>
          </p:blipFill>
          <p:spPr>
            <a:xfrm>
              <a:off x="5836320" y="5024520"/>
              <a:ext cx="550440" cy="52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Rettangolo 27"/>
          <p:cNvGrpSpPr/>
          <p:nvPr/>
        </p:nvGrpSpPr>
        <p:grpSpPr>
          <a:xfrm>
            <a:off x="262080" y="4406760"/>
            <a:ext cx="3408120" cy="1549440"/>
            <a:chOff x="262080" y="4406760"/>
            <a:chExt cx="3408120" cy="1549440"/>
          </a:xfrm>
        </p:grpSpPr>
        <p:pic>
          <p:nvPicPr>
            <p:cNvPr id="328" name="Rettangolo 27" descr=""/>
            <p:cNvPicPr/>
            <p:nvPr/>
          </p:nvPicPr>
          <p:blipFill>
            <a:blip r:embed="rId5"/>
            <a:stretch/>
          </p:blipFill>
          <p:spPr>
            <a:xfrm>
              <a:off x="262080" y="4406760"/>
              <a:ext cx="34081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285840" y="4429080"/>
              <a:ext cx="335736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evelopment of the competitiveness bas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n two dimensions (volume and value)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ales grow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rket share grow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ccia a destra 45"/>
          <p:cNvSpPr/>
          <p:nvPr/>
        </p:nvSpPr>
        <p:spPr>
          <a:xfrm>
            <a:off x="3714840" y="4857840"/>
            <a:ext cx="785880" cy="5000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Rettangolo 46"/>
          <p:cNvGrpSpPr/>
          <p:nvPr/>
        </p:nvGrpSpPr>
        <p:grpSpPr>
          <a:xfrm>
            <a:off x="262080" y="1401840"/>
            <a:ext cx="3408120" cy="1622520"/>
            <a:chOff x="262080" y="1401840"/>
            <a:chExt cx="3408120" cy="1622520"/>
          </a:xfrm>
        </p:grpSpPr>
        <p:pic>
          <p:nvPicPr>
            <p:cNvPr id="332" name="Rettangolo 46" descr=""/>
            <p:cNvPicPr/>
            <p:nvPr/>
          </p:nvPicPr>
          <p:blipFill>
            <a:blip r:embed="rId6"/>
            <a:stretch/>
          </p:blipFill>
          <p:spPr>
            <a:xfrm>
              <a:off x="262080" y="1401840"/>
              <a:ext cx="34081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85840" y="1428840"/>
              <a:ext cx="335736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W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Glob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For the top 10 countries importing EU still wines </a:t>
              </a: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 (bottled and bul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Insight in some CS countries (USA, RU, CHI-HK, JN + DE, UK, D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Rettangolo 47"/>
          <p:cNvGrpSpPr/>
          <p:nvPr/>
        </p:nvGrpSpPr>
        <p:grpSpPr>
          <a:xfrm>
            <a:off x="262080" y="3121200"/>
            <a:ext cx="3408120" cy="901440"/>
            <a:chOff x="262080" y="3121200"/>
            <a:chExt cx="3408120" cy="901440"/>
          </a:xfrm>
        </p:grpSpPr>
        <p:pic>
          <p:nvPicPr>
            <p:cNvPr id="335" name="Rettangolo 47" descr=""/>
            <p:cNvPicPr/>
            <p:nvPr/>
          </p:nvPicPr>
          <p:blipFill>
            <a:blip r:embed="rId7"/>
            <a:stretch/>
          </p:blipFill>
          <p:spPr>
            <a:xfrm>
              <a:off x="262080" y="3121200"/>
              <a:ext cx="34081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85840" y="3143160"/>
              <a:ext cx="33573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Arial"/>
                </a:rPr>
                <a:t>Mar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Import  (or ex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Domes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Global competitiveness of EU still wines with respect to international trade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38" name="Segnaposto numero diapositiva 2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25AD-A2A1-401D-AD92-6031E11C3C34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4214880" cy="2530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4643280" y="4000680"/>
            <a:ext cx="40356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8400" y="785880"/>
            <a:ext cx="8381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Global competitiveness of EU still wines with respect </a:t>
            </a:r>
            <a:br>
              <a:rPr sz="2400"/>
            </a:b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to international trade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28400" y="1642680"/>
            <a:ext cx="4041720" cy="4158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3f68"/>
                </a:solidFill>
                <a:latin typeface="Arial"/>
              </a:rPr>
              <a:t>Bottled wine: Export value (2000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3280" y="1642680"/>
            <a:ext cx="4042080" cy="4158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3f68"/>
                </a:solidFill>
                <a:latin typeface="Arial"/>
              </a:rPr>
              <a:t>Bottled wine: Export Value Market 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egnaposto numero diapositiva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D429-6189-41F1-86D1-BF2884179369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"/>
          <p:cNvPicPr/>
          <p:nvPr/>
        </p:nvPicPr>
        <p:blipFill>
          <a:blip r:embed="rId1"/>
          <a:stretch/>
        </p:blipFill>
        <p:spPr>
          <a:xfrm>
            <a:off x="428760" y="2214720"/>
            <a:ext cx="4041720" cy="2625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1" descr=""/>
          <p:cNvPicPr/>
          <p:nvPr/>
        </p:nvPicPr>
        <p:blipFill>
          <a:blip r:embed="rId2"/>
          <a:stretch/>
        </p:blipFill>
        <p:spPr>
          <a:xfrm>
            <a:off x="4643280" y="2214720"/>
            <a:ext cx="4043520" cy="2628720"/>
          </a:xfrm>
          <a:prstGeom prst="rect">
            <a:avLst/>
          </a:prstGeom>
          <a:ln w="0">
            <a:noFill/>
          </a:ln>
        </p:spPr>
      </p:pic>
      <p:grpSp>
        <p:nvGrpSpPr>
          <p:cNvPr id="347" name="Rettangolo arrotondato 11"/>
          <p:cNvGrpSpPr/>
          <p:nvPr/>
        </p:nvGrpSpPr>
        <p:grpSpPr>
          <a:xfrm>
            <a:off x="1401840" y="5187960"/>
            <a:ext cx="6340320" cy="1054080"/>
            <a:chOff x="1401840" y="5187960"/>
            <a:chExt cx="6340320" cy="1054080"/>
          </a:xfrm>
        </p:grpSpPr>
        <p:pic>
          <p:nvPicPr>
            <p:cNvPr id="348" name="Rettangolo arrotondato 11" descr=""/>
            <p:cNvPicPr/>
            <p:nvPr/>
          </p:nvPicPr>
          <p:blipFill>
            <a:blip r:embed="rId3"/>
            <a:stretch/>
          </p:blipFill>
          <p:spPr>
            <a:xfrm>
              <a:off x="1401840" y="5187960"/>
              <a:ext cx="63403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1477800" y="5264280"/>
              <a:ext cx="618840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55600"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rom 2007, strategy change: gradual substitution of bottled wine with bulk wine exports by Australia, USA, South Africa and New Zealand              </a:t>
              </a:r>
              <a:r>
                <a:rPr b="0" lang="en-GB" sz="1800" spc="-1" strike="noStrike">
                  <a:solidFill>
                    <a:srgbClr val="ffff00"/>
                  </a:solidFill>
                  <a:latin typeface="Arial"/>
                  <a:ea typeface="Times New Roman"/>
                </a:rPr>
                <a:t>Flexita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0" name="Connettore 2 13"/>
          <p:cNvCxnSpPr/>
          <p:nvPr/>
        </p:nvCxnSpPr>
        <p:spPr>
          <a:xfrm>
            <a:off x="5000400" y="6000840"/>
            <a:ext cx="57204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8000" y="771120"/>
            <a:ext cx="8712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Global competitiveness of EU still wines with respect </a:t>
            </a:r>
            <a:br>
              <a:rPr sz="2400"/>
            </a:br>
            <a:r>
              <a:rPr b="1" lang="en-GB" sz="2400" spc="-1" strike="noStrike">
                <a:solidFill>
                  <a:srgbClr val="005696"/>
                </a:solidFill>
                <a:latin typeface="Arial"/>
              </a:rPr>
              <a:t>to international trade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FA83-5735-4CF0-87BC-52F862D47B5A}" type="slidenum">
              <a:rPr b="0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Callout con freccia in giù 6"/>
          <p:cNvGrpSpPr/>
          <p:nvPr/>
        </p:nvGrpSpPr>
        <p:grpSpPr>
          <a:xfrm>
            <a:off x="262080" y="1762200"/>
            <a:ext cx="3262320" cy="2481120"/>
            <a:chOff x="262080" y="1762200"/>
            <a:chExt cx="3262320" cy="2481120"/>
          </a:xfrm>
        </p:grpSpPr>
        <p:pic>
          <p:nvPicPr>
            <p:cNvPr id="354" name="Callout con freccia in giù 6" descr=""/>
            <p:cNvPicPr/>
            <p:nvPr/>
          </p:nvPicPr>
          <p:blipFill>
            <a:blip r:embed="rId1"/>
            <a:stretch/>
          </p:blipFill>
          <p:spPr>
            <a:xfrm>
              <a:off x="262080" y="1762200"/>
              <a:ext cx="326232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85840" y="1785960"/>
              <a:ext cx="3214440" cy="15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4292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EU wines improved their competitiveness in value terms, while maintaining their position in quantity, despite an overall loss of market shares (in value and quantity). But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Rettangolo arrotondato 8"/>
          <p:cNvGrpSpPr/>
          <p:nvPr/>
        </p:nvGrpSpPr>
        <p:grpSpPr>
          <a:xfrm>
            <a:off x="189000" y="4260960"/>
            <a:ext cx="3267000" cy="1481040"/>
            <a:chOff x="189000" y="4260960"/>
            <a:chExt cx="3267000" cy="1481040"/>
          </a:xfrm>
        </p:grpSpPr>
        <p:pic>
          <p:nvPicPr>
            <p:cNvPr id="357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189000" y="4260960"/>
              <a:ext cx="32670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84040" y="4356000"/>
              <a:ext cx="307512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358920" indent="-216000">
                <a:lnSpc>
                  <a:spcPct val="100000"/>
                </a:lnSpc>
                <a:spcAft>
                  <a:spcPts val="1199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58920" indent="-216000">
                <a:lnSpc>
                  <a:spcPct val="100000"/>
                </a:lnSpc>
                <a:spcAft>
                  <a:spcPts val="1199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good competitive performance of bottled wines (both value and quantity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58920" indent="-216000">
                <a:lnSpc>
                  <a:spcPct val="100000"/>
                </a:lnSpc>
                <a:spcAft>
                  <a:spcPts val="1199"/>
                </a:spcAft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00"/>
                  </a:solidFill>
                  <a:latin typeface="Arial"/>
                </a:rPr>
                <a:t>negative performance of bulk wine ex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58920" indent="-216000" algn="just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7" descr=""/>
          <p:cNvPicPr/>
          <p:nvPr/>
        </p:nvPicPr>
        <p:blipFill>
          <a:blip r:embed="rId3"/>
          <a:stretch/>
        </p:blipFill>
        <p:spPr>
          <a:xfrm>
            <a:off x="3714840" y="1785960"/>
            <a:ext cx="5173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8:17:58Z</dcterms:created>
  <dc:creator>francesca Antilici</dc:creator>
  <dc:description/>
  <dc:language>en-US</dc:language>
  <cp:lastModifiedBy>BUTTINI-PROVENZANO Roberta (AGRI)</cp:lastModifiedBy>
  <cp:lastPrinted>2014-10-13T10:46:15Z</cp:lastPrinted>
  <dcterms:modified xsi:type="dcterms:W3CDTF">2015-02-09T10:54:39Z</dcterms:modified>
  <cp:revision>1019</cp:revision>
  <dc:subject/>
  <dc:title>Evaluation des effets des aides directes sur le revenu des agriculteurs</dc:title>
</cp:coreProperties>
</file>