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116-19AF-4547-82B5-DE6B7417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7EB-C22A-420A-9EC6-016AB81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15E08-D8C6-4773-8D35-8123B07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BC452-F542-48E8-8AC8-CF554F9E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8DE0-BDB7-48B2-956C-1425CC1E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68A8A-4A13-4CE6-BDDF-7A5C96F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8BBC-F06C-4850-A6C9-2FDE2793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E265-4FD5-4B24-B963-D775FD1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83EA9-E2BE-4E5F-9B18-9DD766C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6A395-0A76-4FC5-AE48-E516A6B4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D025-A37F-4FDC-986D-6D5FC946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8DA7-9EE8-42D3-8234-2B1DBD41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5EF-B797-469D-B49C-60C1D1FB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B13C5-E0CA-4141-A85E-1A452712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D08E4-B6FD-4135-9CD4-01C213B9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BBAEB-F4F0-4F90-9182-A2E7455E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D75E-020A-4981-A4DE-836375E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F03D7-8EC8-4CBE-9DF9-8AEF7228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E8615-78B6-476D-B57F-0296036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34D2C-2E5B-4459-A906-8A2DCFB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BAB98-EF4D-49E1-AF3F-B552411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D7A8E-A3DB-4A90-B856-F105226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D72DA-56B3-47A7-B1CA-CAED4608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6F7-E048-43C3-9FBD-AE1E0B8C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085E-B1E1-47CB-9E70-CCEA118D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04039-3CF1-4D79-8B57-6D9F4F47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ACEAC-F618-4718-84BC-5463B81C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2B3A-F724-426C-B958-B403FC1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3601-9B83-445B-A113-F83F7E82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AB6B-8E06-40E8-80D5-ABF807F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398AA-3AB8-4303-9845-F65291B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F733-E8FF-42D2-8C53-1BD6FFB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81FB-633B-4FCF-8913-ECAE598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73D39-21C7-4F9F-9E55-92FC4FC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DEF-5505-423E-84D6-1C188106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9D7E-7B19-4EB5-9BDC-4E7550F0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66CB3-9518-47B7-82ED-D8A59589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3E16-4BB7-4AE6-89F1-3EA3E8F7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C9EAA-AC2C-4E28-BDA1-758B603E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A84D7-F592-49B4-893B-18AF8036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FA618-5EFE-4211-898C-CCAE8B74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BB31D-A6E8-47B6-B369-FC0970D8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0EA3E-BAB6-4BB2-8B58-C31CCD8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A0B29-406D-4D42-AF3A-6891BF7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841D0-39F0-467C-AC81-ED8D90F8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E1E9-78CF-41A2-9AF3-B4BEADF2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C27D5-EB46-4BB6-BC47-8A44D5A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FF31D-08BE-4073-962E-873C70E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18505-04D2-42CA-A3CF-EB3E5940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16732-71F2-4186-B437-4917EFCA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676A5-E768-42F0-954D-62C3BFF4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F248-9EC2-4C68-AAD5-25A5FD9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799C-3A3C-487D-9D82-9DCD97B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9092-ABF4-4E71-99FF-8034BAB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D679-134C-4DEC-BD8B-703ED40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EBC5-68F5-4EB4-B484-CDAD82E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08C-1B8E-49E3-BB59-E72DE30F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434-11FB-421A-AA02-DB748B6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963-13FF-48EC-BE1A-D2ACDF4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2CD1-D1D3-4832-8187-390844D6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CEB6-9658-467E-8373-4C02111F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9A2C-5B9F-468D-A4DA-1B2BA8E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64F5-2AB3-4AD3-AC61-513893E2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2222-B1F7-4FF0-AF79-B630347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3E76-301F-47CD-A04E-A27258D1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676D-AB0E-478E-AE98-CB9788A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5C78-BBD2-47BC-97F5-9E2F6B67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8E1-08AB-4AD7-8F28-3C195CB0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6E90-8ADC-443F-8965-1BF6E721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9DE3-34FF-4AC2-A1BD-A23C081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B10B-B801-4FD0-9A98-DE81EB0F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7FF2-CBDD-40D2-AAD4-523489CB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7DEC-816F-4847-ADAC-18399D91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0CC9-4F58-4AC2-8EAF-90D0BDE5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E432-9F92-40A6-9E87-9FB4318C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5148-6143-47F8-89B5-2819D738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B196-0F52-4047-8B85-6DAE65D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A85E-1ABC-4950-9D91-85B494A2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738-E295-40A0-8B07-53F37550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7B35-55A7-44B5-AFEA-DD05486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57E6-E919-411D-AAEB-4B1844FF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4004-C2DC-484E-ABE5-C0753750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AE43-0BCA-4EDA-8BE9-9E0454F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A4A3-DD97-4BF3-9E88-531B1AB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B49A-A665-4E59-8FE5-4C483F5A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561C-42DE-4711-B635-4BAE827B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7138-332A-46FB-8F7C-79F29B3A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6EF4-BA7E-4417-85EF-4D2A6AF3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D68D9-8CE8-4ACF-AE99-B9ED54F4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4A9-19C3-4CC2-8A1D-F274244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6019-BDE3-4F17-A53C-A4763DE2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8100-690F-4002-8A64-C3BAD6C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64F90-AD1A-417C-972C-EABB56F2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B863-473F-4261-807E-707BC90F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4C57-2CEF-4051-975C-7CC200D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56A5-5EF5-4312-84B8-22873C7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4646-5C79-4C70-A555-FF477390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3F23E-015E-4B03-9E40-409F1E0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974A-E5E8-4A99-BC2B-CFF013E1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820A-97D8-4ECF-9E8A-8ABA0C81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465-8546-4EFD-97D6-AC677CFD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874E7-6D24-4620-9D3C-7D7CD2DB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B458F-3CA1-42AE-AAE9-C494A485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FC49-7772-47CA-AC11-29E6C32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6E65-49AF-434C-9E45-9B4A85A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9D44-87B0-423A-ADE0-1568BB8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8B582-BB88-449F-AAE4-6C308571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F2BFE-4233-4BDB-8C62-ED0FD774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8796-2762-402D-BD2F-757CD1E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7D7E-052A-4238-87ED-33EEBC5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8F02-D6A1-452B-B547-10ADA9F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B05-C57A-4307-A9FF-98ADB48F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7F7B9-E805-42CC-9B2D-ACCC5DD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D1F1-A15C-466C-9403-8E25E2B8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2E45-3F44-4612-80C1-35A86170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4BD8F-4D90-4EF2-ADAD-80AF1068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4A2EB-34D3-48C4-A9B6-0B937CBC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01D72-6934-479A-B12A-3808770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05CC-684C-41B9-BA52-F328F756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D2F7-0236-466F-97D5-067DBB32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F332-8E24-4F24-A1D3-F5C38447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9CB6-C499-4DF1-9BB0-BFDA6ADF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A0E-BF8D-42D0-BD5D-19D1507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63352-B75E-40D0-A812-ED3121E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3172-E138-46F1-97E1-C06E8784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390DB-598E-4F54-8BB4-15D8A803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7C802-3B57-454C-ABF9-A202242A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C06D4-4FAC-4027-AD2A-BF7351B1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BE81-9F8F-49AB-9303-2D91DB42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E4C5C-BEA5-4C60-9171-B4F976E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3B25-5E51-4681-87D1-BF3B4984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DE464-1461-405C-BA6D-566B1260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2E3C9-84A2-4CDF-AEA0-F53BED7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D23-8D1F-488B-AE9A-DCB58B5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AB100-C6F9-4D7F-A4D8-005AF0B8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E1CA-FE0B-4353-B37A-48D9B1C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12B6A-7D51-4DBB-851F-959FD8A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A357-BA0A-41C4-9DAB-6622AAAC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51B93-BA21-4B1E-BE63-D3098832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9D84-2F2A-4CD1-BFDD-EE1246E5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CC39-5C15-403A-A90B-B54D176D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E606C-6B6D-4412-86EE-C7AC47DE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FAC31-9B5F-4675-B3C6-69FF2E8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D83B-D3D5-4D3A-92F2-15851483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F178-21B9-479E-963F-2CC1605B3F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4D7-157A-4C68-A257-9B764F69E7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0B6-521E-4366-9CC5-0CB922D53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1CE-7439-445A-9A76-4B32E334B0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6" descr="LOGO CE-EN-quadri.eps"/>
          <p:cNvPicPr/>
          <p:nvPr/>
        </p:nvPicPr>
        <p:blipFill>
          <a:blip r:embed="rId2"/>
          <a:stretch/>
        </p:blipFill>
        <p:spPr>
          <a:xfrm>
            <a:off x="3905280" y="309600"/>
            <a:ext cx="1584360" cy="1100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8685-3096-41C5-888F-2A4EA9B14F3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176720" y="66214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Trade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0752-391C-425D-B5E8-6B4783C449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C8A-EAC5-4851-951E-45B61494AD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4E0-1B4A-4AAB-9253-A9438BB183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7CA7-E106-4653-90C8-9DF7878C6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3D8-4696-4467-8F17-5D629EF064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68B-535D-4E9B-AC74-C12116882C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EADF-9D34-4844-9D1D-6FEA4A6091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Trade-SPS@ec.europa.eu" TargetMode="External"/><Relationship Id="rId2" Type="http://schemas.openxmlformats.org/officeDocument/2006/relationships/hyperlink" Target="http://madb.europa.eu/madb/indexPubli.htm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8920" y="1341360"/>
            <a:ext cx="8496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SPS-market access issues </a:t>
            </a:r>
            <a:br>
              <a:rPr sz="4800"/>
            </a:b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EU and trading partners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Content Placeholder 2"/>
          <p:cNvSpPr/>
          <p:nvPr/>
        </p:nvSpPr>
        <p:spPr>
          <a:xfrm>
            <a:off x="468360" y="4797360"/>
            <a:ext cx="7991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DG Trade, Unit D3, SPS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19 November 2014, Brussels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3F6-FD4A-4854-83CE-76A30D53DD5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ossible actions on SPS market access concerns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mments on SPS notifications on draft legislation of third countri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emarches, Letters, ad-hoc miss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 or political discussions, informally or within a bilateral agreement, SPS WG mechanisms, other regular meeting or Committe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egotia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ultilateral: WTO SPS Committe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ilateral discussions during WTO SPS week in Genev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ispute settlement (Panel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AE90-418A-4E69-8448-C4B9C3044F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airy– some frequent SPS barriers see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n acceptance of raw milk chees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ong approval procedur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S by MS approv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ong waiting period for inspection visit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n- application of audit-based inspections (only individual establishments approved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n-transparent procedures, administratively cumbersom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n- recognition of regionalis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Born and  raised in one MS only"- claus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4320-0753-4F2B-B033-232C98A531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What can industry do?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form about trade barri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ntribute commenting on new draft legislation in third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articipation in Market Access activities of the Commission : SPS Market Access WG for sharing the information between Commission, Member States and indus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form when problems solv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FE7C-7C23-47A6-93E0-194223EE84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THANK YOU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0FB-B640-4A12-A0A6-DD388C158C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7" name="TextBox 1"/>
          <p:cNvSpPr/>
          <p:nvPr/>
        </p:nvSpPr>
        <p:spPr>
          <a:xfrm>
            <a:off x="179280" y="3357720"/>
            <a:ext cx="87854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Trade-SPS@ec.europa.eu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  <a:ea typeface="Arial"/>
              </a:rPr>
              <a:t>Market Access DBas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http://madb.europa.eu/madb/indexPubli.htm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9528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ussian b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valuation of export markets which are hampered for SPS reason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fferent types of market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1) Markets which are already open or partly open (only a certain MS/ certain establishmen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2) Markets which are clo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0950-E6B3-453E-8D79-2D1D95CECD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ackgroun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o give an extra push to open markets where SPS barriers exis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cus on priority alternative marke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09C3-DB8B-4C51-B80C-D865727C6C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Meeting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held with different industry sectors on 18- 28 August, priorities indicated for priority alternative markets, which are closed due to SPS barriers (fully or partially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Meetin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held with different Commission serv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pecial Market access WG on alternative markets on 9 Octob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rket access WG – 12 Nov 201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92D-5EF9-4079-9985-A37698A650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air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iority alternative marke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razi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in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ombia/Per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urke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S/Cana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5D65-6EBA-4EF2-90A7-F956F27F15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dentified priority alternative markets (SPS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042920" y="3213000"/>
          <a:ext cx="6867720" cy="3095640"/>
        </p:xfrm>
        <a:graphic>
          <a:graphicData uri="http://schemas.openxmlformats.org/drawingml/2006/table">
            <a:tbl>
              <a:tblPr/>
              <a:tblGrid>
                <a:gridCol w="1925640"/>
                <a:gridCol w="4942080"/>
              </a:tblGrid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ority countr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/product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k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bovin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N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vine, pork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k, fruits and vegetabl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MBIA/PERU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k, poultry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k, poultry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ONES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uits and vegetables (port access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XIC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k, fruits and vegetabl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vine, poultry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fruits and vegetabl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/CANAD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vine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fruits and vegetabl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TNAM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uits and vegetabl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CDA8-0EA1-453B-B279-56954AAD2B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iority alternative markets –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eriodical re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rket access Dba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tensified information ex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herent mess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tra push technical/politi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CF1-A447-4349-BECC-9B7F17AF10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Sharing of information on SPS market access issu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-operation with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EU industry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AC- Market Access Advisory Committe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PS Market Access Working Group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-operation with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ember Stat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Trade Policy Committe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uncil specific groups on animal and plant health issues (negotiations)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mmittee of SPS experts (Preparatory WTO/SPS)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-operation within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Commission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: different DGs, Inter-Service Group on SPS matt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U Delegations (Trade sections)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U Delegations: Local Market Access Teams (MAT), Agri-Councellor meetings with Member States Embassy representativ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-operation with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other Trading Partners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haring the same proble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800A-371D-4E8A-B828-92AC82DE2F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PS Market Access issues- information need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actual description of measures/ State of Pla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ource: Delegation/ MS, Industr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ssential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What is the SP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barrier motivation-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due to animal disease, a standard on food additive, etc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egal references-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visions in the third country and relevant standard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oducts affected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, including their nature- raw, processed, etc. and their commercial valu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Steps already undertake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12F1-AABF-43EA-9222-C34087BAE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aina.Sateri@ec.europa.eu</dc:creator>
  <dc:description/>
  <dc:language>en-US</dc:language>
  <cp:lastModifiedBy>BUTTINI-PROVENZANO Roberta (AGRI)</cp:lastModifiedBy>
  <cp:lastPrinted>2014-11-04T12:00:17Z</cp:lastPrinted>
  <dcterms:modified xsi:type="dcterms:W3CDTF">2014-11-14T06:35:31Z</dcterms:modified>
  <cp:revision>338</cp:revision>
  <dc:subject/>
  <dc:title>Slide 1</dc:title>
</cp:coreProperties>
</file>