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ED64-68A5-4F6E-8E37-8A0EEA8B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346-9DF7-4F39-AD54-C891F938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14A-3A62-42C3-B077-ADB90768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1B6-E45D-468D-8F25-F4E9B9AE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1A17-E7FF-41DF-B9C2-83D74B93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5709-18CA-4E64-B0A8-CC8E40D5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0FE5-4E41-4000-9C18-6678D008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DAD0-DA88-4B34-8906-380617A4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1FA1-B14E-4D1A-9B91-856D07A5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5DD3-3A38-4F41-B8D1-FFAAE170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A1FF-10B1-4FCA-845C-925AE925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AE5-E0AE-45E3-B7AC-09C4C462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7D61-71EE-4DCD-A5A2-81763530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A181-8711-4FE7-BFDD-F0B88805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BBE3-70A3-45CE-BF72-0AC5EB55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D52F-8A86-40EF-BA4E-918EFD05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704E-B221-4A40-BEA8-40150B0E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302-6793-40E5-BE6B-8472792A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008-A67A-486B-B0E0-660A7233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FB8-2C1B-41EC-A765-79EE56D0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6AC-3178-494C-9321-9115023E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8D8-705F-4897-A082-3701AEDD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FC5-E411-4E79-9B13-E108A6B7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A4B-6721-451C-8B80-D1C91AA9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5494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16A5-81A5-45FC-8612-CABEEFC98AEF}" type="slidenum">
              <a:rPr b="0" lang="en-US" sz="1200" spc="-1" strike="noStrike">
                <a:solidFill>
                  <a:srgbClr val="0f54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397B-7B51-49C6-959D-E095525A698F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GRI-ANIMAL-PRODUCTS-EXT@ec.europa.eu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implification and reduction of administrative burden for sheep carcass classification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9A5E-BE9A-4066-A02B-F3C9E8D49C28}" type="slidenum">
              <a:rPr b="0" lang="en-US" sz="1200" spc="-1" strike="noStrike">
                <a:solidFill>
                  <a:srgbClr val="0f54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C:\Users\holdari\AppData\Local\Local Documents - no backup\Pictures\lamb-carcasses©Rex-615x346.jpg"/>
          <p:cNvPicPr/>
          <p:nvPr/>
        </p:nvPicPr>
        <p:blipFill>
          <a:blip r:embed="rId1"/>
          <a:stretch/>
        </p:blipFill>
        <p:spPr>
          <a:xfrm>
            <a:off x="1434960" y="2492280"/>
            <a:ext cx="6274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1128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cast of Commission regulations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- No </a:t>
            </a:r>
            <a:r>
              <a:rPr b="0" lang="en-GB" sz="1400" spc="-1" strike="noStrike">
                <a:solidFill>
                  <a:srgbClr val="ff0000"/>
                </a:solidFill>
                <a:latin typeface="Verdana"/>
              </a:rPr>
              <a:t>1249/2008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on the implementation of the Community scales for the classification of beef, pig and sheep and the reporting of prices thereo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- No </a:t>
            </a:r>
            <a:r>
              <a:rPr b="0" lang="en-GB" sz="1400" spc="-1" strike="noStrike">
                <a:solidFill>
                  <a:srgbClr val="ff0000"/>
                </a:solidFill>
                <a:latin typeface="Verdana"/>
              </a:rPr>
              <a:t>315/2002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n the survey of prices of fresh or chilled sheep carcasses on representative markets in the Community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laboration of Delegated and implementing powe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B7BF-C407-4647-8F70-C3C8C30382A3}" type="slidenum">
              <a:rPr b="0" lang="en-US" sz="1200" spc="-1" strike="noStrike">
                <a:solidFill>
                  <a:srgbClr val="0f54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Down Arrow 6"/>
          <p:cNvSpPr/>
          <p:nvPr/>
        </p:nvSpPr>
        <p:spPr>
          <a:xfrm>
            <a:off x="1747800" y="3876840"/>
            <a:ext cx="501840" cy="718920"/>
          </a:xfrm>
          <a:prstGeom prst="downArrow">
            <a:avLst>
              <a:gd name="adj1" fmla="val 50000"/>
              <a:gd name="adj2" fmla="val 50140"/>
            </a:avLst>
          </a:prstGeom>
          <a:solidFill>
            <a:srgbClr val="0f54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Down Arrow 7"/>
          <p:cNvSpPr/>
          <p:nvPr/>
        </p:nvSpPr>
        <p:spPr>
          <a:xfrm>
            <a:off x="7230960" y="3870360"/>
            <a:ext cx="505080" cy="720720"/>
          </a:xfrm>
          <a:prstGeom prst="downArrow">
            <a:avLst>
              <a:gd name="adj1" fmla="val 50000"/>
              <a:gd name="adj2" fmla="val 49943"/>
            </a:avLst>
          </a:prstGeom>
          <a:solidFill>
            <a:srgbClr val="0f54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11280" y="225756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arification of sheep carcass classific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voluntary classification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f a MS decides to apply sheep carcass classification, they have to comply with the rules laid down in R 1308/2013 and in the future delegated and implementing acts.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han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DD1F-C1B0-48BF-837C-1265A757656F}" type="slidenum">
              <a:rPr b="0" lang="en-US" sz="1200" spc="-1" strike="noStrike">
                <a:solidFill>
                  <a:srgbClr val="0f54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ules</a:t>
            </a:r>
            <a:br>
              <a:rPr sz="3000"/>
            </a:b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pplication of Union scale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categories, classification, presentation, marking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light lambs</a:t>
            </a:r>
            <a:br>
              <a:rPr sz="2000"/>
            </a:b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heavy lambs</a:t>
            </a:r>
            <a:br>
              <a:rPr sz="20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BEDE-53E2-4D4D-8D6A-6DEB13FACD49}" type="slidenum">
              <a:rPr b="0" lang="en-US" sz="1200" spc="-1" strike="noStrike">
                <a:solidFill>
                  <a:srgbClr val="0f54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195640" y="3357720"/>
            <a:ext cx="5153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rules</a:t>
            </a:r>
            <a:br>
              <a:rPr sz="20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 Classification by qualified classifier or by automated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grading machin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2. On-the-spot checks by the competent authority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3. Communication of the classification result to the supplie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E61A-478B-408E-89D5-1832155FC8E9}" type="slidenum">
              <a:rPr b="0" lang="en-US" sz="1200" spc="-1" strike="noStrike">
                <a:solidFill>
                  <a:srgbClr val="0f54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ice report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o more price reporting of classified sheep carcass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continue to reporting of prices of fresh or chilled carcasses of lambs by Member States listed in the regulation to the Commission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AAB6-910F-40B7-85F7-E1C4D3E2E064}" type="slidenum">
              <a:rPr b="0" lang="en-US" sz="1200" spc="-1" strike="noStrike">
                <a:solidFill>
                  <a:srgbClr val="0f54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ank you for your attention!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ents, remarks are welcome on </a:t>
            </a:r>
            <a:r>
              <a:rPr b="0" i="1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AGRI-ANIMAL-PRODUCTS-EXT@ec.europa.eu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ank you,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ita Holdampf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G AGRI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09A9-F20B-4B31-9F47-A5C1F70769BC}" type="slidenum">
              <a:rPr b="0" lang="en-US" sz="1200" spc="-1" strike="noStrike">
                <a:solidFill>
                  <a:srgbClr val="0f54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0T13:12:29Z</dcterms:created>
  <dc:creator>bollefr</dc:creator>
  <dc:description/>
  <dc:language>en-US</dc:language>
  <cp:lastModifiedBy>BUTTINI-PROVENZANO Roberta (AGRI)</cp:lastModifiedBy>
  <cp:lastPrinted>2003-06-20T10:06:33Z</cp:lastPrinted>
  <dcterms:modified xsi:type="dcterms:W3CDTF">2015-11-23T12:43:00Z</dcterms:modified>
  <cp:revision>183</cp:revision>
  <dc:subject/>
  <dc:title>Common Organisation of the Market for Beef &amp; Veal</dc:title>
</cp:coreProperties>
</file>