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0636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636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0636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63640" y="404280"/>
            <a:ext cx="6337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0636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636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0636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404280"/>
            <a:ext cx="6337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324000" y="1413000"/>
            <a:ext cx="1152360" cy="1150920"/>
          </a:xfrm>
          <a:prstGeom prst="rect">
            <a:avLst/>
          </a:prstGeom>
          <a:solidFill>
            <a:srgbClr val="6b7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1476360" y="260280"/>
            <a:ext cx="7343640" cy="1150920"/>
          </a:xfrm>
          <a:prstGeom prst="rect">
            <a:avLst/>
          </a:prstGeom>
          <a:solidFill>
            <a:srgbClr val="ca6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1440"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buClr>
                <a:srgbClr val="5858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447840" indent="-219240">
              <a:buClr>
                <a:srgbClr val="585858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671400" indent="-222120">
              <a:buClr>
                <a:srgbClr val="585858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5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6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Line 10"/>
          <p:cNvSpPr/>
          <p:nvPr/>
        </p:nvSpPr>
        <p:spPr>
          <a:xfrm>
            <a:off x="1763640" y="6165720"/>
            <a:ext cx="7056360" cy="0"/>
          </a:xfrm>
          <a:prstGeom prst="line">
            <a:avLst/>
          </a:prstGeom>
          <a:ln w="46800">
            <a:solidFill>
              <a:srgbClr val="6b7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" name="Picture 16" descr="CopaCogeca_4C_C"/>
          <p:cNvPicPr/>
          <p:nvPr/>
        </p:nvPicPr>
        <p:blipFill>
          <a:blip r:embed="rId2"/>
          <a:stretch/>
        </p:blipFill>
        <p:spPr>
          <a:xfrm>
            <a:off x="6156360" y="6267600"/>
            <a:ext cx="203364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2050920" y="3716280"/>
            <a:ext cx="6624720" cy="2160720"/>
          </a:xfrm>
          <a:prstGeom prst="rect">
            <a:avLst/>
          </a:prstGeom>
          <a:solidFill>
            <a:srgbClr val="ca6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8360" y="2133720"/>
            <a:ext cx="1584360" cy="1582560"/>
          </a:xfrm>
          <a:prstGeom prst="rect">
            <a:avLst/>
          </a:prstGeom>
          <a:solidFill>
            <a:srgbClr val="6b7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10" descr="CopaCogeca_4C_C"/>
          <p:cNvPicPr/>
          <p:nvPr/>
        </p:nvPicPr>
        <p:blipFill>
          <a:blip r:embed="rId2"/>
          <a:stretch/>
        </p:blipFill>
        <p:spPr>
          <a:xfrm>
            <a:off x="6084720" y="189000"/>
            <a:ext cx="2362320" cy="590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1440"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buClr>
                <a:srgbClr val="5858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447840" indent="-219240">
              <a:buClr>
                <a:srgbClr val="585858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671400" indent="-222120">
              <a:buClr>
                <a:srgbClr val="585858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5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6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2050920" y="3716280"/>
            <a:ext cx="6624720" cy="2160720"/>
          </a:xfrm>
          <a:prstGeom prst="rect">
            <a:avLst/>
          </a:prstGeom>
          <a:solidFill>
            <a:srgbClr val="6b7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68360" y="2133720"/>
            <a:ext cx="1584360" cy="1582560"/>
          </a:xfrm>
          <a:prstGeom prst="rect">
            <a:avLst/>
          </a:prstGeom>
          <a:solidFill>
            <a:srgbClr val="ca6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40000" y="3772080"/>
            <a:ext cx="6192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Challenges and solutions for the EU sheep secto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39640" y="5157720"/>
            <a:ext cx="57610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Georgia"/>
              </a:rPr>
              <a:t>Charles Sercombe, Chairman of Copa and Cogeca Working Party on Sheep | CDG on Sheep – 23.11.2015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12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Solutions? Better regul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7280" y="1484280"/>
            <a:ext cx="72723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Cross-compliance and eligibility for payments in relation to identification and registration of animal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Unintentional non-compliance (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reading failure and unintentional loss of ear tag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olerances (more harmonisation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Habitats Directiv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447840" indent="-21924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arge carnivores’ depredation leads to further loss in income and additional permanent costs for farmers &gt;&gt;&gt; revision of the Annexes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What conditions for voluntary coupled support to remain only an option?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Further solutions?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71440" indent="-2714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Young farmer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486720" indent="-2710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Need for specific education, training of young people to achieve the required skills (internships and industry development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486720" indent="-2710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Need for targeted support to young farmers to join this business faced with aging of sheep farmers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Promotion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486720" indent="-2710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generic promotion of sheep meat needs to be continued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486720" indent="-2710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making the sheep meat attractive to consumers (changing the current perception of lamb meat as difficult to cut and cook)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486720" indent="-2710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reverting the declining trend in modern consumers, in particular the young ones, on a more broadly basis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Georgia"/>
              </a:rPr>
              <a:t>THANK YOU VERY MUCH!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Importance of the sheep sector in social, economic and environmental term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47280" y="1483920"/>
            <a:ext cx="720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Economic vitality of rural area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6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source of employment (avoid risk of abandonement in areas where there are few or no alternative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6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~8 % of farms have sheep </a:t>
            </a: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fr-BE" sz="1600" spc="-1" strike="noStrike" baseline="-25000">
                <a:solidFill>
                  <a:srgbClr val="000000"/>
                </a:solidFill>
                <a:latin typeface="Georgia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850 000 sheep farmer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6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the value of the EU sheep and goat meat production accounted for around 5.2 billion € in 2014.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6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heep is essential in areas facing natural handicaps in the EU (70% of those areas are kept thanks to sheep)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Biodiversity, landscape, combating forest fir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6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heep maintain open spaces, which are a source of biodiversity and high value natural habita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Forging social ties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(close link between the sheep sector and the society – food security, </a:t>
            </a: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cultural heritage of the European landscape and a thousands year’s old tradition in Europe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Despite its positive contribution, the EU sheep sector is facing several challenges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Decreasing produc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Low market return and lack of investment capac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Fragile consump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Difficulty in attracting young people into business (labour-intensive sector requiring specific skill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Potential economic impact of diseas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Long-term challenges: decreasing produc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1414440" y="2637000"/>
            <a:ext cx="3594240" cy="266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868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ince 1980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5.3 million fewer sheep (an overall decline of 22.8 %).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2.2 million fewer goat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Production decrease is linked to the reduction in flock.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4360" y="4456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Long-term challenges: </a:t>
            </a: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low market return and lack of investment capacit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19280" y="1483920"/>
            <a:ext cx="7129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6669000" cy="3665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6454800" y="545796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Georgia"/>
              </a:rPr>
              <a:t>Source: Institut de l’élevage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Long-term challenges: fragile consump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47280" y="1699920"/>
            <a:ext cx="7201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rom 2,89 kg/habitant/year in 2005 to 1.8 kg in 2015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619280" y="2154240"/>
            <a:ext cx="68500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Long-term challenges:</a:t>
            </a: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 difficulty in attracting young people to train and set up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2" name="Content Placeholder 1" descr=""/>
          <p:cNvPicPr/>
          <p:nvPr/>
        </p:nvPicPr>
        <p:blipFill>
          <a:blip r:embed="rId1"/>
          <a:stretch/>
        </p:blipFill>
        <p:spPr>
          <a:xfrm>
            <a:off x="1535040" y="1413000"/>
            <a:ext cx="3397320" cy="289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1781280" y="4724280"/>
            <a:ext cx="5056200" cy="143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4388040" cy="790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6948360" y="4724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Georgia"/>
              </a:rPr>
              <a:t>Source: Farm Income Review, IFA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And not to forget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Sheep meat prices under pressur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Increased production costs (both operational and regulatory)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Food chain equality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Pressure from imports from third countrie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Depredation of livestock by large carnivores (total cost with large carnivores’ depredation: ex. 15 million € in France, 7 million € in Finland…)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056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eorgia"/>
              </a:rPr>
              <a:t>Solutions? Better transparenc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28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87280" indent="-2858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Market transparency and market structu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Need for better market transparenc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733320" indent="-285480">
              <a:spcAft>
                <a:spcPts val="601"/>
              </a:spcAft>
              <a:buClr>
                <a:srgbClr val="58585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On carcass clasification (need for mandatory rules?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733320" indent="-285480">
              <a:spcAft>
                <a:spcPts val="601"/>
              </a:spcAft>
              <a:buClr>
                <a:srgbClr val="58585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On carcass marketing (harmonisation of dressing specification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733320" indent="-285480">
              <a:spcAft>
                <a:spcPts val="601"/>
              </a:spcAft>
              <a:buClr>
                <a:srgbClr val="58585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On price reporting &gt;&gt;&gt; sheep market observatory (including a sheep dashboard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733320" indent="-2854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Market structur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733320" indent="-285480">
              <a:spcAft>
                <a:spcPts val="601"/>
              </a:spcAft>
              <a:buClr>
                <a:srgbClr val="58585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large size slaughterhouses vs small scattered slaughterhouses (contractualisation? organisation of marketing…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733320" indent="-285480">
              <a:spcAft>
                <a:spcPts val="601"/>
              </a:spcAft>
              <a:buClr>
                <a:srgbClr val="58585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Georgia"/>
              </a:rPr>
              <a:t>COM study on the situation at EU level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733320" indent="-2854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Georgia"/>
              </a:rPr>
              <a:t>Monitoring indicators on production cos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buClr>
                <a:srgbClr val="5858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58:33Z</dcterms:created>
  <dc:creator>*</dc:creator>
  <dc:description>Template Presentation;
Version 1.0;
2008-10-15;</dc:description>
  <dc:language>en-US</dc:language>
  <cp:lastModifiedBy>Camelia Gyorffy</cp:lastModifiedBy>
  <cp:lastPrinted>2015-11-19T15:27:35Z</cp:lastPrinted>
  <dcterms:modified xsi:type="dcterms:W3CDTF">2015-11-23T16:21:40Z</dcterms:modified>
  <cp:revision>91</cp:revision>
  <dc:subject/>
  <dc:title>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r">
    <vt:lpwstr>gadamovich | office implementation</vt:lpwstr>
  </property>
  <property fmtid="{D5CDD505-2E9C-101B-9397-08002B2CF9AE}" pid="3" name="Erstellt am">
    <vt:lpwstr>09-10-2008</vt:lpwstr>
  </property>
  <property fmtid="{D5CDD505-2E9C-101B-9397-08002B2CF9AE}" pid="4" name="Erstellt von">
    <vt:lpwstr>SpiekermannPartners</vt:lpwstr>
  </property>
  <property fmtid="{D5CDD505-2E9C-101B-9397-08002B2CF9AE}" pid="5" name="Version">
    <vt:lpwstr>1.0</vt:lpwstr>
  </property>
  <property fmtid="{D5CDD505-2E9C-101B-9397-08002B2CF9AE}" pid="6" name="Version vom">
    <vt:lpwstr>15-10-2008</vt:lpwstr>
  </property>
</Properties>
</file>