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1E67-470F-4B1F-9FA0-B0D6C46CEF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0CFF-EAC4-41CD-85E1-6D73841C0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68DE-7BD3-423B-999D-185B2B2207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32D9-426C-4322-889C-0AFDBC0EB1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4599-A68A-4A7E-8275-A866681189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526A-7C5E-4B45-9C0C-225201E480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3930-F341-43E1-BC11-EF7B582D78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18AA-4E56-4397-B7D8-21128876BB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B08A-93B3-44A9-BE6D-EAEBF6AAC7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51DF-7A28-4751-A25A-6B78D79243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12CE-5716-4890-9749-A767A2AEA8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8A35-B2CE-45CA-8339-3A0A299D6F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8C26-8D9A-46D6-AABC-76BDB2F2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ADC1-647E-4FF4-8D45-D99B7597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12275-87F1-47D2-B052-DE0C95C9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334EE-100E-41F7-8323-76E9E2E5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27A1A-2228-47EC-84B8-F77D1F00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08732-AC7A-437E-9DE0-792D3DB0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11479-12F5-4D61-89CB-0DE5C14D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EA0B4-4DAB-4677-BD3B-6A50A0A2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ABFC9-1351-4A03-9C18-77DCD76D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8A5DC-07A8-4B99-A2AB-0D2D640C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2115C-9976-4F63-A11A-EE8ED993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84FEF-5A5C-438A-A044-3BBB0C25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14B-51A5-4C1D-8356-1C638BAE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51CAD-62B7-4FE7-9409-34FB753F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6F43E-FCCE-4374-B33C-D9DC7969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9DE06-403B-482A-B3BF-222E6A90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EE03A-19A3-4517-A3F5-10722B0B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8C5EA-CF45-4F04-B1D6-D7181CD0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F7604-1230-4798-8BCF-403C7479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3182F-A126-41AF-BF20-643B18CC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4694B-079D-45A8-A85B-A97964A3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CD172-B5B0-46E9-9B8D-DE9EBE80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794B3-96BE-468C-AF0C-113377A1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A16-7422-4507-9E7C-9BF33197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19A35-22DE-44DD-A063-F096AF43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7E346-7396-4204-8CC6-A0BFF2C4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274C2-2478-41E5-BBB0-8A4F7D64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04ECF-2D68-4272-946C-B9633BE4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8BB28-97FB-482F-931B-9158871F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E9508-B3DB-439E-B364-600F8339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1F8E6-8A48-49A7-A14C-860624BB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1806A-4DE5-48FF-9F73-240B5588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2F347-B096-4D4D-BBB8-2064D3E7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B894D-8F81-4188-A530-56C02EED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F63A-885F-4213-8FB4-09ACB668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F09D4-A124-4AAB-A682-4DDBC432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26B54-39F6-47CE-A0F2-887F265D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06300-E1B4-42B0-A8BA-4D0AC589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DFCC7-14C5-4D40-9648-218CADC8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E533A-46C8-4263-8D53-C047873A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EB00C-1859-46BA-BC54-85ED6E29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A6D15-C777-4C4C-B6AD-BF5E222D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64737-CEDB-4F6A-AFDA-5E2FD704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21897-A460-4DA7-BE5A-496F571F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D9F10-CAF1-44C0-ADAE-AD474419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F26E-8417-451E-A673-81323487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67F13-1849-4935-95AC-E5C5E11D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76202-AF2E-413B-B31E-AD1EB8FE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C0C40-9607-48F4-AF8E-E5EC4282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2F803-2789-44F1-87B6-0754813D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FD7EA-DDC3-4E80-B2A7-25F6FB51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569A-85F6-4B1F-A890-E5D03BB5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57D5-348A-4DAE-AA39-034061EA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C670-0CB1-4E17-939D-1A6E910A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C94F-415E-41EB-B46D-80B80B8E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3700-BD43-4BCC-91EA-CB641B1B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80B-778F-40A3-9B47-E4450432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529B-E5BE-412F-BDF0-EB5A4A89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F00B-7248-4B40-937B-D739EE17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9A88-0FC2-4BDA-BB35-77B24423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2199-A8F0-4569-A3AD-669C78F3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928C-1966-4A9D-A62C-6B83B2B5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0DD32-08F4-4433-8173-9BD18D0D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0FD10-0BCE-436E-8CAD-610BEABC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C9FF1-C08B-40B5-8667-D8CB98DE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72733-44E2-47B3-A2C8-9BAB6A45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0BB0A-1145-42A1-8ECB-BA0312F1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ADE-53B8-4CFF-AC8D-FCFA2073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3E243-4E23-46CA-A06D-2919331F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1A17E-C5B2-48E3-BC32-458CF8CE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02A7F-AF7B-4CCA-A639-FAFE9F00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724C8-5EE8-49B2-96DC-367E982E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8D397-DC7F-4AB0-A92E-D47D464E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E62E7-BE76-40C8-A163-CA5A6B17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BBAB4-78F9-4640-9E6C-60B02F07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4AFB-1A9D-4CA8-8128-2A1D7C80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6FEDB-A799-414A-920B-AEA42412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C8A6E-3CBD-480B-96E1-941D532A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2AD6-D82C-475F-A029-BB4D733D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677BD-C983-415D-B4BC-5E6EDAF5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AA600-874B-4B5D-9AB1-60B9A2B6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4B539-C9DA-4342-881D-1C34BE05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097C1-61D9-4FC1-84A5-AEFD9DE8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FEF0A-71AF-4789-B419-CC5D24B9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6F8AA-0E5C-42F0-9832-E7B2DEB8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4D58C-4E55-4475-8EB1-67B3D10C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82E66-E0AE-495A-84E8-C4CBDA55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37600-02F7-45CE-B11D-9C09D5BB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B8B63-A384-4911-9FA8-627FA1BA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CFD-FE65-4E88-966F-6DD7B5BC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8C206-D898-40C4-B29E-DA5937CE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19B62-0A8D-4B35-BE59-BD018273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1053D-B83B-4B74-991A-89487A81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1041B-862E-4AB6-9AF0-1156A1F4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AD03E-D1B6-46B2-89F9-2568054A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6DC9D-08E2-4083-8B2C-ADAAE819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A8B53-E5C1-4CD5-9C12-A9B077C9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5B5C3-08E4-4B85-BD4D-16DFCF85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5E09D-355F-4BA1-8EF3-8B034704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7BE41-8DB7-416E-A2CC-C07C6E40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3A5-E8F7-445D-8762-282CC2C6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D8F42-9180-4E53-99F6-07D66C8E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F0811-955D-4E3B-B3CF-AB3D8A14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E1DF6-F39D-4276-866A-7B047F0E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7CCD7-287B-43E6-AAAC-32696916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710C9-9DC9-47B3-B181-6E499876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5C9F4-AD36-4181-966C-F4768218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23F5B-DA64-447F-88D3-1CACF492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23C54-6964-4C11-91EC-8D45996E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CFFAB-852D-4C09-BBDB-D193D13E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3E1C0-8E7C-474F-BF44-2DB0F171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883-4474-4443-AC2D-4A55AF0A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C2EC3-F7D2-43EF-938E-145E0AED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469E3-A6EC-4557-A3B0-F58C41F0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CAE49-8D39-44E6-B47F-B500E551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95FF1-4771-4C83-89B2-8BBC6692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C6A7D-4847-4955-B144-6E532F04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688CF-2D5F-4354-9559-16C3DA40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2E577-1B45-4E67-8F3D-47D17D17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1E116-B8A5-464E-B064-0C183833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0A63A-CFAB-4167-864E-90A27A64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BAEF9-B1AB-4D36-83F6-443235E9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34B-D455-4513-807B-7D0D9278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975AC-ED8A-4D21-82BF-66C882C3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6E926-F3A1-44D8-AC11-DC82B438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52C11-BFE7-427C-98B8-58B44020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63FDF-0A8F-467E-BB84-8F55CFA0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0ADB3-91DA-48BC-912A-CC9B90A5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0814B-DF92-4272-B5EF-28D646E5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62AD3-C02C-46EF-8CDA-8F1835CA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AA68B-7B30-49A3-8A3D-0E6619E8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8FB10-B23F-4219-BA62-6419AB1E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B58FD-3F25-4B0C-810A-EC53586D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EE7-53AB-4321-8774-6D875D62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13096-099F-4408-80BF-78EC3373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D67C7-B81F-456A-BEAA-CD83F678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84850-7736-4BC4-BC32-C5AA8047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D5C55-8282-4A73-AE25-7AB142FB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FB4AD-FD8E-44C5-B8AF-3A6F9832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17DE6-6009-41A4-A2D4-449BD686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7723A-B94E-48A7-8E4A-9B12E628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BE216-8AA2-4DB6-BFD2-4236BADC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16FD1-C275-4568-B66C-5D27C54E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C9342-07E6-40F0-B3D2-E2607DC1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AF70-97D0-4BF1-93FD-1B99C26A8F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64AC-0BC8-41B5-B1AE-624DADBD69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92B4-071A-42D0-8E42-0A64D64895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D41F-397E-4771-86FC-9A2D681621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857A-5985-4D38-8240-5C9A70C33BC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F1A3-4FA4-40B2-9ED1-16429273C0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0687-9738-4B26-BBB2-02E0EA36B7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2DF1-A2B1-4098-900E-039DA30206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E27B-1B19-4053-B0A0-FFE381F522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C5C3-21C4-426D-8E65-6D515CF27A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8410-5CBD-4CEC-929F-5865653C34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1111-68A6-41BC-BE52-7EFB969C0E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4"/>
          <p:cNvGrpSpPr/>
          <p:nvPr/>
        </p:nvGrpSpPr>
        <p:grpSpPr>
          <a:xfrm>
            <a:off x="57240" y="3357720"/>
            <a:ext cx="9043920" cy="2079360"/>
            <a:chOff x="57240" y="3357720"/>
            <a:chExt cx="9043920" cy="2079360"/>
          </a:xfrm>
        </p:grpSpPr>
        <p:pic>
          <p:nvPicPr>
            <p:cNvPr id="506" name="Picture 9" descr="U:\09. Strategy and coordination\Presentations\2014 Presentations\watermelons ec_organic_28_big.jpg"/>
            <p:cNvPicPr/>
            <p:nvPr/>
          </p:nvPicPr>
          <p:blipFill>
            <a:blip r:embed="rId1"/>
            <a:stretch/>
          </p:blipFill>
          <p:spPr>
            <a:xfrm>
              <a:off x="57240" y="3357720"/>
              <a:ext cx="3107880" cy="20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10" descr="U:\09. Strategy and coordination\Presentations\2014 Presentations\bread ec_organic_183_big.jpg"/>
            <p:cNvPicPr/>
            <p:nvPr/>
          </p:nvPicPr>
          <p:blipFill>
            <a:blip r:embed="rId2"/>
            <a:stretch/>
          </p:blipFill>
          <p:spPr>
            <a:xfrm>
              <a:off x="3079800" y="3357720"/>
              <a:ext cx="3107880" cy="20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11" descr="C:\Users\mahylou\Desktop\EU_Organic_Logo_Colour_OuterLine_rgb.jpg"/>
            <p:cNvPicPr/>
            <p:nvPr/>
          </p:nvPicPr>
          <p:blipFill>
            <a:blip r:embed="rId3"/>
            <a:srcRect l="10326" t="4040" r="7090" b="7445"/>
            <a:stretch/>
          </p:blipFill>
          <p:spPr>
            <a:xfrm>
              <a:off x="6188040" y="3357720"/>
              <a:ext cx="2913120" cy="20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TextBox 3"/>
          <p:cNvSpPr/>
          <p:nvPr/>
        </p:nvSpPr>
        <p:spPr>
          <a:xfrm>
            <a:off x="1377360" y="1484280"/>
            <a:ext cx="598860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Action Plan for the future of 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organic production in the 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European union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Verdana"/>
              </a:rPr>
              <a:t>State of Play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0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1A26-B384-403E-B30B-46FFA1CC3C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nsumer awareness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5280" y="2204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Encourage MS to explore synergies of the accreditation bodies and competent authoriti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08440" indent="-2214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Discussion in RCOP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08440" indent="-2214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The revision of guidelines on control is ongoing and will be completed once the new regulation is approve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Liaising with Acreditation Bodies for Control Bodies in Third Countri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08440" indent="-2214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Participate in major events with relevant partne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Integration of organic production legislation in the TARIC databas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08440" indent="-2214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Preparatory action have been finalised in close collaboration with DG TAXUD and M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08440" indent="-2214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Need to finalise the elettronic certification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08440" indent="-2214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Likely to be completed in 2016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nsumer awareness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9528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Electronic certification for import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electronic certificate ready in TRACES for January 2016;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mendments of Regulation No 1235/2008 are being discussed with MS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the e-certificate to be used once the amended regulation enters into force (transitional period foreseen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Electronic certification for internal marke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Kick off development in  early 2016 . Operational in 2018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Objective: to create a publicly available database on organic certificates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Documentary evidence translated into IT tools + some new features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 u="sng">
                <a:solidFill>
                  <a:srgbClr val="3996a5"/>
                </a:solidFill>
                <a:uFillTx/>
                <a:latin typeface="Verdana"/>
              </a:rPr>
              <a:t>Targetted workshops to assist MS with fraud prevention polic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3c8c93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c8c93"/>
                </a:solidFill>
                <a:latin typeface="Verdana"/>
              </a:rPr>
              <a:t>Liaising with </a:t>
            </a:r>
            <a:r>
              <a:rPr b="0" lang="fr-BE" sz="1400" spc="-1" strike="noStrike">
                <a:solidFill>
                  <a:srgbClr val="3c8c93"/>
                </a:solidFill>
                <a:latin typeface="Verdana"/>
              </a:rPr>
              <a:t>SANTE</a:t>
            </a:r>
            <a:r>
              <a:rPr b="0" lang="en-GB" sz="1400" spc="-1" strike="noStrike">
                <a:solidFill>
                  <a:srgbClr val="3c8c93"/>
                </a:solidFill>
                <a:latin typeface="Verdana"/>
              </a:rPr>
              <a:t> (Food Fraud Network) and OLAF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3c8c93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3c8c93"/>
                </a:solidFill>
                <a:latin typeface="Verdana"/>
              </a:rPr>
              <a:t>HLConference on fraud controls July 2015, Milan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3c8c93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3c8c93"/>
                </a:solidFill>
                <a:latin typeface="Verdana"/>
              </a:rPr>
              <a:t>IT tool, administrative assistance and coopération system, fall 2017</a:t>
            </a: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7f7f7f"/>
                </a:solidFill>
                <a:latin typeface="Verdana"/>
              </a:rPr>
              <a:t>Compedia/casebook of fraud cas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Closely working with SANTE</a:t>
            </a:r>
            <a:r>
              <a:rPr b="0" lang="en-GB" sz="1400" spc="-1" strike="noStrike">
                <a:solidFill>
                  <a:srgbClr val="7f7f7f"/>
                </a:solidFill>
                <a:latin typeface="Verdana"/>
              </a:rPr>
              <a:t> </a:t>
            </a: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Food Fraud Network, FVO and OLAF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 </a:t>
            </a: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will follow (2017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External dimension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23640" y="184464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Support and cooperate with trade partners from developing countri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Liaising with DEVCO; first results are appear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 u="sng">
                <a:solidFill>
                  <a:srgbClr val="3c8c93"/>
                </a:solidFill>
                <a:uFillTx/>
                <a:latin typeface="Verdana"/>
              </a:rPr>
              <a:t>Plurilateral agreement among leading organic partners in the World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3c8c93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3c8c93"/>
                </a:solidFill>
                <a:latin typeface="Verdana"/>
              </a:rPr>
              <a:t>Long term proces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3c8c93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3c8c93"/>
                </a:solidFill>
                <a:latin typeface="Verdana"/>
              </a:rPr>
              <a:t>A priority to lead the agenda for convergence of standard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Statistical data on trade with third countri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A study to be carried out "analysis of EU trade of organic products"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7f7f7f"/>
                </a:solidFill>
                <a:latin typeface="Verdana"/>
              </a:rPr>
              <a:t>Codex Alimentariu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Aquacultur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Organic wine ru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7f7f7f"/>
                </a:solidFill>
                <a:latin typeface="Verdana"/>
              </a:rPr>
              <a:t>Aim to increase protection of EU organic logo in 3rd countr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       </a:t>
            </a: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- Protection of EU logo in international agreement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onclu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95280" y="2276280"/>
            <a:ext cx="8569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Medium term process (2014-2020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We are making important progr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A strategic framework for the sector, a major priority for the Commiss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vailable at : </a:t>
            </a:r>
            <a:br>
              <a:rPr sz="1600"/>
            </a:b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http://ec.europa.eu/agriculture/organic/eu-policy/european-action-plan/index_en.htm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3059280" y="3357720"/>
            <a:ext cx="28540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5694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lectronic COI – results and next ste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spcBef>
                <a:spcPts val="451"/>
              </a:spcBef>
              <a:buClr>
                <a:srgbClr val="0066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Aim of e-COI in TRACES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etter trace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etter control at import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Simpler administrative proces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17160" indent="-317160">
              <a:spcBef>
                <a:spcPts val="451"/>
              </a:spcBef>
              <a:buClr>
                <a:srgbClr val="0066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NEW: E-COI ready to use!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https://webgate.ec.europa.eu/tracesnt/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17160" indent="-317160">
              <a:spcBef>
                <a:spcPts val="451"/>
              </a:spcBef>
              <a:buClr>
                <a:srgbClr val="0066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Will be adapted to include amendments to R1235/2008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17160" indent="-317160">
              <a:spcBef>
                <a:spcPts val="451"/>
              </a:spcBef>
              <a:buClr>
                <a:srgbClr val="0066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Workshops/trainings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Presentation in Biofach – 10-12 Feb 2016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Workshops with national experts – end Feb 2016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EOCC training – 11 May 2016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Next workshop with national experts – Sep 2016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17160" indent="-317160"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7785000" y="6165720"/>
            <a:ext cx="76536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Action Plan on the future of Organic Production in Europe </a:t>
            </a:r>
            <a:br>
              <a:rPr sz="3000"/>
            </a:b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(short summary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3348000" y="5381640"/>
            <a:ext cx="2160720" cy="14763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mpetitiveness</a:t>
            </a:r>
            <a:br>
              <a:rPr sz="24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Information on CAP Instru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95280" y="2204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Recommendation on use of RD funds, Common Fisheries Polic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End of 2015, adoption of 118 RD programme. All but NL included OF. NL used state aid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Unit actively involved in the analysis and future modifications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Informative document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	</a:t>
            </a: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- see leaflet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Inclusion of organic farming as a specific theme in calls for tender for information measur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Done for 2014 ca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Raising awareness on promotion instrument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Ongo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mpetitiveness</a:t>
            </a:r>
            <a:br>
              <a:rPr sz="24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wareness of EU scheme and log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95280" y="2204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Periodical surveys on consumers awareness of the logo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Verdana"/>
              </a:rPr>
              <a:t>Takes place every two years through the Eurobarometer; in 2015 last survey. Data is available on line as from January 2016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Verdana"/>
              </a:rPr>
              <a:t>Repetition of Questions so as to see the evolution/tren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Survey on consumers awareness and confidence in and understanding of the schem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Preparation ongo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Date still to be decide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Revision of Green Public Procurement criteria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Study carried on by JRC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First meeting of the ad-hoc working group in Jan 2016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Revised GPP criteria for food and catering planned to be adopted end of 2016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mpetitiveness</a:t>
            </a:r>
            <a:br>
              <a:rPr sz="24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Research and Innov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5280" y="2204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Recommendation to stakeholders to set up a database on availability of organic seeds.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Similar initiatives encouraged for aquaculture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Workshops and conferen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Conference on research and innovation priorities - Expo Milano – May 2015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Very successful ev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Wide particip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The results will fit into the H2020 work programm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Organic in Horizon 2020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Close collaboration with other Commission teams for the preparation of the work programm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Organic is increasingly present and visibl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mpetitiveness</a:t>
            </a:r>
            <a:br>
              <a:rPr sz="24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Research and Innov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08000" y="2204640"/>
            <a:ext cx="885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Regular facts and figures on organic produc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During 2014 and 2015: enhanced collaboration with EUROSTAT and simplification of the questionnaire;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Results: more statistics available and published on EUROSTAT's website (by November 2015, all MS provided – at least some - data).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Ongoing work: clarification of definitions in order to improve data quality and consistency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New doc issued early next year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2"/>
          <a:stretch/>
        </p:blipFill>
        <p:spPr>
          <a:xfrm>
            <a:off x="3492360" y="4076640"/>
            <a:ext cx="19908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7402680" y="5950080"/>
            <a:ext cx="765000" cy="51264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 txBox="1"/>
          <p:nvPr/>
        </p:nvSpPr>
        <p:spPr>
          <a:xfrm>
            <a:off x="468360" y="1915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Study on the added-value along the organic food supply chain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Survey on the attractiveness of the organic scheme for small farmer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In preparation – foreseen for 2017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27040" y="1206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Distribution of the added value along the  organic food chain</a:t>
            </a: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TextBox 4"/>
          <p:cNvSpPr/>
          <p:nvPr/>
        </p:nvSpPr>
        <p:spPr>
          <a:xfrm>
            <a:off x="554040" y="2060640"/>
            <a:ext cx="8066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Study launched in 2015, 2 offers received in September 2015  and study completed by end of 2016.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Contractor: Thuenen Institute of Farm Economics.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7381800" y="6093000"/>
            <a:ext cx="765360" cy="5126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390600" y="32364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Theme 1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: How much added value is generated by the organic food supply chain and who are the market players benefiting from it?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Theme 2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: How is the added value distributed among market players in the supply chain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Theme 3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: What factors influence the formation and distribution of added value for each relevant actor in the supply chain, including agricultural producers?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27040" y="1206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Distribution of the added value along the  organic food chain</a:t>
            </a: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7381800" y="6093000"/>
            <a:ext cx="765360" cy="5126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8229600" cy="2630520"/>
          </a:xfrm>
          <a:prstGeom prst="rect">
            <a:avLst/>
          </a:prstGeom>
          <a:ln w="0">
            <a:noFill/>
          </a:ln>
        </p:spPr>
      </p:pic>
      <p:sp>
        <p:nvSpPr>
          <p:cNvPr id="532" name="TextBox 3"/>
          <p:cNvSpPr/>
          <p:nvPr/>
        </p:nvSpPr>
        <p:spPr>
          <a:xfrm>
            <a:off x="395280" y="5229360"/>
            <a:ext cx="8569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Verdana"/>
              </a:rPr>
              <a:t>The results indicate that organic producers get higher farm gate prices than conventional but the producers’ share of added value remains relatively low</a:t>
            </a: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PLANCHENSTEINER Daniela (AGRI)</dc:creator>
  <dc:description/>
  <dc:language>en-US</dc:language>
  <cp:lastModifiedBy>BUTTINI-PROVENZANO Roberta (AGRI)</cp:lastModifiedBy>
  <cp:lastPrinted>2015-12-16T07:40:50Z</cp:lastPrinted>
  <dcterms:modified xsi:type="dcterms:W3CDTF">2016-11-25T06:27:24Z</dcterms:modified>
  <cp:revision>245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