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77676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640" rIns="89640" tIns="44640" bIns="4464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65280" y="4632480"/>
            <a:ext cx="5338800" cy="4389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0" y="926316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776760" y="926316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512B62EB-9EB6-443F-A48D-747CE89694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65280" y="4632480"/>
            <a:ext cx="53388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776760" y="9263160"/>
            <a:ext cx="2890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AAFEF9D8-305E-4222-827B-391366CB99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65280" y="4632480"/>
            <a:ext cx="53388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776760" y="9263160"/>
            <a:ext cx="2890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56159B34-56B7-4309-8572-43C558CBBF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65280" y="4632480"/>
            <a:ext cx="53388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776760" y="9263160"/>
            <a:ext cx="2890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F943ACC7-8757-415D-B787-18B5EB8901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65280" y="4632480"/>
            <a:ext cx="53388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776760" y="9263160"/>
            <a:ext cx="2890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FA2C1D6E-A3D0-4C3F-A51E-C307ECE41F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65280" y="4632480"/>
            <a:ext cx="53388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776760" y="9263160"/>
            <a:ext cx="2890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5FCD55D0-B48D-4404-9FA9-FD3B27E37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65280" y="4632480"/>
            <a:ext cx="53388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776760" y="9263160"/>
            <a:ext cx="2890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3372D8B5-764E-4203-BC44-E555F61EC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65280" y="4632480"/>
            <a:ext cx="53388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776760" y="9263160"/>
            <a:ext cx="2890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18F0E5E9-708E-490E-BE7F-15C78EF2A2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F6C-AFAE-4DBA-B543-B50AEF8D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A7E-58B0-4232-8C78-634933B2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3ADD3-E615-4068-90FB-1D075F7D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69344-6839-454E-8507-20FBD2BD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7CE49-22CD-4AB4-8835-DE33F5BF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9C16A-4B88-4D3F-973C-1360205E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C9F18-E6F1-4DA4-A252-36316600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6F209-8DA3-475C-A5F8-EF348572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C87AD-A814-4D00-B6FC-B4903FF7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BAA54-0553-4FB5-B61D-CC2019F0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92E9F-3AC3-4D82-9E19-B2C6460D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7C76E-B793-4CD4-A475-4B5199E1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3FE-AFB5-4C55-B5C2-E062E203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94FDE-AD75-41C8-A17A-7C7963C2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4D528-8886-4AD1-921A-F8A84FF1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2B6CB-7B9D-402A-9A91-6AE965B2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07C1D-614B-43A3-9272-6E8B0BAD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6725A-34BB-4CEF-A614-D0EB46C4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DA1CE-C39E-4430-908B-59EEF080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7E64B-D995-4E34-A7F7-A066048B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473E7-A69B-46BB-853E-1FD15F8C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AE8F0-8267-4D08-BB11-C9EC5262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DFC0F-9362-42F6-AD36-B9497510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61B-2D14-477F-84DB-A870829F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6D1AB-6418-4ACC-AC25-3D3B7AFE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C33EB-8CC0-4D64-98E4-89534371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FCD42-A66B-4F99-91C3-D5CB8A2C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750B8-A1C8-40B8-AD9B-1A25C137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E8FF5-2497-42BE-A8E4-DE8DF929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5A4C3-FBA0-4E36-B91E-00AABDD4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D378A-1FCA-4B7C-9BEE-80D9DB36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A8225-5F8E-4CFE-975F-7184CEF8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4CB4B-08C0-4113-8C2C-498C7367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9A8B6-1530-4220-AEE0-2B85C724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9211-3713-4355-9744-EA4D8272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EC229-AB61-494C-A21A-D586E4AE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6D358-E016-439F-B4F9-45C00E20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C2E09-C2CD-42CE-B05D-2B4DD2B1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27D77-C55C-46DB-BEB7-C428A59F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B9E03-E0AD-4847-9C64-7EE98B0D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49AE6-09C0-4AFC-86D8-4FF44BA0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3AE38-1A85-4AA8-B765-61089CB9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23E2F-3D34-4687-B14F-7BDEE3B3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2425F-3A19-44EE-ABDF-3861215D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1B41B-1EA5-485F-B75B-813D59C3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C432-ED56-4F15-BC46-E762A70B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D3182-433D-4612-B801-9A8CB59A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4F344-18AC-4093-9AD5-EF8C025B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BCCC1-0377-47A0-853F-0A351A53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626FC-82D9-441E-AEEB-A4DCDF3B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6AD9D-8461-4F26-8043-AEA9ED2E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2B04E-AE5C-4E91-B4A8-807EC287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79619-370A-4BBE-A71E-B4797C02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95FFB-6A92-4216-90C3-52544C9F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18091-1DF8-4257-A086-376BBB04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E10C9-277D-4F16-9E1D-54B9B917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514F-D851-4113-BB89-A868C3F7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98145-B635-4284-81A1-0A9FD3D6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B149B-DC15-4CDA-860F-A9619C91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89BD5-2D05-4E5D-B6C3-68194C37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DF41F-3F07-4803-9DE2-F6548E26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3A330-1C02-4B73-81B5-0D07474B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3AEA1-6CFB-4265-B588-AC32F626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2E502-4324-4C37-9014-AA2B0E65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3E479-1F1A-4D51-881A-6D2F1803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5A83C-DCA7-49E1-9E19-D42B62B9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52F3B-E3EA-46C4-B704-B781968E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C311-29BD-444E-8EAC-36163ABE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D89F7-F657-411A-8738-E611EED2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C7677-0E29-46A0-BE41-45E10425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99F9C-2B59-4FE3-AE49-142D7D2F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D8902-10F7-432E-BFD0-DBBFAF4E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D7F1B-5090-43EB-A957-B7EA9F33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1427F-8B3D-444A-BCF1-84E90192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34159A-2831-4754-B535-88C641C4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892FA-30F3-4BC4-AC48-3AA7A93B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6F290-DF78-4113-A0A4-D9256F01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E6AB-F03C-494E-A458-44156111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E63E-1D1B-49DA-BA74-12B1A367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B44D-F927-4C78-B55C-B0C7A255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37D-43C2-4144-A655-20D26F83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941D-9A75-429D-ADA3-00CE860A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A6D0-0D23-4E96-A148-450BAEA7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693E-5F53-49E7-997A-FE0C16B8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B212-DFC3-44AF-A222-11F5EA91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1032-0E49-48FC-A0E0-BE98FF44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1978-DF32-433D-9111-0424D9EB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7C22-1E57-4B4C-8DBB-F9BE2E5B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1ECA-2379-4CDF-899D-CE529DF0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3A40-9DF7-46C5-B58B-069F2D81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9668-7A2D-44C3-80D0-D1415375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565-F7CE-4609-B386-12906A8E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1ADF-8DAB-4944-8B99-EF90216A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374DC-F9D1-47A8-AD3B-1DC87599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194B3-BC94-4085-8640-9F2CD6BE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FFB47-3AC4-44FD-B3F7-AF46F8F0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EDC9C-E106-4174-82FE-32F01EE5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84E34-19E9-42F0-93EE-D07F1012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9F262-D255-4C6D-876C-34DC5A49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566D3-5101-4735-8E58-B3126CD9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97888-4699-4B5B-8571-03A3CFF4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72E70-9912-42E3-8987-881C7B27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C81-323F-4FB6-A986-05389E78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61254-CA1A-4FB5-BF66-A9C7D0A0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3F250-4172-4D3E-A765-9F879E4A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E3E7D-A3E7-47E2-AE68-68B3C435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ED890-8676-497E-B27A-2BA12DB6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D78BB-FBFE-4B2D-9D33-4687B8C4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D065B-B63F-42DA-BCF7-9B3A4004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2C9EE-8D07-4147-9019-C1FE6BF6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C81A-4C5B-401D-B5D6-4075C18B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D8644-D09E-43BB-967F-BA291C7F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A33BD-98DC-4177-9293-2E381AB3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47B-CC01-42CD-AE4A-26264F2D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F86C5-7E0F-49BD-A9EC-72D5DF05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D3222-CC34-48E2-8B6B-B6272423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02B6B-443C-45B0-BBF7-524423CF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EB78C-A78C-45AC-8C25-4BD5C1B7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7CFD5-4110-4FC6-9AA9-1AC6D949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58C94-ABC2-4EA1-A5AC-87694825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842A9-4421-4AB2-BC9A-D4258AB4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8E098-1EDF-43D0-831E-ADD868A2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F601D-CFD4-4AE5-8A56-5C1B93C3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900C6-333B-469A-BCBC-1B4404B2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BBB-0772-444E-A9DC-A3959595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B7975-9AEF-4610-9463-48ABA1D6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100BB-16AE-430C-AB61-A775FAF9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C77FF-ACD7-439A-A0F3-F23922B0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3BB3-48CD-426B-89C1-F7D37FAE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08D49-98CD-47C6-A1B7-0035C341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E9C2B-0466-430A-96F9-2720C28D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0B900-22DB-45C5-8B5F-B0F396BB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0891A-8BDF-4810-A7FB-471A82CB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08279-3279-4A0A-BBD7-2782D87B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82E9B-930C-4464-9946-2105A7E6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F58-EB3B-4E54-9600-E4A2D0F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94B49-2EC0-47FE-96FE-9A2C4848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6C7B0-DE47-4773-9024-577CAB16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9E685-EA72-40BF-85DD-109D3D1E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AD1B0-26E0-4FD3-B9AC-677F8991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05953-292C-4A5F-9C1D-0D9F27C9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35DFD-27E0-4815-AD5E-30D1404D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A0960-CDC6-4D6C-8CD6-5C5FBB6D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D27E9-47B1-48EA-8A6B-E24313F8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2019D-314E-48DD-AC2D-6DF83085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2CA3D-70FE-4DF4-943B-7A26B2B4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1B3-7E6E-404D-95E3-59A7BB4B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5E3EB-DBC5-46BD-A726-7EFB0345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4752C-405A-451E-B3E4-8524D262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21019-9CDF-4586-86B7-BF2757FC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9E045-874D-487C-9AEC-4DF32DE8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98A9D-B5A8-4DF3-8B64-2414B4A9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D1DAB-B4EB-4885-ADA2-0D74C455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D68F2-540D-43D4-BB0A-FF123A9C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09C33-B312-4296-99C5-4388F6C7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9948E-B095-4ED4-9EB9-258FEF5C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B904E-078D-40C5-AB59-DB3265E7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014-F579-45F0-A649-3F61D22E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2D504-E1C9-49BD-8E04-DE8FF843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6695C-000B-4D7F-9006-1DA56486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5A5FF-536D-4788-836F-E00A1EE4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A0EC7-9D79-4A87-9D74-0F9293D1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C8698-7F9C-445C-854F-24EC89DD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F4FB1-AC7E-41A5-8C9D-3E41C70B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6D5B2-CEDA-49B9-B914-1D8EF9C3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2E95C-7D79-40C5-80DE-9F2EF60B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C76DA-55C1-445B-B898-5A3D5489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0D6F1-CE77-4C33-9CC9-BB5F2CBF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28D5-5296-44B9-A5C5-3FF66B07FA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E689-F3AA-418E-B4E1-6E1CCDB3B4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436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98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FD35-F999-4C26-8217-C52782775C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42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47F7-5A64-434C-9823-F930ECF7FF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8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914F-8363-4422-8F79-CB21470A79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3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DBB6-51DE-4A8A-984D-2C2F25DDED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74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B7B6-1F6D-4596-A409-F4A4792EBF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6181-FD3D-4AB5-B529-94E398CABF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125360"/>
            <a:ext cx="9180360" cy="5732640"/>
          </a:xfrm>
          <a:prstGeom prst="rect">
            <a:avLst/>
          </a:prstGeom>
          <a:solidFill>
            <a:srgbClr val="0f5494"/>
          </a:solidFill>
          <a:ln w="7308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LOGO CE-EN-quadri.eps"/>
          <p:cNvPicPr/>
          <p:nvPr/>
        </p:nvPicPr>
        <p:blipFill>
          <a:blip r:embed="rId2"/>
          <a:stretch/>
        </p:blipFill>
        <p:spPr>
          <a:xfrm>
            <a:off x="3922560" y="333360"/>
            <a:ext cx="1511280" cy="1049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80F9-0FB0-499A-9A87-4F58DC28650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7D01-8A14-4DBD-9B53-03CFB378932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3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ED0C-5D82-4474-9317-A600ABA674D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8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9D6A-6270-42FD-9BFE-2278C30B4F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2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C729-C6EC-4C07-85DD-C0CE31D36C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37FE-8A84-4985-9989-1A465ADBEB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C631-ACA8-42AC-B3DC-9CF61685C7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4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0BAA-9351-4850-A2F2-B82C31C76F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onsilium.europa.eu/en/documents-publications/" TargetMode="External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C921-58F8-4978-847B-C19E90FD67B1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2768-C4D7-4491-91E0-ECD8A91A4891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7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Proposal for a revised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Fertilisers Regulation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066920" y="4941360"/>
            <a:ext cx="4933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cc00"/>
                </a:solidFill>
                <a:latin typeface="Verdana"/>
              </a:rPr>
              <a:t>CDG Agri-Organic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25 November 2016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Angelo Innamorati - DG AGRI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E087-A975-4E64-8483-504FB8CB82A5}" type="slidenum">
              <a:rPr b="1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C129-0C72-442A-8E51-57CB2F01CEF3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7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Proposal for a revised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Fertilisers Regulation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066920" y="4941360"/>
            <a:ext cx="4933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cc00"/>
                </a:solidFill>
                <a:latin typeface="Verdana"/>
              </a:rPr>
              <a:t>CDG Agri-Organic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25 November 2016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Angelo Innamorati - DG AGRI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B51C-2EBD-47EC-8D45-BB79E3C412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28" name="Titre 1"/>
          <p:cNvSpPr/>
          <p:nvPr/>
        </p:nvSpPr>
        <p:spPr>
          <a:xfrm>
            <a:off x="0" y="127008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Why revising Fertilisers' Regulation?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29" name="TextBox 1"/>
          <p:cNvSpPr/>
          <p:nvPr/>
        </p:nvSpPr>
        <p:spPr>
          <a:xfrm>
            <a:off x="250920" y="2349360"/>
            <a:ext cx="878508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clusion in the circular economy packag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High dependency on imported critical raw materia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covery and use nutrients contained in organic materia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reate a common market for organic fertilis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5CEE-5E5E-4D95-9B42-3D6225BFF6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31" name="Titre 1"/>
          <p:cNvSpPr/>
          <p:nvPr/>
        </p:nvSpPr>
        <p:spPr>
          <a:xfrm>
            <a:off x="385920" y="1413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32" name="TextBox 1"/>
          <p:cNvSpPr/>
          <p:nvPr/>
        </p:nvSpPr>
        <p:spPr>
          <a:xfrm>
            <a:off x="250920" y="2205000"/>
            <a:ext cx="878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Commission Vice-President Jyrki Katainen, responsible for Jobs, Growth, Investment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Competitiveness (17 March 2016):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"Very few of the abundant bio-waste resources are transformed into valuable fertilising products. Our farmers are using fertilisers manufactured from imported resources or from energy-intensive processes although our industry could valorise these bio-wastes in recycled nutrients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This Regulation will help us turn problems into opportunities for farmers and businesses."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250920" y="960480"/>
            <a:ext cx="2054160" cy="1531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" descr=""/>
          <p:cNvPicPr/>
          <p:nvPr/>
        </p:nvPicPr>
        <p:blipFill>
          <a:blip r:embed="rId2"/>
          <a:stretch/>
        </p:blipFill>
        <p:spPr>
          <a:xfrm>
            <a:off x="6662880" y="1054080"/>
            <a:ext cx="223020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9047-FF61-4C0A-BE06-43D6F655DE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36" name="Titre 1"/>
          <p:cNvSpPr/>
          <p:nvPr/>
        </p:nvSpPr>
        <p:spPr>
          <a:xfrm>
            <a:off x="385920" y="134136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The "vision"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37" name="TextBox 1"/>
          <p:cNvSpPr/>
          <p:nvPr/>
        </p:nvSpPr>
        <p:spPr>
          <a:xfrm>
            <a:off x="250920" y="1844640"/>
            <a:ext cx="856908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Making Fertilisers more sustainable: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afety (limits for contaminants, recovery rules…)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Promote recycling of nutrien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Boost the market for secondary raw material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38" name="Chart 6" descr=""/>
          <p:cNvPicPr/>
          <p:nvPr/>
        </p:nvPicPr>
        <p:blipFill>
          <a:blip r:embed="rId1"/>
          <a:stretch/>
        </p:blipFill>
        <p:spPr>
          <a:xfrm>
            <a:off x="1908000" y="5059440"/>
            <a:ext cx="2359080" cy="15858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4284720" y="4724280"/>
            <a:ext cx="302400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A7B6-C89A-4C47-9147-F965768F32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41" name="Titre 1"/>
          <p:cNvSpPr/>
          <p:nvPr/>
        </p:nvSpPr>
        <p:spPr>
          <a:xfrm>
            <a:off x="0" y="1341360"/>
            <a:ext cx="914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What is the Fertilisers Proposal about?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42" name="TextBox 1"/>
          <p:cNvSpPr/>
          <p:nvPr/>
        </p:nvSpPr>
        <p:spPr>
          <a:xfrm>
            <a:off x="250920" y="2205000"/>
            <a:ext cx="8785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artial harmonization of the fertiliser marke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oolbox for allowing fertilising products to circulate freely on the single market when marked C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nly Fertilising Products composed of listed components and fulfilling quality and safety requirements may bear the CE marking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6B10-55EA-4781-885C-6877B34608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44" name="Titre 1"/>
          <p:cNvSpPr/>
          <p:nvPr/>
        </p:nvSpPr>
        <p:spPr>
          <a:xfrm>
            <a:off x="457200" y="134136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d5a29"/>
                </a:solidFill>
                <a:uFillTx/>
                <a:latin typeface="Gill Sans"/>
              </a:rPr>
              <a:t>7 product categories covering all plant nutrition need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250920" y="2205000"/>
            <a:ext cx="1512720" cy="324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PFC1 - Fertiliser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1835280" y="2133720"/>
            <a:ext cx="1008000" cy="287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f5494"/>
                </a:solidFill>
                <a:latin typeface="Verdana"/>
              </a:rPr>
              <a:t>(A) Organic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47" name="Straight Connector 6"/>
          <p:cNvSpPr/>
          <p:nvPr/>
        </p:nvSpPr>
        <p:spPr>
          <a:xfrm flipV="1">
            <a:off x="1763640" y="2276280"/>
            <a:ext cx="71640" cy="9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3065400" y="1870200"/>
            <a:ext cx="717480" cy="215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f5494"/>
                </a:solidFill>
                <a:latin typeface="Verdana"/>
              </a:rPr>
              <a:t>(I) Solid</a:t>
            </a:r>
            <a:endParaRPr b="1" lang="en-US" sz="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49" name="Straight Connector 8"/>
          <p:cNvSpPr/>
          <p:nvPr/>
        </p:nvSpPr>
        <p:spPr>
          <a:xfrm flipV="1">
            <a:off x="2843280" y="1977840"/>
            <a:ext cx="22212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3065400" y="2168640"/>
            <a:ext cx="717480" cy="215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f5494"/>
                </a:solidFill>
                <a:latin typeface="Verdana"/>
              </a:rPr>
              <a:t>(II) Liquid</a:t>
            </a:r>
            <a:endParaRPr b="1" lang="en-US" sz="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51" name="Straight Connector 10"/>
          <p:cNvSpPr/>
          <p:nvPr/>
        </p:nvSpPr>
        <p:spPr>
          <a:xfrm>
            <a:off x="2843280" y="2276640"/>
            <a:ext cx="2221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52" name="Rectangle 11"/>
          <p:cNvSpPr/>
          <p:nvPr/>
        </p:nvSpPr>
        <p:spPr>
          <a:xfrm>
            <a:off x="1835280" y="2492280"/>
            <a:ext cx="1008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f5494"/>
                </a:solidFill>
                <a:latin typeface="Verdana"/>
              </a:rPr>
              <a:t>(B) Organo-mineral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53" name="Straight Connector 12"/>
          <p:cNvSpPr/>
          <p:nvPr/>
        </p:nvSpPr>
        <p:spPr>
          <a:xfrm>
            <a:off x="1763640" y="2367000"/>
            <a:ext cx="7164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54" name="Rectangle 13"/>
          <p:cNvSpPr/>
          <p:nvPr/>
        </p:nvSpPr>
        <p:spPr>
          <a:xfrm>
            <a:off x="1835280" y="2852640"/>
            <a:ext cx="108396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f5494"/>
                </a:solidFill>
                <a:latin typeface="Verdana"/>
              </a:rPr>
              <a:t>(C) Inorganic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55" name="Rectangle 14"/>
          <p:cNvSpPr/>
          <p:nvPr/>
        </p:nvSpPr>
        <p:spPr>
          <a:xfrm>
            <a:off x="250920" y="3213000"/>
            <a:ext cx="2127240" cy="287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PFC2 – Liming material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56" name="Rectangle 15"/>
          <p:cNvSpPr/>
          <p:nvPr/>
        </p:nvSpPr>
        <p:spPr>
          <a:xfrm>
            <a:off x="250920" y="3573360"/>
            <a:ext cx="2127240" cy="287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PFC3 – Soil Improver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2484360" y="3573360"/>
            <a:ext cx="1008000" cy="287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f5494"/>
                </a:solidFill>
                <a:latin typeface="Verdana"/>
              </a:rPr>
              <a:t>(A) Organic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58" name="Straight Connector 17"/>
          <p:cNvSpPr/>
          <p:nvPr/>
        </p:nvSpPr>
        <p:spPr>
          <a:xfrm>
            <a:off x="1763640" y="2367000"/>
            <a:ext cx="71640" cy="6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59" name="Straight Connector 18"/>
          <p:cNvSpPr/>
          <p:nvPr/>
        </p:nvSpPr>
        <p:spPr>
          <a:xfrm>
            <a:off x="2378160" y="3716280"/>
            <a:ext cx="106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2479680" y="3933720"/>
            <a:ext cx="1084320" cy="287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f5494"/>
                </a:solidFill>
                <a:latin typeface="Verdana"/>
              </a:rPr>
              <a:t>(B) Inorganic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250920" y="4221000"/>
            <a:ext cx="2127240" cy="287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PFC4 – Growing medium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250920" y="4581360"/>
            <a:ext cx="2305080" cy="287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PFC5 – Agronomic additive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63" name="Straight Connector 22"/>
          <p:cNvSpPr/>
          <p:nvPr/>
        </p:nvSpPr>
        <p:spPr>
          <a:xfrm>
            <a:off x="2378160" y="3716280"/>
            <a:ext cx="1015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64" name="Rectangle 23"/>
          <p:cNvSpPr/>
          <p:nvPr/>
        </p:nvSpPr>
        <p:spPr>
          <a:xfrm>
            <a:off x="3065400" y="4292640"/>
            <a:ext cx="1071720" cy="28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f5494"/>
                </a:solidFill>
                <a:latin typeface="Verdana"/>
              </a:rPr>
              <a:t>(A) Inhibitor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2854440" y="4632480"/>
            <a:ext cx="1503360" cy="287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f5494"/>
                </a:solidFill>
                <a:latin typeface="Verdana"/>
              </a:rPr>
              <a:t>(B) Chelating agent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66" name="Straight Connector 25"/>
          <p:cNvSpPr/>
          <p:nvPr/>
        </p:nvSpPr>
        <p:spPr>
          <a:xfrm flipV="1">
            <a:off x="2556000" y="4437000"/>
            <a:ext cx="509400" cy="287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67" name="Straight Connector 26"/>
          <p:cNvSpPr/>
          <p:nvPr/>
        </p:nvSpPr>
        <p:spPr>
          <a:xfrm>
            <a:off x="2556000" y="4724280"/>
            <a:ext cx="29844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68" name="Rectangle 27"/>
          <p:cNvSpPr/>
          <p:nvPr/>
        </p:nvSpPr>
        <p:spPr>
          <a:xfrm>
            <a:off x="250920" y="5300640"/>
            <a:ext cx="230508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PFC6 – Plant Biostimulan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2700360" y="5300640"/>
            <a:ext cx="107172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f5494"/>
                </a:solidFill>
                <a:latin typeface="Verdana"/>
              </a:rPr>
              <a:t>(A) Microbial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70" name="Straight Connector 29"/>
          <p:cNvSpPr/>
          <p:nvPr/>
        </p:nvSpPr>
        <p:spPr>
          <a:xfrm>
            <a:off x="2556000" y="544500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71" name="Rectangle 30"/>
          <p:cNvSpPr/>
          <p:nvPr/>
        </p:nvSpPr>
        <p:spPr>
          <a:xfrm>
            <a:off x="2708280" y="5661000"/>
            <a:ext cx="143208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f5494"/>
                </a:solidFill>
                <a:latin typeface="Verdana"/>
              </a:rPr>
              <a:t>(B) Non-Microbial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72" name="Rectangle 31"/>
          <p:cNvSpPr/>
          <p:nvPr/>
        </p:nvSpPr>
        <p:spPr>
          <a:xfrm>
            <a:off x="250920" y="6093000"/>
            <a:ext cx="2736720" cy="28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PFC7 – Fertilising product blend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73" name="Straight Connector 32"/>
          <p:cNvSpPr/>
          <p:nvPr/>
        </p:nvSpPr>
        <p:spPr>
          <a:xfrm>
            <a:off x="2556000" y="5445000"/>
            <a:ext cx="152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74" name="Rectangle 33"/>
          <p:cNvSpPr/>
          <p:nvPr/>
        </p:nvSpPr>
        <p:spPr>
          <a:xfrm>
            <a:off x="3073320" y="2435400"/>
            <a:ext cx="716040" cy="215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f5494"/>
                </a:solidFill>
                <a:latin typeface="Verdana"/>
              </a:rPr>
              <a:t>(I) Solid</a:t>
            </a:r>
            <a:endParaRPr b="1" lang="en-US" sz="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75" name="Straight Connector 34"/>
          <p:cNvSpPr/>
          <p:nvPr/>
        </p:nvSpPr>
        <p:spPr>
          <a:xfrm flipV="1">
            <a:off x="2843280" y="2542680"/>
            <a:ext cx="230040" cy="9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76" name="Rectangle 35"/>
          <p:cNvSpPr/>
          <p:nvPr/>
        </p:nvSpPr>
        <p:spPr>
          <a:xfrm>
            <a:off x="3065400" y="2698920"/>
            <a:ext cx="717480" cy="215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f5494"/>
                </a:solidFill>
                <a:latin typeface="Verdana"/>
              </a:rPr>
              <a:t>(II) Liquid</a:t>
            </a:r>
            <a:endParaRPr b="1" lang="en-US" sz="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77" name="Straight Connector 36"/>
          <p:cNvSpPr/>
          <p:nvPr/>
        </p:nvSpPr>
        <p:spPr>
          <a:xfrm>
            <a:off x="2843280" y="2637000"/>
            <a:ext cx="222120" cy="169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78" name="Rectangle 37"/>
          <p:cNvSpPr/>
          <p:nvPr/>
        </p:nvSpPr>
        <p:spPr>
          <a:xfrm>
            <a:off x="3171960" y="2960640"/>
            <a:ext cx="1112760" cy="21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f5494"/>
                </a:solidFill>
                <a:latin typeface="Verdana"/>
              </a:rPr>
              <a:t>(I) Macronutrient</a:t>
            </a:r>
            <a:endParaRPr b="1" lang="en-US" sz="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79" name="Straight Connector 38"/>
          <p:cNvSpPr/>
          <p:nvPr/>
        </p:nvSpPr>
        <p:spPr>
          <a:xfrm>
            <a:off x="2919240" y="2997360"/>
            <a:ext cx="252720" cy="71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80" name="Rectangle 39"/>
          <p:cNvSpPr/>
          <p:nvPr/>
        </p:nvSpPr>
        <p:spPr>
          <a:xfrm>
            <a:off x="3146400" y="3278160"/>
            <a:ext cx="1138320" cy="21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f5494"/>
                </a:solidFill>
                <a:latin typeface="Verdana"/>
              </a:rPr>
              <a:t>(II) Micronutrient</a:t>
            </a:r>
            <a:endParaRPr b="1" lang="en-US" sz="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81" name="Straight Connector 40"/>
          <p:cNvSpPr/>
          <p:nvPr/>
        </p:nvSpPr>
        <p:spPr>
          <a:xfrm>
            <a:off x="2919240" y="2997360"/>
            <a:ext cx="227160" cy="38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82" name="Rectangle 41"/>
          <p:cNvSpPr/>
          <p:nvPr/>
        </p:nvSpPr>
        <p:spPr>
          <a:xfrm>
            <a:off x="2963880" y="4981680"/>
            <a:ext cx="1679400" cy="287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f5494"/>
                </a:solidFill>
                <a:latin typeface="Verdana"/>
              </a:rPr>
              <a:t>(C) Complexing agent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83" name="Straight Connector 42"/>
          <p:cNvSpPr/>
          <p:nvPr/>
        </p:nvSpPr>
        <p:spPr>
          <a:xfrm>
            <a:off x="2556000" y="4724280"/>
            <a:ext cx="40788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74E1-8C44-4D1E-8BB9-3E0D064EB1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85" name="Titre 1"/>
          <p:cNvSpPr/>
          <p:nvPr/>
        </p:nvSpPr>
        <p:spPr>
          <a:xfrm>
            <a:off x="-252360" y="1268280"/>
            <a:ext cx="95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3d5a29"/>
                </a:solidFill>
                <a:uFillTx/>
                <a:latin typeface="Gill Sans"/>
              </a:rPr>
              <a:t>Environmental performance, limit values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86" name="TextBox 1"/>
          <p:cNvSpPr/>
          <p:nvPr/>
        </p:nvSpPr>
        <p:spPr>
          <a:xfrm>
            <a:off x="19080" y="1735200"/>
            <a:ext cx="878508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Double safety ne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REACH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registration (where relevant) + limit values for known contaminants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Limit value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e </a:t>
            </a:r>
            <a:r>
              <a:rPr b="0" lang="en-GB" sz="2000" spc="-1" strike="noStrike" u="sng">
                <a:solidFill>
                  <a:srgbClr val="0f5494"/>
                </a:solidFill>
                <a:uFillTx/>
                <a:latin typeface="Verdana"/>
              </a:rPr>
              <a:t>based on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0" indent="-457200">
              <a:spcAft>
                <a:spcPts val="1199"/>
              </a:spcAft>
              <a:buClr>
                <a:srgbClr val="ffd62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pecific scientific support (e.g. compost + digestate) &lt; JRC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0" indent="-457200">
              <a:spcAft>
                <a:spcPts val="1199"/>
              </a:spcAft>
              <a:buClr>
                <a:srgbClr val="ffd62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admium :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2" marL="1371600" indent="-45720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pecific IA report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2" marL="1371600" indent="-45720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2 scientific opinions (CSTEE 2002+SCHER 2015): </a:t>
            </a:r>
            <a:br>
              <a:rPr sz="2000"/>
            </a:b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afe limit has evolved from 20 to 80 mg/kg P2O5 due to evolution of use pattern of phosphate fertilisers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2" marL="1371600" indent="-45720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imits proposed: 60/40/20  - cadmium is a contaminant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1B87-0C93-404B-A2A9-08422E169B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88" name="Titre 1"/>
          <p:cNvSpPr/>
          <p:nvPr/>
        </p:nvSpPr>
        <p:spPr>
          <a:xfrm>
            <a:off x="-252360" y="1413000"/>
            <a:ext cx="957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d5a29"/>
                </a:solidFill>
                <a:uFillTx/>
                <a:latin typeface="Gill Sans"/>
              </a:rPr>
              <a:t>Adaptability of the proposal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89" name="TextBox 1"/>
          <p:cNvSpPr/>
          <p:nvPr/>
        </p:nvSpPr>
        <p:spPr>
          <a:xfrm>
            <a:off x="19080" y="2367000"/>
            <a:ext cx="8785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Verdana"/>
              </a:rPr>
              <a:t>Scope will be more and more inclusive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on-going works with JRC, Plastic mulches): mechanisms to adapt the annexes (delegated acts) to technical progress (sustainable chemicals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f new safety concerns arise, reactivity to new risks (delegated acts), safeguard mechanisms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's nex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24000" y="2349360"/>
            <a:ext cx="8578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35568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iscussions in Council (Working Group on 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Technical Harmonisation) –started in May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consilium.europa.eu/en/documents-publications/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35568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iscussions with European Parliament starting on July, 13</a:t>
            </a:r>
            <a:r>
              <a:rPr b="0" lang="en-GB" sz="2200" spc="-1" strike="noStrike" baseline="30000">
                <a:solidFill>
                  <a:srgbClr val="0f5494"/>
                </a:solidFill>
                <a:latin typeface="Verdana"/>
              </a:rPr>
              <a:t>th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(IMCO Committee in the lead, Agri/Envi)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35568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iscussions with CEN in preparation of 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  <a:ea typeface="Calibri"/>
              </a:rPr>
              <a:t>a Standardisation Mandat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35568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Guidance document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4FFA-D2B8-41FB-9676-79403D0499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UTTINI-PROVENZANO Roberta (AGRI)</cp:lastModifiedBy>
  <cp:lastPrinted>2016-05-18T16:16:17Z</cp:lastPrinted>
  <dcterms:modified xsi:type="dcterms:W3CDTF">2016-11-17T10:28:27Z</dcterms:modified>
  <cp:revision>1190</cp:revision>
  <dc:subject/>
  <dc:title>Slide 1</dc:title>
</cp:coreProperties>
</file>