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2.wmf" ContentType="image/x-wmf"/>
  <Override PartName="/ppt/media/image25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593B-A6A6-4C6F-A804-6992194E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280" y="434952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022-8F2E-47AA-ABDB-ECA460EF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232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5280" y="434952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2320" y="434952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42EE-D343-4EB9-A493-F52842E5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7720" y="220500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0160" y="220500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5280" y="434952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7720" y="434952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0160" y="434952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BC2-FC6F-43BD-A54E-55DA29F4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5280" y="220500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2320" y="220500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5280" y="134100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2320" y="220500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5280" y="434952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5280" y="220500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BCC-0D78-41D3-9D29-0B12E640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232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12320" y="434952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232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434952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5280" y="434952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1232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95280" y="434952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2320" y="434952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7720" y="220500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0160" y="220500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95280" y="434952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7720" y="434952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0160" y="434952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C8FF-3807-439A-A8CF-B92FED2B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2320" y="220500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BFCD-852B-4D4E-8114-4E2111D6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12E6-0A0E-4919-A0E0-E23740E5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4100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D690-CBD7-43E3-B730-FF88EB1D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220500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5280" y="434952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363E-F4D7-437D-87A3-4526520E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232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2320" y="434952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58B-DE0F-44BE-8110-0AD3AF4B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232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5280" y="434952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FF61-ECC7-42F1-8D9E-72F43AC0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220500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8920" y="646704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 September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8E71-BA5A-49CE-9AF9-BACC5EAE88DC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9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3752640" cy="2543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95280" y="220500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85264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de-DE" sz="5400" spc="-1" strike="noStrike">
                <a:solidFill>
                  <a:srgbClr val="ffd624"/>
                </a:solidFill>
                <a:latin typeface="Verdana"/>
              </a:rPr>
              <a:t> </a:t>
            </a:r>
            <a:r>
              <a:rPr b="1" lang="de-DE" sz="5400" spc="-1" strike="noStrike">
                <a:solidFill>
                  <a:srgbClr val="ffd624"/>
                </a:solidFill>
                <a:latin typeface="Verdana"/>
              </a:rPr>
              <a:t>Milk Market Situation</a:t>
            </a:r>
            <a:endParaRPr b="1" lang="en-US" sz="5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050920" y="4797360"/>
            <a:ext cx="5473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n-GB" sz="2400" spc="-1" strike="noStrike">
                <a:solidFill>
                  <a:srgbClr val="ffffff"/>
                </a:solidFill>
                <a:latin typeface="Verdana"/>
                <a:ea typeface="Arial"/>
              </a:rPr>
              <a:t>Brussels, 3 September 2014</a:t>
            </a:r>
            <a:br>
              <a:rPr sz="2400"/>
            </a:b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A3B6-8337-43F3-9CFD-86FB49EE180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84836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AF50-4157-4C31-8AC4-1A6CEF25C47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8208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769F-3297-407B-8FA6-18B2FA49A18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E42D-2BD7-4A41-885E-44320CD654E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185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F608-CB95-4C4A-9F45-EBD52DD5F5C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10288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2D2C-1296-47AA-B4C1-17C9F149C58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324000" y="1314360"/>
            <a:ext cx="8642160" cy="513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2B5A-A09D-454D-B8B1-16DB3F1B0E7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9" name="Picture 23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7605720" cy="5586480"/>
          </a:xfrm>
          <a:prstGeom prst="rect">
            <a:avLst/>
          </a:prstGeom>
          <a:ln w="0">
            <a:noFill/>
          </a:ln>
        </p:spPr>
      </p:pic>
      <p:sp>
        <p:nvSpPr>
          <p:cNvPr id="160" name="Date Placeholder 1"/>
          <p:cNvSpPr/>
          <p:nvPr/>
        </p:nvSpPr>
        <p:spPr>
          <a:xfrm>
            <a:off x="6012000" y="6442200"/>
            <a:ext cx="21333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01C0-38D9-4B38-B976-7E985B8BEBB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945200" cy="5183280"/>
          </a:xfrm>
          <a:prstGeom prst="rect">
            <a:avLst/>
          </a:prstGeom>
          <a:ln w="0">
            <a:noFill/>
          </a:ln>
        </p:spPr>
      </p:pic>
      <p:sp>
        <p:nvSpPr>
          <p:cNvPr id="164" name="Date Placeholder 1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38F5-94B1-40DD-98CE-949100E7C0B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902360" cy="5156280"/>
          </a:xfrm>
          <a:prstGeom prst="rect">
            <a:avLst/>
          </a:prstGeom>
          <a:ln w="0">
            <a:noFill/>
          </a:ln>
        </p:spPr>
      </p:pic>
      <p:sp>
        <p:nvSpPr>
          <p:cNvPr id="168" name="Date Placeholder 1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C7F8-008B-4101-98C6-C50E11A6E8E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038320" y="1125360"/>
            <a:ext cx="5413320" cy="5589720"/>
          </a:xfrm>
          <a:prstGeom prst="rect">
            <a:avLst/>
          </a:prstGeom>
          <a:ln w="0">
            <a:noFill/>
          </a:ln>
        </p:spPr>
      </p:pic>
      <p:sp>
        <p:nvSpPr>
          <p:cNvPr id="172" name="Date Placeholder 1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4"/>
          <p:cNvSpPr/>
          <p:nvPr/>
        </p:nvSpPr>
        <p:spPr>
          <a:xfrm>
            <a:off x="4572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9E4C-1061-4062-9849-35C791951C4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622440" y="624348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!!! Data from some Member States are confidential and are NOT included in this table !!!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0840" y="1267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0f5494"/>
                </a:solidFill>
                <a:latin typeface="Verdana"/>
              </a:rPr>
              <a:t>EU Productions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Footer Placeholder 1"/>
          <p:cNvSpPr/>
          <p:nvPr/>
        </p:nvSpPr>
        <p:spPr>
          <a:xfrm>
            <a:off x="3159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55680" y="1606680"/>
            <a:ext cx="85024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2793-CF12-4DCC-BFC4-1D78ED58B09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197320" cy="5365800"/>
          </a:xfrm>
          <a:prstGeom prst="rect">
            <a:avLst/>
          </a:prstGeom>
          <a:ln w="0">
            <a:noFill/>
          </a:ln>
        </p:spPr>
      </p:pic>
      <p:sp>
        <p:nvSpPr>
          <p:cNvPr id="176" name="Date Placeholder 1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18F2-3989-4DE7-985E-426C9B59749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113440" cy="5278680"/>
          </a:xfrm>
          <a:prstGeom prst="rect">
            <a:avLst/>
          </a:prstGeom>
          <a:ln w="0">
            <a:noFill/>
          </a:ln>
        </p:spPr>
      </p:pic>
      <p:sp>
        <p:nvSpPr>
          <p:cNvPr id="180" name="Date Placeholder 1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67640" cy="5727600"/>
          </a:xfrm>
          <a:prstGeom prst="rect">
            <a:avLst/>
          </a:prstGeom>
          <a:ln w="0">
            <a:noFill/>
          </a:ln>
        </p:spPr>
      </p:pic>
      <p:sp>
        <p:nvSpPr>
          <p:cNvPr id="183" name="Date Placeholder 1"/>
          <p:cNvSpPr/>
          <p:nvPr/>
        </p:nvSpPr>
        <p:spPr>
          <a:xfrm>
            <a:off x="1116000" y="6573960"/>
            <a:ext cx="21337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Slide Number Placeholder 2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469D-1D4C-4203-9742-02F0A927E0B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7E96-DB21-4F7E-B31F-39832B4CC2E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893880" y="1328760"/>
            <a:ext cx="7643520" cy="51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E8EA-6DE9-49BC-8179-55F6DBA91DE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3419640" y="6504120"/>
            <a:ext cx="4609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Dairy Australi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812880" y="1390680"/>
            <a:ext cx="7520040" cy="50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95DB-2941-408C-B3F5-E4A150FFB15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132000" y="6308640"/>
            <a:ext cx="4610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DCANZ - Fonterr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880920" y="1341360"/>
            <a:ext cx="774072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32C3-52AD-4158-84E8-9AE5402034E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258920" y="6093000"/>
            <a:ext cx="51134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252440" y="1430280"/>
            <a:ext cx="720252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48C3-E9EA-4B7C-A50B-E8A7F24338E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Rectangle 464"/>
          <p:cNvSpPr/>
          <p:nvPr/>
        </p:nvSpPr>
        <p:spPr>
          <a:xfrm>
            <a:off x="-11160" y="6392880"/>
            <a:ext cx="691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MS’ communications under Regs. 562/2005 and 479/2010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853920" y="1298520"/>
            <a:ext cx="7189920" cy="50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B345-0021-400C-9FDB-3651AD1E9EA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Rectangle 51"/>
          <p:cNvSpPr/>
          <p:nvPr/>
        </p:nvSpPr>
        <p:spPr>
          <a:xfrm>
            <a:off x="0" y="6392880"/>
            <a:ext cx="691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MS’ communications under Regs. 562/2005 and 479/2010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147680" y="1224000"/>
            <a:ext cx="7212240" cy="50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3718-0273-472B-B101-3E75A59D6C7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Rectangle 44"/>
          <p:cNvSpPr/>
          <p:nvPr/>
        </p:nvSpPr>
        <p:spPr>
          <a:xfrm>
            <a:off x="1332000" y="6381720"/>
            <a:ext cx="691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MS’ communications under Regs. 562/2005 and 479/2010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1042920" y="1511280"/>
            <a:ext cx="73072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4"/>
          <p:cNvSpPr/>
          <p:nvPr/>
        </p:nvSpPr>
        <p:spPr>
          <a:xfrm>
            <a:off x="4572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A1BE-2CAC-4C0B-8635-275D9D4D2CA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Rectangle 33"/>
          <p:cNvSpPr/>
          <p:nvPr/>
        </p:nvSpPr>
        <p:spPr>
          <a:xfrm>
            <a:off x="1619280" y="5877000"/>
            <a:ext cx="691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MS’ communications under Regs. 562/2005 and 479/2010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108000" y="1401840"/>
            <a:ext cx="4473360" cy="4446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4586400" y="1433520"/>
            <a:ext cx="443232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047B-EA05-4557-AFCC-C335733DBA7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1547640" y="6237360"/>
            <a:ext cx="6913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MS’ communications under Regs. 562/2005 and 479/2010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70000" y="1063800"/>
            <a:ext cx="6875280" cy="51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0" y="1019160"/>
            <a:ext cx="9109080" cy="4819680"/>
          </a:xfrm>
          <a:prstGeom prst="rect">
            <a:avLst/>
          </a:prstGeom>
          <a:ln w="0">
            <a:noFill/>
          </a:ln>
        </p:spPr>
      </p:pic>
      <p:sp>
        <p:nvSpPr>
          <p:cNvPr id="126" name="Date Placeholder 3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Rectangle 74"/>
          <p:cNvSpPr/>
          <p:nvPr/>
        </p:nvSpPr>
        <p:spPr>
          <a:xfrm>
            <a:off x="7308720" y="1413000"/>
            <a:ext cx="648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D8CA-5F1C-478E-AD1C-E25509670C4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12000" y="189000"/>
            <a:ext cx="27352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f5494"/>
                </a:solidFill>
                <a:latin typeface="Verdana"/>
              </a:rPr>
              <a:t>USD/EUR </a:t>
            </a:r>
            <a:endParaRPr b="1" lang="en-US" sz="2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Rectangle 130"/>
          <p:cNvSpPr/>
          <p:nvPr/>
        </p:nvSpPr>
        <p:spPr>
          <a:xfrm>
            <a:off x="1258920" y="6381720"/>
            <a:ext cx="691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European Central Bank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AutoShape 80"/>
          <p:cNvSpPr/>
          <p:nvPr/>
        </p:nvSpPr>
        <p:spPr>
          <a:xfrm>
            <a:off x="7039080" y="5013360"/>
            <a:ext cx="1224000" cy="503280"/>
          </a:xfrm>
          <a:prstGeom prst="wedgeEllipseCallout">
            <a:avLst>
              <a:gd name="adj1" fmla="val 111430"/>
              <a:gd name="adj2" fmla="val 4976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0000"/>
                </a:solidFill>
                <a:latin typeface="Arial"/>
                <a:ea typeface="Arial"/>
              </a:rPr>
              <a:t>1.3115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09:56:55Z</dcterms:created>
  <dc:creator>foglida</dc:creator>
  <dc:description/>
  <dc:language>en-US</dc:language>
  <cp:lastModifiedBy>BUTTINI-PROVENZANO Roberta (AGRI)</cp:lastModifiedBy>
  <cp:lastPrinted>2014-09-02T13:43:32Z</cp:lastPrinted>
  <dcterms:modified xsi:type="dcterms:W3CDTF">2014-09-02T13:44:11Z</dcterms:modified>
  <cp:revision>2280</cp:revision>
  <dc:subject/>
  <dc:title>Title: Milk</dc:title>
</cp:coreProperties>
</file>