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2.wmf" ContentType="image/x-wmf"/>
  <Override PartName="/ppt/media/image25.wmf" ContentType="image/x-wmf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wmf" ContentType="image/x-wmf"/>
  <Override PartName="/ppt/media/image15.wmf" ContentType="image/x-wm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2DC6-81E4-4A36-B9D7-FC3DDBEB0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95280" y="434952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2F54-31F3-4BB0-BED2-6B7FF947F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1232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6D66-AF7A-4B16-B565-EE9821F98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772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016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9528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772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016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2DF-501A-4C57-A892-AFA37AAE8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036B-05C4-4B81-9BE3-5B22F93D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1232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95280" y="434952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1232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7772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60160" y="220500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9528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7772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60160" y="4349520"/>
            <a:ext cx="264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A43-3B0E-4528-8D4E-7561334AB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2F63-9F4F-47B1-9FB3-90B00652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55A-9529-4824-BE98-135740DD0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41000"/>
            <a:ext cx="8229600" cy="367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6C33-D384-4FE0-97D5-0712345F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D7D4-3E95-460E-8AE8-1FAB223D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12320" y="434952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71EA-3013-46D3-94C2-F7496215E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9528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12320" y="2205000"/>
            <a:ext cx="40158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95280" y="4349520"/>
            <a:ext cx="8229600" cy="195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F5D0-4E92-4766-AC10-74277360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78920" y="646704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3 September 20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53000"/>
            <a:ext cx="21337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BF32-D952-4A5C-9E89-9204D79C78E8}" type="slidenum">
              <a:rPr b="0" lang="en-GB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7" name="Picture 9" descr="LOGO CE_Vertical_EN_NEG_quadri_HR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1004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957480" y="258840"/>
            <a:ext cx="1436760" cy="99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2" descr=""/>
          <p:cNvPicPr/>
          <p:nvPr/>
        </p:nvPicPr>
        <p:blipFill>
          <a:blip r:embed="rId3"/>
          <a:stretch/>
        </p:blipFill>
        <p:spPr>
          <a:xfrm>
            <a:off x="108000" y="981000"/>
            <a:ext cx="3752640" cy="2543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4100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95280" y="220500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de-DE" sz="5400" spc="-1" strike="noStrike">
                <a:solidFill>
                  <a:srgbClr val="ffd624"/>
                </a:solidFill>
                <a:latin typeface="Verdana"/>
              </a:rPr>
              <a:t> </a:t>
            </a:r>
            <a:r>
              <a:rPr b="1" lang="de-DE" sz="5400" spc="-1" strike="noStrike">
                <a:solidFill>
                  <a:srgbClr val="ffd624"/>
                </a:solidFill>
                <a:latin typeface="Verdana"/>
              </a:rPr>
              <a:t>Milk Market Situation</a:t>
            </a:r>
            <a:endParaRPr b="1" lang="en-US" sz="5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2050920" y="4797360"/>
            <a:ext cx="54738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1" i="1" lang="en-GB" sz="2400" spc="-1" strike="noStrike">
                <a:solidFill>
                  <a:srgbClr val="ffffff"/>
                </a:solidFill>
                <a:latin typeface="Verdana"/>
                <a:ea typeface="Arial"/>
              </a:rPr>
              <a:t>Brussels, 3 September 2014</a:t>
            </a:r>
            <a:br>
              <a:rPr sz="2400"/>
            </a:br>
            <a:endParaRPr b="0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C63C-05F3-4C92-B694-F8BB82C1579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784836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Date Placeholder 3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8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A9B7-8263-4235-8B65-21A042AEB985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684360" y="1197000"/>
            <a:ext cx="8208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2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8A920-E9AC-42FB-8BEB-423F6E39847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3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4" name="Picture 1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53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3E256-0C0E-40B4-B4BC-677404F184E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31852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12B5-931A-4A23-9A1E-434E70F7D3B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1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02880" cy="518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BA629-FF88-4289-ACEE-1C895BF202A7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5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6" name="Picture 6" descr=""/>
          <p:cNvPicPr/>
          <p:nvPr/>
        </p:nvPicPr>
        <p:blipFill>
          <a:blip r:embed="rId1"/>
          <a:stretch/>
        </p:blipFill>
        <p:spPr>
          <a:xfrm>
            <a:off x="324000" y="1314360"/>
            <a:ext cx="8642160" cy="513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8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AA053-4991-4EEB-AF92-9B328950166C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59" name="Picture 23" descr=""/>
          <p:cNvPicPr/>
          <p:nvPr/>
        </p:nvPicPr>
        <p:blipFill>
          <a:blip r:embed="rId1"/>
          <a:stretch/>
        </p:blipFill>
        <p:spPr>
          <a:xfrm>
            <a:off x="684360" y="1123920"/>
            <a:ext cx="7605720" cy="5586480"/>
          </a:xfrm>
          <a:prstGeom prst="rect">
            <a:avLst/>
          </a:prstGeom>
          <a:ln w="0">
            <a:noFill/>
          </a:ln>
        </p:spPr>
      </p:pic>
      <p:sp>
        <p:nvSpPr>
          <p:cNvPr id="160" name="Date Placeholder 1"/>
          <p:cNvSpPr/>
          <p:nvPr/>
        </p:nvSpPr>
        <p:spPr>
          <a:xfrm>
            <a:off x="6012000" y="6442200"/>
            <a:ext cx="21333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A020-AED2-49CE-B38C-FDC9F1D46932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45200" cy="5183280"/>
          </a:xfrm>
          <a:prstGeom prst="rect">
            <a:avLst/>
          </a:prstGeom>
          <a:ln w="0">
            <a:noFill/>
          </a:ln>
        </p:spPr>
      </p:pic>
      <p:sp>
        <p:nvSpPr>
          <p:cNvPr id="164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49D5-BC25-4BBA-8463-2838085DCFC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902360" cy="5156280"/>
          </a:xfrm>
          <a:prstGeom prst="rect">
            <a:avLst/>
          </a:prstGeom>
          <a:ln w="0">
            <a:noFill/>
          </a:ln>
        </p:spPr>
      </p:pic>
      <p:sp>
        <p:nvSpPr>
          <p:cNvPr id="168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0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82C1-73A0-4ECC-8B82-DB729FB1C03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2038320" y="1125360"/>
            <a:ext cx="5413320" cy="5589720"/>
          </a:xfrm>
          <a:prstGeom prst="rect">
            <a:avLst/>
          </a:prstGeom>
          <a:ln w="0">
            <a:noFill/>
          </a:ln>
        </p:spPr>
      </p:pic>
      <p:sp>
        <p:nvSpPr>
          <p:cNvPr id="172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Date Placeholder 4"/>
          <p:cNvSpPr/>
          <p:nvPr/>
        </p:nvSpPr>
        <p:spPr>
          <a:xfrm>
            <a:off x="4572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Slide Number Placeholder 6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D70AB-D147-4AB6-B6C0-30F83FDCBE6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Text Box 2"/>
          <p:cNvSpPr/>
          <p:nvPr/>
        </p:nvSpPr>
        <p:spPr>
          <a:xfrm>
            <a:off x="622440" y="6243480"/>
            <a:ext cx="799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Arial"/>
                <a:ea typeface="Arial"/>
              </a:rPr>
              <a:t>!!! Data from some Member States are confidential and are NOT included in this table !!! 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0840" y="1267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900" spc="-1" strike="noStrike">
                <a:solidFill>
                  <a:srgbClr val="0f5494"/>
                </a:solidFill>
                <a:latin typeface="Verdana"/>
              </a:rPr>
              <a:t>EU Productions</a:t>
            </a:r>
            <a:endParaRPr b="1" lang="en-US" sz="19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Footer Placeholder 1"/>
          <p:cNvSpPr/>
          <p:nvPr/>
        </p:nvSpPr>
        <p:spPr>
          <a:xfrm>
            <a:off x="3159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355680" y="1606680"/>
            <a:ext cx="85024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8875-5D5D-4341-BE2E-F297377D58A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979640" y="1341360"/>
            <a:ext cx="5197320" cy="5365800"/>
          </a:xfrm>
          <a:prstGeom prst="rect">
            <a:avLst/>
          </a:prstGeom>
          <a:ln w="0">
            <a:noFill/>
          </a:ln>
        </p:spPr>
      </p:pic>
      <p:sp>
        <p:nvSpPr>
          <p:cNvPr id="176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ooter Placeholder 4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B5A6-3735-46F8-8E72-59A364D1AF9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2050920" y="1268280"/>
            <a:ext cx="5113440" cy="5278680"/>
          </a:xfrm>
          <a:prstGeom prst="rect">
            <a:avLst/>
          </a:prstGeom>
          <a:ln w="0">
            <a:noFill/>
          </a:ln>
        </p:spPr>
      </p:pic>
      <p:sp>
        <p:nvSpPr>
          <p:cNvPr id="180" name="Date Placeholder 1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Footer Placeholder 3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324000" y="981000"/>
            <a:ext cx="8567640" cy="5727600"/>
          </a:xfrm>
          <a:prstGeom prst="rect">
            <a:avLst/>
          </a:prstGeom>
          <a:ln w="0">
            <a:noFill/>
          </a:ln>
        </p:spPr>
      </p:pic>
      <p:sp>
        <p:nvSpPr>
          <p:cNvPr id="183" name="Date Placeholder 1"/>
          <p:cNvSpPr/>
          <p:nvPr/>
        </p:nvSpPr>
        <p:spPr>
          <a:xfrm>
            <a:off x="1116000" y="6573960"/>
            <a:ext cx="2133720" cy="2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4" name="Slide Number Placeholder 2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AAAF9-F035-4C4E-B784-2FCF1E234A0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Date Placeholder 3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5F63-DBB5-455F-84C6-158829A59E3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893880" y="1328760"/>
            <a:ext cx="76435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68B15-4667-42F3-9733-E943B0379CE9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3419640" y="6504120"/>
            <a:ext cx="4609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Dairy Australi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2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812880" y="1390680"/>
            <a:ext cx="7520040" cy="501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0B183-8136-497A-9AAA-762CD8C34483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132000" y="6308640"/>
            <a:ext cx="46101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DCANZ - Fonterra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98" name="Picture 2" descr=""/>
          <p:cNvPicPr/>
          <p:nvPr/>
        </p:nvPicPr>
        <p:blipFill>
          <a:blip r:embed="rId1"/>
          <a:stretch/>
        </p:blipFill>
        <p:spPr>
          <a:xfrm>
            <a:off x="880920" y="1341360"/>
            <a:ext cx="7740720" cy="49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5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4DA7-C2E7-4FDC-B1DD-88D32EA48F1B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1258920" y="6093000"/>
            <a:ext cx="5113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1252440" y="1430280"/>
            <a:ext cx="7202520" cy="50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0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76CD-ED57-4703-A7DF-E9CCDF8F295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1" name="Rectangle 464"/>
          <p:cNvSpPr/>
          <p:nvPr/>
        </p:nvSpPr>
        <p:spPr>
          <a:xfrm>
            <a:off x="-11160" y="639288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2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853920" y="1298520"/>
            <a:ext cx="7189920" cy="506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5FF56-0B5C-44F7-8D57-E8517256BA14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6" name="Rectangle 51"/>
          <p:cNvSpPr/>
          <p:nvPr/>
        </p:nvSpPr>
        <p:spPr>
          <a:xfrm>
            <a:off x="0" y="639288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1147680" y="1224000"/>
            <a:ext cx="7212240" cy="50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0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303B-3C94-4EA0-9F03-0EA8B2B44A3F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Rectangle 44"/>
          <p:cNvSpPr/>
          <p:nvPr/>
        </p:nvSpPr>
        <p:spPr>
          <a:xfrm>
            <a:off x="1332000" y="638172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3" name="Picture 1" descr=""/>
          <p:cNvPicPr/>
          <p:nvPr/>
        </p:nvPicPr>
        <p:blipFill>
          <a:blip r:embed="rId1"/>
          <a:stretch/>
        </p:blipFill>
        <p:spPr>
          <a:xfrm>
            <a:off x="1042920" y="1511280"/>
            <a:ext cx="730728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4"/>
          <p:cNvSpPr/>
          <p:nvPr/>
        </p:nvSpPr>
        <p:spPr>
          <a:xfrm>
            <a:off x="45720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F22C0-8662-42E6-9620-780958EAA3F1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Rectangle 33"/>
          <p:cNvSpPr/>
          <p:nvPr/>
        </p:nvSpPr>
        <p:spPr>
          <a:xfrm>
            <a:off x="1619280" y="587700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7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18" name="Picture 1" descr=""/>
          <p:cNvPicPr/>
          <p:nvPr/>
        </p:nvPicPr>
        <p:blipFill>
          <a:blip r:embed="rId1"/>
          <a:stretch/>
        </p:blipFill>
        <p:spPr>
          <a:xfrm>
            <a:off x="108000" y="1401840"/>
            <a:ext cx="4473360" cy="4446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4586400" y="1433520"/>
            <a:ext cx="4432320" cy="441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ate Placeholder 2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0FCC-BBAC-468D-8559-44BB7795A86E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1547640" y="6237360"/>
            <a:ext cx="69138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ource: MS’ communications under Regs. 562/2005 and 479/2010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170000" y="1063800"/>
            <a:ext cx="6875280" cy="51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1" descr=""/>
          <p:cNvPicPr/>
          <p:nvPr/>
        </p:nvPicPr>
        <p:blipFill>
          <a:blip r:embed="rId1"/>
          <a:stretch/>
        </p:blipFill>
        <p:spPr>
          <a:xfrm>
            <a:off x="0" y="1019160"/>
            <a:ext cx="9109080" cy="4819680"/>
          </a:xfrm>
          <a:prstGeom prst="rect">
            <a:avLst/>
          </a:prstGeom>
          <a:ln w="0">
            <a:noFill/>
          </a:ln>
        </p:spPr>
      </p:pic>
      <p:sp>
        <p:nvSpPr>
          <p:cNvPr id="126" name="Date Placeholder 3"/>
          <p:cNvSpPr/>
          <p:nvPr/>
        </p:nvSpPr>
        <p:spPr>
          <a:xfrm>
            <a:off x="179280" y="646740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 September 2014</a:t>
            </a: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Rectangle 74"/>
          <p:cNvSpPr/>
          <p:nvPr/>
        </p:nvSpPr>
        <p:spPr>
          <a:xfrm>
            <a:off x="7308720" y="1413000"/>
            <a:ext cx="64800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2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Slide Number Placeholder 5"/>
          <p:cNvSpPr/>
          <p:nvPr/>
        </p:nvSpPr>
        <p:spPr>
          <a:xfrm>
            <a:off x="6553080" y="6453360"/>
            <a:ext cx="21337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BDE8-1020-4576-888D-81FACA2587ED}" type="slidenum"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12000" y="189000"/>
            <a:ext cx="273528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100" spc="-1" strike="noStrike">
                <a:solidFill>
                  <a:srgbClr val="0f5494"/>
                </a:solidFill>
                <a:latin typeface="Verdana"/>
              </a:rPr>
              <a:t>USD/EUR </a:t>
            </a:r>
            <a:endParaRPr b="1" lang="en-US" sz="21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Rectangle 130"/>
          <p:cNvSpPr/>
          <p:nvPr/>
        </p:nvSpPr>
        <p:spPr>
          <a:xfrm>
            <a:off x="1258920" y="6381720"/>
            <a:ext cx="69134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European Central Bank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Footer Placeholder 1"/>
          <p:cNvSpPr/>
          <p:nvPr/>
        </p:nvSpPr>
        <p:spPr>
          <a:xfrm>
            <a:off x="3132000" y="6453360"/>
            <a:ext cx="28958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2" name="AutoShape 80"/>
          <p:cNvSpPr/>
          <p:nvPr/>
        </p:nvSpPr>
        <p:spPr>
          <a:xfrm>
            <a:off x="7039080" y="5013360"/>
            <a:ext cx="1224000" cy="503280"/>
          </a:xfrm>
          <a:prstGeom prst="wedgeEllipseCallout">
            <a:avLst>
              <a:gd name="adj1" fmla="val 111430"/>
              <a:gd name="adj2" fmla="val 4976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400" spc="-1" strike="noStrike">
                <a:solidFill>
                  <a:srgbClr val="ff0000"/>
                </a:solidFill>
                <a:latin typeface="Arial"/>
                <a:ea typeface="Arial"/>
              </a:rPr>
              <a:t>1.3115</a:t>
            </a:r>
            <a:endParaRPr b="0" lang="en-US" sz="1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2T09:56:55Z</dcterms:created>
  <dc:creator>foglida</dc:creator>
  <dc:description/>
  <dc:language>en-US</dc:language>
  <cp:lastModifiedBy>BUTTINI-PROVENZANO Roberta (AGRI)</cp:lastModifiedBy>
  <cp:lastPrinted>2014-09-02T13:43:32Z</cp:lastPrinted>
  <dcterms:modified xsi:type="dcterms:W3CDTF">2014-09-02T13:44:11Z</dcterms:modified>
  <cp:revision>2280</cp:revision>
  <dc:subject/>
  <dc:title>Title: Milk</dc:title>
</cp:coreProperties>
</file>