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3E02-45D7-450D-B3BA-D5A337B18F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MS Mincho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38B-C16C-4132-B096-D846AC7C514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F1E6-55C2-4829-9F5F-DA7BEF9DAB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358-1276-4C09-A498-6EEEC3AC0E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3DEA-D9A2-4800-A669-4197D98723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98AC-E1B6-4BDE-840C-0C77452B715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8BF2-8A05-4B2C-9F1B-53D4D12AC0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8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E3E1-777D-45A5-8890-B46A30AA1E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52C-29EB-453B-973C-3D690618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D85-A3A7-4C05-B38A-4CE9F009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600-1DF7-49C6-BEAE-93C7D952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ADC-81AF-4481-827D-8E44DD03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BB4-8AD1-4E10-BB44-3697D54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C096-2297-4027-80D0-E2205FE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E483-E1FA-4304-AAFB-E8584EC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7B56-DB5F-4E02-B334-AFDB4C00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5FF5-6CBA-4519-ADF9-F740FC68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A6C0-8F89-46B6-8567-05C1273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FB4E-6CA3-41C3-A7D7-8D109F1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CF4-6A20-464A-9879-52E19F1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FEA-DB93-4A54-99BD-C80E66B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FA5C-F82C-47AF-A302-0ED0F0E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BE6-D6F6-43ED-8B3B-1D563F7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8C3-5A0E-42D6-AFA7-1B333E9C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63F2-75B5-40F1-AA84-4F3DF2D8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D1F-DFFC-4606-8A73-D997AE2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F90-691B-456D-916C-5B620DB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1A2-3B15-437B-B140-563BF21F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16E-027B-4835-A5F0-E31D2BA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E7F-54F7-4E8C-B877-D3861B0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48A-96B0-47F0-9CDD-534BD76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1C3-3556-4974-A373-09FA037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470-D4CA-4257-A158-7F69E927C4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380-9991-44E5-92E8-86FDFAF9526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E3EA-64F9-4BB7-9FCC-D069D68C77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52F3-6593-427B-B35F-BA8F683EEEAE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680" y="1412640"/>
            <a:ext cx="86425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Verdana"/>
              </a:rPr>
              <a:t>Trade and Sustainable Development (TSD)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Verdana"/>
              </a:rPr>
              <a:t>Chapters in EU FTAs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760" y="4797000"/>
            <a:ext cx="8497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2f2f2"/>
                </a:solidFill>
                <a:latin typeface="Verdana"/>
              </a:rPr>
              <a:t>Dominik Olewinsk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2f2f2"/>
                </a:solidFill>
                <a:latin typeface="Verdana"/>
              </a:rPr>
              <a:t>TRADE.C3 – Bilateral Relations in Trade and Sustainable Development, Generalised Scheme of Preferenc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2f2f2"/>
                </a:solidFill>
                <a:latin typeface="Verdana"/>
              </a:rPr>
              <a:t>22 October 202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FFED-6733-42C8-BDDC-FAD5226164C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471600" y="256536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f5494"/>
                </a:solidFill>
                <a:latin typeface="Verdana"/>
              </a:rPr>
              <a:t>Thank you!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452520" y="5157720"/>
            <a:ext cx="85802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ominik OLEWINSKI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olicy Officer – Trade and Sustainable Develop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DE.C3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+32 2 29 95682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ominik.olewinski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Outlin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347920"/>
            <a:ext cx="777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Sustainable Development chapters 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EU FTAs – basic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3600" indent="-363600">
              <a:spcAft>
                <a:spcPts val="1199"/>
              </a:spcAft>
              <a:buClr>
                <a:srgbClr val="3333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SD negotiations and implementation: 15-Point Action Pla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3600" indent="-363600">
              <a:spcAft>
                <a:spcPts val="1199"/>
              </a:spcAft>
              <a:buClr>
                <a:srgbClr val="3333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2021 TSD re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3600" indent="-363600"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3600" indent="-363600"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3C8-25B1-497F-97FA-B2A5D3D8690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EU TSD chapte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cope: broad labour and environmental matters of trade relev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mmitments based on international standards (ILO, MEAs, UNFCCC and the Paris Agre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dicated institutional monitoring (governmental + civil society) and enforcement mechanis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pl-PL" sz="2400" spc="-1" strike="noStrike">
                <a:solidFill>
                  <a:srgbClr val="0f5494"/>
                </a:solidFill>
                <a:latin typeface="Verdana"/>
              </a:rPr>
              <a:t>joint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gagement: dialogue and cooperation to develop a positive agenda and to address shortcoming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9760-D8AE-4090-A580-4F5334457E1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SD chapters in broader trade and sustainability context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Multilateral/plurilateral (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rade and Environme Sustainability Structured discussion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 algn="just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ilateral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eneral System of Preference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 algn="just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Autonomous measures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CBAM, deforestation, mandatory due diligenc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 algn="just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Bilater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 algn="just">
              <a:lnSpc>
                <a:spcPct val="13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TAs (e.g. liberalisation of green goods and services, Paris Agreement among essential elemen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48600" indent="-189720" algn="just">
              <a:lnSpc>
                <a:spcPct val="13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SD chapter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TSD chapters in 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EU trade and investment agreemen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708280"/>
            <a:ext cx="857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ully-fledged TSD chapter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tegral part of EU FTAs since 2011 (EU-South Kore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10 TSD chapters in FTAs + EU-UK TC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2 FTAs concluded: Mexico and Mercosur + CAI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5 under negotiation: Indonesia, Chile, ESA EPA, Australia and New Zealan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9C9-634D-4306-85E8-4CA5F1D1E8B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TSD implementation: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  <a:ea typeface="Calibri"/>
              </a:rPr>
              <a:t>15-Point Action Pla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34936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 algn="just">
              <a:spcAft>
                <a:spcPts val="1199"/>
              </a:spcAft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bate in 2017-18 on TSD (EU MS, EP, civil societ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3520" indent="-26352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utcome: 15-points TSD Action Pla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3520" indent="-26352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ep up efforts and improve the implementation and enforcement of TSD chapte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3520" indent="-26352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SD implementation and enforcement should continue to build on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663480" indent="-26352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trategy of engagement,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663480" indent="-26352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tepped-up monitoring and more assertive enforcement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239-A475-40C4-8CE5-1D5A87053D3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EFBC-2234-41F0-8200-B8DE1FA48F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217440" y="1341360"/>
            <a:ext cx="8732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72080" indent="-17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  <a:ea typeface="Calibri"/>
              </a:rPr>
              <a:t>TSD implementation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172080" indent="-17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  <a:ea typeface="Calibri"/>
              </a:rPr>
              <a:t>What has been achieved? Some example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468360" y="2565360"/>
            <a:ext cx="82296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 u="sng">
                <a:solidFill>
                  <a:srgbClr val="0f5494"/>
                </a:solidFill>
                <a:uFillTx/>
                <a:latin typeface="Verdana"/>
              </a:rPr>
              <a:t>Changes on the ground: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 u="sng">
                <a:solidFill>
                  <a:srgbClr val="0f5494"/>
                </a:solidFill>
                <a:uFillTx/>
                <a:latin typeface="Verdana"/>
              </a:rPr>
              <a:t>Vietna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Substantial labour reforms, ahead of entry into force of the agreement (1 August 2020).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Ratified ILO Convention on Right to Organise and Collective Bargaining (C98) in 2019 and ILO Convention on Forced Labour (C105) in 2020.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Provided timetable to ratify ILO Convention on Freedom of Association (C87) by 2023.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Adopted a new Labour Code on 20 November 2019.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f5494"/>
                </a:solidFill>
                <a:uFillTx/>
                <a:latin typeface="Verdana"/>
              </a:rPr>
              <a:t>First TSD committee to be held in November 2021,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f5494"/>
                </a:solidFill>
                <a:uFillTx/>
                <a:latin typeface="Verdana"/>
              </a:rPr>
              <a:t>Vietnam DAG has been established.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6952-EBC0-42A4-9CFF-13015FE0622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0" y="1268280"/>
            <a:ext cx="873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72080" indent="-17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  <a:ea typeface="Calibri"/>
              </a:rPr>
              <a:t>TSD implementation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172080" indent="-17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  <a:ea typeface="Calibri"/>
              </a:rPr>
              <a:t>What has been achieved? Some example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4572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 u="sng">
                <a:solidFill>
                  <a:srgbClr val="0f5494"/>
                </a:solidFill>
                <a:uFillTx/>
                <a:latin typeface="Verdana"/>
                <a:ea typeface="Times New Roman"/>
              </a:rPr>
              <a:t>More assertive enforcement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f5494"/>
                </a:solidFill>
                <a:uFillTx/>
                <a:latin typeface="Verdana"/>
                <a:ea typeface="Times New Roman"/>
              </a:rPr>
              <a:t>Korea</a:t>
            </a: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Resorted to bilateral dispute settlement mechanism under the agreement over long standing issues regarding labor commitments.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Consultation request on December 2018.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Report of the Panel of Experts published 25 January 2021.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Follow-up of S. Korea ratified 3 fundamental ILO convention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f5494"/>
                </a:solidFill>
                <a:uFillTx/>
                <a:latin typeface="Verdana"/>
                <a:ea typeface="Times New Roman"/>
              </a:rPr>
              <a:t>CTEO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388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  <a:ea typeface="Times New Roman"/>
              </a:rPr>
              <a:t>CTEO and Single Entry Point for complaints will further strengthen the TSD enforcement.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EE0-B809-4915-AFD1-55AC1F59EA9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485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f5494"/>
                </a:solidFill>
                <a:latin typeface="Verdana"/>
              </a:rPr>
              <a:t>TSD Review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11040" y="2085840"/>
            <a:ext cx="857880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2021 Trade Policy Review Communication: sustainability as core pillars of EU trade strategy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iew of 15-Point Action Plan: evidence-based approach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Open public consultation runs until 31 October 2021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dependent comparative study: examine TSD in trade agreements of third countries; identify good practice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ception report of the study published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ivil Society Dialogue on 26 October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0:30:26Z</dcterms:created>
  <dc:creator>BOICIUC Alina (TRADE)</dc:creator>
  <dc:description/>
  <dc:language>en-US</dc:language>
  <cp:lastModifiedBy>OLEWINSKI Dominik (TRADE)</cp:lastModifiedBy>
  <cp:lastPrinted>2021-02-02T09:36:26Z</cp:lastPrinted>
  <dcterms:modified xsi:type="dcterms:W3CDTF">2021-10-22T11:43:30Z</dcterms:modified>
  <cp:revision>629</cp:revision>
  <dc:subject/>
  <dc:title>Slide 1</dc:title>
</cp:coreProperties>
</file>