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6337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63640" y="3919680"/>
            <a:ext cx="6337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200" y="169992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63640" y="391968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200" y="391968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20404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06360" y="1699920"/>
            <a:ext cx="20404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1699920"/>
            <a:ext cx="20404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63640" y="3919680"/>
            <a:ext cx="20404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06360" y="3919680"/>
            <a:ext cx="20404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919680"/>
            <a:ext cx="20404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763640" y="1699920"/>
            <a:ext cx="63374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63374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30924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1200" y="1699920"/>
            <a:ext cx="30924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63640" y="404280"/>
            <a:ext cx="633744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1200" y="1699920"/>
            <a:ext cx="30924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763640" y="391968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63640" y="1699920"/>
            <a:ext cx="63374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30924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1200" y="169992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1200" y="391968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1200" y="169992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63640" y="3919680"/>
            <a:ext cx="6337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6337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763640" y="3919680"/>
            <a:ext cx="6337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1200" y="169992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63640" y="391968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1200" y="391968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20404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06360" y="1699920"/>
            <a:ext cx="20404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9440" y="1699920"/>
            <a:ext cx="20404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763640" y="3919680"/>
            <a:ext cx="20404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06360" y="3919680"/>
            <a:ext cx="20404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9440" y="3919680"/>
            <a:ext cx="20404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63374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30924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200" y="1699920"/>
            <a:ext cx="30924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63640" y="404280"/>
            <a:ext cx="633744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200" y="1699920"/>
            <a:ext cx="30924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63640" y="391968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30924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200" y="169992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200" y="391968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63640" y="169992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200" y="1699920"/>
            <a:ext cx="309240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63640" y="3919680"/>
            <a:ext cx="6337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324000" y="1413000"/>
            <a:ext cx="1152360" cy="1150920"/>
          </a:xfrm>
          <a:prstGeom prst="rect">
            <a:avLst/>
          </a:prstGeom>
          <a:solidFill>
            <a:srgbClr val="6b7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1476360" y="260280"/>
            <a:ext cx="7343640" cy="1150920"/>
          </a:xfrm>
          <a:prstGeom prst="rect">
            <a:avLst/>
          </a:prstGeom>
          <a:solidFill>
            <a:srgbClr val="ca6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763640" y="1699920"/>
            <a:ext cx="63374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1440">
              <a:buClr>
                <a:srgbClr val="000000"/>
              </a:buClr>
              <a:buFont typeface="Georg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227160" indent="-223920">
              <a:buClr>
                <a:srgbClr val="58585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3" marL="447840" indent="-219240">
              <a:buClr>
                <a:srgbClr val="585858"/>
              </a:buClr>
              <a:buFont typeface="Georg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4" marL="671400" indent="-222120">
              <a:buClr>
                <a:srgbClr val="585858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5" marL="671400" indent="-222120">
              <a:buClr>
                <a:srgbClr val="00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6" marL="671400" indent="-222120">
              <a:buClr>
                <a:srgbClr val="00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Line 10"/>
          <p:cNvSpPr/>
          <p:nvPr/>
        </p:nvSpPr>
        <p:spPr>
          <a:xfrm>
            <a:off x="1763640" y="6165720"/>
            <a:ext cx="7056360" cy="0"/>
          </a:xfrm>
          <a:prstGeom prst="line">
            <a:avLst/>
          </a:prstGeom>
          <a:ln w="46800">
            <a:solidFill>
              <a:srgbClr val="6b72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" name="Picture 16" descr="CopaCogeca_4C_C"/>
          <p:cNvPicPr/>
          <p:nvPr/>
        </p:nvPicPr>
        <p:blipFill>
          <a:blip r:embed="rId2"/>
          <a:stretch/>
        </p:blipFill>
        <p:spPr>
          <a:xfrm>
            <a:off x="6156360" y="6267600"/>
            <a:ext cx="203364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9"/>
          <p:cNvSpPr/>
          <p:nvPr/>
        </p:nvSpPr>
        <p:spPr>
          <a:xfrm>
            <a:off x="2050920" y="3716280"/>
            <a:ext cx="6624720" cy="2160720"/>
          </a:xfrm>
          <a:prstGeom prst="rect">
            <a:avLst/>
          </a:prstGeom>
          <a:solidFill>
            <a:srgbClr val="ca6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8360" y="2133720"/>
            <a:ext cx="1584360" cy="1582560"/>
          </a:xfrm>
          <a:prstGeom prst="rect">
            <a:avLst/>
          </a:prstGeom>
          <a:solidFill>
            <a:srgbClr val="6b7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4" name="Picture 10" descr="CopaCogeca_4C_C"/>
          <p:cNvPicPr/>
          <p:nvPr/>
        </p:nvPicPr>
        <p:blipFill>
          <a:blip r:embed="rId2"/>
          <a:stretch/>
        </p:blipFill>
        <p:spPr>
          <a:xfrm>
            <a:off x="6084720" y="189000"/>
            <a:ext cx="2362320" cy="590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763640" y="1699920"/>
            <a:ext cx="63374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1440">
              <a:buClr>
                <a:srgbClr val="000000"/>
              </a:buClr>
              <a:buFont typeface="Georg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227160" indent="-223920">
              <a:buClr>
                <a:srgbClr val="58585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3" marL="447840" indent="-219240">
              <a:buClr>
                <a:srgbClr val="585858"/>
              </a:buClr>
              <a:buFont typeface="Georg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4" marL="671400" indent="-222120">
              <a:buClr>
                <a:srgbClr val="585858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5" marL="671400" indent="-222120">
              <a:buClr>
                <a:srgbClr val="00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6" marL="671400" indent="-222120">
              <a:buClr>
                <a:srgbClr val="00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12"/>
          <p:cNvGrpSpPr/>
          <p:nvPr/>
        </p:nvGrpSpPr>
        <p:grpSpPr>
          <a:xfrm>
            <a:off x="324000" y="765000"/>
            <a:ext cx="8496000" cy="5543640"/>
            <a:chOff x="324000" y="765000"/>
            <a:chExt cx="8496000" cy="5543640"/>
          </a:xfrm>
        </p:grpSpPr>
        <p:sp>
          <p:nvSpPr>
            <p:cNvPr id="84" name="Rectangle 6"/>
            <p:cNvSpPr/>
            <p:nvPr/>
          </p:nvSpPr>
          <p:spPr>
            <a:xfrm>
              <a:off x="324000" y="1916280"/>
              <a:ext cx="8496000" cy="43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5" name="Rectangle 7"/>
            <p:cNvSpPr/>
            <p:nvPr/>
          </p:nvSpPr>
          <p:spPr>
            <a:xfrm>
              <a:off x="324000" y="765000"/>
              <a:ext cx="1152360" cy="1151280"/>
            </a:xfrm>
            <a:prstGeom prst="rect">
              <a:avLst/>
            </a:prstGeom>
            <a:solidFill>
              <a:srgbClr val="6b72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" name="Rectangle 8"/>
            <p:cNvSpPr/>
            <p:nvPr/>
          </p:nvSpPr>
          <p:spPr>
            <a:xfrm>
              <a:off x="1476360" y="1916280"/>
              <a:ext cx="7199280" cy="1800000"/>
            </a:xfrm>
            <a:prstGeom prst="rect">
              <a:avLst/>
            </a:prstGeom>
            <a:solidFill>
              <a:srgbClr val="ca6d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63280" y="2060640"/>
            <a:ext cx="576108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eorgia"/>
              </a:rPr>
              <a:t>Situation du marché: risques, défis et état d’advancement de production en 2014/2015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63280" y="3141360"/>
            <a:ext cx="576108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eorgia"/>
              </a:rPr>
              <a:t>David Brazsil | 25.11.2014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1476360" y="3749760"/>
            <a:ext cx="7199280" cy="3017880"/>
          </a:xfrm>
          <a:prstGeom prst="rect">
            <a:avLst/>
          </a:prstGeom>
          <a:ln w="0">
            <a:noFill/>
          </a:ln>
        </p:spPr>
      </p:pic>
      <p:sp>
        <p:nvSpPr>
          <p:cNvPr id="90" name="TextBox 9"/>
          <p:cNvSpPr/>
          <p:nvPr/>
        </p:nvSpPr>
        <p:spPr>
          <a:xfrm>
            <a:off x="6515280" y="14349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Georgia"/>
              </a:rPr>
              <a:t>VI(14)9080:1 - B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Situation mondiale selon l’OIV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rcRect l="26181" t="11902" r="13970" b="8301"/>
          <a:stretch/>
        </p:blipFill>
        <p:spPr>
          <a:xfrm>
            <a:off x="1890720" y="1484280"/>
            <a:ext cx="60832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Situation mondiale selon l’OIV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rcRect l="26776" t="12602" r="14951" b="21603"/>
          <a:stretch/>
        </p:blipFill>
        <p:spPr>
          <a:xfrm>
            <a:off x="1801800" y="1484280"/>
            <a:ext cx="73692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Situation mondiale selon l’OIV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rcRect l="26776" t="12602" r="14165" b="8301"/>
          <a:stretch/>
        </p:blipFill>
        <p:spPr>
          <a:xfrm>
            <a:off x="1547640" y="1557360"/>
            <a:ext cx="60660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Situation mondiale selon l’OIV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rcRect l="26382" t="12248" r="14165" b="8654"/>
          <a:stretch/>
        </p:blipFill>
        <p:spPr>
          <a:xfrm>
            <a:off x="1763640" y="1557360"/>
            <a:ext cx="60627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Situation mondiale selon l’OIV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rcRect l="26654" t="12633" r="13982" b="7675"/>
          <a:stretch/>
        </p:blipFill>
        <p:spPr>
          <a:xfrm>
            <a:off x="1763640" y="1484280"/>
            <a:ext cx="64087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Production du vin de l’UE-28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Estimation du Copa-Cogeca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6870" t="18957" r="18717" b="14254"/>
          <a:stretch/>
        </p:blipFill>
        <p:spPr>
          <a:xfrm>
            <a:off x="1476360" y="1989000"/>
            <a:ext cx="79866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195640" y="1988640"/>
            <a:ext cx="590544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8728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Estimation totale: 157,7 Mio h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28728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Baisse de 9,9% par rapport à 2013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28728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Conditions de culture très différentes selon des zones viticol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28728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Beaucoup de fluctuat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28728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Qualité intéressante et élégant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28728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Disponibilité des stockes limitée dans certaines zones de product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28728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Augmentation du prix de vente de vin est possibl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Production du vin de l’UE-28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Estimation du Copa-Cogeca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Production du vin de l’UE-28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Estimation du Copa-Cogeca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rcRect l="39736" t="29543" r="37571" b="41046"/>
          <a:stretch/>
        </p:blipFill>
        <p:spPr>
          <a:xfrm>
            <a:off x="1403280" y="1413000"/>
            <a:ext cx="655344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Production du vin de l’UE-28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Estimation du Copa-Cogeca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4803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Commerce: exportation et import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00" name="Picture 1" descr=""/>
          <p:cNvPicPr/>
          <p:nvPr/>
        </p:nvPicPr>
        <p:blipFill>
          <a:blip r:embed="rId1"/>
          <a:srcRect l="39596" t="29638" r="36506" b="41750"/>
          <a:stretch/>
        </p:blipFill>
        <p:spPr>
          <a:xfrm>
            <a:off x="1692360" y="1413000"/>
            <a:ext cx="684036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Commerce: exportation et import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rcRect l="39490" t="57844" r="36632" b="12451"/>
          <a:stretch/>
        </p:blipFill>
        <p:spPr>
          <a:xfrm>
            <a:off x="1476360" y="1484280"/>
            <a:ext cx="662472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Situation mondiale selon l’OIV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763640" y="1700280"/>
            <a:ext cx="6985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a prévision de l’OIV montre une situation difficile au niveau mondial :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Georgia"/>
              </a:rPr>
              <a:t>Erosion de la superficie viticole mondiale s’élèvant à 7519 mha en 2013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Georgia"/>
              </a:rPr>
              <a:t>En dépit d’une diminution de la superficie viticole, la production mondiale de raisin a connu une augmentation (751 Mio q) en 2013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Georgia"/>
              </a:rPr>
              <a:t>La première estimation du volume de vin produit en 2014 est de 271 Mio hl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Georgia"/>
              </a:rPr>
              <a:t>Le marché des vins mousseux s’est développé au cours des dernières années : en 10 ans, la production s’est vue augmentée de plus de 40 %, avec une hausse de 30 % de la consomm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Situation mondiale selon l’OIV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rcRect l="26382" t="13144" r="14010" b="9291"/>
          <a:stretch/>
        </p:blipFill>
        <p:spPr>
          <a:xfrm>
            <a:off x="1984320" y="1484280"/>
            <a:ext cx="62960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5:58:33Z</dcterms:created>
  <dc:creator>*</dc:creator>
  <dc:description>Template Presentation;
Version 1.0;
2008-10-15;</dc:description>
  <dc:language>en-US</dc:language>
  <cp:lastModifiedBy>David Brazsil</cp:lastModifiedBy>
  <dcterms:modified xsi:type="dcterms:W3CDTF">2014-11-26T07:56:06Z</dcterms:modified>
  <cp:revision>46</cp:revision>
  <dc:subject/>
  <dc:title>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earbeiter">
    <vt:lpwstr>gadamovich | office implementation</vt:lpwstr>
  </property>
  <property fmtid="{D5CDD505-2E9C-101B-9397-08002B2CF9AE}" pid="3" name="Erstellt am">
    <vt:lpwstr>09-10-2008</vt:lpwstr>
  </property>
  <property fmtid="{D5CDD505-2E9C-101B-9397-08002B2CF9AE}" pid="4" name="Erstellt von">
    <vt:lpwstr>SpiekermannPartners</vt:lpwstr>
  </property>
  <property fmtid="{D5CDD505-2E9C-101B-9397-08002B2CF9AE}" pid="5" name="Version">
    <vt:lpwstr>1.0</vt:lpwstr>
  </property>
  <property fmtid="{D5CDD505-2E9C-101B-9397-08002B2CF9AE}" pid="6" name="Version vom">
    <vt:lpwstr>15-10-2008</vt:lpwstr>
  </property>
</Properties>
</file>