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EE20-EBE8-46D8-AC7A-E0FC90AAB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742-DD25-4907-BD18-6E4DF04D9BE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5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43F7-57E1-4907-BFED-C4C4083D1EA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8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6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4D02-223F-41BD-8F2B-6B482A74138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1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6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E81F-850D-49E1-9331-42412469EB5A}" type="slidenum"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4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6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CC2-C934-4AEE-A5C3-98DD18BE7BC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7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6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5B80-6232-4457-9229-B0F2561EB6D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0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F82-169C-484C-85AE-6187DD1ABF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3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DB0A-53DC-4CC0-A50E-ACDA30C5F8E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6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B90A-3EE1-434A-ABE7-44C5659015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8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C69-37A2-434F-84B9-11E61E075D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2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8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E37-4AF9-4DED-AFE9-8F4AEEE90BF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5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D86C-3CCA-4634-8781-00416B3E50E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8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449-EF7E-43C9-916A-0FF440F2773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8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9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2C48-4086-4A02-8172-DAD04E7CC06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91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952-5199-4337-A495-57B0918F006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D25-C27A-43FF-8B69-8D43B34FCF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Notes Placeholder 2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A81-4198-41A1-A5FB-7281D86121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90F-F5B4-4CD6-84F7-C393CFCF43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3F85-5CF8-44EF-B732-33F0ABEA9A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931-18A8-4D0B-B67F-419D9620C8A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9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5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7D9-3B8C-485B-B08B-5F56F8D77F6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2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5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9B0-6FD9-4308-AEB8-192680B81AF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5" name="Notes Placeholder 1"/>
          <p:cNvSpPr/>
          <p:nvPr/>
        </p:nvSpPr>
        <p:spPr>
          <a:xfrm>
            <a:off x="679320" y="4724280"/>
            <a:ext cx="544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FF7-B110-4EF9-A19D-22923C27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401-9543-4B75-97B6-C23B78AD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0B6-A80E-470B-A474-3E5E053B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275-B51E-43E8-9932-56F0013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6410-90D6-46AC-A91D-61AA0742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8C3-0DD5-4A98-ABD9-E8976EA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3C4B-819D-4B35-B10E-4669A61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1762-763B-41E5-8278-A98B375B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A0D-2C4F-4E7F-A612-BEF6930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6CE-EB2C-49FB-987E-208EBCE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AED-FC65-48D4-B4BD-805CF1A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5AA-79CF-454A-8A6E-7D4E6D3C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FA09-AE9E-4C4A-A9BD-D5A71D9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A28D-4B2C-4EBB-A871-36F6F68D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18A0-6F75-4FCC-B57C-73819D7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0FE9-8EAD-4991-A17E-312D36D0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4650-B047-48F4-B6E0-13262285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D7E8-E8DE-4196-A1F8-299DF44B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C663-0F71-4BE4-95EB-E604F11C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8F43-7FC5-4093-954A-45CCA7B0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7885-190D-43F8-8D65-729E163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A17E-7877-4DE6-BB86-69DCA12D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76A-C2B5-4674-9787-60395F7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FD81-0445-4156-896B-E8B0A92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9109-799D-424C-9BA2-6F81BC05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38C5-C2A4-4755-93FD-2F8766E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9855-F314-4A57-87B1-45234C0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8CFF-43EB-41E1-BEE3-5AFAA8BB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B43F-7518-48B6-A73E-4991095D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F93E-7386-4653-A301-CA5117A6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C1C1-32DC-4CFA-BDB2-BD29CD9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2E11-0A3E-471C-9FBC-152E69A7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5C33-097C-4ED2-AF9E-6C656096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10A-D3FB-4A67-BEB9-CF9B275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70DE-A9BC-480E-B9E2-09110918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CA63-A29C-4023-94CD-FB83DE7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83C6-D952-43BB-8CD6-D4ED258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8515-8BA3-4CBA-8EF7-C97261A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5007-83EC-4BE3-A1FB-5E12525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2923-FF01-4881-90C5-2396392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22E0-C140-4F07-8B33-C059E11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F3F0-6472-4617-90ED-AD79C25E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F729-8ED3-4022-9A10-30B85AFB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CF12-0063-480D-A3E9-6F128DEC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DFF-5954-4403-86C2-770C00D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B13D-431A-4B91-94C5-2A2A9D78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E0F39-59A9-4FC9-A55C-0BC6F6E0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79DF-794D-4312-BF64-D9619AB1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2BC0-84FF-4E5C-A662-C1DF2700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67F6-35CC-48F1-A829-7E68743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568F-0169-4202-BB0E-18DA28D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B698-6A3D-46AB-8719-B8233B39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43A4-CD76-47B1-B28E-04B3BA0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A657-43F9-467A-9752-252B379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7499-3A3D-40B0-8E02-AC0A67FC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5D7-8D5D-4A75-9011-C4896C0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25EB-B446-4A29-A436-FB421DEE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7CC3-A9DA-4F1F-A851-ADDFE358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8993-27D7-47CE-B504-6ACF2CB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A401-0FE2-48B9-910B-EE0F83E5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AC54-8FB5-4D07-A02A-331D5378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ECFE-0E56-45EC-8C6F-3E0E279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05F4-237A-4B3E-958F-2B3E283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2D89-CC85-4A29-8674-72DF402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63A4-0E03-465A-BC87-F1599B5D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D8C8-75E9-425F-9F79-BE069AD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0EB-FE64-4093-AA5B-01CCAF6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4B5F-C28A-4DE0-8FF3-254554C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4472-7AD0-4A9F-9DA0-B7415BD7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A607F-A154-4BEC-99DC-D1811237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AEF-C15A-4904-A539-461A42E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6E7-BF33-4E13-9613-A6FEAE72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BD97-5CC9-4A8F-86E6-5EBE023C10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52C3-3604-4787-99B3-F43C30C73F0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DA56-E591-4B19-84BA-3624C9EB433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8AF6-7CE4-4F1F-9663-2C9AF44294A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4CA-2AD2-4497-A3B1-F87A32A84C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2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ED7D-4FC9-4747-86C3-A2D54A421F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ur-lex.europa.eu/LexUriServ/LexUriServ.do?uri=COM:2013:0265:FIN:EN:PDF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organic/index_en.htm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675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ganic review – what will change?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2637000"/>
            <a:ext cx="8785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griculture and Rural Development DG – Organics uni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Verdana"/>
              </a:rPr>
              <a:t>26 November 2014 – Civil Dialogue Group on win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462480" y="2868480"/>
            <a:ext cx="22190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ion rul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xceptional rules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End of exception to use non-organic plant reproductive material, animals for breeding purposes, aquaculture juveniles on 31/12/2021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06F3-B6D6-4BA0-BF87-FB57BED399F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ion ru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4000" y="2060280"/>
            <a:ext cx="8300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EU harmonisation of rules if detection of non-authorised products or substance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Article 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Products where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presence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 of non-authorised products or substances beyond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levels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 set taking into account Directive 2006/125/EC </a:t>
            </a:r>
            <a:r>
              <a:rPr b="0" i="1" lang="en-US" sz="2200" spc="-1" strike="noStrike">
                <a:solidFill>
                  <a:srgbClr val="0f5494"/>
                </a:solidFill>
                <a:latin typeface="Verdana"/>
              </a:rPr>
              <a:t>(babyfood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) shall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not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 be marketed as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rganic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DF8-187A-4891-B64D-C6CA70D0C8D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108000" y="1341360"/>
            <a:ext cx="925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ion ru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34936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EU harmonisation of rules if detection of non-authorised products or substance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Article 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Why?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lose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loophole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enforcement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ovides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air treatment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f all operator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peatedly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requeste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during the hearing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rganic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onsumer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do not want pesticid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CCF-B09D-43DD-89D8-11B75CF3ACF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5280" y="206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f5494"/>
                </a:solidFill>
                <a:uFillTx/>
                <a:latin typeface="Verdana"/>
              </a:rPr>
              <a:t>Organic certification and control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hapter V (Articles 24-26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hapter VIII (Article 44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42a62a"/>
                </a:solidFill>
                <a:latin typeface="Verdana"/>
              </a:rPr>
              <a:t>What is new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78AE-5EB7-40E5-8F81-11FFC532DE8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55556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General approach : control-related provisions in a single legislative framework</a:t>
            </a:r>
            <a:br>
              <a:rPr sz="24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491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11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61800" indent="-361800" algn="just">
              <a:spcBef>
                <a:spcPts val="11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ission's proposal on Regulation of the EP/Council o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fficial controls </a:t>
            </a:r>
            <a:r>
              <a:rPr b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(COM(2013)265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)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rovisions on the set-up and functioning of the control system  for organ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61800" indent="-361800" algn="just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61800" indent="-361800" algn="just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posal for organic regulation: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olicy choices </a:t>
            </a: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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rules to be complied with as regards organic principles and production rules, labelling, certification and trad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61800" indent="-3618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6385-D07E-4FB1-80E3-C02BD9F879D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25560" y="1412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ontrol coverage 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(Article 24)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24000" y="1915920"/>
            <a:ext cx="8578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ll operators in organic chain covered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(e.g. Producers, Processors, Retailers, Wholesalers, Importers, Exporters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No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more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exemptions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for certain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tailer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8560" indent="-539640" algn="just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ifferent treatment across M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8560" indent="-5396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anagement, supervision and control difficultie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8560" indent="-5396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Key role for consumers' confidenc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BF43-0C68-406A-AA30-C8BCA87297B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Group certification in the EU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36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(Articles 3(7) and 26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11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mall farmers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( </a:t>
            </a:r>
            <a:r>
              <a:rPr b="0" lang="en-GB" sz="2200" spc="-1" strike="noStrike">
                <a:solidFill>
                  <a:srgbClr val="0f5494"/>
                </a:solidFill>
                <a:latin typeface="Symbol"/>
                <a:ea typeface="Symbol"/>
              </a:rPr>
              <a:t>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5 Ha) both for production and on-farm processing activiti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Certified and marketing products as a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group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Internal control system </a:t>
            </a:r>
            <a:r>
              <a:rPr b="0" lang="en-GB" sz="2200" spc="-1" strike="noStrike">
                <a:solidFill>
                  <a:srgbClr val="0f5494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central management to check members' compliance; failures </a:t>
            </a:r>
            <a:r>
              <a:rPr b="0" lang="en-GB" sz="2200" spc="-1" strike="noStrike">
                <a:solidFill>
                  <a:srgbClr val="0f5494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withdraw certification of whole group!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bjectives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5320" indent="-352440" algn="just">
              <a:spcBef>
                <a:spcPts val="55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Cut individual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osts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and administrative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burden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5320" indent="-352440" algn="just">
              <a:spcBef>
                <a:spcPts val="55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Better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market outlets 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5320" indent="-352440" algn="just">
              <a:spcBef>
                <a:spcPts val="55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evel playing field with third countrie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741-A943-4692-A58B-DB61140E891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820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ully risk-based approach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528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55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No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more mandatory physical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nnual inspection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f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ll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operators regardless of their risk profile in basic ac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8560" indent="-539640" algn="just">
              <a:spcBef>
                <a:spcPts val="1199"/>
              </a:spcBef>
              <a:spcAft>
                <a:spcPts val="99"/>
              </a:spcAft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ore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effective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focus on areas most at risk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8560" indent="-539640" algn="just">
              <a:spcBef>
                <a:spcPts val="601"/>
              </a:spcBef>
              <a:spcAft>
                <a:spcPts val="99"/>
              </a:spcAft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ore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efficient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se of resource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898560" indent="-539640" algn="just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ess red tape for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ompliant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operator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ike other sectors in agri-food chain and other CAP schemes/measures …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781-D9A3-430A-96EE-B39978216FB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79280" y="2636640"/>
            <a:ext cx="85075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f5494"/>
                </a:solidFill>
                <a:uFillTx/>
                <a:latin typeface="Verdana"/>
              </a:rPr>
              <a:t>Trade regim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hapter</a:t>
            </a: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 VI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42a62a"/>
                </a:solidFill>
                <a:latin typeface="Verdana"/>
              </a:rPr>
              <a:t>What is new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93F-D5F1-4474-A746-30253C4B3B2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rade Regime: current situation …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79280" y="191628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rganic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products imported from: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hird Countries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recognised by COM as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equivalent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(11)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ontrol Bodies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recognised by COM as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equivalent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(63)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ossibility of importing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ompliant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products not activated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 algn="just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8920" indent="-358920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F8B4-827E-4AC2-9798-EE880021416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gulatory Milestones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from 1991 to 2020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-1116000" y="2389320"/>
            <a:ext cx="10442520" cy="4108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Users\mahylou\Desktop\EU_Organic_Logo_OneColour_Light_rgb.jpg"/>
          <p:cNvPicPr/>
          <p:nvPr/>
        </p:nvPicPr>
        <p:blipFill>
          <a:blip r:embed="rId2"/>
          <a:stretch/>
        </p:blipFill>
        <p:spPr>
          <a:xfrm>
            <a:off x="6084720" y="6021360"/>
            <a:ext cx="801720" cy="50328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158-D323-483C-B64D-D9CA485BEEA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hanges to trade regim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Export 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dimension introduced (Article 27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Move from equivalence to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compliance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 for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control bodies 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(Article 28 and 29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Recognition of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equivalence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 of Third Countries with </a:t>
            </a: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mutual </a:t>
            </a:r>
            <a:r>
              <a:rPr b="0" lang="en-US" sz="2200" spc="-1" strike="noStrike">
                <a:solidFill>
                  <a:srgbClr val="0f5494"/>
                </a:solidFill>
                <a:latin typeface="Verdana"/>
              </a:rPr>
              <a:t>agreements (Article 30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E2BA-57D2-48DA-BB60-0D59BBB37E0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The way forward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000" y="1916280"/>
            <a:ext cx="82184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iscussions with Council : technical working group – started under EL Presidency, continued under IT Presidency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Rapporteur appointed in European Parliament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…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to prepare amendments, draft opinion, lead discussions with Council and Commissio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SzPct val="1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Conclusion of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inter-institutional discussions possibly in 2015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76BE-9E35-4E4E-B1E9-023B2FCD6B5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528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Organics website 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agriculture/organic/index_en.ht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531-7026-4AAA-845C-E4F750E8299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2854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2060640"/>
            <a:ext cx="8435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24th March 201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doption by the European Commissioners         of organic review packa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1) Action plan for future of EU organic p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2) Proposal for new Reg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3) Recommendation for a negotiating mand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1DE6-4F23-4FD4-AB6D-E3DA444207F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posal for a new Regulation to…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636640"/>
            <a:ext cx="85075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larify rule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Address ga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Simplify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Remove exception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Guarantee fair competition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Streamline control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336240" indent="-336240">
              <a:spcBef>
                <a:spcPts val="700"/>
              </a:spcBef>
              <a:buClr>
                <a:srgbClr val="42a62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Reform trade regim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7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A93-8B57-4EF8-8058-A6CAC805F90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Structure of the proposal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hanges due to Lisbon Trea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nciples in basic ac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legated acts to complement/amen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mplementing act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3 main chapter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cope, production rules and labell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rtification and control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Annex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54B-B16D-4E15-990F-FE1EFFBD24F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f5494"/>
                </a:solidFill>
                <a:uFillTx/>
                <a:latin typeface="Verdana"/>
              </a:rPr>
              <a:t>Scope and production ru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hapters I to I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nnexes I to 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42a62a"/>
                </a:solidFill>
                <a:latin typeface="Verdana"/>
              </a:rPr>
              <a:t>What is new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65B-B95E-4C64-90C2-E9AEB4A58CA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Scope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Article 2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larified (PDO/PGI/TSG Model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duct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nnex I to the Treaty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nnex I to the organic reg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 included: Textiles, cosmetics, mass-cater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99C-9680-4497-8BAF-CBFFD688767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ion rul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98900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General </a:t>
            </a: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(Article 7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No longer mixed organic/conventional farm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1199"/>
              </a:spcAft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vironmental Management System for operators (except micro-enterprises, farmers and aquaculture/seaweed producers)</a:t>
            </a: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 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9CB-8C60-4C8D-99AC-C0A3FD69F1F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ion rul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4920" y="2204640"/>
            <a:ext cx="8497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Wine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Article 14 + Annex II, part V+ IA for substance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atus qu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Update of legal references (single CMO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DCD-CF70-4CE1-ACC2-9E0AB53BB44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MEDICO Maria Giulia (AGRI)</dc:creator>
  <dc:description/>
  <dc:language>en-US</dc:language>
  <cp:lastModifiedBy>BUTTINI-PROVENZANO Roberta (AGRI)</cp:lastModifiedBy>
  <cp:lastPrinted>2014-11-07T16:11:40Z</cp:lastPrinted>
  <dcterms:modified xsi:type="dcterms:W3CDTF">2014-11-24T12:16:31Z</dcterms:modified>
  <cp:revision>436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