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10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41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737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42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43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B82-FFE4-4B92-B926-67DA8EA2B3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B798-9132-42A5-96CB-98EADD5EAF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8F3-6450-4447-8B13-EF3777B4A9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F32-AB78-4437-98C7-22C0A00FCA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19080" y="76500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07920" y="5105520"/>
            <a:ext cx="4989600" cy="24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30ED-CE7D-47B1-A294-60C1E8044B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AAB-1F88-4852-ADBE-BB4201F1CC4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7F86D-778C-4B27-B45C-690C079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6B108-5989-4B7B-8051-6F7C3A16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3A4C6F-59D2-44F5-91EC-58B3922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B70539-93DD-495E-BDC0-F2407D0E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B23A89-9112-4D21-867D-C9E236B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A5A96A-9659-4594-BFE4-E45EC933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35321-72F1-40D4-A143-BE75C239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E1C1B8-17FE-4170-B5EE-D94305CA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2CFCF-4A1F-49B9-8E8C-C39BDC25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F53DC-1CA4-4A1E-A9AD-CD4D985D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82571-CF0C-406B-98E8-AF39AE9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15561-CC56-425D-9843-77945BD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40FD4-F38C-4A5A-B7D4-DFABF12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8EA5D-C3C3-4E3E-B945-8AA70A2E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7411D-9691-4651-A8C4-3434527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CF46C-8DDC-4248-96BD-E55C9B9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08F3D-EE5A-4678-9C66-E3E8E22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06173-FC09-4431-894E-DFAB37B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418F4-6DA4-4984-9692-A1CA1F0E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42ECB-A579-41D8-8028-EC821665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E513C-FFC8-455D-8432-2E593C66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21A14-A632-407E-B445-26466379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3141B-8864-4889-A060-4FAA343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AF6DC-0E85-4ABD-B1E3-2CB9EC1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B2C4C-54E2-4756-B3AD-6AD31CF4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EC30F-3A06-4BC9-96A8-8EB4A699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4B9DA-E639-493D-963C-08B1C4B2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64E9E-6F61-490D-BA33-3DD63C9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5D7E9-5A67-4BB3-96C3-A53F7CF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3727C-19DE-482E-81C5-FFD51F5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B37A7-FF9C-42DF-B250-63C50B92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B755D-C499-44C1-844C-767BCD6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65387-B298-4B94-9D88-DCB6215D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FC611-534E-4727-8129-6CE2B22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DCCC33-D5F6-443D-B65D-182C77D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9EEA22-39D4-4A0E-A714-34F20C5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703AC9-01EB-4157-965D-FEE91DA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F7F9D1-4E67-44E4-800C-84E81A7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4D81DD-26C2-4163-A395-3332A5CC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034FC8-36FE-44A9-B7D0-6F03498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D3D817-E572-4F32-BEE8-AAED05A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8285-1C3D-4449-B5E4-9C0EA1CF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B21852-C87C-4788-BAB8-AE118DB9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426CA9-C5C7-4EF4-B5E7-D5D5228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B58B70-2BC5-4841-887E-CEF8EB6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EEF5BB-95EA-4A7D-B0F6-AF3F8B57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507861-4B09-4826-B2DE-B765F715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0D655-5F0F-4F3E-9772-823BEF9E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E6720-44F9-4C63-AB22-20C5D0D1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8CBBE-2E0F-4DCA-96A4-7060AAA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021D4-AF34-444C-840F-9FE463D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8920C-F944-4C1A-BDFB-543F7C06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D5295-4A19-4AC1-BE68-79CEC93D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4EA54-2FC0-4DD5-A45D-6EB7209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263D2-F521-49F7-B946-1531610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8C53F-6720-4BD5-9CA2-AB5686E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5680A-7765-43BF-941F-F5D0F05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4FC99-DE47-4703-B86C-1A40C24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18550-B6A0-456A-A0E7-7D5D375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7BE6B-AD77-450A-977F-FCE81EB3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970148-8964-49E7-A75F-8C43DEA6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FBDD46-D1CB-4E82-99A1-F11A82A9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B323BC-9313-456B-A9DB-86AFD0A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DA281-92FA-478A-8F08-E4DBBDBD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67F94D-2D28-4CF4-9001-184FF522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702924-7B63-478B-9004-410A90FF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F4B222-1EFB-43A6-BDDA-0155FF51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AEB117-DC0F-48ED-8886-8CA73E8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43E508-0E35-4771-A352-6B59E6E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B8B40E-C0E5-4560-B456-E92FC39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9D9A0C-C32C-45A2-8CBA-792C4EF3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CDCCDB-BF4E-4C45-9CF8-6EDD35BC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0B072A-0ADC-418F-8ACA-C8D89ACA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C3F58A-431A-471E-9FA9-C21CD4A4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1F8C9-D858-4059-8E91-0C55A0F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9857BF-C5EB-4D5E-96E8-C1DABA5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99B7D6-1A28-4F29-89A4-27C07F51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A7BD87-C2F9-4555-A569-C246D96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052604-3671-4D88-95DB-E75281F1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C167F7-71CC-42DC-BE02-185EB6B0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BBD226-A178-4FFC-B7B6-0E6459D1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40493A-980A-4BEE-9C72-10F49FA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10A752-DA4D-4A5E-A03F-6494AE1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EA44B1-A5C5-4C2D-BB02-C8E06DE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3BDEEE-411A-4FF3-9805-52D3DB9F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B408-A750-4108-A4A1-6D86BA25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3629A6-7D88-42C1-AD2B-17777CA3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03BCE-CA93-4396-B022-2B36B2E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9E0CD-88B4-4079-90F0-EDC2C97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F8875-2D88-4A60-B945-66D22AB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3CEBE-5677-4D2D-A85A-EA4D901B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DF0DF-0C4D-4091-B5ED-55C87745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429A9-6B58-44F9-823A-0EBF9F82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21718-BA05-452E-BE8A-07CBB832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90BB7-2542-4734-94E4-3849C681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4A367-D071-47E7-A7CB-C6887BA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A767F-A545-44DD-A016-E9B7808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D3E66-C822-48B3-87EC-192E1BB6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50D6F-1168-45EE-93D1-0E4F0F05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22FF2-A476-41B7-9B62-4907D32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FFEB2-5A80-45E3-AE97-8669142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A703B-A0D1-48D0-8672-F281912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4DACF-23E1-4639-89AC-01F2DEDB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FF832-EAEE-4A91-89C5-568B7185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10820-B947-447D-A2DB-984FF290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F249D-16DA-4639-A463-9F825BF8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5A317-B080-45DD-A568-0768DFF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04374E-1E6D-4FF3-A211-384ADB60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213F5-A0A6-446B-BC99-B0C48693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D84DA7-AF39-4074-9319-5D4EF05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0F1C0-6338-420B-AB1F-A8D5CCB6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6DC84-7863-4E7A-86BD-9D872C4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29645-D734-441E-813F-9D21BA6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E47E32-8429-4533-9D2C-D15AC63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BDD967-A7EB-4AF9-ACB8-CE3581A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9DF4A4-86E3-4165-9DF3-BE6767BF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22C58-759D-4AD2-BDB4-70B0A334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ED2A3-6163-4E7C-8CB6-545FCBD4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41B5F-6306-4DCA-9848-BAC62F4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1E54F-C61D-4C80-BFE0-AC3D64E0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AE1C3-C685-475E-BF0D-EC4C9F8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1A4F5E-4BCE-49A1-A878-CABEB2A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51BA2-86F3-4E53-9829-BFC4F698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F80548-1138-496E-AD6A-03F6852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9D52E-ECFD-447E-A242-15B5BE1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52170-77EB-4F77-874D-7D51221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947A3-4798-42DC-B6B4-7DC124AF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0A27FC-A6CC-4490-A622-DE5F096B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2165B7-7A18-4E1B-9880-9940D4B1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594A71-F04B-41B1-A86A-DA5B72D9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C4723-5BE6-4E9B-B28B-BB057E5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79C01-5EC6-4385-B129-DB2B5300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C2816-C1BF-4AA4-BC0A-53625B9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A1215B-F2B6-4DF2-A8FF-D66055C5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63BA5-2D77-487F-A9BC-082D4642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688B30-E292-4C6E-B618-555BCB9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6D31D0-132E-4EC3-9F2E-5DB4202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B6950-CC97-4C2C-A285-4559F67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C23E1B-C76D-45EB-84FB-84C66AB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FB7AC0-90D7-4B29-B400-2F905486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4100FE-1B7C-4851-AAAD-B74D8F34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57A84B-E358-4FD9-A7C6-29B5F604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5CB43C-3D62-4066-816F-4A674F1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7777EB-9491-40D6-BF74-6A6EC513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F5B2-D3C6-4533-B086-401545F78E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3005280" y="6643800"/>
            <a:ext cx="3168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1B52-5FBD-4067-B3DB-9B14AA89D3B4}" type="slidenum">
              <a:rPr b="0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3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B87B-F04F-4371-B327-358076AB1FCF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4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5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03CD-030C-4C4F-84FF-F884606A1A6A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4FF-3960-46A6-A082-E840C7762F65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443-43DD-4433-B2F9-616354B39063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9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A16B-FD51-4814-9E78-6D069E568BFA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0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1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B72-B674-40D2-A157-CC840771F323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2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9510-C1DE-429E-917A-6A138068BE57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3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4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D8A-2C68-4B04-BFCD-6BE83C14D8AB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5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2CD4-3B04-4AA8-A088-5B377EC75CCA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6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7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D118-7B4C-48B6-8D1A-97F845C92829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8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ABA6-B063-4970-8C9B-F290BDE439FA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9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0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87F8-30E2-44A2-A75D-F14AFFCC3739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E77F-2159-43B7-93FD-5C74E4749E40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B65A-CDF7-49DB-AA0F-1216A86DD405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6A1-585E-4CCA-98FB-9D50383D37EA}" type="datetime">
              <a:rPr b="1" lang="en-US" sz="12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7" descr="2851026377_bf871ff1dc_o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50920" y="189000"/>
            <a:ext cx="8667720" cy="650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G-AGRI-mask-cover.png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32" name="Title 5"/>
          <p:cNvSpPr/>
          <p:nvPr/>
        </p:nvSpPr>
        <p:spPr>
          <a:xfrm>
            <a:off x="0" y="1252440"/>
            <a:ext cx="9144000" cy="2320920"/>
          </a:xfrm>
          <a:prstGeom prst="rect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5"/>
          <p:cNvSpPr/>
          <p:nvPr/>
        </p:nvSpPr>
        <p:spPr>
          <a:xfrm rot="16200000">
            <a:off x="8174520" y="5547600"/>
            <a:ext cx="1432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Ⓒ </a:t>
            </a:r>
            <a:r>
              <a:rPr b="0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Olof 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DGAGRI-signature-EN.png"/>
          <p:cNvPicPr/>
          <p:nvPr/>
        </p:nvPicPr>
        <p:blipFill>
          <a:blip r:embed="rId4"/>
          <a:stretch/>
        </p:blipFill>
        <p:spPr>
          <a:xfrm>
            <a:off x="468360" y="6013440"/>
            <a:ext cx="1638360" cy="368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DA05-D8D7-4FF2-8AD2-58A7B41BB0E3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A359-C463-4194-83A9-498431AC0D24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1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5CFD-F9D6-40FE-8401-9020F4B77DB6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2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3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2542-0855-43E9-9568-BE7D9722E0E7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4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F1B-D78D-4AC9-8CE6-A90800CF5EEB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5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6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5AF-7287-4C96-9BE6-47A687F0CE51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7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9D36-BE1E-4F73-9A1D-FE0E1DA7EC1B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8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9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9290-A6D2-4F11-8A43-79F2379BB66E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0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40E-3C3C-4EDB-A69F-B723303214C5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1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2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69C9-5B8E-4A8B-B492-6F410E107A31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support programmes in the wine sector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st of Commission Regulation 555/2008</a:t>
            </a:r>
            <a:br>
              <a:rPr sz="2400"/>
            </a:br>
            <a:br>
              <a:rPr sz="24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vil Dialogue Group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November 2014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G AGRI – Unit C.2 -  NSP Tea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0" y="5876640"/>
            <a:ext cx="91440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6372360" y="609300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wine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tional Support</a:t>
            </a:r>
            <a:r>
              <a:rPr b="1" lang="en-GB" sz="3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grammes in the Wine Sector 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58" name="Content Placeholder 3" descr="H:\My Documents\My Pictures\Wine_accessories_Map_Vineyards_of_Europe.jpg"/>
          <p:cNvPicPr/>
          <p:nvPr/>
        </p:nvPicPr>
        <p:blipFill>
          <a:blip r:embed="rId1"/>
          <a:stretch/>
        </p:blipFill>
        <p:spPr>
          <a:xfrm>
            <a:off x="2222640" y="2492280"/>
            <a:ext cx="469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2"/>
          <p:cNvSpPr/>
          <p:nvPr/>
        </p:nvSpPr>
        <p:spPr>
          <a:xfrm>
            <a:off x="838188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71C-A333-4B7E-BAC2-CD38D126E0A6}" type="slidenum"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Espace réservé du numéro de diapositive 4"/>
          <p:cNvSpPr/>
          <p:nvPr/>
        </p:nvSpPr>
        <p:spPr>
          <a:xfrm>
            <a:off x="8169120" y="6165720"/>
            <a:ext cx="503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0715-78FC-4976-BFE6-B20E328DDB1E}" type="slidenum">
              <a:rPr b="1" lang="de-DE" sz="1200" spc="-1" strike="noStrike">
                <a:solidFill>
                  <a:srgbClr val="fff6e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2"/>
          <p:cNvSpPr/>
          <p:nvPr/>
        </p:nvSpPr>
        <p:spPr>
          <a:xfrm>
            <a:off x="38160" y="1355760"/>
            <a:ext cx="9002520" cy="1511280"/>
          </a:xfrm>
          <a:prstGeom prst="rightArrowCallout">
            <a:avLst>
              <a:gd name="adj1" fmla="val 25493"/>
              <a:gd name="adj2" fmla="val 25000"/>
              <a:gd name="adj3" fmla="val -19886"/>
              <a:gd name="adj4" fmla="val 83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Support programmes 2009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6 Support programmes 2014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1476360" y="2997360"/>
            <a:ext cx="7272360" cy="825480"/>
          </a:xfrm>
          <a:prstGeom prst="rect">
            <a:avLst/>
          </a:prstGeom>
          <a:gradFill rotWithShape="0">
            <a:gsLst>
              <a:gs pos="0">
                <a:srgbClr val="00c28f"/>
              </a:gs>
              <a:gs pos="50000">
                <a:srgbClr val="00a076"/>
              </a:gs>
              <a:gs pos="100000">
                <a:srgbClr val="00c28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AT, BG, CY, CZ, DE, EL, ES, FR, HR (new), HU, IT, LT, PT, RO, SI, SK (LU, MT, UK </a:t>
            </a:r>
            <a:r>
              <a:rPr b="1" lang="en-GB" sz="2400" spc="-1" strike="noStrike">
                <a:solidFill>
                  <a:srgbClr val="202020"/>
                </a:solidFill>
                <a:latin typeface="Arial"/>
                <a:ea typeface="Arial"/>
              </a:rPr>
              <a:t>► </a:t>
            </a:r>
            <a:r>
              <a:rPr b="1" lang="en-GB" sz="2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S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250920" y="4365720"/>
            <a:ext cx="8567640" cy="1789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dget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2009-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315 MIO 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€ (execution rate: 9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dget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2014-2018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667 MIO 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€ (</a:t>
            </a:r>
            <a:r>
              <a:rPr b="1" lang="pt-PT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new MS and 3 new measures/sub-measures</a:t>
            </a:r>
            <a:r>
              <a:rPr b="1" lang="pt-PT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4756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EU legislation concerning the national support programmes in the wine sector: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ate of the art and future steps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66" name="Picture 2" descr="C:\Program Files (x86)\Microsoft Office\MEDIA\CAGCAT10\j0215086.wmf"/>
          <p:cNvPicPr/>
          <p:nvPr/>
        </p:nvPicPr>
        <p:blipFill>
          <a:blip r:embed="rId1"/>
          <a:stretch/>
        </p:blipFill>
        <p:spPr>
          <a:xfrm>
            <a:off x="7580160" y="1197000"/>
            <a:ext cx="12290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655308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BB3B-1B30-439E-A631-FE006939D946}" type="slidenum">
              <a:rPr b="0" lang="en-GB" sz="1400" spc="-1" strike="noStrike">
                <a:solidFill>
                  <a:srgbClr val="80808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6520" y="981000"/>
            <a:ext cx="8424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  <a:ea typeface="Verdana"/>
              </a:rPr>
              <a:t>Current EU Legislation and guidelin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9" name="AutoShape 3"/>
          <p:cNvSpPr/>
          <p:nvPr/>
        </p:nvSpPr>
        <p:spPr>
          <a:xfrm>
            <a:off x="484200" y="2219400"/>
            <a:ext cx="1784160" cy="436320"/>
          </a:xfrm>
          <a:prstGeom prst="rightArrow">
            <a:avLst>
              <a:gd name="adj1" fmla="val 50000"/>
              <a:gd name="adj2" fmla="val 1022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SIC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"/>
          <p:cNvSpPr/>
          <p:nvPr/>
        </p:nvSpPr>
        <p:spPr>
          <a:xfrm>
            <a:off x="525600" y="3424320"/>
            <a:ext cx="1838160" cy="793800"/>
          </a:xfrm>
          <a:prstGeom prst="rightArrow">
            <a:avLst>
              <a:gd name="adj1" fmla="val 50000"/>
              <a:gd name="adj2" fmla="val 10843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2478240" y="2075040"/>
            <a:ext cx="5833800" cy="725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1308/2013 of the EP and the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: NSP (Artt 39-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2509920" y="3317760"/>
            <a:ext cx="58341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 R 555/2008: implementation of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cil R 479/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II Artt 2-20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VI Artt 76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2478240" y="4916520"/>
            <a:ext cx="583380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omotion third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Restructuring and conversion of viney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525600" y="5086440"/>
            <a:ext cx="1768320" cy="452520"/>
          </a:xfrm>
          <a:prstGeom prst="rightArrow">
            <a:avLst>
              <a:gd name="adj1" fmla="val 50000"/>
              <a:gd name="adj2" fmla="val 105689"/>
            </a:avLst>
          </a:prstGeom>
          <a:solidFill>
            <a:srgbClr val="0070c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Guid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655308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E5CD-59DC-4DBD-86F4-C7C89C60EACF}" type="slidenum">
              <a:rPr b="0" lang="en-GB" sz="1400" spc="-1" strike="noStrike">
                <a:solidFill>
                  <a:srgbClr val="80808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54003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Verdana"/>
              </a:rPr>
              <a:t>Recast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550800" y="1876320"/>
            <a:ext cx="1752840" cy="436680"/>
          </a:xfrm>
          <a:prstGeom prst="rightArrow">
            <a:avLst>
              <a:gd name="adj1" fmla="val 50000"/>
              <a:gd name="adj2" fmla="val 1022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550800" y="2708280"/>
            <a:ext cx="1784520" cy="436680"/>
          </a:xfrm>
          <a:prstGeom prst="rightArrow">
            <a:avLst>
              <a:gd name="adj1" fmla="val 50000"/>
              <a:gd name="adj2" fmla="val 1082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gated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550800" y="3645000"/>
            <a:ext cx="1847880" cy="452160"/>
          </a:xfrm>
          <a:prstGeom prst="rightArrow">
            <a:avLst>
              <a:gd name="adj1" fmla="val 50000"/>
              <a:gd name="adj2" fmla="val 1057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2471760" y="1708200"/>
            <a:ext cx="6348240" cy="725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1308/2013 of the EP and the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: NSP (Artt. 53-5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2471760" y="2433600"/>
            <a:ext cx="3828960" cy="2182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rules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of support program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diture, administrative and personnel co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 to lodge a security (advan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nce of double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conditions for the proper functio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upport measures in their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6300720" y="2433600"/>
            <a:ext cx="2519280" cy="2182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fr-BE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nditions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of programm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and content  of re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valuations of N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ment 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550800" y="5256360"/>
            <a:ext cx="1784520" cy="436320"/>
          </a:xfrm>
          <a:prstGeom prst="rightArrow">
            <a:avLst>
              <a:gd name="adj1" fmla="val 50000"/>
              <a:gd name="adj2" fmla="val 10838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2441520" y="4960800"/>
            <a:ext cx="6378480" cy="1027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omotion (in third countries/information in the 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Restructuration (incl. replanting for phytosanitary r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vest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116000" y="234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c00000"/>
                </a:solidFill>
                <a:latin typeface="Verdana"/>
              </a:rPr>
              <a:t>Simplification</a:t>
            </a: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c00000"/>
                </a:solidFill>
                <a:latin typeface="Verdana"/>
              </a:rPr>
              <a:t>Clarification</a:t>
            </a: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8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c00000"/>
                </a:solidFill>
                <a:latin typeface="Verdana"/>
              </a:rPr>
              <a:t>Reduction of error rate</a:t>
            </a:r>
            <a:endParaRPr b="0" i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6" name="Rectangle 1"/>
          <p:cNvSpPr/>
          <p:nvPr/>
        </p:nvSpPr>
        <p:spPr>
          <a:xfrm>
            <a:off x="539640" y="1197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riteria for possible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116000" y="234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Working groups with M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Civil dialogue (26 November 2014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Drafting proposal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Discussion with M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Delegated act (scrutiny period Coun-EP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Executive Act  (voted by MS delegates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00000"/>
                </a:solidFill>
                <a:latin typeface="Verdana"/>
              </a:rPr>
              <a:t>Publication of both ac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Rectangle 1"/>
          <p:cNvSpPr/>
          <p:nvPr/>
        </p:nvSpPr>
        <p:spPr>
          <a:xfrm>
            <a:off x="53964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"/>
          <p:cNvSpPr/>
          <p:nvPr/>
        </p:nvSpPr>
        <p:spPr>
          <a:xfrm>
            <a:off x="206280" y="2852640"/>
            <a:ext cx="973080" cy="436680"/>
          </a:xfrm>
          <a:prstGeom prst="rightArrow">
            <a:avLst>
              <a:gd name="adj1" fmla="val 50000"/>
              <a:gd name="adj2" fmla="val 1021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anks for the attention!!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91" name="MA1.1119916433" descr="ATT-0-8971D7698276E540BDBD4E329647AA70-image001"/>
          <p:cNvPicPr/>
          <p:nvPr/>
        </p:nvPicPr>
        <p:blipFill>
          <a:blip r:embed="rId1"/>
          <a:stretch/>
        </p:blipFill>
        <p:spPr>
          <a:xfrm>
            <a:off x="3132000" y="2060640"/>
            <a:ext cx="2911680" cy="1174680"/>
          </a:xfrm>
          <a:prstGeom prst="rect">
            <a:avLst/>
          </a:prstGeom>
          <a:ln w="0">
            <a:noFill/>
          </a:ln>
        </p:spPr>
      </p:pic>
      <p:sp>
        <p:nvSpPr>
          <p:cNvPr id="692" name="Slide Number Placeholder 3"/>
          <p:cNvSpPr/>
          <p:nvPr/>
        </p:nvSpPr>
        <p:spPr>
          <a:xfrm>
            <a:off x="838512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A7D-768A-4C0A-A8FC-280B5DB12E95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9:06:11Z</dcterms:created>
  <dc:creator>Myriam Driessen</dc:creator>
  <dc:description/>
  <dc:language>en-US</dc:language>
  <cp:lastModifiedBy>BUTTINI-PROVENZANO Roberta (AGRI)</cp:lastModifiedBy>
  <cp:lastPrinted>2014-11-20T12:40:18Z</cp:lastPrinted>
  <dcterms:modified xsi:type="dcterms:W3CDTF">2014-11-20T12:41:23Z</dcterms:modified>
  <cp:revision>486</cp:revision>
  <dc:subject/>
  <dc:title>PPT marché vin</dc:title>
</cp:coreProperties>
</file>