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CACE-DDAD-4C69-84BB-3C7E32183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D3C7-BA85-4A73-9707-6795A1B9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39D1-59F4-4025-BB0F-6C30A6FB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C5CE-86D5-458A-9962-01FC4994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A23C-9E12-4846-A478-8E69D342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507C-107C-4F69-A8E7-C47F7AF2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66A7-AA5C-4587-91A7-BFB2C8F1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025E-1A0A-4A11-8FDA-5A17B90C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4D98-0398-49BB-B50F-E8466FFF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EF13-2166-4AA7-8E95-5C4E22E0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E003-3B6A-47FB-B751-670C117A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39E7-E959-4949-83E5-198A6CB3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6EA3-D1C8-4F35-BDBD-7D9576AD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D83B-078C-4B12-A00B-21C55355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6CBC-3BB5-4635-B23B-F572BB68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573C-79B0-449D-8254-611E2657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9C7D-A8C6-4D3C-B992-29A936A3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5E2E2-BE52-45D4-803D-F1B1AD84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B576E-4E6A-4059-8E08-A6F8A9AC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77040-1767-4C77-90BA-995A5FE4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9D7ED-F553-4EB2-AF27-CDA9E669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57293-3347-4B34-81D7-D935BDF8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2C59-85B6-41B0-B631-943EC5B8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3CAEE-B2C3-458B-A3A7-0875E9AF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29E24-EE07-4543-97C5-7276758E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8122E-BD8D-44EC-BF96-A095B3EA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1B5BC-6698-407B-8F73-C45FFEE9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D06E9-327D-4252-8CD3-8EBE2CBF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9B00A-342D-4DA0-AF22-A48B7650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7514F-5937-4886-86AC-556E3216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8A7A-091B-4358-B777-47B8E946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02F2-AFB8-42BC-A881-419443C9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A1B0-A286-473B-96FE-B254BC1E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0684-4964-4B3A-B9AF-2E180BA8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A611-017E-4F4D-843B-48F7F0D4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A724-B9FC-4E38-AC7F-22EFF8F7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F11A-7945-44EA-97FF-DA19D6C03F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7164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‹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967F-113C-43B9-AFB0-CB27F7D0844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2F3B-4A9C-42D5-84E0-5EA656812F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6E9A-F5AA-4EC4-882A-C3D717429B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3280" y="2133360"/>
            <a:ext cx="6553440" cy="29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Civil Dialog Group on "Wine"</a:t>
            </a:r>
            <a:br>
              <a:rPr sz="2800"/>
            </a:br>
            <a:br>
              <a:rPr sz="2400"/>
            </a:br>
            <a:r>
              <a:rPr b="1" lang="en-GB" sz="1600" spc="-1" strike="noStrike">
                <a:solidFill>
                  <a:srgbClr val="ffd624"/>
                </a:solidFill>
                <a:latin typeface="Verdana"/>
              </a:rPr>
              <a:t>Wednesday, November 26th   2014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GB" sz="1600" spc="-1" strike="noStrike">
                <a:solidFill>
                  <a:srgbClr val="ffd624"/>
                </a:solidFill>
                <a:latin typeface="Verdana"/>
              </a:rPr>
              <a:t>4</a:t>
            </a:r>
            <a:r>
              <a:rPr b="1" lang="en-GB" sz="2000" spc="-1" strike="noStrike">
                <a:solidFill>
                  <a:srgbClr val="ffd624"/>
                </a:solidFill>
                <a:latin typeface="Verdana"/>
              </a:rPr>
              <a:t>. Market Situation: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ffd624"/>
                </a:solidFill>
                <a:latin typeface="Verdana"/>
              </a:rPr>
              <a:t>Risks, Challenges and State of play 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ffd624"/>
                </a:solidFill>
                <a:latin typeface="Verdana"/>
              </a:rPr>
              <a:t>of Global production</a:t>
            </a:r>
            <a:br>
              <a:rPr sz="2000"/>
            </a:br>
            <a:br>
              <a:rPr sz="2400"/>
            </a:b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042560" y="5516280"/>
            <a:ext cx="6913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Guy Dure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DG AGRI-C2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2202-BCCB-4121-83EA-B10FB2841D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8036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4294-0C8A-4B90-AF9E-8A4BCF4B7C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5" name="Picture 2" descr="U:\1. VIN\VR 95 Presentations\MAP CARTE VIN\winetrade_world_IMP_2013.gif"/>
          <p:cNvPicPr/>
          <p:nvPr/>
        </p:nvPicPr>
        <p:blipFill>
          <a:blip r:embed="rId1"/>
          <a:stretch/>
        </p:blipFill>
        <p:spPr>
          <a:xfrm>
            <a:off x="324000" y="1338120"/>
            <a:ext cx="8578800" cy="51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C92B-0023-4B28-8E92-5E773B4644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7" name="Picture 4" descr="U:\1. VIN\VR 95 Presentations\MAP CARTE VIN\winetrade_world_EXP_2013.gif"/>
          <p:cNvPicPr/>
          <p:nvPr/>
        </p:nvPicPr>
        <p:blipFill>
          <a:blip r:embed="rId1"/>
          <a:stretch/>
        </p:blipFill>
        <p:spPr>
          <a:xfrm>
            <a:off x="468360" y="1268280"/>
            <a:ext cx="83502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D718-49E0-4132-B952-A9BB4ADDC0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308480" cy="4808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2"/>
          <a:stretch/>
        </p:blipFill>
        <p:spPr>
          <a:xfrm>
            <a:off x="4933800" y="1341360"/>
            <a:ext cx="404028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ACE9-7B04-44A4-8379-881E41B407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08000" y="1268280"/>
            <a:ext cx="891684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6276-1C7A-4012-A8D7-C425335054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318960" y="1341360"/>
            <a:ext cx="85741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7A98-99D4-496F-A83A-521F98036D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44360" y="1557360"/>
            <a:ext cx="86756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DA52-3923-4FB9-B308-3A1AA45258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476360" y="2471760"/>
            <a:ext cx="59929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409080" cy="4687920"/>
          </a:xfrm>
          <a:prstGeom prst="rect">
            <a:avLst/>
          </a:prstGeom>
          <a:ln w="0">
            <a:noFill/>
          </a:ln>
        </p:spPr>
      </p:pic>
      <p:sp>
        <p:nvSpPr>
          <p:cNvPr id="150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4A51-C94D-4444-9B39-891B6E400C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4T09:08:58Z</dcterms:created>
  <dc:creator>DUREN Guy (AGRI)</dc:creator>
  <dc:description/>
  <dc:language>en-US</dc:language>
  <cp:lastModifiedBy>BUTTINI-PROVENZANO Roberta (AGRI)</cp:lastModifiedBy>
  <cp:lastPrinted>2014-11-25T14:53:37Z</cp:lastPrinted>
  <dcterms:modified xsi:type="dcterms:W3CDTF">2014-11-26T08:29:46Z</dcterms:modified>
  <cp:revision>9</cp:revision>
  <dc:subject/>
  <dc:title>Title</dc:title>
</cp:coreProperties>
</file>