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1C1E-CB75-4C8D-A24C-30C122AEC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8C9-8C36-4630-941F-9B27E34D7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AD9-6041-49F6-B623-FC57AD7BB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460-E2FA-412D-830C-DF3037349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FB7-455E-4F2D-9F79-2112D95F9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D54-415F-4CDC-8CF9-F0D340E5A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D1EE-AF01-4D0B-90F6-163F2F74B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01B-4470-4C7C-9522-203ECB6D8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34B-F2AB-402E-8DE1-9A31CCE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A96-04B8-441F-BB52-563AC96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FAD-FC94-4DA0-BD91-493279C5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22F-F154-4EC7-ABCA-3BB6BFD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3516-4F8E-4CAE-BA15-D86B10A4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E19-BBD2-4D9B-B287-07E21742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AEC1-9FB5-4886-A73E-4649FB5F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E32B-4151-454F-ACB4-350CEC15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F95-D0B5-44CF-9D17-4D4BF2C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41BB-ECFF-4F5A-B6D5-D9D3192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61B3-7D21-4876-8699-C2E915D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996-6287-4013-A101-9DC9163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69D8-B542-47C9-8851-456FF5E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7E1-A1CA-4F2F-8ED2-B22BEAA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6280-F83C-4677-AD4D-1BBACFC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DC45-7451-4C5B-B946-10A8A2A4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496D-E1A6-48A9-AB5F-FF5AFEC7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3A66-3CEB-4041-AC5D-AB5B60D0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3DB2-E524-4189-B2C6-65CF2E3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62EC-7291-45F7-849D-EB874CE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5B1B-CA37-4B49-B225-52B88E3B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A64D-6353-490C-B039-D162858A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260-D0E1-4564-8764-EFF035E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596C-28BC-43D6-91AD-E5B93F9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8027-3071-4087-A8A1-A06E00F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B769-3B1A-4502-9D15-A63D7C0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BDC2-4C5D-4163-825D-47C099B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D4EA-471B-4C4F-8159-6434104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560B-970C-4D29-83CB-0A8A6C8B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B16B-C569-4289-A056-4AD42DB5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CF2F-101A-4C52-82CB-F8AC5C8B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678B-0614-40B3-A885-4C74F989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ABF1-85F9-4666-90B2-1DCF401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82-52B8-452D-A940-F50F1062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7EB1-F743-4D4F-B2B0-8B5859C3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AF78-4A2D-4A31-9F20-24CD3976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3D11-14AA-4C7A-A205-B34CB5A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BCB2-0529-459C-937E-D94D32C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F468-AA84-413F-953E-97424F26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EC50-1AE5-407F-A6D5-ACAD669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9931-D17C-4398-A924-0EE9192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6F08-4BF0-4509-8FA2-EE56CEE2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0101-C612-4248-8D2C-FBA18DEC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768-3F84-4B7C-B6A1-8DA81BE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B19-4473-4F09-B651-B4D69621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F6B-D9F8-47E4-BC00-A72508EB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C05-2187-4571-9208-D9CD99B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C80-8976-4A3A-A9B0-9045556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DC2-07AE-4385-96E2-44537C6CCD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657-D55D-4C2A-AA3F-AE559D0D575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8FE7-65D8-4FA0-834F-5477B31AED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0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049-0BFF-4BF4-9E15-5D2B4BB173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80000" y="2133360"/>
            <a:ext cx="50400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Latest news on organic (reform and more)</a:t>
            </a:r>
            <a:br>
              <a:rPr sz="28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DG Wine, 11 March 2016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11280" y="5157360"/>
            <a:ext cx="8532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DG Agriculture and Rural Development –Unit B4 Organic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21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222640" cy="149868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801-1FFA-497D-920D-39A39058ACA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organic wine recognised as equivalent by CANAD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 organic wines will be sold in Canada without any additional certific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utual recognition of EU and Canadian organic wine standards as being equival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try into force: beginning of Apri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B0E-28C3-4AB1-9AE3-4A793EDD85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xtension of the use of certain oenological practices, processes and treatme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?: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eat treatmen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use of ion exchange resi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reverse osmosi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rt, 29d(4) of R, 889/2008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ld deadline: 1 August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GTOP report: recommended to continue allowing their use in organic wine production due to the lack of viable alternatives at pres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w deadline for re-examination: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1 August 2018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ote at April COP meet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942-CAC8-4AA2-B294-DCB9538616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gislation review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ate-of-play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5A63-E569-4C71-9569-B1642E7CF56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Ordinary legislative procedur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rch 2014: Commission Propos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June 2015: Council General Approac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ctober 2015: European Parliament Re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rilog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ew Regulation on Organic Production and Labell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61CC-0817-4A66-B0F7-4DAF786060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Down Arrow 3"/>
          <p:cNvSpPr/>
          <p:nvPr/>
        </p:nvSpPr>
        <p:spPr>
          <a:xfrm>
            <a:off x="4356000" y="4005360"/>
            <a:ext cx="287280" cy="4316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7" name="Down Arrow 4"/>
          <p:cNvSpPr/>
          <p:nvPr/>
        </p:nvSpPr>
        <p:spPr>
          <a:xfrm>
            <a:off x="4340160" y="4869000"/>
            <a:ext cx="303120" cy="431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Trilogu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uxemburgish Presidency (2/2015): 2 meeting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utch Presidency (1/2016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20600" indent="-26820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6 meetings, one per month, at leas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20600" indent="-268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20600" indent="-26820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oal: political agreement in Ju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20600" indent="-26820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20600" indent="-26820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n the substance, nothing is agreed until everything is agre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C7A-A286-4E59-AAE5-280997C4E7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54080" cy="190800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212-A481-4300-83B4-BC3F236B3E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CHENSTEINER Daniela (AGRI)</dc:creator>
  <dc:description/>
  <dc:language>en-US</dc:language>
  <cp:lastModifiedBy>BUTTINI-PROVENZANO Roberta (AGRI)</cp:lastModifiedBy>
  <cp:lastPrinted>2016-02-09T11:16:33Z</cp:lastPrinted>
  <dcterms:modified xsi:type="dcterms:W3CDTF">2016-03-10T13:08:44Z</dcterms:modified>
  <cp:revision>271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