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1.png" ContentType="image/png"/>
  <Override PartName="/ppt/media/image32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33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4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18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3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20.wmf" ContentType="image/x-wmf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134-282D-4F0E-BFC8-8FD0BB67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49E-389F-4763-B56F-E042092A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B6E-8FAA-452D-A351-CCD94215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E63-03DA-4AF3-8599-C456B148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5470-6055-44F2-8AD3-4C07FE87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F6AA-31D9-4CAB-AFD7-383D3EC8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B90E-13F9-4150-A572-3210B086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DFF0-F494-45EF-860F-224C487D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9A2B-D5DA-4FD8-95B9-8273485B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3EF9-6C91-4AC0-ADF6-7A10E62C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12ED-CFA7-46C4-BB2B-311BC3DC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0BE-9772-47A1-80A9-AFD1732F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ECAC-50A1-494A-9C8B-14898A78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4732-A454-41F8-9FB8-98343D5F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5D56-3AD5-48A7-9BA5-C619D5E6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571F-8FB0-4C7B-92EE-5D13D4A7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9355-A8B3-487B-8026-EEE2F853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C87D-3815-4112-8320-FA9F210B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B027-75B7-4B6B-AA93-4BD8620F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996D-79D6-478C-BD59-0D23A650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2896-BAAE-4730-AA9F-8CAFA0C9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1A7C-0D13-402A-A771-BB5B2485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125-CD92-411E-8716-0F4EDDC8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B9A9-4734-414D-904B-B52BA675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24CC-6BFC-42F4-9E8B-650969BC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92222-F429-494C-B998-52E51D84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C7D8-E18C-4BBD-88B5-4C1B7A76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12A2-A485-497D-B085-A53B0291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015DF-A170-4072-90A2-5168E061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1F147-D3DA-4561-A922-275FECF1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DF5-0628-47D3-9491-B259A523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8DC-20DB-48B3-B7C6-F5E29687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BE9-8E58-452B-BE35-9EA53C18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5FC-C33B-4A34-8E3E-5854C85C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2FA-6043-4AE5-A94C-49412B8D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830-6A4A-46B2-97EE-192D9EDE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9DF8-722A-49C7-AB60-D2A3477EAA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7164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‹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CD11-74EA-47D5-88F1-0B9C79F9CD1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0670-DF1E-4F16-958B-E1183C24BE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EAAA-DD65-4367-8D8F-FF901806E3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1844640"/>
            <a:ext cx="655344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Civil Dialog Group on "Wine"</a:t>
            </a:r>
            <a:br>
              <a:rPr sz="2800"/>
            </a:br>
            <a:br>
              <a:rPr sz="2400"/>
            </a:b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Friday,  March 11</a:t>
            </a:r>
            <a:r>
              <a:rPr b="1" lang="en-GB" sz="1600" spc="-1" strike="noStrike" baseline="30000">
                <a:solidFill>
                  <a:srgbClr val="ffd624"/>
                </a:solidFill>
                <a:latin typeface="Verdana"/>
              </a:rPr>
              <a:t>th</a:t>
            </a: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 2016</a:t>
            </a:r>
            <a:br>
              <a:rPr sz="1600"/>
            </a:br>
            <a:br>
              <a:rPr sz="16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2. W</a:t>
            </a: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ine market information:</a:t>
            </a:r>
            <a:br>
              <a:rPr sz="24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- harvest estimations</a:t>
            </a: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- 2015 Trade  results</a:t>
            </a: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- Areas under vines  </a:t>
            </a:r>
            <a:r>
              <a:rPr b="1" lang="en-US" sz="800" spc="-1" strike="noStrike">
                <a:solidFill>
                  <a:srgbClr val="ffd624"/>
                </a:solidFill>
                <a:latin typeface="Verdana"/>
              </a:rPr>
              <a:t>.</a:t>
            </a:r>
            <a:br>
              <a:rPr sz="8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- Market Dashboards</a:t>
            </a:r>
            <a:br>
              <a:rPr sz="2400"/>
            </a:b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5516280"/>
            <a:ext cx="69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Guy Dure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DG AGRI-C2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2"/>
          <p:cNvSpPr/>
          <p:nvPr/>
        </p:nvSpPr>
        <p:spPr>
          <a:xfrm>
            <a:off x="4122720" y="6388200"/>
            <a:ext cx="682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4B70-F561-4404-B660-72E04702D2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08000" y="1390680"/>
            <a:ext cx="87120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428472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0395-E549-4A43-A2FD-90F23C223B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70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2"/>
          <p:cNvSpPr/>
          <p:nvPr/>
        </p:nvSpPr>
        <p:spPr>
          <a:xfrm>
            <a:off x="421164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89EB-E6C8-41BA-9906-B279015957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250920" y="1455840"/>
            <a:ext cx="859464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2"/>
          <p:cNvSpPr/>
          <p:nvPr/>
        </p:nvSpPr>
        <p:spPr>
          <a:xfrm>
            <a:off x="4248000" y="6381720"/>
            <a:ext cx="5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D2F1-3EE6-4710-A953-1879EE0C38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2"/>
          <p:cNvSpPr/>
          <p:nvPr/>
        </p:nvSpPr>
        <p:spPr>
          <a:xfrm>
            <a:off x="4067280" y="6404040"/>
            <a:ext cx="68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117E-5CA3-498B-81BF-41C97B6FC7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2"/>
          <p:cNvSpPr/>
          <p:nvPr/>
        </p:nvSpPr>
        <p:spPr>
          <a:xfrm>
            <a:off x="4211640" y="638172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6BB9-6B9A-4ABB-B2E4-79102C8E4B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4140360" y="6404040"/>
            <a:ext cx="65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CB31-02AF-4D68-BADE-D0668B9CEC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547640" y="1409760"/>
            <a:ext cx="6162840" cy="792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380880" y="221292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ttp://ec.europa.eu/agriculture/wine/statistics/index_en.htm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3795840" y="3068640"/>
            <a:ext cx="2871720" cy="49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3"/>
          <a:stretch/>
        </p:blipFill>
        <p:spPr>
          <a:xfrm>
            <a:off x="2384280" y="3568680"/>
            <a:ext cx="1765440" cy="569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4"/>
          <a:stretch/>
        </p:blipFill>
        <p:spPr>
          <a:xfrm>
            <a:off x="5381640" y="4138560"/>
            <a:ext cx="3222720" cy="550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5"/>
          <a:stretch/>
        </p:blipFill>
        <p:spPr>
          <a:xfrm>
            <a:off x="474840" y="4649760"/>
            <a:ext cx="5586120" cy="469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6"/>
          <a:stretch/>
        </p:blipFill>
        <p:spPr>
          <a:xfrm>
            <a:off x="826920" y="5424480"/>
            <a:ext cx="4289760" cy="569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7"/>
          <a:stretch/>
        </p:blipFill>
        <p:spPr>
          <a:xfrm>
            <a:off x="5460840" y="5130720"/>
            <a:ext cx="1198800" cy="6685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"/>
          <p:cNvSpPr/>
          <p:nvPr/>
        </p:nvSpPr>
        <p:spPr>
          <a:xfrm>
            <a:off x="250920" y="2060640"/>
            <a:ext cx="835344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50920" y="206064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2"/>
          <p:cNvSpPr/>
          <p:nvPr/>
        </p:nvSpPr>
        <p:spPr>
          <a:xfrm>
            <a:off x="4176720" y="6381720"/>
            <a:ext cx="6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B00D-7F4F-4936-A8FA-F63CFCF9FB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-19080" y="1231920"/>
            <a:ext cx="9117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2"/>
          <p:cNvSpPr/>
          <p:nvPr/>
        </p:nvSpPr>
        <p:spPr>
          <a:xfrm>
            <a:off x="4067280" y="6381720"/>
            <a:ext cx="68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76D4-4DCD-431A-955B-6C530818E3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715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2"/>
          <p:cNvSpPr/>
          <p:nvPr/>
        </p:nvSpPr>
        <p:spPr>
          <a:xfrm>
            <a:off x="3851280" y="638172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B678-62CA-4B6F-B50E-91C4D89849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Rectangle 1"/>
          <p:cNvSpPr/>
          <p:nvPr/>
        </p:nvSpPr>
        <p:spPr>
          <a:xfrm>
            <a:off x="611280" y="1484280"/>
            <a:ext cx="72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http://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c.europa.eu/agriculture/dashboards/index_en.htm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471760" y="2021040"/>
            <a:ext cx="3971880" cy="399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971640" y="5056200"/>
            <a:ext cx="7488000" cy="1181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34920" y="2651040"/>
            <a:ext cx="3819600" cy="2290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4"/>
          <a:stretch/>
        </p:blipFill>
        <p:spPr>
          <a:xfrm>
            <a:off x="3348000" y="2598840"/>
            <a:ext cx="2943360" cy="2270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5"/>
          <a:stretch/>
        </p:blipFill>
        <p:spPr>
          <a:xfrm>
            <a:off x="5889600" y="2637000"/>
            <a:ext cx="3276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AAFE-7DFE-48F2-A6E3-4598467162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9000" y="1376280"/>
            <a:ext cx="8631000" cy="4932360"/>
          </a:xfrm>
          <a:prstGeom prst="rect">
            <a:avLst/>
          </a:prstGeom>
          <a:ln w="0">
            <a:noFill/>
          </a:ln>
        </p:spPr>
      </p:pic>
      <p:sp>
        <p:nvSpPr>
          <p:cNvPr id="136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Novem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2"/>
          <p:cNvSpPr/>
          <p:nvPr/>
        </p:nvSpPr>
        <p:spPr>
          <a:xfrm>
            <a:off x="3995640" y="6381720"/>
            <a:ext cx="7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67E6-8BC3-46F3-992C-547A141C27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7690-454D-435C-A032-5241E13281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464E-3C7F-4FE0-80A2-B236262AFB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62FB-2C3B-412C-831F-1F7D646342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66640" y="1616040"/>
            <a:ext cx="8067600" cy="399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685800" y="2016000"/>
            <a:ext cx="7831080" cy="256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3"/>
          <a:stretch/>
        </p:blipFill>
        <p:spPr>
          <a:xfrm>
            <a:off x="741240" y="4583160"/>
            <a:ext cx="7791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79280" y="1322280"/>
            <a:ext cx="8856720" cy="520236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89FD-F994-4F48-BBF8-6F9380EAC6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1820-1030-4F4C-898F-82FA855642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566640" y="1616040"/>
            <a:ext cx="806760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587520" y="1644480"/>
            <a:ext cx="8029440" cy="371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725400" y="2276640"/>
            <a:ext cx="7807320" cy="2298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4"/>
          <a:stretch/>
        </p:blipFill>
        <p:spPr>
          <a:xfrm>
            <a:off x="728640" y="4575240"/>
            <a:ext cx="78040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7302240" cy="1728720"/>
          </a:xfrm>
          <a:prstGeom prst="rect">
            <a:avLst/>
          </a:prstGeom>
          <a:ln w="0">
            <a:noFill/>
          </a:ln>
        </p:spPr>
      </p:pic>
      <p:sp>
        <p:nvSpPr>
          <p:cNvPr id="158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AA74-D47B-4B2A-BAB4-6CA686C2B5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8010360" cy="371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941400" y="2349360"/>
            <a:ext cx="73756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5327640"/>
          </a:xfrm>
          <a:prstGeom prst="rect">
            <a:avLst/>
          </a:prstGeom>
          <a:ln w="0">
            <a:noFill/>
          </a:ln>
        </p:spPr>
      </p:pic>
      <p:sp>
        <p:nvSpPr>
          <p:cNvPr id="163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48C3-1825-4429-A17B-B66ECA9655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March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9:08:58Z</dcterms:created>
  <dc:creator>DUREN Guy (AGRI)</dc:creator>
  <dc:description/>
  <dc:language>en-US</dc:language>
  <cp:lastModifiedBy>BUTTINI-PROVENZANO Roberta (AGRI)</cp:lastModifiedBy>
  <cp:lastPrinted>2016-03-10T06:27:22Z</cp:lastPrinted>
  <dcterms:modified xsi:type="dcterms:W3CDTF">2016-03-10T06:28:00Z</dcterms:modified>
  <cp:revision>28</cp:revision>
  <dc:subject/>
  <dc:title>Title</dc:title>
</cp:coreProperties>
</file>