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0DA-B9D8-42F6-A45F-75915CC8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4CF-1898-44ED-8BB2-75E446F2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4A9F6-E59C-4A51-87C8-D4C2823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9E289-08C8-4559-8711-F8580635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4F385-1A83-4823-945B-860EA091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05306-7054-4B24-B8F2-71D875AB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DB7FB-25C5-409C-9888-82CDF68E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F7AAF-F3FC-42F9-A6C6-F9B855F4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C1493-C2AC-4E14-82E9-579A0C91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13C65-6530-41AB-96CD-AF2CF54C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54817-1194-48E9-9456-1649389E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8F336-2B7E-4670-B9C7-8AA3DA09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06F-6620-43C1-AF77-D755F02F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7759C-E944-413B-AFAE-6D668765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A7287-C02F-4B1B-A98C-BAD3ABB5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708E6-A5A9-4EC7-9233-0E3E1F91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8C148-13F0-4E34-B2DE-40ADCC9A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E822E-C5D0-4B1D-BBA7-BB4F8877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F9E38-54E0-420B-8863-40B8A8F5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AFA60-631E-41E1-9D03-9DC3178C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F65C8-1E67-4BF1-B16D-1A755981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E4C93-8592-4D67-9006-E387D720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E5D49-3694-46A7-8F84-29FED2ED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386-A411-4559-8EBF-222877E8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81F2A-222F-482A-9FF6-14C6B083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AB4DA-6F22-4015-A42C-F85859EF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F06B4-9D80-45F4-8455-EC0A2CA5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C565D-4DE3-4C36-A5C9-D9306877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66BB6-23FC-48D2-9D6E-EA8E5DEC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99A06-B5EC-4A89-9F05-A52C1C37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C9E08-6813-4FDC-90C3-05792699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9F220-287D-44A8-A314-1A6378E1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72EBF-5138-40B6-852C-D6B454A6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F0490-1396-47D6-86E6-0AB01CE0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3193-D25D-4EFA-B2D1-86AF89B0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316C7-3C05-47B9-A1E4-4E127346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726B8-D8D4-4671-8004-8B9428BF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E997B-80C3-4C46-9280-F7EB86A9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29948-BEC5-46FA-A5A8-930EE0DB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C7F75-94A8-4094-9536-58FA3795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4E8C0-E234-4386-B09C-F0DB3E46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B8D70-6754-4D5C-8C9F-19E522CF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50BC6-EFD2-4327-B77C-3E7F677D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58C63-0EE6-4FAD-A1C3-800ACF9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C8112-ABEA-46AC-A99A-B584C1DA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7945-3AD8-4B0E-8015-DFFA2EE4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70E9A-A5FB-4B62-81AE-271E6F33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A565B-B04C-4F4E-A4ED-88EADFD9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B59E5-27A9-4F85-AF5F-BB0FF275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069A3-B460-4803-BC85-53F6F4B9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1EA87-42E0-4832-B99E-F3E1930A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3277-1DC9-43EC-90D8-5BB45957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257E-A299-4C0C-93EC-BFB42500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9587-287D-4F82-B7C7-B361F687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C0C0-0246-46CD-B754-8BCFEBD6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B255-68CE-4BE0-90C0-2962C72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401-A89F-4812-875F-88EFA420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CFD1-25D6-4B65-941A-80BAAE30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2403-C62F-452C-9FB6-92955DE6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95C5-2E4A-45E1-A853-C67D506D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C75D-1BB1-49A9-9180-BAE857AC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759F-1C75-4D6B-AD3F-1A2E9EAA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86B1-0C1F-4DCA-948E-2D3CDD89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FC289-5FC8-4919-81F8-0CB4C14F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4CC36-6B40-4D3D-8DB2-6EBA5DFD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0A638-E7C6-4E54-A371-78EEDC00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C75DB-4EC6-430D-A048-336C7537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A66-6462-4071-B3F5-055EA938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3466D-D059-46BB-B945-50BE400C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1C1E9-453D-421D-83CA-D563C155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2A0D-CD4F-4BCA-B1CD-C03A55B0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7A7A7-436A-4AAC-BAE9-A5A3CABD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E06C0-FF34-4866-BDFE-98E46A98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4445-554E-40AA-B438-79DBB028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FA50-3170-4D4C-9452-DBBE7F55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E75A-CF10-4AA7-B38E-C14191D7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553F3-971B-4E77-8D9E-D3A772CA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2BBB-2478-4BBA-87FC-F79CDFE5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12C-3FA7-4902-B82B-617EB348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95AD5-384C-402E-A97F-4CEBA7B0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801B4-804B-4653-A484-56F5EEDD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A9FB6-CC42-4A42-9815-4F0A5960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FA5DD-06BD-4C09-97C3-DA0ECD63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5BE70-2520-4AF0-9CED-5D44CD92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3C2B9-33F6-483D-B53C-49DCCA7C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AC7FE-FC87-4856-BDC2-0AE0E204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94D5C-1AC8-4D54-8B7D-6ECEAB6C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3997D-4255-48EA-9771-097B943B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9A1D1-C265-4D84-BB6B-8DE35B9A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47C-E5F7-4E76-8F1C-F732248B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E77F3-DA02-4460-82EA-1DA6B2A9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D3E8E-A2A0-481F-8365-2585CCFB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EE55E-7F1A-4074-933B-AB6E86E9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411E4-5C4C-4755-BB29-E07F3D7A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F112F-EA55-4566-AE89-AE84E493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D2CE8-2DB5-408E-B115-1A850761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81CAB-CBCE-46D8-81D8-24CFFC33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2758B-F753-46AB-AC64-D970C7F7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D597B-035C-43C4-BD81-1567957A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A7D2C-CC01-475C-89A9-545769C3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C3E-FF30-4261-94FF-7A1F6D41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1715-D45B-40C7-A19A-BC24D3D5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1603F-8DDC-48F9-84A1-01453DA7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002CC-CC2A-4152-A338-EC0FE506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D325C-DC5D-4958-9458-662322B8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0E034-9B48-4C73-B274-FE73AA69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24FCD-CA3D-4B0D-B77B-A0A4FB3D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28251-EC0E-4ECB-9A2B-EA1EC13E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B5685-39EE-45C9-83D4-44C3C5EF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172E-3B22-47CC-8A9E-39F7AA6F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5B88C-701A-44A6-B20E-AD520BD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6AE-3A0B-477D-8FD1-C3AF252A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77C30-3D98-4E38-8823-347B3EA2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0C20F-5F9B-451E-BAD3-92AA7688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86CCF-6C80-44AF-B95A-8D8EE5F7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6C968-707F-4913-8DA2-9CB9252C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D89CF-1513-4302-BB40-6A97CC76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73C1D-CD1B-426A-9509-9DAEF166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93E18-E37A-4254-AF43-DC53E6BE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B1130-D157-4DF6-AD1C-D15DD2F8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F50C8-D48A-4565-9A58-64981513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96C87-0419-49A2-94CE-AE6164FA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632-3EAC-409B-95F9-D97BF4A8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63162-CC0D-4206-9C31-9C0E66E0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7396A-F1A4-4485-9AA7-6EF76D01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5E5D2-57FE-4B27-88C0-B8B17A48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801DD-36AD-4DB3-88C9-67C70384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5B2FA-B372-48B0-95D9-8F014FC6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57C62-8668-41B2-B2B2-3AB66CCE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AECC4-5562-4B7A-9014-D57C1A06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D4E89-2C09-400A-BB2F-E4C899AE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2D97E-018E-41EC-82BB-08A64F06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250F9-4383-4E6D-A530-556352F5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FBC-305C-4FC1-9BA9-6E580EFB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3C5E2-0540-41C3-ABF5-52214202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A3570-ACA7-4AD9-B66C-BA8E39AD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38266-DA7D-4365-973B-EF36D6A1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47D6B-B292-4C33-A2FC-770D4B9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45E67-4835-4D56-A192-FC110D73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FB0D5-CE87-492E-AC43-F910E2E4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B1BC7-9858-4A89-8EBB-FEFDB927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C206E-6992-40F6-909D-F676AA8F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3519A-51B7-428D-8F21-AB621F57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73281-799F-437E-B28B-32E89D00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B8E4-3C0C-4581-8E7A-716572AA63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2CC6-F313-4E8E-A1D9-D9CFD388F1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9448-312F-4056-A2EB-ED19760D2E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16A8-4961-48AF-BA74-1E9E074611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5CD0-6424-4A74-82CF-B8E84B0687D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4EDC-B489-4932-B49F-10EE6A4592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21F2-6A45-4279-8BEA-00ACC05823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B915-1CFA-4E54-B3BF-A53BF9EB94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24E6-D0AD-4100-B38A-7E1DDA63A5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02A4-312B-44BB-9D1F-7BC6DBB288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334F-02F6-43FA-B6E1-D30EF70FDA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FB8F-1D4C-4801-A1CA-6599CA83F2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63160" y="1773360"/>
            <a:ext cx="8682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New market transparency initiatives in DG AGRI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91680" y="5157720"/>
            <a:ext cx="8425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DG ARABLE CROPS – SUGAR + DRIED FODDE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of June 2017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0" name="Title 1"/>
          <p:cNvSpPr/>
          <p:nvPr/>
        </p:nvSpPr>
        <p:spPr>
          <a:xfrm>
            <a:off x="266760" y="3573360"/>
            <a:ext cx="8675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Sugar Market Observatory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826920" y="1484280"/>
            <a:ext cx="73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Register of Commission Expert Group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http://ec.europa.eu/transparency/regexpert/index.cfm?do=calls.calls_for_app</a:t>
            </a:r>
            <a:br>
              <a:rPr sz="2000"/>
            </a:br>
            <a:br>
              <a:rPr sz="2000"/>
            </a:b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785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42a62a"/>
                </a:solidFill>
                <a:latin typeface="Verdana"/>
              </a:rPr>
              <a:t>Just a reminder on market transparency: </a:t>
            </a:r>
            <a:br>
              <a:rPr sz="2800"/>
            </a:br>
            <a:r>
              <a:rPr b="1" lang="fr-BE" sz="2800" spc="-1" strike="noStrike">
                <a:solidFill>
                  <a:srgbClr val="42a62a"/>
                </a:solidFill>
                <a:latin typeface="Verdana"/>
              </a:rPr>
              <a:t>Agricultural Markets Task Force Report, published in November 2016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50560" y="2852280"/>
            <a:ext cx="8569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https://ec.europa.eu/agriculture/agri-markets-task-force_i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Issue: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data gaps in the chai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Objective: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fill gaps in order to increase market transparency along the chai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Recommendations: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2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- Collection an dissemination of data, deeper into the chai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2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- Creation of a platform for better integration of available dat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2a62a"/>
                </a:solidFill>
                <a:latin typeface="Verdana"/>
              </a:rPr>
              <a:t>EU Market Observatories:</a:t>
            </a:r>
            <a:br>
              <a:rPr sz="2800"/>
            </a:br>
            <a:r>
              <a:rPr b="1" lang="en-GB" sz="2800" spc="-1" strike="noStrike">
                <a:solidFill>
                  <a:srgbClr val="42a62a"/>
                </a:solidFill>
                <a:latin typeface="Verdana"/>
              </a:rPr>
              <a:t>tools to enhance market transparency </a:t>
            </a:r>
            <a:br>
              <a:rPr sz="2800"/>
            </a:br>
            <a:r>
              <a:rPr b="1" lang="en-GB" sz="2800" spc="-1" strike="noStrike">
                <a:solidFill>
                  <a:srgbClr val="42a62a"/>
                </a:solidFill>
                <a:latin typeface="Verdana"/>
              </a:rPr>
              <a:t>and market analysi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4340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aim of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arket Observatorie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s to ensure more transparency in the relevant sectors by disseminating market data and short-term analysis in a timely manner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Key deliverables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- Dedicated web-pag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Market data and statistic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Discussion platfor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Reports and market analys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42a62a"/>
                </a:solidFill>
                <a:latin typeface="Verdana"/>
              </a:rPr>
              <a:t>EU Market Observatories in DG AGRI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23640" y="2205000"/>
            <a:ext cx="8569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DG AGRI has already succesfully established two Market Observatorie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- EU Milk Market Observatory (April 2014)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- EU Meat Market Observatory (July 2016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March 2017 Commissioner Hogan announced the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reation of two new Market Observatories for Sugar and Crops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Cereals, Oilseeds, Protein crop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557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a62a"/>
                </a:solidFill>
                <a:latin typeface="Verdana"/>
              </a:rPr>
              <a:t>Creation of two new Market Observatori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8569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Kick-off meetings (tentative)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- 11</a:t>
            </a:r>
            <a:r>
              <a:rPr b="1" lang="en-GB" sz="2000" spc="-1" strike="noStrike" baseline="30000">
                <a:solidFill>
                  <a:srgbClr val="0f5494"/>
                </a:solidFill>
                <a:latin typeface="Verdana"/>
              </a:rPr>
              <a:t>th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 of July, SUGAR M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- 20</a:t>
            </a:r>
            <a:r>
              <a:rPr b="1" lang="en-GB" sz="2000" spc="-1" strike="noStrike" baseline="30000">
                <a:solidFill>
                  <a:srgbClr val="0f5494"/>
                </a:solidFill>
                <a:latin typeface="Verdana"/>
              </a:rPr>
              <a:t>th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 of July, CROPS M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he two new Market Observatories should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upon the positive experience of the two existing MO (milk and meat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ttp://ec.europa.eu/agriculture/market-observatory_e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42a62a"/>
                </a:solidFill>
                <a:latin typeface="Verdana"/>
              </a:rPr>
              <a:t>Dedicated Web-pag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1692360" y="2006640"/>
            <a:ext cx="59040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42a62a"/>
                </a:solidFill>
                <a:latin typeface="Verdana"/>
              </a:rPr>
              <a:t>The content: MMO as an examp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0" y="2349360"/>
            <a:ext cx="4643280" cy="40672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4788000" y="2349360"/>
            <a:ext cx="424800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960" y="1197000"/>
            <a:ext cx="910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2a62a"/>
                </a:solidFill>
                <a:latin typeface="Verdana"/>
              </a:rPr>
              <a:t>Two new Economic Board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8360" y="2133720"/>
            <a:ext cx="8136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spcBef>
                <a:spcPts val="499"/>
              </a:spcBef>
              <a:buClr>
                <a:srgbClr val="0f5494"/>
              </a:buClr>
              <a:buSzPct val="11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aim is to build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iscussion platform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o foster transparency, to evaluate market developments and to highlight and assess the current market situation, for the sake of economic operators and Commission servic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0840" indent="-330840" algn="just">
              <a:spcBef>
                <a:spcPts val="499"/>
              </a:spcBef>
              <a:buClr>
                <a:srgbClr val="0f5494"/>
              </a:buClr>
              <a:buSzPct val="11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0840" indent="-330840" algn="just">
              <a:spcBef>
                <a:spcPts val="499"/>
              </a:spcBef>
              <a:buClr>
                <a:srgbClr val="0f5494"/>
              </a:buClr>
              <a:buSzPct val="11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members of the Economic Board will be (maximum)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14 organisation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, each represented by max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wo market expert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, representing all the different economic actors in the whole chai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0840" indent="-330840" algn="just">
              <a:spcBef>
                <a:spcPts val="499"/>
              </a:spcBef>
              <a:buClr>
                <a:srgbClr val="0f5494"/>
              </a:buClr>
              <a:buSzPct val="11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0840" indent="-330840" algn="just">
              <a:spcBef>
                <a:spcPts val="11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election of the appropriate experts has been launched via an open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all for Applic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0840" indent="-33084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1412640"/>
            <a:ext cx="910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42a62a"/>
                </a:solidFill>
                <a:latin typeface="Verdana"/>
              </a:rPr>
              <a:t>Timelin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24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0 April 2017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adline for applications for the selection of members of the Economic Boar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 algn="just">
              <a:spcBef>
                <a:spcPts val="24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May 2017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selection of the experts for the Economic Boar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 algn="just">
              <a:spcBef>
                <a:spcPts val="24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June 2017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irst webpage with initial input of information and data se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 algn="just">
              <a:spcBef>
                <a:spcPts val="24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1</a:t>
            </a:r>
            <a:r>
              <a:rPr b="1" lang="en-GB" sz="2400" spc="-1" strike="noStrike" baseline="30000">
                <a:solidFill>
                  <a:srgbClr val="0f5494"/>
                </a:solidFill>
                <a:latin typeface="Verdana"/>
              </a:rPr>
              <a:t>th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 of July 2017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kick-off meeting of the Sugar Market Observator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FAIRBROTHER Vera (AGRI)</dc:creator>
  <dc:description/>
  <dc:language>en-US</dc:language>
  <cp:lastModifiedBy>BUTTINI-PROVENZANO Roberta (AGRI)</cp:lastModifiedBy>
  <cp:lastPrinted>2017-06-01T07:01:47Z</cp:lastPrinted>
  <dcterms:modified xsi:type="dcterms:W3CDTF">2017-06-01T07:02:34Z</dcterms:modified>
  <cp:revision>259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