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dt" idx="88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 type="body"/>
          </p:nvPr>
        </p:nvSpPr>
        <p:spPr>
          <a:xfrm>
            <a:off x="687240" y="4713120"/>
            <a:ext cx="548496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 type="ftr" idx="89"/>
          </p:nvPr>
        </p:nvSpPr>
        <p:spPr>
          <a:xfrm>
            <a:off x="-36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 type="sldNum" idx="90"/>
          </p:nvPr>
        </p:nvSpPr>
        <p:spPr>
          <a:xfrm>
            <a:off x="388440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8FA9-ED8A-4EEA-B7B4-929049963B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7240" y="4713120"/>
            <a:ext cx="5484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Slide Number Placeholder 3"/>
          <p:cNvSpPr/>
          <p:nvPr/>
        </p:nvSpPr>
        <p:spPr>
          <a:xfrm>
            <a:off x="3884760" y="9426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BCDC-A7C6-4838-BB32-77E0F546542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CBC-1A78-46B3-8AE6-D5ECB566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356-09E7-45C8-8306-D0F705E5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C16EF-9B85-4CDE-8932-53DA9010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A8B3C-BC23-4D8F-9150-793D25F8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58C40-A8DF-44F2-897E-0AFC3968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A0198-0353-412D-AA3B-12765450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5F6CF-FE4C-436D-A463-0068AF4E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7BE86-0FE9-4E4B-A294-C8F30FC0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E1832-D919-498E-9C5F-1291526D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1258B-5373-4A8B-978A-B65CA3F8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01838-CB91-4663-B086-9028E731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E8B1F-8725-456D-87D8-8749FFD4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931-C31D-47C4-822B-F376C408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18331-ECB4-48DD-94AE-58FF98AF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F4B94-53A2-4012-BB27-FEF53134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0070A-FE5D-4738-8C1B-52FD349C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B0F0A-7D3C-4850-89EC-C3BA7455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393A0-F100-4A60-B4A5-7B18C5CF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C0D7E-371D-48D2-9065-61511B17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90CF1-596C-4143-8D3D-DBDDDD82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F3938-FE9A-4D30-AE1A-A828851D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CB8A9-2CAC-479C-8746-33834534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C9925-F6C0-4302-B5C0-77F40562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5FA-11BE-4758-B84A-8E6D58A5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CBCAC-3E17-4796-B3B0-6B1F8D97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E9232-800E-4901-B5DD-906EC932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9FA11-445C-4647-B16C-C694AE35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7134C-90BF-4835-BB9D-2C36D137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72DCA-7F7A-4CED-B1BD-4443E2BD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C2162-2722-4E99-B7F1-F65AC865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089C8-1E79-4822-BE16-57AAE824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6D992-A8AE-497E-B717-E2F0DB52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D8085-1A6C-4331-820D-D938DB9E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36199-B3CA-405E-8BE2-02095870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1778-6398-45AC-8C5C-2FEBFC8A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AE762-DD98-42F6-AA8B-46097962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1E822-B6A7-4685-9EAE-30CC29C2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D1E0A-303E-493F-8607-B0FD6824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F2833-2D11-4A0A-BF52-291CAD04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C29F7-2E78-4254-AC81-0BB64966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1FF90-1CF6-432A-9C70-37F72F73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EF171-B3F4-494C-B018-2EA33856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7B69D-5255-420C-9EE0-A629E7BB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7EAEE-BD7D-4560-9E4A-AF9C37DE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13883-1ECE-4639-8151-31C3063C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86A4-EA9C-4C3E-95AC-6FAD7C09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215FE-8AB4-44DC-843E-A448C778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15A49-8A2D-48B3-8AA5-AB851E60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57611-128D-4D94-936B-B3D180B2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09A15-DBD8-4A25-A10D-609ED034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433B3-CF4A-41FD-B0A7-3E2C2EA8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4C9E9-B5F1-4451-8645-82B9CD36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E59C0-B02C-48DD-8C8E-CF7C762A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426DF-42BB-412D-A991-010DF9B7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8AFE3-6DC1-4473-AEEA-F0E7802B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06D861-2EAF-4E42-8FC3-12ABD1D1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9C09-2ABD-4D96-A907-56DD9333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12D95-423A-4998-842D-93055F1F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2AEEC-2DE0-4BC7-A4E5-DA692AC7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74319-7319-4129-A67E-E2BD3B5D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9CDE3-5094-4DE4-904B-BAD583F2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DF72B-18BB-4D15-A3B0-940E9122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BE73E-A464-4426-811D-E4EA87B0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CA9AC-4EB0-462F-B1A1-F7EB61DD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634F7-9800-4831-AFF7-2B2E5B54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3611A-EEA5-4707-A0D3-76E2AF6E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7CD0A-D9A2-4334-A96B-38C9F5F3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D5FC-4FE6-4345-9224-C2C01E8D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E0ABA5-8CCD-437F-A6BA-9E366896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E28E72-B2B0-4572-89EA-65E85FA7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92FEB7-9E12-457A-A325-75B564FA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3CB399-F621-416B-95DA-E493D298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CCE8A-906D-42F0-A531-575E0802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040F9-6611-47E8-90E8-505E58CE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9BD1C6-F225-4EF9-A725-E17880E4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D871C-DF34-4615-A2FF-94B4C016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0AD40-278B-450D-B703-08FE954B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DFBC60-87E5-4F3E-BFF3-7889398E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A44D-B352-4415-9382-4B5196D1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805E7-810E-4078-9349-B886C9DE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D2C1F-139E-426B-9522-C8ED0C21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574888-1D12-406D-987C-FC6273D2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856699-3290-442A-A0C9-AC582903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8CD10-A9FC-4109-9BDA-90188816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E987E-AC54-417F-BB91-C175970D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184D3-E31C-4EED-ACCC-F0360005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A602D2-EBB8-4600-8900-FCD1608D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686AA-2984-4D95-9E57-B77E6D5B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B3157E-6D29-4D39-9095-460C4A1A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B91C-D216-4DE7-AFA4-2574A2B7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8C9559-47E3-41D5-A703-CDC7C418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1C4E93-4F7B-411F-864E-6412FF56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B31700-CB30-4B9B-82ED-576A54C4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F48A3-2C2A-4B07-90B3-FE3AE03D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B4AF38-512A-4437-B536-F0319735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2B49B-8FAE-409B-B036-C48F08F7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1DD629-DD29-4EDC-8276-C00ABAC1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B4251B-BF93-4EC6-8316-DA53D7E8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88DA8E-C1DA-4A9D-9334-AC9A45A3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43AB89-E617-4224-A6E1-A01AF270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2816-1A8D-475A-AF4E-83BB2754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F8FBA1-36B7-4D2B-A7E3-F26D3499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48E0CA-802E-4362-AED6-CE4D5E43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4E5C48-8D2A-4ABC-9EED-615E7B8D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7E39B7-470C-452E-A390-7992E3B8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792488-932D-49CE-9238-B753A951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737651-A639-4DDC-9F4F-C25E25AE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062087-1E17-4FAC-83BD-70931F21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BE055-F6AB-4EFA-BDC0-2C97819A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F66207-72FE-4003-AE3B-A869D944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9FF478-EC21-4169-AACE-4D0E2CDF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CE9-B495-43E2-9D80-5C7C6CD5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7347-E24D-40B1-9B35-72858A73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6D36EF-16CB-4D07-A184-3DC9554F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3F3D8-8FF0-4AE4-ACF6-55418297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72F49D-DFBE-4478-AC81-6678F2FB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908650-BE37-4CFB-9461-F498C73C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DEA2CE-0ED2-4292-8739-24002461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F667AC-74FE-4EE4-B506-C9919D98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AD8D24-2BA8-4C32-A7D0-25D3836B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57BB2B-5C77-4BB8-85DB-02896EFF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8DE77F-ACBF-48F0-BE09-EAB281D3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6C2921-CEB2-494F-A503-5159B77F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7AB5-7CF6-45BC-9D55-2B06DB85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442FBF-60C8-44D5-ADE7-4F745D62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21035C-1B64-4B42-879A-E3338308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E47146-8896-4D50-B4BA-FD558890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59DA9A-A26B-4BFE-90D0-30652703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B9B1E9-C3C8-4155-9493-07F1720A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AD20AF-FBA3-49C0-9FB6-08445025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03DC99-C627-4647-8395-56CD7AC9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EC12CD-6DAF-4ADD-B17C-D3503719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56EC10-39F4-4D7B-8770-C142F3E4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7F41E1-00F9-4AFA-8D94-CC4AFABB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C452-E593-4736-BDC7-FA4D9CD2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43F7FF-460F-41B0-81D7-A5147CF9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9B9C9F-288F-4170-84C1-128B9F90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479234-4433-40F5-B03B-7D6F563B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74E777-7C9B-46EA-A3E9-E7D8A0CF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6518FB-89FE-4C83-A1F0-E0A316CE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7E4409-6188-476C-A714-04F7F6DD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11BC2B-DA4C-459F-AD69-47EB501A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33B745-BB51-4A42-9332-35B53622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9DA5F6-6C59-49E7-8830-C1A400D5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C61A23-2350-4593-A0C1-918C04F6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8DD8-4469-44F8-9C12-AC2DE12D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87321C-1651-4A0A-A4E7-4DC697A8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D6FEFB-FF25-4754-9404-199B3D71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A2B0F5-7FF1-4D31-BB8A-B79C54D0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9CED9D-FD6A-4693-BD00-6F14C997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6A73D2-7BD9-4036-A451-742850C0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B57405-6FB7-4171-B5C1-1885322F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45B3B9-AE39-47F0-9965-02C6016B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86A63C-A98E-41ED-8C79-CF70E26A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5F5A82-E463-4675-A1A5-E1FCB796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8422A7-7DFB-49B6-B020-F92C5A6F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5B5C-DB40-440E-8D1F-F401C86C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0DC5C9-A4C8-43D2-9D56-666A40FE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FEC22F-4A67-4097-865E-6B14CE35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46E3FF-09E6-461D-9FDF-2E5E3676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992282-243B-4763-BB9A-E03E955A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22A61C-4146-4708-88BE-10100C9E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3BF819-0D75-41EB-B402-185E9EA8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2E60D3-50BC-4C37-BED1-7DB92EDB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8B6DBA-5345-4302-B085-E2D2B227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856242-E180-4E83-8ACF-FAC18B12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F7D5E1-0FB9-4C99-AB7D-3D5F290D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A885A-9DFE-4338-9908-4336F833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637FC2-F7EB-49AD-8D24-7B99B081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20BA87-FD01-45A2-9EC5-E2610E96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0E5D48-9E73-42BF-AB97-81CD30B0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91F017-DDAD-4531-977B-39BD7C58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EF9B3C-B0F4-490A-AE1C-296E1D07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CAC86D-2B85-43DB-9B1C-1F237758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6FC699-1E1D-4390-8645-E6EF4329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92A001-BFC6-4326-91E0-AD15E719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474EA8-70BE-4EDF-A58D-A192EA92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827F57-CC5E-4E01-8B9F-3CF70F91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680E8-8157-460D-B0FF-16A7AFD4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C95B1E-46BC-4B09-BEDE-03A02DA0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20E318-DDD4-48D6-8D07-EB9A7E77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8C30E3-A1F5-4B69-B1B3-B7E3571A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3D9F7E-4C30-43F1-BFAE-44D38679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8E6398-9607-41C8-82D6-0F13C221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3FDB60-D721-4054-B243-0DC4E234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371923-3940-48DA-B334-8078C373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32F02B-745C-4D77-8BC0-473BD662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1BC68A-975C-4867-8D80-E5E55038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E3E0A2-4A68-4681-BCFB-7F0F8384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C48C-B93A-4AAD-A2CE-01515EB8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F6188F-40A0-4554-9254-BD9D5E18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B5C0E4-B0FE-4CE0-8D67-B1737F61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C5E0CE-B52C-44C9-B43C-71154912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4636FB-BFFB-42BE-AFFA-66E22681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1416E3-30A5-42F1-972F-D66AF418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7DE81F-7E80-4858-A18E-3CFBCD82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060EE4-1BCD-470B-A8AE-12408316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A56EC1-A4FE-4E76-AC77-E897026A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59AEF7-0E8E-4AA6-A3AB-72A6CD71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02B024-DA05-444C-B547-C44A70DD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FE3A-42B9-42E0-B1E3-0E94FB88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AED57E-98AF-495F-8E39-DC5DE364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49F128-3D45-45AB-9190-2C84878C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961A33-EA5A-45B0-BAB2-4F28178C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0677B7-EA41-4720-A9FB-22561ED4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DB7E24-702D-4B20-B5E0-21C02AE3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5C1A60-35D5-47A1-95A1-71B18C6E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F7B23D-2471-403B-8B9E-96F9A6DC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4D783B-E621-4985-8D13-6AB5A837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845710-072C-4D7D-82A1-77F6B099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12B712-1511-4AEB-AA02-798535A2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D1DBD-3695-4313-94F2-E2419D5B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94AE96-2739-4C07-945C-82A50A93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EC039C-692B-43DF-9070-DDDDC566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4B162A-2B5D-43EE-BB8E-2A0A9F67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299622-66C7-4665-9C8A-0FD05610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0FCC51-1A20-4919-86D8-B5E0F229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EF5199-524A-4141-9933-33C46AB0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2E767E-5726-430A-88C1-39769B46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74A44D-988C-414B-A113-C08E45E6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9F350B-5516-47F7-A088-89EBC3C4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096248-37C9-4431-BBF3-DB1C1D59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CB1-4EF7-47C6-962F-50DBC63A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CFEFC-B3E9-467D-874F-0DF7B6AA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2C5021-6EFD-468B-905B-2719A539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1FE663-396F-429A-8C83-411A8B58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110616-F46C-4518-8217-EF861F96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14B29F-E3FC-4C1F-8269-BCF3C26B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847A47-C134-406E-A4AA-C0DA6B81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F20E54-3781-480C-8FC9-F43010B6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709F7B-5F7D-4C21-AEAD-7EF1EF04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B76E23-98EC-41C4-98CB-C8B0C7A7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34BE17-DB92-4A2C-8C47-49BAEEA0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C9C6C1-E447-46FF-9220-FA56F958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FC248-92B9-415A-B76A-C1D94AC9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E9F30C-21D9-4584-9DAA-F9CF7C18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50E9DD-3400-47A9-8B7D-7225DA38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42984E-1F12-4E25-8CFD-72A4CA6C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E6A56E-D0C5-4ED7-B5C6-DF4270B6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315181-E3B0-4F41-B0E9-8424768D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EBDA61-B656-4AD9-B973-67E78421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2FAAF4-C4FA-49F6-8141-C5B9A116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95C7BA-B7F6-42BB-BD09-5FCBBCD3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B3C573-EAC1-427F-9488-B9797E88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BD05BD-2DC2-4B85-8469-05B95434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13DBE-4C57-4143-B1AA-89A3FE44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832738-F71C-4775-B7F9-8374C24B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7D2D05-6AAC-49A6-9960-23F9E3DF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D0A38C-18EA-47E1-9D47-CF442DDF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ED71C7-CC42-4EA1-BCB7-72E5718D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B5E3B1-DF70-4D07-808A-E86FF283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4F1902-BBF3-4B4B-B89E-38934734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BA62FD-8B48-4049-BD53-0F8DA186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C6F007-8668-4B3C-BF2A-0D55A6DA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296BBA-1DA1-4531-9EB7-CA0C3401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46EA15-3466-4109-9BA6-BC9EB3F7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280BA-9284-4507-A87B-D3CABBB7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DB8F5E-C358-4077-9F00-8C18FC43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13B3DF-D179-470B-8745-1CB74388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8A282E-5E96-4E54-B1E4-DC44112A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3422DB-3CEF-4AB6-921C-40257B71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09F38C-1FD7-470A-8D24-4C8CD59C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97B8FF-2EE0-45DB-B753-091FB5A7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86704F-BEB9-4AC2-A6CB-C86195D6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7C705E-5DED-4174-B0DE-28479767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1957E7-9FC5-42DE-BC5F-17EF6D8B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BACC3B-6C8F-49FC-B9A1-5BE2C00E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F941F-C895-4CF6-8030-6A069FAC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0BA7C9-3A7D-461B-88B0-F0558F23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9BF185-5A53-43D1-8943-E2DA1A2B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438FEC-B980-40C6-A5B4-BC7CC649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4C6873-745C-43A8-8918-B918F4E4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D0973B-BC9C-4EC2-B564-38F09153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3C6048-1CE2-4F5A-A643-B4589BEE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F4CEB9-9A75-4E2A-8EA8-107B023E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3B5F8C-4144-40B3-91FF-9D86808B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73CCBE-CF3A-469E-9560-FB53BF1D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D025A-50F8-4821-AD04-56AC0386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A26B3-A912-4907-A7AF-9C3D8C6B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89A7E-885C-4633-AA4C-2E6633CA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53031-7C7D-4273-A6F3-84BE46FF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554F1-C47D-4286-BD2A-69165998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6993-D4A4-4B99-91F3-C49F914D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CB65F-2C8A-4B54-97B1-67A58C4C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AB798-E486-4492-8CEE-D0CA9A51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1E1C5-F006-4870-8C6F-9900C1F0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6C686-2F35-4ECC-A9CA-D1071751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98D50-C2E0-4D17-BCB1-4D78031D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EDDC0-B241-4144-A27C-3C30F25E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C2880-3A91-48E8-8BAF-089DE3FA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93703-4B5F-40BA-AC1A-EC6599CB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370E8-14FC-42F0-807C-E7D8ABED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67F2A-BADA-48F0-9EED-F6ED767D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EC3-82DC-4ACD-A747-EC2BEBFF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EE56C-6C36-48C2-9A8B-BC721C8B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400FD-ED86-433F-9364-BFA3C783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23DC6-33E2-4562-B4B6-642CE16E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3BF48-4464-4841-BEF0-1C0F1E4D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54F44-03F2-4866-B320-CA514193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02EF1-2D72-4ED0-92AF-B42BBDB2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05CF5-C583-4280-86D6-C221CF80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5B766-4F54-41F8-9292-1C5F3BD0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9B20E-24C8-400C-8308-D4BDF66C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B1862-C32F-4F73-9880-8F3757B1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48A-9599-4D4A-A8FC-8C8F42E5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A1619-ABE0-4643-9613-1E88E778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D575B-577D-452D-B0E2-42DA322F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42236-9BD8-44C7-BCF4-41148095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2DC81-9115-4995-91B9-8BD3F5E8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0770C-32D4-454D-B1D5-9D8E7C3F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171F9-40A8-4B5F-AE03-D6832056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CCD94-F61F-4A02-947F-321FFCEF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58DB4-1765-4EBE-A2B4-F92E7972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5304C-D817-4DCC-95B4-898BBD8A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8EF06-024F-4235-8461-C3FCC1CA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4C4-FC58-4C32-ACBD-93BC44B8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84D8D-0F68-47BB-84E3-6586ACD2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8BD60-18F6-47E1-82E9-94B45FFA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30E41-7F93-4DDD-858E-60B280E1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9CDCB-5B52-4ED9-8DE3-307BB915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09B10-BB95-4A35-BF2A-21CAB9A3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44E81-BCFD-47D0-BDF4-727BD0B8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8540A-5D76-4E4C-AAC9-DCD27925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45665-C52A-42F7-95F3-D2A57A2F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F92B6-F77B-46FF-9949-4470AC47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8ADAC-123F-4D9F-B5E1-4765A194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C1C-024C-41B1-B1DC-93F01137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35953-4A34-4C92-BB4B-EBCC43A7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9BBAB-A319-4D70-A110-D3A91072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A4C13-3A88-4241-B0A4-227D6109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BD015-666B-4DE9-99CF-1043E180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AD123-B318-4725-A513-6F43C77E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FFD03-0072-4CC9-A90A-A8BF1C80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1977E-900F-4EAC-8607-96F1C453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865B9-F5CE-4B51-8DE8-752EF2AC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09934-C680-4494-9573-86E9853F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5139A-7751-4C70-BD23-223D4A37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A05-5C92-4E21-8B11-5B0E4E1D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B09FB-BCE5-409F-9E70-F50B3215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6AAF8-0739-4F57-84B2-7C0C98FC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92265-698A-46A1-ABE6-165EF982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E9FD2-1A71-4CA7-93B2-02289B9C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6B2B0-BE6D-4FF5-85C6-F92D2E93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7CE54-ABCE-4E64-86C0-E90D8651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5A345-114B-41B5-8DB9-3AC4B7B2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4748C-38CA-4276-A02C-08105AC8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DEE0A-91DF-4ECC-84B5-289C16D4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A4B3D-0BD4-4E7E-B724-F5F85E9C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93.xml"/><Relationship Id="rId11" Type="http://schemas.openxmlformats.org/officeDocument/2006/relationships/slideLayout" Target="../slideLayouts/slideLayout194.xml"/><Relationship Id="rId12" Type="http://schemas.openxmlformats.org/officeDocument/2006/relationships/slideLayout" Target="../slideLayouts/slideLayout195.xml"/><Relationship Id="rId13" Type="http://schemas.openxmlformats.org/officeDocument/2006/relationships/slideLayout" Target="../slideLayouts/slideLayout196.xml"/><Relationship Id="rId14" Type="http://schemas.openxmlformats.org/officeDocument/2006/relationships/slideLayout" Target="../slideLayouts/slideLayout197.xml"/><Relationship Id="rId15" Type="http://schemas.openxmlformats.org/officeDocument/2006/relationships/slideLayout" Target="../slideLayouts/slideLayout198.xml"/><Relationship Id="rId16" Type="http://schemas.openxmlformats.org/officeDocument/2006/relationships/slideLayout" Target="../slideLayouts/slideLayout199.xml"/><Relationship Id="rId17" Type="http://schemas.openxmlformats.org/officeDocument/2006/relationships/slideLayout" Target="../slideLayouts/slideLayout200.xml"/><Relationship Id="rId18" Type="http://schemas.openxmlformats.org/officeDocument/2006/relationships/slideLayout" Target="../slideLayouts/slideLayout201.xml"/><Relationship Id="rId19" Type="http://schemas.openxmlformats.org/officeDocument/2006/relationships/slideLayout" Target="../slideLayouts/slideLayout202.xml"/><Relationship Id="rId20" Type="http://schemas.openxmlformats.org/officeDocument/2006/relationships/slideLayout" Target="../slideLayouts/slideLayout203.xml"/><Relationship Id="rId21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d Wednesday, 11 January 20122 Februar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pared for Unit 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082A-FAF0-48FB-BE2E-C65ECA79BB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E746-EC5B-4B46-BB0D-6F129BEC35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C3B4-F37A-4FBF-83B5-5E37D84301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790E-C84C-424D-9972-6A96D98F4A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C8CF-604C-4CBE-9E66-A7AA0C29BE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CDC8-9400-4BBD-8F0C-CE039D3BEC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C259-2186-4149-AAED-7F3BC43891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1D90-7763-4306-8D6F-BEACAB9C5B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D43B-5A2D-4E91-A48E-F3CB9535253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10"/>
    <p:sldLayoutId id="2147483858" r:id="rId11"/>
    <p:sldLayoutId id="2147483859" r:id="rId12"/>
    <p:sldLayoutId id="2147483860" r:id="rId13"/>
    <p:sldLayoutId id="2147483861" r:id="rId14"/>
    <p:sldLayoutId id="2147483862" r:id="rId15"/>
    <p:sldLayoutId id="2147483863" r:id="rId16"/>
    <p:sldLayoutId id="2147483864" r:id="rId17"/>
    <p:sldLayoutId id="2147483865" r:id="rId18"/>
    <p:sldLayoutId id="2147483866" r:id="rId19"/>
    <p:sldLayoutId id="2147483867" r:id="rId20"/>
    <p:sldLayoutId id="2147483868" r:id="rId21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518E-A07F-4EED-9118-391E08C2804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D030-2D07-4997-9591-43D62F531FC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09CA-A04C-4372-B3C7-C343345B89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11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12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58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59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60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032A-C923-4D71-A11B-D7F79007CF85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5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56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6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6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6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7399-B78B-4D49-B39D-6805AD282071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9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0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6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6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6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CB31-7802-417C-9652-16C56B0317F2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3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44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67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68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9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18AF-4979-4BF7-A39B-862B49520220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88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70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71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72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45F0-4B1A-4284-ABF9-B14741A7D76F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31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032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dt" idx="73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ftr" idx="74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sldNum" idx="75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17A0-A60B-49DC-978A-2DE2A359D436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7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076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dt" idx="76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ftr" idx="77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 type="sldNum" idx="78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0DF4-CDC8-4784-88F5-3B4D009C6FF3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1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120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dt" idx="79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ftr" idx="80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sldNum" idx="81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12C7-76F5-408D-B629-8915A271082E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63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164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 type="dt" idx="82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 type="ftr" idx="83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 type="sldNum" idx="84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A7E5-FABB-4EF2-A902-2E3ED73FC789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08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 type="dt" idx="85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 type="ftr" idx="86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 type="sldNum" idx="87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033B-8132-4A69-A28C-D7B09691502D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3CD1-80B3-4D93-A4B9-69FC802522E6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d Wednesday, 11 January 20122 Februar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epared for Unit 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953D-68EB-42D3-A1B4-C5E9478DC1F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d Wednesday, 11 January 20122 Februar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pared for Unit 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3C34-ACD9-46D8-A845-DD736FA811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547E-42F2-432D-8C8A-1947585D63C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763D-E389-44A5-8BD5-D46C25E703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CEBA-71E6-44EA-9E3E-710109A03D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7C07-79FA-441E-BB64-BF8523A334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c.europa.eu/agriculture/cereals/balance-sheets_en" TargetMode="External"/><Relationship Id="rId2" Type="http://schemas.openxmlformats.org/officeDocument/2006/relationships/hyperlink" Target="http://ec.europa.eu/agriculture/cereals/balance-sheets_en" TargetMode="External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0728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2400"/>
            </a:b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"EU Protein Balance sheet"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250920" y="4365360"/>
            <a:ext cx="8642160" cy="18716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CDG on Dried Fodde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Brussels, 2</a:t>
            </a:r>
            <a:r>
              <a:rPr b="1" lang="en-GB" sz="2000" spc="-1" strike="noStrike" baseline="30000">
                <a:solidFill>
                  <a:srgbClr val="ffd624"/>
                </a:solidFill>
                <a:latin typeface="Verdana"/>
              </a:rPr>
              <a:t>nd</a:t>
            </a: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 June 2017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 txBox="1"/>
          <p:nvPr/>
        </p:nvSpPr>
        <p:spPr>
          <a:xfrm>
            <a:off x="468360" y="1484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Arable Crops and Protein Balance shee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available a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ec.europa.eu/agriculture/cereals/balance-sheets_e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07800" y="119556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42a62a"/>
                </a:solidFill>
                <a:latin typeface="Verdana"/>
              </a:rPr>
              <a:t>Objective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178920" y="1483920"/>
            <a:ext cx="8712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A comprehensive (and "official") overview of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EU supply and demand situ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for feed proteins 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Supply: 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exhaustive list of feed protein sources (not only protein-rich materials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Demand: 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focus on </a:t>
            </a:r>
            <a:r>
              <a:rPr b="0" lang="fr-BE" sz="2400" spc="-1" strike="noStrike" u="sng">
                <a:solidFill>
                  <a:srgbClr val="0f5494"/>
                </a:solidFill>
                <a:uFillTx/>
                <a:latin typeface="Verdana"/>
              </a:rPr>
              <a:t>feed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 uses of protein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Quantification of EU protein self-sufficiency 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(or deficit) – monitoring tool for further policy-making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2d2d8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1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7593-D885-4FB8-A4F4-5EC1AA5B58BE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307800" y="112392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42a62a"/>
                </a:solidFill>
                <a:latin typeface="Verdana"/>
              </a:rPr>
              <a:t>Timelines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309240" y="1341000"/>
            <a:ext cx="8582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2d2d8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29 November 2016: 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 first "technical" meeting with stakeholders focused on methodology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2d2d8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2d2d8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25 January 2017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cond "technical" meeting leading to first draft EU protein balance sheet (+ draft cover note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2d2d8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March-April 2017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esentation of draft 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EU protein balance sheet in various CDGs (COP+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eat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2d2d8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2d2d8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10 April 2017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publication on DG AGRI website of first EU protein balance sheet (MY 2015/16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73BF-0765-4936-8516-F31A0EBD35FA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07800" y="119556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42a62a"/>
                </a:solidFill>
                <a:latin typeface="Verdana"/>
              </a:rPr>
              <a:t>Scope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178920" y="1844280"/>
            <a:ext cx="8712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Supply: exhaustive list of (44) feed protein sources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, sub-divided into </a:t>
            </a: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three main categories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2d2d8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Crops (cereals, oilseeds, pulses): 15 ent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2d2d8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Co-products (protein-rich materials eg meals): 25 ent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2d2d8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Others (non-plant proteins): 4 ent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mand: focus on </a:t>
            </a:r>
            <a:r>
              <a:rPr b="1" lang="en-GB" sz="2400" spc="-1" strike="noStrike" u="sng">
                <a:solidFill>
                  <a:srgbClr val="0f5494"/>
                </a:solidFill>
                <a:uFillTx/>
                <a:latin typeface="Verdana"/>
              </a:rPr>
              <a:t>feed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 uses of proteins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cl. for each protein source, volume of EU production, trade, total use, feed use then conversion into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rude protein volume and % feed use of EU origi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2d2d8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7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A957-EB14-4181-9376-164B2AC909C1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42a62a"/>
                </a:solidFill>
                <a:latin typeface="Verdana"/>
              </a:rPr>
              <a:t>Explanatory note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179280" y="1628640"/>
            <a:ext cx="8964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Some limitations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lated to data availability 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dder sourc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n-farm feed us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ock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ill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some data gaps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(see "n.a." incl on Dried Fodder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No "grand total"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(limited protein inter-changeability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ata sources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not only EU Commission but also stakeholders input (eg crude protein content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urther stakeholders input welcome (eg on dried fodder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0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5D28-EC71-4A09-9C97-00CA65A7E452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Picture 5" descr=""/>
          <p:cNvPicPr/>
          <p:nvPr/>
        </p:nvPicPr>
        <p:blipFill>
          <a:blip r:embed="rId1"/>
          <a:stretch/>
        </p:blipFill>
        <p:spPr>
          <a:xfrm>
            <a:off x="5106960" y="4581360"/>
            <a:ext cx="3641760" cy="1971720"/>
          </a:xfrm>
          <a:prstGeom prst="rect">
            <a:avLst/>
          </a:prstGeom>
          <a:ln w="0">
            <a:noFill/>
          </a:ln>
        </p:spPr>
      </p:pic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307800" y="1339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2a62a"/>
                </a:solidFill>
                <a:latin typeface="Verdana"/>
              </a:rPr>
              <a:t>Publication on DG AGRI website </a:t>
            </a:r>
            <a:r>
              <a:rPr b="0" lang="en-GB" sz="2000" spc="-1" strike="noStrike">
                <a:solidFill>
                  <a:srgbClr val="42a62a"/>
                </a:solidFill>
                <a:latin typeface="Verdana"/>
              </a:rPr>
              <a:t>http://ec.europa.eu/agriculture/cereals/balance-sheets_en</a:t>
            </a:r>
            <a:br>
              <a:rPr sz="28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3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D249-EFFE-4459-9C1F-13F1078EDF98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74" name="Picture 2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4491000" cy="3325680"/>
          </a:xfrm>
          <a:prstGeom prst="rect">
            <a:avLst/>
          </a:prstGeom>
          <a:ln w="0">
            <a:noFill/>
          </a:ln>
        </p:spPr>
      </p:pic>
      <p:pic>
        <p:nvPicPr>
          <p:cNvPr id="1275" name="Picture 3" descr=""/>
          <p:cNvPicPr/>
          <p:nvPr/>
        </p:nvPicPr>
        <p:blipFill>
          <a:blip r:embed="rId3"/>
          <a:stretch/>
        </p:blipFill>
        <p:spPr>
          <a:xfrm>
            <a:off x="3998880" y="2201760"/>
            <a:ext cx="4791240" cy="2595600"/>
          </a:xfrm>
          <a:prstGeom prst="rect">
            <a:avLst/>
          </a:prstGeom>
          <a:ln w="0">
            <a:noFill/>
          </a:ln>
        </p:spPr>
      </p:pic>
      <p:sp>
        <p:nvSpPr>
          <p:cNvPr id="1276" name="Oval 7"/>
          <p:cNvSpPr/>
          <p:nvPr/>
        </p:nvSpPr>
        <p:spPr>
          <a:xfrm>
            <a:off x="1619280" y="4195800"/>
            <a:ext cx="1203120" cy="528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77" name="Oval 12"/>
          <p:cNvSpPr/>
          <p:nvPr/>
        </p:nvSpPr>
        <p:spPr>
          <a:xfrm>
            <a:off x="7164360" y="3429000"/>
            <a:ext cx="1201680" cy="528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78" name="Oval 13"/>
          <p:cNvSpPr/>
          <p:nvPr/>
        </p:nvSpPr>
        <p:spPr>
          <a:xfrm>
            <a:off x="6300720" y="5635800"/>
            <a:ext cx="1201680" cy="529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Stakeholders input on dried fodder welcom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523D-B582-44F8-B64C-2C98800C1B78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81" name="Picture 2" descr=""/>
          <p:cNvPicPr/>
          <p:nvPr/>
        </p:nvPicPr>
        <p:blipFill>
          <a:blip r:embed="rId1"/>
          <a:stretch/>
        </p:blipFill>
        <p:spPr>
          <a:xfrm>
            <a:off x="690480" y="1628640"/>
            <a:ext cx="3452760" cy="4824720"/>
          </a:xfrm>
          <a:prstGeom prst="rect">
            <a:avLst/>
          </a:prstGeom>
          <a:ln w="0">
            <a:noFill/>
          </a:ln>
        </p:spPr>
      </p:pic>
      <p:pic>
        <p:nvPicPr>
          <p:cNvPr id="1282" name="Picture 3" descr=""/>
          <p:cNvPicPr/>
          <p:nvPr/>
        </p:nvPicPr>
        <p:blipFill>
          <a:blip r:embed="rId2"/>
          <a:stretch/>
        </p:blipFill>
        <p:spPr>
          <a:xfrm>
            <a:off x="4676760" y="2637000"/>
            <a:ext cx="4214880" cy="3095640"/>
          </a:xfrm>
          <a:prstGeom prst="rect">
            <a:avLst/>
          </a:prstGeom>
          <a:ln w="0">
            <a:noFill/>
          </a:ln>
        </p:spPr>
      </p:pic>
      <p:pic>
        <p:nvPicPr>
          <p:cNvPr id="1283" name="Picture 4" descr=""/>
          <p:cNvPicPr/>
          <p:nvPr/>
        </p:nvPicPr>
        <p:blipFill>
          <a:blip r:embed="rId3"/>
          <a:stretch/>
        </p:blipFill>
        <p:spPr>
          <a:xfrm>
            <a:off x="900000" y="5638680"/>
            <a:ext cx="1225800" cy="311400"/>
          </a:xfrm>
          <a:prstGeom prst="rect">
            <a:avLst/>
          </a:prstGeom>
          <a:ln w="0">
            <a:noFill/>
          </a:ln>
        </p:spPr>
      </p:pic>
      <p:pic>
        <p:nvPicPr>
          <p:cNvPr id="1284" name="Picture 5" descr=""/>
          <p:cNvPicPr/>
          <p:nvPr/>
        </p:nvPicPr>
        <p:blipFill>
          <a:blip r:embed="rId4"/>
          <a:stretch/>
        </p:blipFill>
        <p:spPr>
          <a:xfrm>
            <a:off x="5076720" y="5084640"/>
            <a:ext cx="374328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2a62a"/>
                </a:solidFill>
                <a:latin typeface="Verdana"/>
              </a:rPr>
              <a:t>First Results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2d2d8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rops Feed Use: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18.23 million tonnes of crude prote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92% EU orig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2d2d8a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-products Feed Use: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25.87 million tonnes of crude prote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38% EU orig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2d2d8a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Others Feed Use: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0.87 million tonnes of crude prote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90% EU orig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7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680B-3979-4187-BB8D-E1B9AC845BA1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2a62a"/>
                </a:solidFill>
                <a:latin typeface="Verdana"/>
              </a:rPr>
              <a:t>Next Steps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10 April 2017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ublication of EU Protein Balance Sheet MY 2015/16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June 2017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ublication of EU Protein Balance Sheets PRIOR to MY 2015/16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September 2017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ublication of EU Protein Balance Sheet MY 2016/17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Note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akeholders' comments always welcome at agri-G4@ec.europa.eu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0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8AB1-7CEE-4E69-9EE3-B5EA3619C50A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PLAN Damien (AGRI)</dc:creator>
  <dc:description/>
  <dc:language>en-US</dc:language>
  <cp:lastModifiedBy>PLAN Damien</cp:lastModifiedBy>
  <cp:lastPrinted>2016-11-23T13:17:55Z</cp:lastPrinted>
  <dcterms:modified xsi:type="dcterms:W3CDTF">2017-06-01T07:11:01Z</dcterms:modified>
  <cp:revision>1772</cp:revision>
  <dc:subject/>
  <dc:title>Slide 1</dc:title>
</cp:coreProperties>
</file>