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183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8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44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6208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0697-F2BB-415C-B0E8-DF9DE5C2F892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3D2A-611A-41AD-A2B3-E0BD3ED67E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76B-52A5-4365-8539-71934FD45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2CD4-F082-4A5D-BAD0-28CD43346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E191-2AEB-47FA-A94B-578A3EB4E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F055-6F08-46CD-B4DA-9771E34D34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53FD-170E-4145-83D1-738E8607D2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7D91-C724-45F2-BDDD-03128B161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F83C-9CF7-4F47-AED5-0488F1D7FE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FF4E-70CA-47C8-AD8A-C69ABFD2D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2880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1120" y="4716360"/>
            <a:ext cx="54576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rt was due by December 2011, but due to lengthy consultations with other Commission services, and to other more recent overriding priorities, it was ultimately postpo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o-funding will be done by a grant of €350,000/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NETs are research coordination instruments whereby Member States can coordinate their National research activities and ultimately fund joint proje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62440" y="9433080"/>
            <a:ext cx="29559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024F-AAD9-42BC-B198-1DF22B2FF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AA7-FCA0-43B1-9C8D-D4EC52F56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8BA-F80D-467B-9A37-C45C7AAB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DCA-D0E1-4798-B73A-524E98A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FFCA-CAAC-4995-9B6B-FCD27062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4AC-0327-4993-998D-7E4A2519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A567-4B50-47F6-A200-751D690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E6E-B444-4A88-A425-DBD4171A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311F-CA2A-47D3-91FB-B54A4E9A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447-5DAB-4F04-B757-DB41E609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C990-A1DB-4FD2-BFD1-A6C2E6BC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B057-F1EF-41E1-B357-FB457EA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FDF-6730-4928-9109-E21F620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08BB-4012-490C-B936-A4541F59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9FBE-AB87-4327-8852-FB8EC58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A0ED-62C1-42B2-BDE8-77F9A99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F6D5-D1D5-4462-A1B7-D47881939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CC4A-063B-4649-BF0E-34AB4063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624-E338-49F0-8C95-92B3CC10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617-245A-45FA-ABEF-0B1DBD0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27B-0C22-4B2E-8E45-2FDBB061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A76D-C0B3-4581-A684-0592822E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040-0832-4711-AA7E-9C191FB2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041-93C9-46E1-BDCA-C5538409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01C-B931-4691-960E-D4546D6F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5EDA-2129-4D22-AF97-3C11A07915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B5D8-2114-4B79-9230-50E04249D7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c.europa.eu/food/plant/plant_protection_products/legislation/" TargetMode="External"/><Relationship Id="rId2" Type="http://schemas.openxmlformats.org/officeDocument/2006/relationships/hyperlink" Target="http://ec.europa.eu/food/plant/plant_protection_products/legislatio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79440" y="2852280"/>
            <a:ext cx="8531280" cy="19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Minor Uses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-</a:t>
            </a:r>
            <a:br>
              <a:rPr sz="4000"/>
            </a:br>
            <a:r>
              <a:rPr b="1" lang="fr-BE" sz="4000" spc="-1" strike="noStrike">
                <a:solidFill>
                  <a:srgbClr val="ffffff"/>
                </a:solidFill>
                <a:latin typeface="Verdana"/>
              </a:rPr>
              <a:t>Update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187280" y="3527280"/>
            <a:ext cx="684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1225440" y="5349960"/>
            <a:ext cx="684072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Jeroen Meeuss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ffffff"/>
                </a:solidFill>
                <a:latin typeface="Verdana"/>
              </a:rPr>
              <a:t>DG SANC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306360" y="1400040"/>
            <a:ext cx="8531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DG AGRI – Advisory Group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PM ERANE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ERANETs are research coordination instruments whereby Member States can coordinate their national research activ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o find EU-viable solutions with a focus on IPM-practices, low risk substances and biopesticid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PM ERANET has started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early 2014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nd involves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32 partners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G RT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urrent statu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2204640"/>
            <a:ext cx="84358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Adoption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of the report by COM on 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;</a:t>
            </a:r>
            <a:r>
              <a:rPr b="0" i="1" lang="fr-BE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 </a:t>
            </a:r>
            <a:r>
              <a:rPr b="0" i="1" lang="fr-BE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ec.europa.eu/food/plant/plant_protection_products/legislation/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has been presented to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GRI-Council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in May 2014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doption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in October 2014.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Proposal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rom interested party: expected November 2014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Start of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technical secretariat 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first half 2015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589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Verdana"/>
                <a:ea typeface="MS PGothic"/>
              </a:rPr>
              <a:t>ANY QUES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0" name="Picture 2" descr="C:\Users\meeusje\Pictures\imagesCAKL7UM2.jpg"/>
          <p:cNvPicPr/>
          <p:nvPr/>
        </p:nvPicPr>
        <p:blipFill>
          <a:blip r:embed="rId1"/>
          <a:stretch/>
        </p:blipFill>
        <p:spPr>
          <a:xfrm>
            <a:off x="4500720" y="278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meeusje\Pictures\imagesCAE1GUOP.jpg"/>
          <p:cNvPicPr/>
          <p:nvPr/>
        </p:nvPicPr>
        <p:blipFill>
          <a:blip r:embed="rId2"/>
          <a:stretch/>
        </p:blipFill>
        <p:spPr>
          <a:xfrm>
            <a:off x="2268360" y="256536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 (definition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Use of a plant protection product in a particular Member State on plants or plant products which are: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1624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a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not 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in that Member State,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o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(b)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widely grown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to meet an 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exceptional </a:t>
            </a: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plant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Verdana"/>
              </a:rPr>
              <a:t>     protection</a:t>
            </a:r>
            <a:r>
              <a:rPr b="1" i="1" lang="en-GB" sz="2000" spc="-1" strike="noStrike">
                <a:solidFill>
                  <a:srgbClr val="0f5494"/>
                </a:solidFill>
                <a:latin typeface="Verdana"/>
              </a:rPr>
              <a:t> need</a:t>
            </a:r>
            <a:br>
              <a:rPr sz="2000"/>
            </a:b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15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0000"/>
                </a:solidFill>
                <a:latin typeface="Verdana"/>
              </a:rPr>
              <a:t>Representing 22% of the value of EU total agricultural production; 3% of the cultivated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ack of sufficient market potential can lead to: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Illegal uses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consequences for human health and the environment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Verdana"/>
              </a:rPr>
              <a:t>Loss of crop produc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its economic impact on agriculture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Article 51(9)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By 14 December 2011, the Commission shall present a report to the European Parliament and the Council on the establishment of a European fund for minor uses, accompanied, if appropriate, by a legislative proposal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"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Report was adopted on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18 February 2014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Key-messages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assist in the creation of an independent coordination facility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"Technical Secretariat") on minor uses which is co-funded by the Commiss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mmission will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upport an ERANET on Integrated Pest Management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with specific reference to minor uses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eport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port was presented to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AGRI-Council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 on 19 May 2014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Strong support for the Report was expressed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 majority supported COM in identifying 'option 3' as the better solution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e details of the secretariat should be further discussed at technical level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xpert-meeting on Minor Us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435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xpert-meeting with MS and stakeholders was organised on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1 July 2014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to discuss a </a:t>
            </a:r>
            <a:r>
              <a:rPr b="0" lang="fr-BE" sz="2400" spc="-1" strike="noStrike">
                <a:solidFill>
                  <a:srgbClr val="ff0000"/>
                </a:solidFill>
                <a:latin typeface="Verdana"/>
              </a:rPr>
              <a:t>draft outline 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of the Coordination Facility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perational issues: organisation and structure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Financial arrangement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Location and facilities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1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Co-funded by the Commission: grant of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€350,000/year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This activity is led by DG SANCO.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Budget will be allocated in the </a:t>
            </a:r>
            <a:r>
              <a:rPr b="0" i="1" lang="fr-BE" sz="2400" spc="-1" strike="noStrike">
                <a:solidFill>
                  <a:srgbClr val="ff0000"/>
                </a:solidFill>
                <a:latin typeface="Verdana"/>
              </a:rPr>
              <a:t>Financial Decision for 2014</a:t>
            </a: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 (October 2014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ordination facility (2)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fr-BE" sz="2400" spc="-1" strike="noStrike">
                <a:solidFill>
                  <a:srgbClr val="0f5494"/>
                </a:solidFill>
                <a:latin typeface="Verdana"/>
              </a:rPr>
              <a:t>Tasks of 'technical secretariat'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haring of inform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and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experience gained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t national level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oordin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of minor use work between Member States and stakeholder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creation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 and maintenance of a 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data base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on minor uses;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0f5494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stimulation of harmonisation </a:t>
            </a:r>
            <a:r>
              <a:rPr b="0" i="1" lang="en-GB" sz="2400" spc="-1" strike="noStrike">
                <a:solidFill>
                  <a:srgbClr val="0f5494"/>
                </a:solidFill>
                <a:latin typeface="Verdana"/>
              </a:rPr>
              <a:t>(e.g. crop group and pest group definitions, development of guidance).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7:49:02Z</dcterms:created>
  <dc:creator>MEEUSSEN Jeroen (SANCO)</dc:creator>
  <dc:description/>
  <dc:language>en-US</dc:language>
  <cp:lastModifiedBy>MEEUSSEN Jeroen (SANCO)</cp:lastModifiedBy>
  <cp:lastPrinted>2014-09-29T14:54:08Z</cp:lastPrinted>
  <dcterms:modified xsi:type="dcterms:W3CDTF">2014-10-30T08:01:00Z</dcterms:modified>
  <cp:revision>39</cp:revision>
  <dc:subject/>
  <dc:title>Utilisations mineures</dc:title>
</cp:coreProperties>
</file>