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11.wmf" ContentType="image/x-wmf"/>
  <Override PartName="/ppt/media/image3.png" ContentType="image/png"/>
  <Override PartName="/ppt/media/image7.jpeg" ContentType="image/jpeg"/>
  <Override PartName="/ppt/media/image12.wmf" ContentType="image/x-wmf"/>
  <Override PartName="/ppt/media/image4.png" ContentType="image/png"/>
  <Override PartName="/ppt/media/image6.jpeg" ContentType="image/jpeg"/>
  <Override PartName="/ppt/media/image28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9.jpeg" ContentType="image/jpeg"/>
  <Override PartName="/ppt/media/image23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17.wmf" ContentType="image/x-wmf"/>
  <Override PartName="/ppt/media/image16.wmf" ContentType="image/x-wmf"/>
  <Override PartName="/ppt/media/image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dt" idx="28"/>
          </p:nvPr>
        </p:nvSpPr>
        <p:spPr>
          <a:xfrm>
            <a:off x="3833640" y="0"/>
            <a:ext cx="29340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sldImg"/>
          </p:nvPr>
        </p:nvSpPr>
        <p:spPr>
          <a:xfrm>
            <a:off x="907560" y="742680"/>
            <a:ext cx="4954680" cy="371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body"/>
          </p:nvPr>
        </p:nvSpPr>
        <p:spPr>
          <a:xfrm>
            <a:off x="677520" y="4703400"/>
            <a:ext cx="5413320" cy="4459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ftr" idx="29"/>
          </p:nvPr>
        </p:nvSpPr>
        <p:spPr>
          <a:xfrm>
            <a:off x="-360" y="9407520"/>
            <a:ext cx="29336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 type="sldNum" idx="30"/>
          </p:nvPr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05C9-079F-4E00-AD58-3A5F243E99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7520" y="4703400"/>
            <a:ext cx="54133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FF63-AFA4-4546-96B7-8871C2207B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738E-A0D3-4771-9C57-A69DA16FD9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7520" y="4703400"/>
            <a:ext cx="5413320" cy="4459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Updated 22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Indica paddy quotation are quite similar as in Oct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Quotation Oct 201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IT 250  ( - 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ES 260 in Nov.  + 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81C7-9A24-4F64-A229-D24DC0EDD3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7520" y="4703400"/>
            <a:ext cx="5413320" cy="4459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Prices still within the long term range.  Spain  higher part; Italy lower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B3BD-9EFC-465E-8E50-FF368ABAAA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7520" y="4703400"/>
            <a:ext cx="5413320" cy="4459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Update 22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We still miss  quotations for Spain and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Japonica FR same as in 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Indica  FR 430 € in Oct 2013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C4AF-11F2-4056-A1F8-9A7DACF05C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7520" y="4703400"/>
            <a:ext cx="5413320" cy="4459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Updated 29/10/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Import of husked on the rise pretty stable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For milled rice, indica imports are quite below 2013/14 (10,000 tonnes less over 2 mont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Increase of broken ri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Overall slight decrease of imports (- 9,9%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B2C1-B4DC-43FF-BDD9-6F09A4D13F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7520" y="4703400"/>
            <a:ext cx="5413320" cy="4459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Updated 29/10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Exports are below 2013 figures (same period) mainly due to lower exports of indica.  Japonica exports higher reflecting competitiveness of EU Japonica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7FB6-F4A8-43B2-8BC1-B4A1D570E0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7520" y="4703400"/>
            <a:ext cx="5413320" cy="4459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</a:rPr>
              <a:t>From "milled vs husked" file. Updated 23/10 with COMEXT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</a:rPr>
              <a:t>High level of import with more than 1,3 mio tonnes slightly higher than record years to 2007/08  (1,319),  somewhat higher than 2012/13  1,2 million tonn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</a:rPr>
              <a:t>However, change in trade pattern.  Husked imports only 33% and milled/semi milled 44%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</a:rPr>
              <a:t>While in  2009/10 milled was only 30% of imports and husked above 40%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</a:rPr>
              <a:t>2013/14 vs 2012/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</a:rPr>
              <a:t>+109,000 milled/semi-milled . Cambodia responsible for 50% of increase (but less increase than in previous campaign, +50,000t in 2013/14 vs +90,000 t in 2012/1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</a:rPr>
              <a:t>+ 10,967  hus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</a:rPr>
              <a:t>+ 7,167 bro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</a:rPr>
              <a:t>Broken rice imports on the increase. (312 576 tonnes in 2013/14 vs 304 859 in 2012/13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F102-01A8-48DC-BEBD-0857E77BAE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7520" y="4703400"/>
            <a:ext cx="5413320" cy="4459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</a:rPr>
              <a:t>Cambodia now close to India.  Thailand 3rd place outpaced by Cambod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8484-9642-4DEC-A31C-DC601AB4FC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7520" y="4703400"/>
            <a:ext cx="5413320" cy="4459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</a:rPr>
              <a:t>Updated COMEXT 23/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5356-EDF3-4B70-99BB-019C8C7C6C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7520" y="4703400"/>
            <a:ext cx="5413320" cy="4459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</a:rPr>
              <a:t>Updated COMEXT data 23/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5577-0302-4864-ACD4-997B71DAE2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7520" y="4703400"/>
            <a:ext cx="5413320" cy="4459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</a:rPr>
              <a:t>Updated COMEXT 23/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7520" y="4703400"/>
            <a:ext cx="54133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21C4-EB9B-4A17-9634-BC041BB07F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1592-85FA-4FC6-9D0F-D3D1227ED1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7520" y="4703400"/>
            <a:ext cx="54133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461A-ECF9-49B9-B338-B8D03990A9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7520" y="4703400"/>
            <a:ext cx="5413320" cy="4459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169920" indent="-169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Basmati: appr. 25% of the EU imports or 10% of the EU rice consum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IN exports to EU decreased by 25% (substantial price increase) but the +126% increase of PAK imports could counterbalance i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-&gt; total basmati imports remained basically stable from 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800" spc="-1" strike="noStrike">
                <a:solidFill>
                  <a:srgbClr val="000000"/>
                </a:solidFill>
                <a:latin typeface="Arial"/>
              </a:rPr>
              <a:t>-&gt; IN is till the principal basmati supplier, of the EU but with substantially decreased share (82% in 2012/13 to 60% in 2013/1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</a:rPr>
              <a:t>2014-15  Some significant increase of imports as compared to previous year with strong share of Pakist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1713-E022-476A-BEC3-889CCCDB07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7520" y="4703400"/>
            <a:ext cx="5413320" cy="4459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</a:rPr>
              <a:t>Base on Surveillance 2 data.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</a:rPr>
              <a:t>Imports from Thailand seem to have reached a plateau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</a:rPr>
              <a:t>Cambodia:  21% increase  in 2013/14.  So we are now below the 25% threshold. We are in contact with Cambodi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</a:rPr>
              <a:t>Recent data for Sept /Oct tend to show that increase of retail ready packets are lower than in 2013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</a:rPr>
              <a:t>We follow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77520" y="4703400"/>
            <a:ext cx="5413320" cy="4459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Remind Member States to send their communication on time, if not earlier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Update on on-going harv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Stocks: deadline 15 November by ISA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rop:  15 December by ISAMM as w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1EB5-3405-460F-95D6-08D71D2F10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232C-4833-4630-B004-AF7214205D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7520" y="4703400"/>
            <a:ext cx="5413320" cy="4459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IGC Sept report has revised its forecast downward.  Production is now somewhat lower than consumption still expected at record level although a bit lower than foreseen a month earlier (481 moi t instead of 48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Ending stocks in particular in major exporting countries (India, Thailand) are expected to decrease. 5% decrease expected. To be noted that Reuter has reported that a large scale audit of Thai stock has concluded that a large share of the stock is deteriorating with 1/5 already inedible. Ony 1/10 would be of export quality.   Thailand holds ~13 million tonnes in stocks (India~20 million tonn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International Trade is expected at record level of 41 million ton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48EC-ACEB-4D6F-B84D-E43B28085C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7520" y="4703400"/>
            <a:ext cx="5413320" cy="4459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169920" indent="-169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</a:rPr>
              <a:t>Updated IGC Sept report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</a:rPr>
              <a:t>To be noted Thailand expected to come back of top rice exporter ahead of Indi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</a:rPr>
              <a:t>Cambodia &amp; Myanmar exports continue to rise – to be followed closely on EU mark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</a:rPr>
              <a:t>Note increase forecast for Nigeria up to 3,4 mio tonnes. Consider entire west Africa imports are close to 5 million tonnes more than 10% of international trade.  Risk Ebol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F9CE-33BC-4A9E-B81B-F9FEFAA9A1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7520" y="4703400"/>
            <a:ext cx="5413320" cy="4459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Arial"/>
              </a:rPr>
              <a:t>Update 22/10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Arial"/>
              </a:rPr>
              <a:t>World prices basically flat over the last 2 months with a somewhat downward pressur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Arial"/>
              </a:rPr>
              <a:t>US  down to 486 USD from 541 early Septe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Arial"/>
              </a:rPr>
              <a:t>THAI rice slightly down as well from 445/450 in September down 4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Arial"/>
              </a:rPr>
              <a:t>INDIA  same 435/440 in September down to 405 US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Arial"/>
              </a:rPr>
              <a:t>Cambodia rice quoted at = 460 / 470 USD/tonnes slightly above its regional competititor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366B-6FD3-48B2-8BC7-DEAFB18FA9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7520" y="4703400"/>
            <a:ext cx="5413320" cy="4459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Updated 22/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Basmati price under pressure with the arrival of new harve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Pakistan basmati still competitive against Ind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77520" y="4703400"/>
            <a:ext cx="54133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A28A-C29F-4B9B-AA2A-15C59F3D76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20FC-3498-4E44-883D-9165588A66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7520" y="4703400"/>
            <a:ext cx="5413320" cy="44593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Updated 22/10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Many quotation are missing. Mainly Japnica Spain. Price were  ~7% below Oct 2013 qu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33640" y="9407520"/>
            <a:ext cx="2934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9952-AF03-4FFD-B911-35C7A89F2A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07920" y="74304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7520" y="4703400"/>
            <a:ext cx="54133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008C-ED66-4B5E-AA2F-8698E517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0579-1B12-4184-8C32-11A0FE0C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B367F-33B6-436A-8733-E24F633E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7DC29-4CDF-472C-BA13-A8FC699C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6EB1E-C668-4531-B084-37F39A1A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5A00D-EB5A-4C23-8ADA-B3B6C8C6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34CBE-4DA4-465B-B0DA-1C2FD4DF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14CD0-DE93-4A78-AB8C-C6EDE426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72232-CD44-4F55-A267-214C2B26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2F13E-4035-4843-A99C-BEB4B2A6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E53E0-27A3-41C0-9B3F-AFDAD7F5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D306-B6F1-46C5-9D09-EA1A250A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B9F0-BBB8-4406-A7A2-1C47F0729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40BB-FE44-4DA7-B967-33308FA6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2774-F0D4-4E8A-B1F9-49A08E1F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AB78-E074-4113-A35F-1269D3AC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D092-F305-495B-9C4C-EBC8F573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F834-697F-4A9A-9427-F29C553D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46B5-5B31-4E74-9585-4517EABA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40F5-6760-436B-AA2A-D68CED34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C69E-3966-400D-A817-B29C2588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0D87-4FB1-49BD-91E0-135EDDBA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4F84-C2D9-4790-87E0-4C2A2FDD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943A-45FF-45E8-8A20-86FA499B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943C-BC38-4950-9FC0-FA4C959C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F9BF-8C37-4D5E-98EB-681D41BD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40D6C-A519-411D-80DD-6E70A824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B2F48-2622-4708-B82F-3B7BA518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5D051-D634-4999-AF76-4E5E4113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62DBF-1283-47F0-AD00-927EE575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61BCE-F79B-451B-820B-4DE33F49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08CB-EBEB-4009-8F69-7264667C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70F4C-0DD9-454F-AE19-DDCAB557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74ADC-A2CE-4017-AAAC-6FE293C2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65402-2CBC-4846-9E27-13BB38D0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7E80C-6B29-46CF-9D03-D4499464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C73D3-3AAC-41AA-AD1E-A37B7164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8DE4C-3826-4187-A7DD-A0C12D108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151D2-F8AA-4512-8CA0-04E57168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4316B-8548-485B-BDE6-20D4D2BA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26ED0-AA94-4E25-AED0-FC6F89E8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B8853-D909-47AC-8F3B-F5EB4341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35A3-ACA7-40C3-9558-10E5B902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20B53-4C7E-4D06-B8A2-D1A65B1D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E0973-8FBF-41DA-BF92-8BF54BB1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C2F8A-65BF-4FC5-9D9A-759140D1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64B54-C262-43D9-AAF0-33289925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192A7-FE2B-408E-B701-B1F792E7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C489A-61A7-4AD4-93E9-F0B53044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D2C38-9C51-41DA-8152-375D39E2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01191-7E0B-405F-B7DF-1EEB3778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61C69-75F1-473A-9C13-55096A5E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1FFBB-88C8-41D3-8EB3-6064C1B2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CFC6-F966-46C7-B03F-5E9767F7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7FD50-1368-4977-A4E3-A43EF3E1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76F96-A4CC-4EF6-9064-F12B3075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63B48-DCDE-45B8-BDC6-7512D556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912DB-C837-4C8D-AE6A-08DDC933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1C447-B8A4-4995-AF48-ECEEF2CC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440F4-511B-4DCB-ACF4-C8A87604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06535-72D3-4FE7-A223-6DA25BD1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5D9B6-3799-499F-BFBD-40E5013C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66775-B74D-4A13-973D-110E64F6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F47FD-DF30-4437-8D9A-B28D07F4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7BC1-246B-4C6B-9077-933FF713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71D55-5FD0-4701-99AB-1D032114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3ED6C-FE5F-4117-A039-88976673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7A0FA-94C6-4EED-AC15-8D396ED8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0AC66-E6E9-420C-A631-ACE7DE8C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5B7F8-4595-42E2-94D1-CA51D29F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64307-C970-4ECD-8E56-0A3D7D2F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431E9-375B-4130-938D-823ADC3B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BB571-1AA9-4BEA-9338-635DB34E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5E06D-3E05-4440-84AF-75E6626E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E0E7A-F1ED-4548-A221-D3EE1ADC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2A1C-B21D-45CE-BAD6-83F27C5F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B5F34-CF8C-4435-8CF9-386EA362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F582E-50D8-44E0-9744-06D19226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90F33-8300-463D-BB37-441F3735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B4945-FE59-47F6-8181-55901FD54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3C4A7-B774-440F-87E9-D5267FC2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CA55F-C6EF-4786-91FA-1F1F56C0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60E2D-CEB9-4CD2-9440-05A99318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DB3D9-152A-431A-ACF9-AAFFBC8D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67D5E-6EFF-487A-8D6B-AA129CD0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73DBD-2FB3-44EB-BE2D-0C24F6AA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9126-4FAA-4FFA-AFC9-2EC06337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E3809-BB0C-4FC0-8CBB-E54AC80D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103D7-7BE7-4F49-9776-9CD1399A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72ED3-8DCF-408A-80DE-ECE4D5D6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B6D82-5BA3-43D2-AE4F-2A7BB1AD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EFF8B-076B-4DFB-8DF3-4086A29C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23525-886B-4710-9478-D20285F1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F6225-78E0-4539-A528-8E0BC5C3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DC753-D339-425A-A41A-DF7D49B1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5CF7E-F1AA-4F2A-A2A9-27E2D49F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F220C-8EB2-45BF-BD5E-F3A4930A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E250-CA8F-4848-BA5A-E45C7E0E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307800" y="1052640"/>
            <a:ext cx="858528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9C0A2-93F8-44BA-937C-ADFB6674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0F7C2-AA5B-4175-A8F8-1C000C18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2D2BA-C394-4AE8-8E1F-1A0C849F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92ADA-D914-49ED-B1A0-66CE5523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09240" y="4148640"/>
            <a:ext cx="85820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F29B3-F2DD-4410-A2BE-B7B8EA23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07000" y="162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0924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707000" y="4148640"/>
            <a:ext cx="418788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B6CA0-4820-4554-969C-24158D83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108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112440" y="162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3092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108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112440" y="4148640"/>
            <a:ext cx="2763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F9B1F-7B19-49A9-B0BA-2BB9602B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8876E-6734-4E46-AB8F-751122CD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374FE-FDEE-4CAA-967D-8A3375B1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A75C9-A4CC-40D0-82C9-C670AFB2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C424-FBD5-4709-8C80-4BB18040633A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7BE9-467E-4E98-8B39-45CDF42F8747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456D-7503-43EB-887B-F7A096B6FC6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49D1-C9CF-4243-8364-96F7A05EBCD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10C0-6617-4A60-AF64-77748E394E4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G:\D_Repository\A_Workzone\10_Future of CAP (post 2013)\11_Legal Proposals\7_ppts\pictures 2013\99894606.jpg"/>
          <p:cNvPicPr/>
          <p:nvPr/>
        </p:nvPicPr>
        <p:blipFill>
          <a:blip r:embed="rId2"/>
          <a:stretch/>
        </p:blipFill>
        <p:spPr>
          <a:xfrm>
            <a:off x="1811160" y="4151160"/>
            <a:ext cx="2316240" cy="27162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0"/>
          <p:cNvSpPr/>
          <p:nvPr/>
        </p:nvSpPr>
        <p:spPr>
          <a:xfrm>
            <a:off x="4127400" y="965160"/>
            <a:ext cx="502128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G:\D_Repository\A_Workzone\10_Future of CAP (post 2013)\11_Legal Proposals\7_ppts\pictures 2013\93789739.jpg"/>
          <p:cNvPicPr/>
          <p:nvPr/>
        </p:nvPicPr>
        <p:blipFill>
          <a:blip r:embed="rId5"/>
          <a:stretch/>
        </p:blipFill>
        <p:spPr>
          <a:xfrm>
            <a:off x="0" y="4151160"/>
            <a:ext cx="1811160" cy="2716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G:\D_Repository\A_Workzone\10_Future of CAP (post 2013)\11_Legal Proposals\7_ppts\pictures 2013\200392720-001.jpg"/>
          <p:cNvPicPr/>
          <p:nvPr/>
        </p:nvPicPr>
        <p:blipFill>
          <a:blip r:embed="rId6"/>
          <a:stretch/>
        </p:blipFill>
        <p:spPr>
          <a:xfrm>
            <a:off x="0" y="958680"/>
            <a:ext cx="2127240" cy="3208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G:\D_Repository\A_Workzone\10_Future of CAP (post 2013)\11_Legal Proposals\7_ppts\pictures 2013\55843765.jpg"/>
          <p:cNvPicPr/>
          <p:nvPr/>
        </p:nvPicPr>
        <p:blipFill>
          <a:blip r:embed="rId7"/>
          <a:stretch/>
        </p:blipFill>
        <p:spPr>
          <a:xfrm>
            <a:off x="2127240" y="2766960"/>
            <a:ext cx="1001880" cy="1400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G:\D_Repository\A_Workzone\10_Future of CAP (post 2013)\11_Legal Proposals\7_ppts\pictures 2013\95510563.jpg"/>
          <p:cNvPicPr/>
          <p:nvPr/>
        </p:nvPicPr>
        <p:blipFill>
          <a:blip r:embed="rId8"/>
          <a:stretch/>
        </p:blipFill>
        <p:spPr>
          <a:xfrm>
            <a:off x="3127320" y="2724120"/>
            <a:ext cx="1000080" cy="1440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G:\D_Repository\A_Workzone\10_Future of CAP (post 2013)\11_Legal Proposals\7_ppts\pictures 2013\137221180_copy.jpg"/>
          <p:cNvPicPr/>
          <p:nvPr/>
        </p:nvPicPr>
        <p:blipFill>
          <a:blip r:embed="rId9"/>
          <a:stretch/>
        </p:blipFill>
        <p:spPr>
          <a:xfrm>
            <a:off x="2127240" y="958680"/>
            <a:ext cx="2000160" cy="18226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2DD5-27B9-41A6-8DBB-CA7AADDA596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3" descr="2851026377_bf871ff1dc_o"/>
          <p:cNvPicPr/>
          <p:nvPr/>
        </p:nvPicPr>
        <p:blipFill>
          <a:blip r:embed="rId2"/>
          <a:stretch/>
        </p:blipFill>
        <p:spPr>
          <a:xfrm>
            <a:off x="0" y="965160"/>
            <a:ext cx="9144000" cy="59022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0"/>
          <p:cNvSpPr/>
          <p:nvPr/>
        </p:nvSpPr>
        <p:spPr>
          <a:xfrm>
            <a:off x="0" y="965160"/>
            <a:ext cx="4813200" cy="590220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3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"/>
          <p:cNvPicPr/>
          <p:nvPr/>
        </p:nvPicPr>
        <p:blipFill>
          <a:blip r:embed="rId4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2685-0C90-40AA-AB95-BE912044B03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3" descr="2851026377_bf871ff1dc_o"/>
          <p:cNvPicPr/>
          <p:nvPr/>
        </p:nvPicPr>
        <p:blipFill>
          <a:blip r:embed="rId2"/>
          <a:stretch/>
        </p:blipFill>
        <p:spPr>
          <a:xfrm>
            <a:off x="-12600" y="965160"/>
            <a:ext cx="9156600" cy="59054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3"/>
          <a:stretch/>
        </p:blipFill>
        <p:spPr>
          <a:xfrm>
            <a:off x="3564000" y="189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3" descr=""/>
          <p:cNvPicPr/>
          <p:nvPr/>
        </p:nvPicPr>
        <p:blipFill>
          <a:blip r:embed="rId4"/>
          <a:stretch/>
        </p:blipFill>
        <p:spPr>
          <a:xfrm>
            <a:off x="4127400" y="6410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6461-DA5E-494E-A720-336CBB8F253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4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4294080" y="6659640"/>
            <a:ext cx="611280" cy="198360"/>
          </a:xfrm>
          <a:prstGeom prst="rect">
            <a:avLst/>
          </a:prstGeom>
          <a:solidFill>
            <a:srgbClr val="42a62a"/>
          </a:solidFill>
          <a:ln w="9360">
            <a:solidFill>
              <a:srgbClr val="42a62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3743280" y="19080"/>
            <a:ext cx="1620720" cy="1249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7800" y="1052640"/>
            <a:ext cx="8585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a62a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09240" y="1628640"/>
            <a:ext cx="85820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0f5494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52428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852880" y="6524280"/>
            <a:ext cx="28954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285800" y="6635520"/>
            <a:ext cx="6289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362D-ACAF-4EAC-94E8-3AE568E03C7B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40000" y="1700280"/>
            <a:ext cx="4824360" cy="24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Committee for the Common Organisation of Agricultural Markets</a:t>
            </a:r>
            <a:br>
              <a:rPr sz="1800"/>
            </a:br>
            <a:r>
              <a:rPr b="1" lang="fr-BE" sz="1800" spc="-1" strike="noStrike">
                <a:solidFill>
                  <a:srgbClr val="ffff00"/>
                </a:solidFill>
                <a:latin typeface="Arial"/>
              </a:rPr>
              <a:t>30 Oct.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2014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hu-HU" sz="2800" spc="-1" strike="noStrike">
                <a:solidFill>
                  <a:srgbClr val="ffff00"/>
                </a:solidFill>
                <a:latin typeface="Arial"/>
              </a:rPr>
              <a:t>RICE MARKET SITUATION</a:t>
            </a:r>
            <a:endParaRPr b="1" lang="en-US" sz="28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211280" y="4724280"/>
            <a:ext cx="475308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DG Agriculture and Rural Developm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Verdana"/>
              </a:rPr>
              <a:t>European Commission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1800" spc="-1" strike="noStrike">
                <a:solidFill>
                  <a:srgbClr val="ffffff"/>
                </a:solidFill>
                <a:latin typeface="Verdana"/>
              </a:rPr>
              <a:t>AGRI/C/4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0" y="1341360"/>
            <a:ext cx="9144000" cy="88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b050"/>
                </a:solidFill>
                <a:latin typeface="Arial"/>
                <a:ea typeface="Arial"/>
              </a:rPr>
              <a:t>EU market prices </a:t>
            </a:r>
            <a:endParaRPr b="1" lang="en-US" sz="3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b050"/>
                </a:solidFill>
                <a:latin typeface="Arial"/>
                <a:ea typeface="Arial"/>
              </a:rPr>
              <a:t>(paddy Indica, at place of production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38" name="Object 1" descr=""/>
          <p:cNvPicPr/>
          <p:nvPr/>
        </p:nvPicPr>
        <p:blipFill>
          <a:blip r:embed="rId1"/>
          <a:stretch/>
        </p:blipFill>
        <p:spPr>
          <a:xfrm>
            <a:off x="395280" y="2220840"/>
            <a:ext cx="8353440" cy="444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9" name=""/>
          <p:cNvGraphicFramePr/>
          <p:nvPr/>
        </p:nvGraphicFramePr>
        <p:xfrm>
          <a:off x="8317080" y="3573360"/>
          <a:ext cx="634680" cy="800280"/>
        </p:xfrm>
        <a:graphic>
          <a:graphicData uri="http://schemas.openxmlformats.org/drawingml/2006/table">
            <a:tbl>
              <a:tblPr/>
              <a:tblGrid>
                <a:gridCol w="634680"/>
              </a:tblGrid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Arial MT"/>
                        </a:rPr>
                        <a:t>270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ff"/>
                          </a:solidFill>
                          <a:latin typeface="Arial MT"/>
                        </a:rPr>
                        <a:t>NQ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MT"/>
                        </a:rPr>
                        <a:t>240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 MT"/>
                        </a:rPr>
                        <a:t>N.Q.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0" y="1268280"/>
            <a:ext cx="9144000" cy="88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b050"/>
                </a:solidFill>
                <a:latin typeface="Arial"/>
                <a:ea typeface="Arial"/>
              </a:rPr>
              <a:t>EU market prices </a:t>
            </a:r>
            <a:endParaRPr b="1" lang="en-US" sz="3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b050"/>
                </a:solidFill>
                <a:latin typeface="Arial"/>
                <a:ea typeface="Arial"/>
              </a:rPr>
              <a:t>(paddy Indica, at place of production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41" name="Object 1" descr=""/>
          <p:cNvPicPr/>
          <p:nvPr/>
        </p:nvPicPr>
        <p:blipFill>
          <a:blip r:embed="rId1"/>
          <a:stretch/>
        </p:blipFill>
        <p:spPr>
          <a:xfrm>
            <a:off x="324000" y="2363760"/>
            <a:ext cx="8351640" cy="4335480"/>
          </a:xfrm>
          <a:prstGeom prst="rect">
            <a:avLst/>
          </a:prstGeom>
          <a:ln w="0">
            <a:noFill/>
          </a:ln>
        </p:spPr>
      </p:pic>
      <p:pic>
        <p:nvPicPr>
          <p:cNvPr id="442" name="Object 1" descr=""/>
          <p:cNvPicPr/>
          <p:nvPr/>
        </p:nvPicPr>
        <p:blipFill>
          <a:blip r:embed="rId2"/>
          <a:stretch/>
        </p:blipFill>
        <p:spPr>
          <a:xfrm>
            <a:off x="8290080" y="3662280"/>
            <a:ext cx="84276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0" y="1413000"/>
            <a:ext cx="9144000" cy="88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00b050"/>
                </a:solidFill>
                <a:latin typeface="Arial"/>
                <a:ea typeface="Arial"/>
              </a:rPr>
              <a:t>EU market prices</a:t>
            </a:r>
            <a:endParaRPr b="1" lang="en-US" sz="3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b050"/>
                </a:solidFill>
                <a:latin typeface="Arial"/>
                <a:ea typeface="Arial"/>
              </a:rPr>
              <a:t>(milled rice, at place of production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44" name="Object 1" descr=""/>
          <p:cNvPicPr/>
          <p:nvPr/>
        </p:nvPicPr>
        <p:blipFill>
          <a:blip r:embed="rId1"/>
          <a:stretch/>
        </p:blipFill>
        <p:spPr>
          <a:xfrm>
            <a:off x="316080" y="2333520"/>
            <a:ext cx="7842240" cy="427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5" name=""/>
          <p:cNvGraphicFramePr/>
          <p:nvPr/>
        </p:nvGraphicFramePr>
        <p:xfrm>
          <a:off x="8244000" y="3645000"/>
          <a:ext cx="1168200" cy="1199880"/>
        </p:xfrm>
        <a:graphic>
          <a:graphicData uri="http://schemas.openxmlformats.org/drawingml/2006/table">
            <a:tbl>
              <a:tblPr/>
              <a:tblGrid>
                <a:gridCol w="1168200"/>
              </a:tblGrid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MT"/>
                        </a:rPr>
                        <a:t>N.Q.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 MT"/>
                        </a:rPr>
                        <a:t>490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Arial MT"/>
                        </a:rPr>
                        <a:t>N.Q.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963634"/>
                          </a:solidFill>
                          <a:latin typeface="Arial MT"/>
                        </a:rPr>
                        <a:t>N.Q.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ff"/>
                          </a:solidFill>
                          <a:latin typeface="Arial MT"/>
                        </a:rPr>
                        <a:t>N.Q.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9900"/>
                          </a:solidFill>
                          <a:latin typeface="Arial MT"/>
                        </a:rPr>
                        <a:t>550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3"/>
          <p:cNvSpPr/>
          <p:nvPr/>
        </p:nvSpPr>
        <p:spPr>
          <a:xfrm>
            <a:off x="0" y="1081080"/>
            <a:ext cx="914400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b050"/>
                </a:solidFill>
                <a:latin typeface="Arial"/>
                <a:ea typeface="Arial"/>
              </a:rPr>
              <a:t>Issued </a:t>
            </a:r>
            <a:r>
              <a:rPr b="1" lang="hu-HU" sz="3000" spc="-1" strike="noStrike">
                <a:solidFill>
                  <a:srgbClr val="00b050"/>
                </a:solidFill>
                <a:latin typeface="Arial"/>
                <a:ea typeface="Arial"/>
              </a:rPr>
              <a:t>import </a:t>
            </a:r>
            <a:r>
              <a:rPr b="1" lang="en-GB" sz="3000" spc="-1" strike="noStrike">
                <a:solidFill>
                  <a:srgbClr val="00b050"/>
                </a:solidFill>
                <a:latin typeface="Arial"/>
                <a:ea typeface="Arial"/>
              </a:rPr>
              <a:t>licence</a:t>
            </a:r>
            <a:r>
              <a:rPr b="1" lang="hu-HU" sz="3000" spc="-1" strike="noStrike">
                <a:solidFill>
                  <a:srgbClr val="00b050"/>
                </a:solidFill>
                <a:latin typeface="Arial"/>
                <a:ea typeface="Arial"/>
              </a:rPr>
              <a:t>s</a:t>
            </a:r>
            <a:endParaRPr b="1" lang="en-US" sz="3000" spc="-1" strike="noStrike">
              <a:solidFill>
                <a:srgbClr val="ffd624"/>
              </a:solidFill>
              <a:latin typeface="Verdana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1673280" y="1820880"/>
          <a:ext cx="5854680" cy="4438800"/>
        </p:xfrm>
        <a:graphic>
          <a:graphicData uri="http://schemas.openxmlformats.org/drawingml/2006/table">
            <a:tbl>
              <a:tblPr/>
              <a:tblGrid>
                <a:gridCol w="1422360"/>
                <a:gridCol w="1890720"/>
                <a:gridCol w="1370160"/>
                <a:gridCol w="1171440"/>
              </a:tblGrid>
              <a:tr h="314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tonnes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/15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/14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/14 vs    2012/13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ddy *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DIV/0!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e for sowing**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DIV/0!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onica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DIV/0!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DIV/0!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sked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onica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8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01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1,3%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124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006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,2%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i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mati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.154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584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1%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i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 excl. basmati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970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422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1,3%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sked excl. Basmati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388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.223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,9%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ed / semi-milled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onica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29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92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3,4%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62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.613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.142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,2%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(milled eq.)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71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.901  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171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71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.268  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171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7,2%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onica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71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923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171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71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534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171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3,2%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71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.978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171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71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.734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171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,6%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ken rice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.142  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198  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4%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ce for sowing not included into Total (in milled equivalent</a:t>
                      </a:r>
                      <a:endParaRPr b="1" lang="en-US" sz="11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76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3"/>
          <p:cNvSpPr/>
          <p:nvPr/>
        </p:nvSpPr>
        <p:spPr>
          <a:xfrm>
            <a:off x="0" y="1108080"/>
            <a:ext cx="914400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b050"/>
                </a:solidFill>
                <a:latin typeface="Arial"/>
                <a:ea typeface="Arial"/>
              </a:rPr>
              <a:t>Issued </a:t>
            </a:r>
            <a:r>
              <a:rPr b="1" lang="hu-HU" sz="3000" spc="-1" strike="noStrike">
                <a:solidFill>
                  <a:srgbClr val="00b050"/>
                </a:solidFill>
                <a:latin typeface="Arial"/>
                <a:ea typeface="Arial"/>
              </a:rPr>
              <a:t>export </a:t>
            </a:r>
            <a:r>
              <a:rPr b="1" lang="en-GB" sz="3000" spc="-1" strike="noStrike">
                <a:solidFill>
                  <a:srgbClr val="00b050"/>
                </a:solidFill>
                <a:latin typeface="Arial"/>
                <a:ea typeface="Arial"/>
              </a:rPr>
              <a:t>licence</a:t>
            </a:r>
            <a:r>
              <a:rPr b="1" lang="hu-HU" sz="3000" spc="-1" strike="noStrike">
                <a:solidFill>
                  <a:srgbClr val="00b050"/>
                </a:solidFill>
                <a:latin typeface="Arial"/>
                <a:ea typeface="Arial"/>
              </a:rPr>
              <a:t>s</a:t>
            </a:r>
            <a:endParaRPr b="1" lang="en-US" sz="3000" spc="-1" strike="noStrike">
              <a:solidFill>
                <a:srgbClr val="ffd624"/>
              </a:solidFill>
              <a:latin typeface="Verdana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1476360" y="1916280"/>
          <a:ext cx="6624720" cy="4176720"/>
        </p:xfrm>
        <a:graphic>
          <a:graphicData uri="http://schemas.openxmlformats.org/drawingml/2006/table">
            <a:tbl>
              <a:tblPr/>
              <a:tblGrid>
                <a:gridCol w="1608120"/>
                <a:gridCol w="2139840"/>
                <a:gridCol w="1551240"/>
                <a:gridCol w="1325520"/>
              </a:tblGrid>
              <a:tr h="5806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tonnes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/15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/14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/14 vs    2012/13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ddy *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e for sowing**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3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onica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sked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93  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171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0  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171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,8%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onica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36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171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7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171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,9%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7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171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3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171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,3%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7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ed / semi-milled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124  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171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404  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171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5%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onica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921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171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709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171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3%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03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171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71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95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171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1,7%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7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(in milled eq.)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71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565  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171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71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914  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171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4%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231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onica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71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187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171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71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040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171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3%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243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71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78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171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171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74   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171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0,7%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Box 2"/>
          <p:cNvSpPr/>
          <p:nvPr/>
        </p:nvSpPr>
        <p:spPr>
          <a:xfrm>
            <a:off x="666000" y="6330960"/>
            <a:ext cx="2724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Verdana"/>
              </a:rPr>
              <a:t>* Actual imports based upon COMEXT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14400" y="1052640"/>
            <a:ext cx="9144000" cy="85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b050"/>
                </a:solidFill>
                <a:latin typeface="Arial"/>
                <a:ea typeface="Arial"/>
              </a:rPr>
              <a:t>Evolution of imports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b050"/>
                </a:solidFill>
                <a:latin typeface="Arial"/>
                <a:ea typeface="Arial"/>
              </a:rPr>
              <a:t>(milled basis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52" name="Object 1" descr=""/>
          <p:cNvPicPr/>
          <p:nvPr/>
        </p:nvPicPr>
        <p:blipFill>
          <a:blip r:embed="rId1"/>
          <a:stretch/>
        </p:blipFill>
        <p:spPr>
          <a:xfrm>
            <a:off x="206280" y="2158920"/>
            <a:ext cx="875988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Object 1" descr=""/>
          <p:cNvPicPr/>
          <p:nvPr/>
        </p:nvPicPr>
        <p:blipFill>
          <a:blip r:embed="rId1"/>
          <a:stretch/>
        </p:blipFill>
        <p:spPr>
          <a:xfrm>
            <a:off x="976320" y="1176480"/>
            <a:ext cx="71913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Box 2"/>
          <p:cNvSpPr/>
          <p:nvPr/>
        </p:nvSpPr>
        <p:spPr>
          <a:xfrm>
            <a:off x="448560" y="6581880"/>
            <a:ext cx="2724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Verdana"/>
              </a:rPr>
              <a:t>* Actual imports based upon COMEXT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55" name="Object 1" descr=""/>
          <p:cNvPicPr/>
          <p:nvPr/>
        </p:nvPicPr>
        <p:blipFill>
          <a:blip r:embed="rId1"/>
          <a:stretch/>
        </p:blipFill>
        <p:spPr>
          <a:xfrm>
            <a:off x="374760" y="1012680"/>
            <a:ext cx="842004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Box 2"/>
          <p:cNvSpPr/>
          <p:nvPr/>
        </p:nvSpPr>
        <p:spPr>
          <a:xfrm>
            <a:off x="578160" y="6461280"/>
            <a:ext cx="2601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Verdana"/>
              </a:rPr>
              <a:t>Actual imports based upon COMEXT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57" name="Object 1" descr=""/>
          <p:cNvPicPr/>
          <p:nvPr/>
        </p:nvPicPr>
        <p:blipFill>
          <a:blip r:embed="rId1"/>
          <a:stretch/>
        </p:blipFill>
        <p:spPr>
          <a:xfrm>
            <a:off x="203040" y="1211400"/>
            <a:ext cx="865512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Object 1" descr=""/>
          <p:cNvPicPr/>
          <p:nvPr/>
        </p:nvPicPr>
        <p:blipFill>
          <a:blip r:embed="rId1"/>
          <a:stretch/>
        </p:blipFill>
        <p:spPr>
          <a:xfrm>
            <a:off x="90360" y="1251000"/>
            <a:ext cx="8904240" cy="5076720"/>
          </a:xfrm>
          <a:prstGeom prst="rect">
            <a:avLst/>
          </a:prstGeom>
          <a:ln w="0">
            <a:noFill/>
          </a:ln>
        </p:spPr>
      </p:pic>
      <p:sp>
        <p:nvSpPr>
          <p:cNvPr id="459" name="TextBox 1"/>
          <p:cNvSpPr/>
          <p:nvPr/>
        </p:nvSpPr>
        <p:spPr>
          <a:xfrm>
            <a:off x="556920" y="6453360"/>
            <a:ext cx="22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000000"/>
                </a:solidFill>
                <a:latin typeface="Verdana"/>
              </a:rPr>
              <a:t>Actual import based upon COMEXT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87280" y="1989000"/>
            <a:ext cx="662472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en-GB" sz="6000" spc="-1" strike="noStrike">
                <a:solidFill>
                  <a:srgbClr val="ffff00"/>
                </a:solidFill>
                <a:latin typeface="Arial"/>
              </a:rPr>
              <a:t>World </a:t>
            </a:r>
            <a:r>
              <a:rPr b="1" lang="hu-HU" sz="6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GB" sz="6000" spc="-1" strike="noStrike">
                <a:solidFill>
                  <a:srgbClr val="ffff00"/>
                </a:solidFill>
                <a:latin typeface="Arial"/>
              </a:rPr>
              <a:t>arket</a:t>
            </a:r>
            <a:r>
              <a:rPr b="1" lang="hu-HU" sz="6000" spc="-1" strike="noStrike">
                <a:solidFill>
                  <a:srgbClr val="ffff00"/>
                </a:solidFill>
                <a:latin typeface="Arial"/>
              </a:rPr>
              <a:t>s</a:t>
            </a:r>
            <a:br>
              <a:rPr sz="6000"/>
            </a:br>
            <a:r>
              <a:rPr b="1" lang="en-GB" sz="6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6000" spc="-1" strike="noStrike">
              <a:solidFill>
                <a:srgbClr val="42a62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Object 1" descr=""/>
          <p:cNvPicPr/>
          <p:nvPr/>
        </p:nvPicPr>
        <p:blipFill>
          <a:blip r:embed="rId1"/>
          <a:stretch/>
        </p:blipFill>
        <p:spPr>
          <a:xfrm>
            <a:off x="123840" y="1362240"/>
            <a:ext cx="88963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Box 2"/>
          <p:cNvSpPr/>
          <p:nvPr/>
        </p:nvSpPr>
        <p:spPr>
          <a:xfrm>
            <a:off x="838800" y="6058080"/>
            <a:ext cx="30992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Verdana"/>
              </a:rPr>
              <a:t>* Actual imports based upon Surveillance2 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62" name="Object 1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3329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3"/>
          <p:cNvSpPr/>
          <p:nvPr/>
        </p:nvSpPr>
        <p:spPr>
          <a:xfrm>
            <a:off x="900000" y="52848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b050"/>
                </a:solidFill>
                <a:latin typeface="Arial"/>
                <a:ea typeface="Arial"/>
              </a:rPr>
              <a:t>Imports in retail-ready packets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64" name="Object 1" descr=""/>
          <p:cNvPicPr/>
          <p:nvPr/>
        </p:nvPicPr>
        <p:blipFill>
          <a:blip r:embed="rId1"/>
          <a:stretch/>
        </p:blipFill>
        <p:spPr>
          <a:xfrm>
            <a:off x="225360" y="1593720"/>
            <a:ext cx="85503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79440" y="1773000"/>
            <a:ext cx="662472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1" lang="hu-HU" sz="6600" spc="-1" strike="noStrike">
                <a:solidFill>
                  <a:srgbClr val="ffc000"/>
                </a:solidFill>
                <a:latin typeface="Arial"/>
                <a:ea typeface="Arial"/>
              </a:rPr>
              <a:t>Thank you for your attention!</a:t>
            </a:r>
            <a:br>
              <a:rPr sz="6600"/>
            </a:br>
            <a:r>
              <a:rPr b="1" lang="en-GB" sz="6600" spc="-1" strike="noStrike">
                <a:solidFill>
                  <a:srgbClr val="ffc000"/>
                </a:solidFill>
                <a:latin typeface="Arial"/>
              </a:rPr>
              <a:t> </a:t>
            </a:r>
            <a:endParaRPr b="1" lang="en-US" sz="6600" spc="-1" strike="noStrike">
              <a:solidFill>
                <a:srgbClr val="42a62a"/>
              </a:solidFill>
              <a:latin typeface="Verdana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20520" y="5157720"/>
            <a:ext cx="9144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fffff"/>
                </a:solidFill>
                <a:latin typeface="Verdana"/>
              </a:rPr>
              <a:t>Market presentation available:</a:t>
            </a:r>
            <a:r>
              <a:rPr b="1" lang="hu-HU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0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Verdana"/>
              </a:rPr>
              <a:t>http://ec.europa.eu/agriculture/cereals/presentations/index_en.htm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6"/>
          <p:cNvSpPr/>
          <p:nvPr/>
        </p:nvSpPr>
        <p:spPr>
          <a:xfrm>
            <a:off x="3240" y="1117440"/>
            <a:ext cx="9144000" cy="88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339933"/>
                </a:solidFill>
                <a:latin typeface="Arial"/>
                <a:ea typeface="Arial"/>
              </a:rPr>
              <a:t>World rice balance sheet </a:t>
            </a:r>
            <a:endParaRPr b="1" lang="en-US" sz="3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9933"/>
                </a:solidFill>
                <a:latin typeface="Arial"/>
                <a:ea typeface="Arial"/>
              </a:rPr>
              <a:t>(milled basis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16" name="Object 1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832788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3"/>
          <p:cNvSpPr/>
          <p:nvPr/>
        </p:nvSpPr>
        <p:spPr>
          <a:xfrm>
            <a:off x="14400" y="1052640"/>
            <a:ext cx="9144000" cy="188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b050"/>
                </a:solidFill>
                <a:latin typeface="Arial"/>
                <a:ea typeface="Arial"/>
              </a:rPr>
              <a:t>International trade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b050"/>
                </a:solidFill>
                <a:latin typeface="Arial"/>
                <a:ea typeface="Arial"/>
              </a:rPr>
              <a:t>(mio t, milled basis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801720" y="1986120"/>
            <a:ext cx="338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Imports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5170320" y="2016000"/>
            <a:ext cx="3383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Exports</a:t>
            </a:r>
            <a:endParaRPr b="1" lang="en-US" sz="2800" spc="-1" strike="noStrike">
              <a:solidFill>
                <a:srgbClr val="ffd624"/>
              </a:solidFill>
              <a:latin typeface="Verdana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900000" y="2538360"/>
          <a:ext cx="3286080" cy="2906640"/>
        </p:xfrm>
        <a:graphic>
          <a:graphicData uri="http://schemas.openxmlformats.org/drawingml/2006/table">
            <a:tbl>
              <a:tblPr/>
              <a:tblGrid>
                <a:gridCol w="1212840"/>
                <a:gridCol w="1076400"/>
                <a:gridCol w="996840"/>
              </a:tblGrid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 est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 fcast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87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ia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an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ippines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aq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udi Arabia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onesia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5319720" y="2610000"/>
          <a:ext cx="3233880" cy="2906640"/>
        </p:xfrm>
        <a:graphic>
          <a:graphicData uri="http://schemas.openxmlformats.org/drawingml/2006/table">
            <a:tbl>
              <a:tblPr/>
              <a:tblGrid>
                <a:gridCol w="1193760"/>
                <a:gridCol w="1058760"/>
                <a:gridCol w="981360"/>
              </a:tblGrid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 est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 fcast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17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iland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3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6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5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tnam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kistan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ed States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bodia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anmar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ypt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2" name="TextBox 1"/>
          <p:cNvSpPr/>
          <p:nvPr/>
        </p:nvSpPr>
        <p:spPr>
          <a:xfrm>
            <a:off x="782280" y="6308640"/>
            <a:ext cx="16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3c8c93"/>
                </a:solidFill>
                <a:latin typeface="Verdana"/>
              </a:rPr>
              <a:t>Source: IGC Sept. report</a:t>
            </a: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360" y="1197000"/>
            <a:ext cx="9144000" cy="11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42a62a"/>
                </a:solidFill>
                <a:latin typeface="Arial"/>
                <a:ea typeface="Arial"/>
              </a:rPr>
              <a:t>World market prices </a:t>
            </a:r>
            <a:br>
              <a:rPr sz="3200"/>
            </a:br>
            <a:r>
              <a:rPr b="1" lang="hu-HU" sz="1800" spc="-1" strike="noStrike">
                <a:solidFill>
                  <a:srgbClr val="42a62a"/>
                </a:solidFill>
                <a:latin typeface="Arial"/>
                <a:ea typeface="Arial"/>
              </a:rPr>
              <a:t>(milled basis, FoB)</a:t>
            </a:r>
            <a:br>
              <a:rPr sz="1800"/>
            </a:br>
            <a:endParaRPr b="1" lang="en-US" sz="1800" spc="-1" strike="noStrike">
              <a:solidFill>
                <a:srgbClr val="42a62a"/>
              </a:solidFill>
              <a:latin typeface="Verdana"/>
            </a:endParaRPr>
          </a:p>
        </p:txBody>
      </p:sp>
      <p:pic>
        <p:nvPicPr>
          <p:cNvPr id="424" name="Object 1" descr=""/>
          <p:cNvPicPr/>
          <p:nvPr/>
        </p:nvPicPr>
        <p:blipFill>
          <a:blip r:embed="rId1"/>
          <a:stretch/>
        </p:blipFill>
        <p:spPr>
          <a:xfrm>
            <a:off x="201600" y="2209680"/>
            <a:ext cx="8234280" cy="424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5" name=""/>
          <p:cNvGraphicFramePr/>
          <p:nvPr/>
        </p:nvGraphicFramePr>
        <p:xfrm>
          <a:off x="8172360" y="3213000"/>
          <a:ext cx="754200" cy="1001880"/>
        </p:xfrm>
        <a:graphic>
          <a:graphicData uri="http://schemas.openxmlformats.org/drawingml/2006/table">
            <a:tbl>
              <a:tblPr/>
              <a:tblGrid>
                <a:gridCol w="754200"/>
              </a:tblGrid>
              <a:tr h="227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486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35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5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5</a:t>
                      </a:r>
                      <a:endParaRPr b="1" lang="en-US" sz="10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36440" y="1267920"/>
            <a:ext cx="9002880" cy="114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42a62a"/>
                </a:solidFill>
                <a:latin typeface="Arial"/>
                <a:ea typeface="Arial"/>
              </a:rPr>
              <a:t>Basmati prices</a:t>
            </a:r>
            <a:br>
              <a:rPr sz="3200"/>
            </a:br>
            <a:r>
              <a:rPr b="1" lang="hu-HU" sz="1800" spc="-1" strike="noStrike">
                <a:solidFill>
                  <a:srgbClr val="42a62a"/>
                </a:solidFill>
                <a:latin typeface="Arial"/>
                <a:ea typeface="Arial"/>
              </a:rPr>
              <a:t>(milled basis, FoB)</a:t>
            </a:r>
            <a:br>
              <a:rPr sz="1800"/>
            </a:br>
            <a:endParaRPr b="1" lang="en-US" sz="1800" spc="-1" strike="noStrike">
              <a:solidFill>
                <a:srgbClr val="42a62a"/>
              </a:solidFill>
              <a:latin typeface="Verdana"/>
            </a:endParaRPr>
          </a:p>
        </p:txBody>
      </p:sp>
      <p:pic>
        <p:nvPicPr>
          <p:cNvPr id="427" name="Object 1" descr=""/>
          <p:cNvPicPr/>
          <p:nvPr/>
        </p:nvPicPr>
        <p:blipFill>
          <a:blip r:embed="rId1"/>
          <a:stretch/>
        </p:blipFill>
        <p:spPr>
          <a:xfrm>
            <a:off x="-6480" y="2208240"/>
            <a:ext cx="8682120" cy="4494240"/>
          </a:xfrm>
          <a:prstGeom prst="rect">
            <a:avLst/>
          </a:prstGeom>
          <a:ln w="0">
            <a:noFill/>
          </a:ln>
        </p:spPr>
      </p:pic>
      <p:pic>
        <p:nvPicPr>
          <p:cNvPr id="428" name="Object 1" descr=""/>
          <p:cNvPicPr/>
          <p:nvPr/>
        </p:nvPicPr>
        <p:blipFill>
          <a:blip r:embed="rId2"/>
          <a:stretch/>
        </p:blipFill>
        <p:spPr>
          <a:xfrm>
            <a:off x="8459640" y="2852640"/>
            <a:ext cx="14828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87280" y="1989000"/>
            <a:ext cx="662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hu-HU" sz="6000" spc="-1" strike="noStrike">
                <a:solidFill>
                  <a:srgbClr val="ffff00"/>
                </a:solidFill>
                <a:latin typeface="Arial"/>
              </a:rPr>
              <a:t>EU</a:t>
            </a:r>
            <a:r>
              <a:rPr b="1" lang="en-GB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hu-HU" sz="6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GB" sz="6000" spc="-1" strike="noStrike">
                <a:solidFill>
                  <a:srgbClr val="ffff00"/>
                </a:solidFill>
                <a:latin typeface="Arial"/>
              </a:rPr>
              <a:t>arket</a:t>
            </a:r>
            <a:r>
              <a:rPr b="1" lang="hu-HU" sz="6000" spc="-1" strike="noStrike">
                <a:solidFill>
                  <a:srgbClr val="ffff00"/>
                </a:solidFill>
                <a:latin typeface="Arial"/>
              </a:rPr>
              <a:t>s</a:t>
            </a:r>
            <a:br>
              <a:rPr sz="6000"/>
            </a:br>
            <a:r>
              <a:rPr b="1" lang="en-GB" sz="6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6000" spc="-1" strike="noStrike">
              <a:solidFill>
                <a:srgbClr val="42a62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-108000" y="1268280"/>
            <a:ext cx="9144000" cy="88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b050"/>
                </a:solidFill>
                <a:latin typeface="Arial"/>
                <a:ea typeface="Arial"/>
              </a:rPr>
              <a:t>EU market prices </a:t>
            </a:r>
            <a:endParaRPr b="1" lang="en-US" sz="3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(paddy Japonica,</a:t>
            </a:r>
            <a:r>
              <a:rPr b="1" lang="hu-HU" sz="1800" spc="-1" strike="noStrike">
                <a:solidFill>
                  <a:srgbClr val="00b050"/>
                </a:solidFill>
                <a:latin typeface="Arial"/>
                <a:ea typeface="Arial"/>
              </a:rPr>
              <a:t> at place of production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31" name="Object 1" descr=""/>
          <p:cNvPicPr/>
          <p:nvPr/>
        </p:nvPicPr>
        <p:blipFill>
          <a:blip r:embed="rId1"/>
          <a:stretch/>
        </p:blipFill>
        <p:spPr>
          <a:xfrm>
            <a:off x="108000" y="2170080"/>
            <a:ext cx="7994520" cy="471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2" name=""/>
          <p:cNvGraphicFramePr/>
          <p:nvPr/>
        </p:nvGraphicFramePr>
        <p:xfrm>
          <a:off x="8101080" y="3492360"/>
          <a:ext cx="812880" cy="800280"/>
        </p:xfrm>
        <a:graphic>
          <a:graphicData uri="http://schemas.openxmlformats.org/drawingml/2006/table">
            <a:tbl>
              <a:tblPr/>
              <a:tblGrid>
                <a:gridCol w="812880"/>
              </a:tblGrid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 MT"/>
                        </a:rPr>
                        <a:t>N.Q.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MT"/>
                        </a:rPr>
                        <a:t>N.Q.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Arial MT"/>
                        </a:rPr>
                        <a:t>279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ff"/>
                          </a:solidFill>
                          <a:latin typeface="Arial MT"/>
                        </a:rPr>
                        <a:t>N.Q.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0" y="1268280"/>
            <a:ext cx="9144000" cy="88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b050"/>
                </a:solidFill>
                <a:latin typeface="Arial"/>
                <a:ea typeface="Arial"/>
              </a:rPr>
              <a:t>EU market prices </a:t>
            </a:r>
            <a:endParaRPr b="1" lang="en-US" sz="3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(paddy Japonica,</a:t>
            </a:r>
            <a:r>
              <a:rPr b="1" lang="hu-HU" sz="1800" spc="-1" strike="noStrike">
                <a:solidFill>
                  <a:srgbClr val="00b050"/>
                </a:solidFill>
                <a:latin typeface="Arial"/>
                <a:ea typeface="Arial"/>
              </a:rPr>
              <a:t> at place of production</a:t>
            </a:r>
            <a:r>
              <a:rPr b="1" lang="en-GB" sz="1800" spc="-1" strike="noStrike">
                <a:solidFill>
                  <a:srgbClr val="00b050"/>
                </a:solidFill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34" name="Object 3" descr=""/>
          <p:cNvPicPr/>
          <p:nvPr/>
        </p:nvPicPr>
        <p:blipFill>
          <a:blip r:embed="rId1"/>
          <a:stretch/>
        </p:blipFill>
        <p:spPr>
          <a:xfrm>
            <a:off x="293760" y="2200320"/>
            <a:ext cx="8034120" cy="454824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8"/>
          <p:cNvSpPr/>
          <p:nvPr/>
        </p:nvSpPr>
        <p:spPr>
          <a:xfrm>
            <a:off x="1332000" y="3571920"/>
            <a:ext cx="6480000" cy="720720"/>
          </a:xfrm>
          <a:prstGeom prst="rect">
            <a:avLst/>
          </a:prstGeom>
          <a:solidFill>
            <a:srgbClr val="e46c0a">
              <a:alpha val="2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8101080" y="3492360"/>
          <a:ext cx="812880" cy="800280"/>
        </p:xfrm>
        <a:graphic>
          <a:graphicData uri="http://schemas.openxmlformats.org/drawingml/2006/table">
            <a:tbl>
              <a:tblPr/>
              <a:tblGrid>
                <a:gridCol w="812880"/>
              </a:tblGrid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8000"/>
                          </a:solidFill>
                          <a:latin typeface="Arial MT"/>
                        </a:rPr>
                        <a:t>N.Q.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 MT"/>
                        </a:rPr>
                        <a:t>N.Q.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Arial MT"/>
                        </a:rPr>
                        <a:t>279 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ff"/>
                          </a:solidFill>
                          <a:latin typeface="Arial MT"/>
                        </a:rPr>
                        <a:t>N.Q.</a:t>
                      </a:r>
                      <a:endParaRPr b="1" lang="en-US" sz="1200" spc="-1" strike="noStrike">
                        <a:solidFill>
                          <a:srgbClr val="ffd624"/>
                        </a:solidFill>
                        <a:latin typeface="Verdan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FERRIERE Jean (SG)</cp:lastModifiedBy>
  <cp:lastPrinted>2014-10-29T16:36:46Z</cp:lastPrinted>
  <dcterms:modified xsi:type="dcterms:W3CDTF">2014-10-29T16:54:43Z</dcterms:modified>
  <cp:revision>681</cp:revision>
  <dc:subject/>
  <dc:title>Slide 1</dc:title>
</cp:coreProperties>
</file>