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EB7F-4568-4129-8B5D-2F46E95B69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se stable ofver time, with slight increase. But EU production increased since 2,009/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U indica market share increased 41% in 2006/07 to 47% in 2011/12 down to 45% in 2012/13.  To be followied for 2013/14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ut clearly, EU production remains competitive (but competition has increased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8B25-1459-452F-8D22-EEAF1CAD2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2494-8084-4750-9FEC-EA5AB07213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ambodia is a Least Developed Country meaning a country suffering conditions of extreme pover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GNI per capita for Germany USD 46,100,   USD 34,100 for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opulation of 15,14 million people (2013) with a GDP of 15,25 billion.  Meaning an average GDP/people of ~1,000 USD /annu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BA entered into force in 2001 with long transition period for rice (September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67F2-9490-460B-B03E-2CF0DB61C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20013-14 année record comme 2007-08  avec 1,100,000 tonnes d'import riz cargo et blanc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2085-B07C-4FCE-9C87-0101B0349A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12 key players now = 97% of milled imports. In 2008/09 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ambodia is now n° one.   Myanmar is comin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ooser as well: Thailand, US (now stable at ~40,000),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1C28-0E20-41FE-BD02-1536575E7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U = 63% of Cambodia exports in 2013,   Africa 7%, 30% South east Asia (but strong competition with India, Thäiland,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SDA forescast increase of production, increase of exports.  Unclear where the exports will 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3C08-D619-45B8-BB2D-B0C544F8B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0B63A-44E3-4E5E-A638-3A503F402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crease production in 2009/10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5568-4A6B-49B0-BA96-F9EC18A68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otal production incrased in 2009/10,   Both japnica and indica increased and kept the same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ower japonica sowing in 2013/14 (but higher expor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D1A5-7901-4596-A35B-BFE457D3EC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oduction overshoot use since 2009/10.   Japonica exports on the international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7019-032C-4ECC-998F-49A5B8426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81FC-8936-42B8-B745-A3727A43C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80E-BFAF-4A77-8709-0D168F2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E93-0DFB-4AEA-ABDA-E9F636F6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8EE-402C-47EF-BF1E-9777F985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147-8B50-4C49-8199-8E0E7981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A9CB-7CFD-4C7D-A6E5-AF4CD19E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F04E-01AD-4FB0-9980-B8322269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6C40-149B-4097-A504-0AF35689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12C8-F2B8-4D11-9C74-062CB61C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DD2F-ADC4-4487-B66A-6FF7971D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466C-03FA-413A-A81F-01B0A2BA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65B-463A-430F-A72A-775700D2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1C8-4002-42AC-A1D6-BE79081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561C-17B1-4DEB-B0E5-D6EB2734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12E-E3AA-4DD7-AFC4-AF3F39C8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D16E-1813-44F9-9AA4-31694BFF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4512-92BD-427E-808C-DD0AF24E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A49-6971-4182-9217-FE19E08F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1DF9-0EEA-4C7F-BA3E-18B0ABF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15A-24C1-483A-8BA7-C97D2EF6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E88-AD07-4E6C-BAA0-E2DB16E5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335C-A853-4360-A47B-CF365C3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A43-D229-4818-AD51-1CB087F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92E-F728-4105-897A-8B2926E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127E-3D3F-40A9-B269-35AB2BDAE5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2ABF-0EC7-47FD-932E-685FD104D959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U:\ZONES PERSONNELLES\FERRIERE\RICE\Civil Dialogue Group\20141105\rice_paddies_a_medley_of_the_pool_farmers_221638.jpg"/>
          <p:cNvPicPr/>
          <p:nvPr/>
        </p:nvPicPr>
        <p:blipFill>
          <a:blip r:embed="rId1"/>
          <a:stretch/>
        </p:blipFill>
        <p:spPr>
          <a:xfrm>
            <a:off x="1692360" y="2476440"/>
            <a:ext cx="6119640" cy="2824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1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ambodia rice imports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very But Arm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628640"/>
            <a:ext cx="82296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U indica production vs us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406440" y="2441520"/>
            <a:ext cx="8331120" cy="36306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822600" y="6248520"/>
            <a:ext cx="198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: EU balance shee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79440" y="1773000"/>
            <a:ext cx="6624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7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hu-HU" sz="6600" spc="-1" strike="noStrike">
                <a:solidFill>
                  <a:srgbClr val="ffc000"/>
                </a:solidFill>
                <a:latin typeface="Arial"/>
                <a:ea typeface="Arial"/>
              </a:rPr>
              <a:t>Thank you for your attention!</a:t>
            </a:r>
            <a:br>
              <a:rPr sz="6600"/>
            </a:br>
            <a:r>
              <a:rPr b="1" lang="en-GB" sz="6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lang="en-US" sz="6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520" y="515772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ambodia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some indicato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755640" y="623736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 World DataBank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0" name="Content Placeholder 8" descr=""/>
          <p:cNvPicPr/>
          <p:nvPr/>
        </p:nvPicPr>
        <p:blipFill>
          <a:blip r:embed="rId1"/>
          <a:stretch/>
        </p:blipFill>
        <p:spPr>
          <a:xfrm>
            <a:off x="4808520" y="2441520"/>
            <a:ext cx="3929040" cy="3559320"/>
          </a:xfrm>
          <a:prstGeom prst="rect">
            <a:avLst/>
          </a:prstGeom>
          <a:ln w="0">
            <a:noFill/>
          </a:ln>
        </p:spPr>
      </p:pic>
      <p:pic>
        <p:nvPicPr>
          <p:cNvPr id="101" name="Chart 9" descr=""/>
          <p:cNvPicPr/>
          <p:nvPr/>
        </p:nvPicPr>
        <p:blipFill>
          <a:blip r:embed="rId2"/>
          <a:stretch/>
        </p:blipFill>
        <p:spPr>
          <a:xfrm>
            <a:off x="200160" y="2514600"/>
            <a:ext cx="46260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U husked and milled imports – key play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534240" y="623736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: COMEX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406440" y="2441520"/>
            <a:ext cx="833112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U milled imports from key play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Content Placeholder 4" descr=""/>
          <p:cNvPicPr/>
          <p:nvPr/>
        </p:nvPicPr>
        <p:blipFill>
          <a:blip r:embed="rId1"/>
          <a:stretch/>
        </p:blipFill>
        <p:spPr>
          <a:xfrm>
            <a:off x="406440" y="2441520"/>
            <a:ext cx="8331120" cy="36306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821520" y="6381720"/>
            <a:ext cx="136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: COMEX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Evolution Cambodia production </a:t>
            </a:r>
            <a:br>
              <a:rPr sz="3000"/>
            </a:br>
            <a:r>
              <a:rPr b="1" lang="fr-BE" sz="1200" spc="-1" strike="noStrike">
                <a:solidFill>
                  <a:srgbClr val="0f5494"/>
                </a:solidFill>
                <a:latin typeface="Verdana"/>
              </a:rPr>
              <a:t>(source USDA FAS)</a:t>
            </a:r>
            <a:endParaRPr b="1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819520"/>
          <a:ext cx="8229600" cy="2874960"/>
        </p:xfrm>
        <a:graphic>
          <a:graphicData uri="http://schemas.openxmlformats.org/drawingml/2006/table">
            <a:tbl>
              <a:tblPr/>
              <a:tblGrid>
                <a:gridCol w="558720"/>
                <a:gridCol w="954000"/>
                <a:gridCol w="655920"/>
                <a:gridCol w="689040"/>
                <a:gridCol w="733320"/>
                <a:gridCol w="723960"/>
                <a:gridCol w="934920"/>
                <a:gridCol w="826920"/>
                <a:gridCol w="696960"/>
                <a:gridCol w="711360"/>
                <a:gridCol w="744480"/>
              </a:tblGrid>
              <a:tr h="244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mmodity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Attribute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Country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07/2008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08/2009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09/2010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10/2011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11/2012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12/2013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13/2014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700" spc="-1" strike="noStrike">
                          <a:solidFill>
                            <a:srgbClr val="4d4d4d"/>
                          </a:solidFill>
                          <a:latin typeface="Verdana"/>
                        </a:rPr>
                        <a:t>2014/2015</a:t>
                      </a:r>
                      <a:endParaRPr b="0" lang="en-US" sz="7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3492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e, Milled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Harvested (1000 HA)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6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3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7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7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6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ginning Stocks (1000 MT)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523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ed Production (1000 MT)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0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92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56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33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68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2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9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 Exports (1000 MT)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52380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ption and Residual (1000 MT)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2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2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4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5760">
                      <a:solidFill>
                        <a:srgbClr val="c0c0c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(Rough) (MT/HA)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9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7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8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1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5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9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1</a:t>
                      </a:r>
                      <a:endParaRPr b="0" lang="en-US" sz="10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b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9120" y="3284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RICE PRODUCTION </a:t>
            </a:r>
            <a:br>
              <a:rPr sz="3000"/>
            </a:b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In the EU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491920"/>
            <a:ext cx="8229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5494"/>
                </a:solidFill>
                <a:latin typeface="Verdana"/>
              </a:rPr>
              <a:t>EU production vs use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Content Placeholder 3" descr=""/>
          <p:cNvPicPr/>
          <p:nvPr/>
        </p:nvPicPr>
        <p:blipFill>
          <a:blip r:embed="rId1"/>
          <a:stretch/>
        </p:blipFill>
        <p:spPr>
          <a:xfrm>
            <a:off x="406440" y="2441520"/>
            <a:ext cx="8331120" cy="36306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"/>
          <p:cNvSpPr/>
          <p:nvPr/>
        </p:nvSpPr>
        <p:spPr>
          <a:xfrm>
            <a:off x="533520" y="6237360"/>
            <a:ext cx="198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: EU balance shee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volution japonica/indica production in the EU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406440" y="2441520"/>
            <a:ext cx="8331120" cy="36306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"/>
          <p:cNvSpPr/>
          <p:nvPr/>
        </p:nvSpPr>
        <p:spPr>
          <a:xfrm>
            <a:off x="749520" y="6248520"/>
            <a:ext cx="198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: EU balance shee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EU japonica production vs japonica us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406440" y="2441520"/>
            <a:ext cx="8331120" cy="36306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581040" y="6176880"/>
            <a:ext cx="198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f5494"/>
                </a:solidFill>
                <a:latin typeface="Verdana"/>
              </a:rPr>
              <a:t>Source: EU balance shee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14:28:36Z</dcterms:created>
  <dc:creator>FERRIERE Jean (SG)</dc:creator>
  <dc:description/>
  <dc:language>en-US</dc:language>
  <cp:lastModifiedBy>FERRIERE Jean (SG)</cp:lastModifiedBy>
  <dcterms:modified xsi:type="dcterms:W3CDTF">2014-11-04T12:11:38Z</dcterms:modified>
  <cp:revision>47</cp:revision>
  <dc:subject/>
  <dc:title>Title</dc:title>
</cp:coreProperties>
</file>