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6BE8-F255-40DA-AB46-0663677C3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 la date limite du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1 décembre 2014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, les Etats membres ont soumis aux services compétents de la Commission, unité AGRI B.5,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4 propositions de programme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'information et de promotion des produits agricoles préalablement reçus et sélectionnés,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émanant de 21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8 from Greece and Italy +7 from Poland + 6 from Austria + 6 multi MS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Total budget:    210.416.603 EUR          dont 105.789.638 EUR à cofinance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(50,28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es programmes concernent simultanément l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marché intérieur (31)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et les </a:t>
            </a:r>
            <a:r>
              <a:rPr b="1" lang="fr-BE" sz="1200" spc="-1" strike="noStrike" u="sng">
                <a:solidFill>
                  <a:srgbClr val="000000"/>
                </a:solidFill>
                <a:uFillTx/>
                <a:latin typeface="Arial"/>
              </a:rPr>
              <a:t>Pays tiers (33)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More proposals than before clearly linked to the diversification efforts following Russian embar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56 "programmes simples"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onc présentés par des organisations proposantes issues d'un même Etat membre  +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8 "programmes multis"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c’est-à-dire des propositions faites par des organisations proposantes issues de plusieurs Etat mem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uite à la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remière phase d'évaluation 19 propositions ont été rejeté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à cause de défauts fondamentaux. Pour les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5 propositions restantes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l'unité B.5 a demandé aux Etats Membres de fournir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'information supplémentair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Quatre des 45 propositions restantes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ont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encore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été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refusées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uite aux réponses données aux demandes d'information supplémenta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Trois propositions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ettonne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BE" sz="1200" spc="-1" strike="noStrike" u="sng">
                <a:solidFill>
                  <a:srgbClr val="000000"/>
                </a:solidFill>
                <a:uFillTx/>
                <a:latin typeface="Arial"/>
              </a:rPr>
              <a:t>Latvian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) n'ont pas été retenues dû au manque de réponses satisfais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ne proposition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italienn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a été modifiée en profondeur suite aux questions et remarques soulevés par l'unité B.5 et est devenue inéligible pour recevoir un co-financement europé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9B22-AE7F-4CFE-93D3-7A7B957037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 la suite des procédures d'évaluation susmentionnées,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1 programme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parmi les 64 sont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roposés au bénéfice de l'aide européenn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4,1%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of initially received proposals      +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1,6%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of total budget of 64 initial propo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es programmes portent sur un budget total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129.657.285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ont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4.828.635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à cofin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rogrammes ont une durée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 ans    +    </a:t>
            </a:r>
            <a:r>
              <a:rPr b="1" lang="fr-BE" sz="1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 ans    +    </a:t>
            </a:r>
            <a:r>
              <a:rPr b="1" lang="fr-BE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Average budget: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.162.373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  ranging beween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34.753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(programme "multi" belge et néerlandais d'un an)         and  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8.295.304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(programme italien de trois a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17/41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target th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Internal Market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+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4/41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target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Third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eci est un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changement remarquabl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ans la mesure où,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jusqu’à la vague précédente (2ème vague 2014)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, la distribution était plutôt d'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un tier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e propositions ciblant les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ays tier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et l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rest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visant l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marché intéri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ett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remière vague de 2015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montre une évolution qui est </a:t>
            </a:r>
            <a:r>
              <a:rPr b="1" lang="fr-BE" sz="1200" spc="-1" strike="noStrike" u="sng">
                <a:solidFill>
                  <a:srgbClr val="000000"/>
                </a:solidFill>
                <a:uFillTx/>
                <a:latin typeface="Arial"/>
              </a:rPr>
              <a:t>probablement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 due à l'embargo par la Russi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et l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budget supplémentair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y afférent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0 mio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alloué pour des programmes de promotion à adopter par la Commission en 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Budget "Internal Market"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0.888.501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           (EU co-financement: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0.444.247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Budget "Third Countries"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88.768.783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            (EU co-financement: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4.384.389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/41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:     program is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imited to country of origin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of the proposing organisation      (AT, DE, N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8017-25D3-4727-ACCE-33358AB4B4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Fresh F&amp;V: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rogram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(25,94% of total approved bud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Multi Products: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program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(17,26% of total approved bud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Milk &amp; milk products: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rogram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(15,37% of total approved bud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DO, PGI and TSG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gram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6,06%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of total approved bud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ive oil and table olive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program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(15,59% of total approved bud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5281-A4AB-40E2-A3BA-3FCC730C33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7DD-25A6-4CA0-AB4A-95CE5403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348-0FD8-4247-9C70-4BF295A1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AB91B-C122-4759-86F4-4A3DB381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9A9C9-8E85-42EC-B669-65393E0A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7B805-F9D6-4C77-AC14-08B7E942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19E96-536D-4CD8-B7E2-69B3C0C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941B4-5A27-496E-B3E5-1C36E06A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7C971-7E16-4348-8E2F-42097BA3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48093-649D-46BC-AE2A-8039DF75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7E283-A7BB-4F18-BF16-47A684FC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A390F-D265-4F87-AA29-89F3CB22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0D411-BC94-4314-AB55-170A302F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724-6306-4BEE-B4DA-6724DE42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74B45-5D2C-424A-BFAD-42208391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D9595-DA62-4686-B34A-B0A973EF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13612-9D01-4106-8182-49E669CC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25740-F52C-43AE-B862-349304DF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1E7BE-9114-4B2D-BA92-873DF70A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85FE2-4AC9-450F-81D6-46C65B9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D0355-65B5-4787-805C-7C059E57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47E4D-1ABD-45AF-8DCA-730553EC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E0BEC-4702-43F0-A5D6-54DE028D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25235-876E-41F9-9A46-E2E94305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774-CCC3-4933-986D-D25F847A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10B62-65C7-438B-B8DB-78DA29AC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D8D55-DFFC-4B4F-93C9-4BE8F4D2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01E6F-49DB-491F-9883-3BC3959C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3C25F-0143-42F1-A73C-EBC5CBD9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69AEB-CB68-4039-96E8-95A11E2C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C787D-16CE-48E8-A20B-5EF3E44A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268B9-6DD1-42B2-B608-3B0D0200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29C49-6917-4263-9B40-09AE284C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06700-704B-4E1B-B37F-765829F8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01DDA-341C-43C8-988C-8DA75A4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1517-49DE-407D-8255-98201223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E320F-7AC7-4170-B446-1087A28B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0A96B-02D8-4B28-877C-84F7AEC1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5EA7C-88EC-4F78-BB59-09B974DE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C7FF0-4039-4F22-82EB-A1AE50D3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2F5B8-D633-458C-8A6F-ED0ADC01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BBFAE-8C33-4A4F-BC98-58E14096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A5DE7-284E-411E-A316-95D00719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5BF4D-E84E-45F7-91EC-05C4E623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82BB5-C796-4959-B3A3-AC06FC1B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7B9A7-5454-4F23-A503-975E67A0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80F0-8424-47C4-A296-FC1E04BE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F5719-1737-414F-9E7F-C49AB44D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DF689-22BA-4099-BE00-E930F95C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BF5CB-AE39-4EBA-B30D-DF72060A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50692-AB44-4DCD-8020-64D0207D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AD4A5-EB58-456E-85AD-10929091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C6DB-8CAF-4B1B-9868-61609F22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2825-3AEA-4276-8580-40A18446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46C7-0178-4C6C-A004-E1A62A2C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7F61-98F6-49A1-A1EF-03A4518E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FFF8-494C-40B0-BE3F-0F28E91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08D-04AB-4CFD-816E-C243B99F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B6FF-D543-4496-9C5E-A92FE434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B072-4A44-4F92-B210-72C47BA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7D23-8E46-4D22-BA96-4BC5E9C1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3557-B299-493E-852E-77F2A217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655E-5C90-44B0-BE6F-C2027B49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1AEFF-040D-4F37-A2F4-3F7540D9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0A5F-AF59-4450-AA60-88770B66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FD64-C5B9-4D67-8A3F-0D10C7D9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DBCBB-92DB-4E6C-BE9F-8B22CF2B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2186-69C2-4C46-825C-E77EEC5B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989-928F-4632-BE2A-07A928A1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D645-E64C-4DA2-9E05-FA18C5E3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A046-EED6-4CF1-8168-D737CD6B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E6E4-0B4B-40DA-894C-1BDE927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6A6C-AC09-41AC-8444-817D0237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67D1A-C43D-49AA-AE35-34161B5D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BC642-4634-4250-BA0C-FFAD2449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616D-8F94-4909-B0D4-5ABB4FE8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40CC-F5D6-438E-9400-D04BACAA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C8E21-EC6C-4E17-9F96-A9F719D4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E9D0C-8940-46AE-9024-4D2ADF86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FD8-02CC-42B3-ABE7-9196C776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9A2F2-500B-4A02-8592-48FB57F0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BBB1C-3B19-4C0E-8847-C9D04D60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D401D-FCB1-4FF1-9EF4-301B85A8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B278C-4B36-4F5D-8EFC-DEC0F882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AEF8C-A619-4DE5-9172-6277E5E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C2505-316D-44F0-A093-535EDE5F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A090D-BA29-4D28-A20B-A86E680D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B212-FD00-4B5B-8E25-033D105A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04936-7B6B-434A-A117-E31B28E8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B77B3-9FB7-4291-BE70-940AB519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893-E8D7-4873-9197-E52A2A9B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F94DD-8AA1-4345-974B-E9463C8F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FC3CB-32E2-4C7D-95B9-D31AA83A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5FF91-0D88-488A-B708-D50EDDF7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A26D1-106B-4DC2-B166-A547D6C8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16C53-9286-4078-9FD9-F0AFAE97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226D-B46A-4832-86B7-347892EF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9E954-9369-4FDC-8A88-7519CB5B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3CFCA-07E0-4818-917E-8E1B88A7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B4B57-10E8-49C1-8915-6968D842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45356-2B89-497F-BDFA-CE15297C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259-EEB6-42DE-BB5B-7F8B5ECC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C4FA6-E7F0-41A6-8335-14FFA08E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E8C44-A016-454B-AEDB-D00D8E90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71169-BDE5-4C37-9C78-FFEE14BF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C4A0D-248A-4654-954A-BB583B4E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88920-E4A1-4B68-BA05-2053C21F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E30B6-09BE-45ED-B730-9CD52B1D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911B6-FCEB-4981-ACE0-DCFF375F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F8862-DB43-4D2E-9FFD-F70FC5E9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FC092-6FAC-4481-B642-4B32B8EE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3AE6D-73BD-4A2E-9747-DF1F7E01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DEF-4873-44FA-B3DD-447AE0AA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DC31C-6B75-4C96-A9B2-2C7DDC3D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1A858-5D09-4978-8614-C11F2871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F2613-E0F2-4ED6-9751-7C14E761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E4691-796C-44AE-B79C-3095A081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37793-A525-44A5-B521-BE29B1F4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0CAE0-61FF-4FD2-923B-7BA40F78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E3EB3-1E34-47DA-9D1D-58097343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17BB2-C7AE-4482-ADF8-482533F0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F3B32-C6ED-4DA3-8619-9B5FC5C5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05D4B-5D77-474A-98FD-1A0FDCDA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03C-91DC-414F-AD33-AB9DEDE1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68DF8-7A57-4620-8061-0977D0A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CC30F-0815-4401-9919-64B8D3DB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14939-F4F6-4CE4-945F-060106E7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CAFFC-4653-408D-ACD7-748DBDEF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D3DC4-B3F7-49D2-8038-DE43626C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64C87-6CD6-46DF-876B-8DE8CD3C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408EA-E189-472D-AA1E-C5FFA8DB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CC020-814C-4A4D-B439-120364EB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18210-F9EB-491C-A1CB-A20EE629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12871-35A1-401E-953E-E4E03AA7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5F6-6108-4305-A39C-8485D723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62845-752A-42CD-AB8F-60892465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BA7A6-EA39-4521-A00B-FD9ACCD6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51E10-A3CE-41F6-BB49-E1940D3A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8F913-8736-4A87-9888-809DB222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91B68-D2E1-4F4F-AF81-1279D357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5937F-54D5-4DC3-97A7-F4D09587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C4FFE-92AC-442D-8AEF-76CE8085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4E34B-B5C6-407E-AA33-5953D4CC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CF09F-5F2D-48CF-8D12-84F78EF1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639EF-F825-4AC5-B448-ACD97D8C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B25C-F2F7-45A4-A686-9331135BF6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9BAD-0EF8-483F-9A7E-2CCEE26B5D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81BC-804D-40DD-896F-444A33601E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FFD8-C7FC-4D55-94CB-75D577F7E8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47C3-9A13-4D6F-83B5-7DC4C4BAB0F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2C5A-AB1A-4D4C-9327-36643E9167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CB41-ACB3-4001-8982-B4E2A62667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6E10-FC9E-4CB3-8808-B87B466EEE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95BB-1F58-437A-8A83-9C48FA5377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B10B-C885-4563-970E-E77632BF05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AFE9-1016-43D4-9645-938555AFF8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C4B5-EC68-41EE-B88F-54AB01911B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40360" y="1628280"/>
            <a:ext cx="4641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Opinion on the new promotion programmes (proposals sent to the Commission by 1 December 2014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920" y="2924280"/>
            <a:ext cx="86421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5178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° Progr. Receiv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9" name="Content Placeholder 3" descr=""/>
          <p:cNvPicPr/>
          <p:nvPr/>
        </p:nvPicPr>
        <p:blipFill>
          <a:blip r:embed="rId1"/>
          <a:stretch/>
        </p:blipFill>
        <p:spPr>
          <a:xfrm>
            <a:off x="457200" y="2639880"/>
            <a:ext cx="8229600" cy="3382920"/>
          </a:xfrm>
          <a:prstGeom prst="rect">
            <a:avLst/>
          </a:prstGeom>
          <a:ln w="0">
            <a:noFill/>
          </a:ln>
        </p:spPr>
      </p:pic>
      <p:pic>
        <p:nvPicPr>
          <p:cNvPr id="510" name="Chart 5" descr=""/>
          <p:cNvPicPr/>
          <p:nvPr/>
        </p:nvPicPr>
        <p:blipFill>
          <a:blip r:embed="rId2"/>
          <a:stretch/>
        </p:blipFill>
        <p:spPr>
          <a:xfrm>
            <a:off x="1908000" y="2925720"/>
            <a:ext cx="5516640" cy="3127320"/>
          </a:xfrm>
          <a:prstGeom prst="rect">
            <a:avLst/>
          </a:prstGeom>
          <a:ln w="0">
            <a:noFill/>
          </a:ln>
        </p:spPr>
      </p:pic>
      <p:pic>
        <p:nvPicPr>
          <p:cNvPr id="511" name="Chart 6" descr=""/>
          <p:cNvPicPr/>
          <p:nvPr/>
        </p:nvPicPr>
        <p:blipFill>
          <a:blip r:embed="rId3"/>
          <a:stretch/>
        </p:blipFill>
        <p:spPr>
          <a:xfrm>
            <a:off x="1401840" y="2706840"/>
            <a:ext cx="60166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N° Progr. Approv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4" name="Chart 5" descr=""/>
          <p:cNvPicPr/>
          <p:nvPr/>
        </p:nvPicPr>
        <p:blipFill>
          <a:blip r:embed="rId1"/>
          <a:stretch/>
        </p:blipFill>
        <p:spPr>
          <a:xfrm>
            <a:off x="2120760" y="2639880"/>
            <a:ext cx="48769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duct Approved Progr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6" name="Chart 3" descr=""/>
          <p:cNvPicPr/>
          <p:nvPr/>
        </p:nvPicPr>
        <p:blipFill>
          <a:blip r:embed="rId1"/>
          <a:stretch/>
        </p:blipFill>
        <p:spPr>
          <a:xfrm>
            <a:off x="1908000" y="2279520"/>
            <a:ext cx="4980240" cy="4176720"/>
          </a:xfrm>
          <a:prstGeom prst="rect">
            <a:avLst/>
          </a:prstGeom>
          <a:ln w="0">
            <a:noFill/>
          </a:ln>
        </p:spPr>
      </p:pic>
      <p:pic>
        <p:nvPicPr>
          <p:cNvPr id="517" name="Chart 7" descr=""/>
          <p:cNvPicPr/>
          <p:nvPr/>
        </p:nvPicPr>
        <p:blipFill>
          <a:blip r:embed="rId2"/>
          <a:stretch/>
        </p:blipFill>
        <p:spPr>
          <a:xfrm>
            <a:off x="1262160" y="2419200"/>
            <a:ext cx="640080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SERNEELS Michael (AGRI)</dc:creator>
  <dc:description/>
  <dc:language>en-US</dc:language>
  <cp:lastModifiedBy>BARTH Hans-Erwin (AGRI)</cp:lastModifiedBy>
  <dcterms:modified xsi:type="dcterms:W3CDTF">2015-06-11T10:51:28Z</dcterms:modified>
  <cp:revision>181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