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183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18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6208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8440" y="744120"/>
            <a:ext cx="49640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6208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C957-7739-4357-85DE-50E9106C78DF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port was due by December 2011, but due to lengthy consultations with other Commission services, and to other more recent overriding priorities, it was ultimately postpo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Co-funding will be done by a grant of €350,000/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NETs are research coordination instruments whereby Member States can coordinate their National research activities and ultimately fund joint projec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BB7E-AC21-4136-A495-67E7335D63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7E9F-0F91-4726-B2F7-4500E665CC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064C-3EB4-49C6-A4B4-C568A32A58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port was due by December 2011, but due to lengthy consultations with other Commission services, and to other more recent overriding priorities, it was ultimately postpo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Co-funding will be done by a grant of €350,000/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NETs are research coordination instruments whereby Member States can coordinate their National research activities and ultimately fund joint projec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4061-839E-4AE3-9D00-817B958566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port was due by December 2011, but due to lengthy consultations with other Commission services, and to other more recent overriding priorities, it was ultimately postpo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Co-funding will be done by a grant of €350,000/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NETs are research coordination instruments whereby Member States can coordinate their National research activities and ultimately fund joint projec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768D-124F-4F40-B558-2DAE72B4B1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port was due by December 2011, but due to lengthy consultations with other Commission services, and to other more recent overriding priorities, it was ultimately postpo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Co-funding will be done by a grant of €350,000/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NETs are research coordination instruments whereby Member States can coordinate their National research activities and ultimately fund joint projec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895A-96D5-4030-937D-FC432A9F6E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port was due by December 2011, but due to lengthy consultations with other Commission services, and to other more recent overriding priorities, it was ultimately postpo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Co-funding will be done by a grant of €350,000/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NETs are research coordination instruments whereby Member States can coordinate their National research activities and ultimately fund joint projec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9B05-C826-4680-B288-EAD4A8B994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port was due by December 2011, but due to lengthy consultations with other Commission services, and to other more recent overriding priorities, it was ultimately postpo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Co-funding will be done by a grant of €350,000/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NETs are research coordination instruments whereby Member States can coordinate their National research activities and ultimately fund joint projec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85E0-D76E-4CD7-B4EC-3BEC460B45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port was due by December 2011, but due to lengthy consultations with other Commission services, and to other more recent overriding priorities, it was ultimately postpo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Co-funding will be done by a grant of €350,000/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NETs are research coordination instruments whereby Member States can coordinate their National research activities and ultimately fund joint projec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354E-2417-4648-9630-B780846074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port was due by December 2011, but due to lengthy consultations with other Commission services, and to other more recent overriding priorities, it was ultimately postpo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Co-funding will be done by a grant of €350,000/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NETs are research coordination instruments whereby Member States can coordinate their National research activities and ultimately fund joint projec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181A-5E24-4C76-BE81-3F0A713B37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2391-4DF3-46C2-B0BF-EEA2C1118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B44B-8FD7-4103-AE43-7FD6039D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C316-4605-4BA7-84D2-6EC6A21AF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3576-8DF3-4F46-8FEF-21E974541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0FE02-9A71-489A-9565-4D6E7298E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0AA71-47A8-4516-B58F-A928F55D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8A278-01D5-470D-B1DA-FBAD3610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985A-6D27-4EC3-B2F6-D58D5CC8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40BA-CCB4-40E9-90C8-62A0D0C5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D8731-EDB2-4692-BC91-1FAD1E3C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3FED-E7E5-41AD-A004-3E3179B5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ADD2-61BE-4160-94C6-09BD8ED6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DCC3-18AB-4D67-B299-4E7FD71B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93F5A-DF87-413B-93A1-ED9D6036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B5C4-9A0E-4616-AC8B-5BBF44D3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B04C-CEE5-4B9D-B30D-EB8310B62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B9D3-B65C-46B6-9D25-A69F6042E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639B-D584-41D1-B685-49F9365C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B969-F6FE-45F6-BA21-950E985F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622C-F771-4E9D-BE3E-FCF99821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20E6-624F-4C36-A913-CDE1BCCF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9254-4622-4B68-9661-6DD581A6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8C46-A578-4CE2-B5C4-DC001E04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236A-837B-4425-B704-E1899EA7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A739-5C1B-4C00-AB17-90A0B6EE032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AF4A-9256-442D-AF5A-FA1DE4E7EC7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c.europa.eu/food/plant/plant_protection_products/legislation/" TargetMode="External"/><Relationship Id="rId2" Type="http://schemas.openxmlformats.org/officeDocument/2006/relationships/hyperlink" Target="http://ec.europa.eu/food/plant/plant_protection_products/legislation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9800" y="2568240"/>
            <a:ext cx="8531280" cy="19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ffffff"/>
                </a:solidFill>
                <a:latin typeface="Verdana"/>
              </a:rPr>
              <a:t>Report on Minor Uses</a:t>
            </a:r>
            <a:endParaRPr b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1187280" y="3527280"/>
            <a:ext cx="684072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1225440" y="5349960"/>
            <a:ext cx="684072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8920" indent="-35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Verdana"/>
              </a:rPr>
              <a:t>Jeroen Meeussen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58920" indent="-35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Verdana"/>
              </a:rPr>
              <a:t>European Commission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58920" indent="-35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Verdana"/>
              </a:rPr>
              <a:t>DG SANCO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306360" y="1400040"/>
            <a:ext cx="853128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d624"/>
                </a:solidFill>
                <a:latin typeface="Verdana"/>
              </a:rPr>
              <a:t>DG AGRI – Advisory Group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IPM ERANE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ERANETs are research coordination instruments whereby Member States can coordinate their national research activities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To find EU-viable solutions with a focus on IPM-practices, low risk substances and biopesticides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IPM ERANET has started </a:t>
            </a:r>
            <a:r>
              <a:rPr b="0" i="1" lang="fr-BE" sz="2400" spc="-1" strike="noStrike">
                <a:solidFill>
                  <a:srgbClr val="ff0000"/>
                </a:solidFill>
                <a:latin typeface="Verdana"/>
              </a:rPr>
              <a:t>early 2014 </a:t>
            </a: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and involves </a:t>
            </a:r>
            <a:r>
              <a:rPr b="0" i="1" lang="fr-BE" sz="2400" spc="-1" strike="noStrike">
                <a:solidFill>
                  <a:srgbClr val="ff0000"/>
                </a:solidFill>
                <a:latin typeface="Verdana"/>
              </a:rPr>
              <a:t>32 partners</a:t>
            </a: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This activity is led by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DG RTD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Current statu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2204640"/>
            <a:ext cx="84358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500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ff0000"/>
                </a:solidFill>
                <a:latin typeface="Verdana"/>
              </a:rPr>
              <a:t>Adoption</a:t>
            </a: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 of the report by COM on 18 February 2014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;</a:t>
            </a:r>
            <a:r>
              <a:rPr b="0" i="1" lang="fr-BE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 </a:t>
            </a:r>
            <a:r>
              <a:rPr b="0" i="1" lang="fr-BE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ec.europa.eu/food/plant/plant_protection_products/legislation/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Report has been presented to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AGRI-Council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n May 2014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Adoption of the </a:t>
            </a:r>
            <a:r>
              <a:rPr b="0" i="1" lang="fr-BE" sz="2400" spc="-1" strike="noStrike">
                <a:solidFill>
                  <a:srgbClr val="ff0000"/>
                </a:solidFill>
                <a:latin typeface="Verdana"/>
              </a:rPr>
              <a:t>Financial Decision </a:t>
            </a: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in October 2014 (?);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ff0000"/>
                </a:solidFill>
                <a:latin typeface="Verdana"/>
              </a:rPr>
              <a:t>Proposal </a:t>
            </a: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from interested party: October 2014 (?)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Start of the </a:t>
            </a:r>
            <a:r>
              <a:rPr b="0" i="1" lang="fr-BE" sz="2400" spc="-1" strike="noStrike">
                <a:solidFill>
                  <a:srgbClr val="ff0000"/>
                </a:solidFill>
                <a:latin typeface="Verdana"/>
              </a:rPr>
              <a:t>technical secretariat </a:t>
            </a: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early 2015 (?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3589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  <a:ea typeface="MS PGothic"/>
              </a:rPr>
              <a:t>ANY QUESTION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20" name="Picture 2" descr="C:\Users\meeusje\Pictures\imagesCAKL7UM2.jpg"/>
          <p:cNvPicPr/>
          <p:nvPr/>
        </p:nvPicPr>
        <p:blipFill>
          <a:blip r:embed="rId1"/>
          <a:stretch/>
        </p:blipFill>
        <p:spPr>
          <a:xfrm>
            <a:off x="4500720" y="278136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Users\meeusje\Pictures\imagesCAE1GUOP.jpg"/>
          <p:cNvPicPr/>
          <p:nvPr/>
        </p:nvPicPr>
        <p:blipFill>
          <a:blip r:embed="rId2"/>
          <a:stretch/>
        </p:blipFill>
        <p:spPr>
          <a:xfrm>
            <a:off x="2268360" y="256536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Minor Uses (definition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Use of a plant protection product in a particular Member State on plants or plant products which are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1624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(a) </a:t>
            </a:r>
            <a:r>
              <a:rPr b="1" i="1" lang="en-GB" sz="2000" spc="-1" strike="noStrike">
                <a:solidFill>
                  <a:srgbClr val="0f5494"/>
                </a:solidFill>
                <a:latin typeface="Verdana"/>
              </a:rPr>
              <a:t>not widely grown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 in that Member State,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or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(b) </a:t>
            </a:r>
            <a:r>
              <a:rPr b="1" i="1" lang="en-GB" sz="2000" spc="-1" strike="noStrike">
                <a:solidFill>
                  <a:srgbClr val="0f5494"/>
                </a:solidFill>
                <a:latin typeface="Verdana"/>
              </a:rPr>
              <a:t>widely grown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 to meet an </a:t>
            </a:r>
            <a:r>
              <a:rPr b="1" i="1" lang="en-GB" sz="2000" spc="-1" strike="noStrike">
                <a:solidFill>
                  <a:srgbClr val="0f5494"/>
                </a:solidFill>
                <a:latin typeface="Verdana"/>
              </a:rPr>
              <a:t>exceptional 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plant 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     protection</a:t>
            </a:r>
            <a:r>
              <a:rPr b="1" i="1" lang="en-GB" sz="2000" spc="-1" strike="noStrike">
                <a:solidFill>
                  <a:srgbClr val="0f5494"/>
                </a:solidFill>
                <a:latin typeface="Verdana"/>
              </a:rPr>
              <a:t> need</a:t>
            </a:r>
            <a:br>
              <a:rPr sz="2000"/>
            </a:b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0f5494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000" spc="-1" strike="noStrike">
                <a:solidFill>
                  <a:srgbClr val="ff0000"/>
                </a:solidFill>
                <a:latin typeface="Verdana"/>
              </a:rPr>
              <a:t>Representing 22% of the value of EU total agricultural production; 3% of the cultivated area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Minor Us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Lack of sufficient market potential can lead to:</a:t>
            </a:r>
            <a:br>
              <a:rPr sz="2400"/>
            </a:b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Verdana"/>
              </a:rPr>
              <a:t>Illegal uses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with consequences for human health and the environment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Verdana"/>
              </a:rPr>
              <a:t>Loss of crop production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with its economic impact on agriculture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 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Report on Minor Us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Article 51(9)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"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By 14 December 2011, the Commission shall present a report to the European Parliament and the Council on the establishment of a European fund for minor uses, accompanied, if appropriate, by a legislative proposal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"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Report was adopted on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18 February 2014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 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Report on Minor Us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Key-message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the creation of an independent coordination facility ("Technical Secretariat") on minor uses which is co-funded by the Commission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ommission will support an ERANET on Integrated Pest Management with specific reference to minor uses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Report on Minor Us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420640"/>
            <a:ext cx="84358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Report was presented to </a:t>
            </a:r>
            <a:r>
              <a:rPr b="0" lang="fr-BE" sz="2400" spc="-1" strike="noStrike">
                <a:solidFill>
                  <a:srgbClr val="ff0000"/>
                </a:solidFill>
                <a:latin typeface="Verdana"/>
              </a:rPr>
              <a:t>AGRI-Council</a:t>
            </a: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 on 19 May 2014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Strong support for the Report was expressed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A majority supported COM in identifying 'option 3' as the better solution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The details of the secretariat should be further discussed at technical level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Report on Minor Us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2420640"/>
            <a:ext cx="84358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Expert-meeting with MS and stakeholders was organised on </a:t>
            </a:r>
            <a:r>
              <a:rPr b="0" lang="fr-BE" sz="2400" spc="-1" strike="noStrike">
                <a:solidFill>
                  <a:srgbClr val="ff0000"/>
                </a:solidFill>
                <a:latin typeface="Verdana"/>
              </a:rPr>
              <a:t>1 July 2014 </a:t>
            </a: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to discuss a </a:t>
            </a:r>
            <a:r>
              <a:rPr b="0" lang="fr-BE" sz="2400" spc="-1" strike="noStrike">
                <a:solidFill>
                  <a:srgbClr val="ff0000"/>
                </a:solidFill>
                <a:latin typeface="Verdana"/>
              </a:rPr>
              <a:t>draft outline </a:t>
            </a: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of the Coordination Facility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Operational issues: organisation and structure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Financial arrangements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Location and facilities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Coordination facility (1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o-funded by the Commission: grant of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€350,000/year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This activity is led by DG SANCO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Budget will be allocated in the </a:t>
            </a:r>
            <a:r>
              <a:rPr b="0" i="1" lang="fr-BE" sz="2400" spc="-1" strike="noStrike">
                <a:solidFill>
                  <a:srgbClr val="ff0000"/>
                </a:solidFill>
                <a:latin typeface="Verdana"/>
              </a:rPr>
              <a:t>Financial Decision for 2014</a:t>
            </a: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 (to be adopted)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Coordination facility (2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Tasks of 'technical secretariat'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sharing of information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and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experience gained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at national level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coordination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of minor use work between Member States and stakeholders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creation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and maintenance of a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data base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on minor uses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stimulation of harmonisation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(e.g. crop group and pest group definitions, development of guidance)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6T07:49:02Z</dcterms:created>
  <dc:creator>MEEUSSEN Jeroen (SANCO)</dc:creator>
  <dc:description/>
  <dc:language>en-US</dc:language>
  <cp:lastModifiedBy>BUTTINI-PROVENZANO Roberta (AGRI)</cp:lastModifiedBy>
  <cp:lastPrinted>2014-09-29T14:54:08Z</cp:lastPrinted>
  <dcterms:modified xsi:type="dcterms:W3CDTF">2014-09-30T05:44:12Z</dcterms:modified>
  <cp:revision>35</cp:revision>
  <dc:subject/>
  <dc:title>Utilisations mineures</dc:title>
</cp:coreProperties>
</file>