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183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45A-5C50-41B1-8A70-6477E6A4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B87-1846-45E7-B4E8-0F06CFF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B8A-9B06-44C1-9F5C-1A607B0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704-26BB-42D0-926C-AC85565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A63A-2C96-4FBE-8FE9-F180CFE1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081-884D-428D-94EE-837D29C6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E1B-F53B-4C4B-A649-7D55D9D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01F-B344-475B-BD26-76AA839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B80-6920-4B88-AC80-DA4E43A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4AB4-EC93-4AC6-9F90-9CFAFB0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2C1-34AB-4FD7-A7C5-8420C0F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636-251B-485B-A240-84E9811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65D-6170-44B3-91D7-96CFD35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32E-F21A-413E-8935-FC0D606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9586-ED92-4CFE-A0F0-229BBE39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9F4-7197-443C-80D1-DCA5AC12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0824-0A09-4BD5-964E-1F3EAAA6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BA65-0A80-47FC-B906-D3E24937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8E6D-6242-492E-8824-8FA3AED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2EC7-7CCD-4E9A-8333-42375DA6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BC2C-B6F2-4B98-AE98-68232AE3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C7F6-EA7B-401E-854C-DF6DCCE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A68-C032-4F19-B0F9-2D030CAD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1369-F3B5-4152-8D71-8DFD461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BF58-A93C-4587-99B4-C1720E5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6F24-0CD5-43D5-8D4D-721B311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7CC9-7AC4-4F5E-B9EB-B2BC670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146F-2D9A-4341-9D9A-B6AFA009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0CC7-026C-4A0E-A436-DFFD9303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EACF-0A86-4696-89AE-4F8573D8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D871-A803-4E5C-B051-C6395E1D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0F5E-6912-4ECD-A460-1C5387F5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D63E-5AC8-4248-8960-2D756B43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B81-6673-48A2-87B9-8349517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88A6-37F1-4963-A76D-C2B302ED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DA9D-6C11-4938-88C9-9C2F40E9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0711-EC66-429C-AD8B-3BA6BDA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67B0-511B-4784-92B5-94E3C98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880D-1CD4-4EA7-BBB0-705F360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6993-841F-4DB7-B067-51012DF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04C0-4E91-4DE0-941B-BC0ECC3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2180-6364-4872-8EFD-2ECBF0F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6E3E-46DC-4270-972B-52A0DC14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880-0EBF-4C3D-81AE-BFC27A50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7BB-939F-4C1C-BCB9-899257D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304-DE1F-4082-80F3-CC22E6E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495-C630-463F-A88F-88F6B3F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707-9816-48F8-81CC-D364174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518-BEE6-41AD-94F4-6A19495D2A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4880-E842-4E61-A086-C7825A71F0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EE3-4588-4796-B956-0DE11AA89E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6868-2921-4A07-9144-919F344BC5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567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Commission Delegated Regulation laying down exceptional support measures for producers of </a:t>
            </a:r>
            <a:br>
              <a:rPr sz="3600"/>
            </a:b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peaches and nectarine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5280" y="4581360"/>
            <a:ext cx="85327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Meeting of the Civil Dialogue Group Horticulture, Olives and Spir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1 October 2014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C0CA-DAE9-4C30-AC87-5A0631F334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331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90B-F83A-4405-A665-855A2637B0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Legal Basi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19 R 1308/2013 – Measures against market disturbanc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The Commission shall be empowered to adopt delegated acts (…) to take (…) immediate action to address or prevent market disturbance…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28 R 1308/2013 – Urgency procedur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Delegated acts (..) shall enter into force without delay and shall apply as long as no objection is expressed (…) [by the] European Parliament or the Council(…) In such a case, the Commission shall repeal the act without delay following the notification of the decision to object by the European Parliament or the Council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D824-2298-43D8-820A-6B755D1C42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0">
              <a:spcBef>
                <a:spcPts val="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ommission Delegated Regulation (EU) No 913/2014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21 August 2014 (OJ L 248 of 22.8.2014), amended by Reg 932/2014 of 29 August 2014 (OJ L 259 of 30.8.2014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emporary exceptional support for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eaches and nectarines for fresh consumptio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1) Withdrawals (carried out from 11 August until 30 September 201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2) Promotion activities (carried out from 11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ugust until 31 December 201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16F-0E26-405B-B8E6-C291792D0B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ithdrawals for free distributio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11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O: 10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on-members: 10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ithdrawals for other destination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11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O: 75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on-members: 5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52D0-3FEC-47E0-9312-E3A6B7412A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5651640" y="26028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905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 Organisations (P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2133720"/>
            <a:ext cx="885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from 11 August until 30 Sept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Free distribution: EUR 26.9/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1800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Other destinations: EUR 20,175 / 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up to a maximum of 10% of the volume of marketed produc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even if withdrawals are not included in operational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4962-098C-4519-A276-8102405934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905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 Organisations (P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9280" y="2204640"/>
            <a:ext cx="88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This exceptional support is not taken into account fo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4.1% - 4.6% ceiling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/3 limit Crisis Prevention and Management measur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25% ceiling increase operational fund during the year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penditure incurred under this measure shall form part of the operational fund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CF9-309C-4CEE-8A74-FA8A2872EB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s non members of P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700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from 11 August until 30 Sept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non members sign a contract with a Producer Organisation or apply to the competent authorities designated by the M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Free distribution: EUR 26.9/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Other destinations: EUR 13,45 / 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 algn="just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f applicable, Producer Organisations pay the non members the EU support minus the real costs incurred by the PO for withdrawing the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Except for derogations identified in this Regulation, all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conditions for market withdrawals, including marketing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standards, controls, sanctions and penalties, apply for POs, PO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members and producer non members of PO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675640" y="6350040"/>
            <a:ext cx="4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42ED-73D5-4419-9ED1-271481FDFD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s non members of P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784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Producer Organisations / MS need to check that the quantity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delivered by the producer non member does not exceed the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lower of the following ceilings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20880" indent="-343080">
              <a:spcBef>
                <a:spcPts val="499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the producer's total production in 2012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20880" indent="-343080" algn="just">
              <a:spcBef>
                <a:spcPts val="499"/>
              </a:spcBef>
              <a:spcAft>
                <a:spcPts val="2401"/>
              </a:spcAft>
              <a:buClr>
                <a:srgbClr val="3166cf"/>
              </a:buClr>
              <a:buFont typeface="Wingdings" charset="2"/>
              <a:buChar char="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the PO's average production yield per hectare for peaches and nectarines in 2012, multiplied by 10% of the area used by the producer for peaches and nectarines in 201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77840" algn="just">
              <a:spcBef>
                <a:spcPts val="49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MS shall establish a production yield to be used by MS and by POs which did not market peaches and/or nectarines in 2012.</a:t>
            </a: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f MS establish regional yields, the regions shall be the ones defined unde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91(4) R 543/2011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National Financial Assistance – if applicabl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675640" y="6350040"/>
            <a:ext cx="4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1D0-E20D-4402-B763-EFFDF10A9A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for free distribution – Chec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If a PO has the recognition suspend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114(2) R 543/2011)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ts members shall be considered producers non members of PO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Withdrawal operations for POs, its members and producer non members shall be subject to first level check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108 R 543/2011)</a:t>
            </a: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covering at leas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the quantity withdrawn; 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producer organisations (and their members); 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producers non members of P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85AE-422B-45DD-B5D8-63CD25DDB1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341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1 June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Meeting of the Expert Group "Peaches &amp; nectarines": a good harvest year reported. No problems in sigh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id-July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information from Member States and stakeholders starts arriving to the European Commission, mentioning a significant drop in producer prices for peaches and nectarines and requesting immediate action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6 August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Technical meeting – invitation sent via CIRCABC - with main producer Member States (more than 96% of total EU peaches and nectarines' production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ncentration of production in the beginning of the summer, influence of weather conditions, decrease in consumption, mainly in IT.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act of fruit stocks and current situation in Russia and Ukraine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ices are stabilising (at low values). Extra support is requested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21 August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Adoption of Regulation 913/2014, applicable from 11 Augus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459640" y="630864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772-0723-412D-9582-AC4D9D30DA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7280" y="2133360"/>
            <a:ext cx="885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Promotion activities as referred to i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33(3)(c) R 1308/2013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(Crisis Prevention and Management measur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in 4 Member States (more than 96% of the EU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peaches and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nectarines' productio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carried out by POs from 11 August until 31 Dec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POs must submit requests to MS by 15 Octo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459640" y="6381720"/>
            <a:ext cx="505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60F4-852E-47C4-B41E-5CDA718CB5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8785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7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ven if promotion is not included in operational programm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this exceptional support is not taken into account fo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4.1% - 4.6% ceiling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/3 limit Crisis Prevention and Management measur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25% ceiling increase operational fund during the year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penditure incurred under this measure shall form part of the operational fund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459640" y="6381720"/>
            <a:ext cx="505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FDA-D190-4F37-9868-65C493B27F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7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 total EUR 3 mill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50% EU co-financing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cept for derogations identified in this Regulation, all provisions regarding promotion in R 1308/2013 and R 543/2011 apply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86 R 543/2011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– Member States adopt detailed provisions on the implementation of the measure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149-0A5D-436B-B9A0-CD9B8222AD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84360" y="2492280"/>
          <a:ext cx="3816360" cy="2448000"/>
        </p:xfrm>
        <a:graphic>
          <a:graphicData uri="http://schemas.openxmlformats.org/drawingml/2006/table">
            <a:tbl>
              <a:tblPr/>
              <a:tblGrid>
                <a:gridCol w="1551240"/>
                <a:gridCol w="2265120"/>
              </a:tblGrid>
              <a:tr h="673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ber Stat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support (EUR)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7 215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132 495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2 089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88 201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000 000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42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D1F7-CAAA-45FD-84C2-22BC60BFD2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116000" y="16257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EACHES – WEEKLY PRICES (EUR / 100 kg) from 16 June to 21 September 201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395280" y="2409840"/>
            <a:ext cx="84916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ECTARINES – WEEKLY PRICES (EUR / 100 kg) from 16 June to 21 September 2014</a:t>
            </a:r>
            <a:br>
              <a:rPr sz="3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9FB-518E-4060-9BF2-B12880B2D2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29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34E1-3030-49C1-BAE2-3A88270CF6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77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2565000"/>
            <a:ext cx="820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872-638B-4B51-AE18-FF3558BB1D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1339560"/>
            <a:ext cx="8928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012 EU peaches and nectarines' production</a:t>
            </a:r>
            <a:br>
              <a:rPr sz="2400"/>
            </a:br>
            <a:br>
              <a:rPr sz="24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ember States – in thousand tonn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A1D-DBF7-43AD-AADD-40091FDD76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220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peaches and nectarines production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(% production per MS - 2012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F0BC-E451-4574-AABD-5F3C9E4401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313200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619280" y="2457360"/>
            <a:ext cx="59054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5726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892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drawals of Peaches and Nectarines (2009 to 2012)</a:t>
            </a:r>
            <a:br>
              <a:rPr sz="2000"/>
            </a:br>
            <a:br>
              <a:rPr sz="20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eaches and nectarines withdrawn between 2009 and 2012 represented between 11% and 32% of the total volume of Fruit &amp; Vegetables withdrawn. 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The withdrawals of these 2 products received between 13% and 23% of the EU support for all withdrawals.</a:t>
            </a:r>
            <a:br>
              <a:rPr sz="1400"/>
            </a:br>
            <a:br>
              <a:rPr sz="1400"/>
            </a:b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Source: Annual reports </a:t>
            </a:r>
            <a:endParaRPr b="1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1AF-35AE-498F-BB1D-2A1E4E462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08000" y="4092480"/>
            <a:ext cx="2825640" cy="1785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6084720" y="4092480"/>
            <a:ext cx="2953080" cy="1774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987640" y="4092480"/>
            <a:ext cx="29289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BBFD-C455-41AB-8662-8993E13A64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448000" y="2276640"/>
            <a:ext cx="6729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1C3-68F7-405D-A79D-7707A92E4E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327400" y="2492280"/>
            <a:ext cx="683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7DF-7482-4CD4-9DE5-CD75297DEA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76640" y="2492280"/>
            <a:ext cx="683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433-DEA8-435D-A6EF-6FF358FE92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97160" y="2492280"/>
            <a:ext cx="6834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6:05:35Z</dcterms:created>
  <dc:creator>MARQUES Teresa (AGRI)</dc:creator>
  <dc:description/>
  <dc:language>en-US</dc:language>
  <cp:lastModifiedBy>MARQUES Teresa (AGRI)</cp:lastModifiedBy>
  <cp:lastPrinted>2014-08-23T08:39:46Z</cp:lastPrinted>
  <dcterms:modified xsi:type="dcterms:W3CDTF">2014-09-30T14:17:57Z</dcterms:modified>
  <cp:revision>81</cp:revision>
  <dc:subject/>
  <dc:title>Commission Delegated Regulation laying down exceptional support measures for producers of  peaches and nectarines</dc:title>
</cp:coreProperties>
</file>