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slideMaster17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28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5.wmf" ContentType="image/x-wmf"/>
  <Override PartName="/ppt/media/image6.png" ContentType="image/png"/>
  <Override PartName="/ppt/media/image7.wmf" ContentType="image/x-wmf"/>
  <Override PartName="/ppt/media/image8.wmf" ContentType="image/x-wmf"/>
  <Override PartName="/ppt/slideLayouts/_rels/slideLayout334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8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296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</p:sldMasterIdLst>
  <p:sldIdLst>
    <p:sldId id="256" r:id="rId30"/>
    <p:sldId id="257" r:id="rId31"/>
    <p:sldId id="258" r:id="rId32"/>
    <p:sldId id="259" r:id="rId33"/>
    <p:sldId id="260" r:id="rId34"/>
    <p:sldId id="261" r:id="rId35"/>
    <p:sldId id="262" r:id="rId36"/>
    <p:sldId id="263" r:id="rId37"/>
    <p:sldId id="264" r:id="rId38"/>
    <p:sldId id="265" r:id="rId39"/>
    <p:sldId id="266" r:id="rId40"/>
    <p:sldId id="267" r:id="rId41"/>
    <p:sldId id="268" r:id="rId42"/>
    <p:sldId id="269" r:id="rId43"/>
    <p:sldId id="270" r:id="rId44"/>
    <p:sldId id="271" r:id="rId45"/>
    <p:sldId id="272" r:id="rId46"/>
    <p:sldId id="273" r:id="rId47"/>
    <p:sldId id="274" r:id="rId48"/>
    <p:sldId id="275" r:id="rId49"/>
    <p:sldId id="276" r:id="rId50"/>
    <p:sldId id="277" r:id="rId51"/>
  </p:sldIdLst>
  <p:sldSz cx="9144000" cy="6858000"/>
  <p:notesSz cx="6804025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" Target="slides/slide1.xml"/><Relationship Id="rId31" Type="http://schemas.openxmlformats.org/officeDocument/2006/relationships/slide" Target="slides/slide2.xml"/><Relationship Id="rId32" Type="http://schemas.openxmlformats.org/officeDocument/2006/relationships/slide" Target="slides/slide3.xml"/><Relationship Id="rId33" Type="http://schemas.openxmlformats.org/officeDocument/2006/relationships/slide" Target="slides/slide4.xml"/><Relationship Id="rId34" Type="http://schemas.openxmlformats.org/officeDocument/2006/relationships/slide" Target="slides/slide5.xml"/><Relationship Id="rId35" Type="http://schemas.openxmlformats.org/officeDocument/2006/relationships/slide" Target="slides/slide6.xml"/><Relationship Id="rId36" Type="http://schemas.openxmlformats.org/officeDocument/2006/relationships/slide" Target="slides/slide7.xml"/><Relationship Id="rId37" Type="http://schemas.openxmlformats.org/officeDocument/2006/relationships/slide" Target="slides/slide8.xml"/><Relationship Id="rId38" Type="http://schemas.openxmlformats.org/officeDocument/2006/relationships/slide" Target="slides/slide9.xml"/><Relationship Id="rId39" Type="http://schemas.openxmlformats.org/officeDocument/2006/relationships/slide" Target="slides/slide10.xml"/><Relationship Id="rId40" Type="http://schemas.openxmlformats.org/officeDocument/2006/relationships/slide" Target="slides/slide11.xml"/><Relationship Id="rId41" Type="http://schemas.openxmlformats.org/officeDocument/2006/relationships/slide" Target="slides/slide12.xml"/><Relationship Id="rId42" Type="http://schemas.openxmlformats.org/officeDocument/2006/relationships/slide" Target="slides/slide13.xml"/><Relationship Id="rId43" Type="http://schemas.openxmlformats.org/officeDocument/2006/relationships/slide" Target="slides/slide14.xml"/><Relationship Id="rId44" Type="http://schemas.openxmlformats.org/officeDocument/2006/relationships/slide" Target="slides/slide15.xml"/><Relationship Id="rId45" Type="http://schemas.openxmlformats.org/officeDocument/2006/relationships/slide" Target="slides/slide16.xml"/><Relationship Id="rId46" Type="http://schemas.openxmlformats.org/officeDocument/2006/relationships/slide" Target="slides/slide17.xml"/><Relationship Id="rId47" Type="http://schemas.openxmlformats.org/officeDocument/2006/relationships/slide" Target="slides/slide18.xml"/><Relationship Id="rId48" Type="http://schemas.openxmlformats.org/officeDocument/2006/relationships/slide" Target="slides/slide19.xml"/><Relationship Id="rId49" Type="http://schemas.openxmlformats.org/officeDocument/2006/relationships/slide" Target="slides/slide20.xml"/><Relationship Id="rId50" Type="http://schemas.openxmlformats.org/officeDocument/2006/relationships/slide" Target="slides/slide21.xml"/><Relationship Id="rId51" Type="http://schemas.openxmlformats.org/officeDocument/2006/relationships/slide" Target="slides/slide22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1087E-BFF2-44F7-B4A3-E4CB352B5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86504-3D14-4242-99DE-82CE268E5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A26F98-698C-471F-ABA9-3CCC1E974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3ED04E-5C8C-4CDF-A2A4-1359AA7DB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AEBEEF-E182-4C09-94CF-C971FCF25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A0EB23-5120-419F-A1AB-5727D41A8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D8657A-42DB-47D9-B8A9-1184B0A08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4F9E20-42BD-4DBF-9008-278ACE8D2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E798C7-24A1-419E-81FE-CD80982B4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6571D2-1217-4DBC-8B47-728F9353C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5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2CBE53-686F-4A51-B91C-FD5E8831A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FC994D-27C8-4A2C-B011-EEC51A08E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F495F-BE25-4F7E-B607-B2071FA3F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9C4DC7-FEB3-4C31-AC8C-75892A4E8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B661D1-E69F-4A5B-B7CC-74060A783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D2FC78-D6C9-4AA8-9149-DBD62E716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6376D6-2804-480F-9CCD-3FA15B17F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E071F7-4F9F-4C8E-8E91-F2E39E4B1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249932-E4A6-4868-9D9A-618C83515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E0B4F4-1266-4FDD-B15E-03C120056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919DB8-EEB5-4ED6-A1E5-FBC9EECF3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B48434-F3B5-4FB8-ACF1-C0FA52C36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5F4633-C7AB-4179-92D0-18991E384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0C4BB-618B-491C-BEC2-90CDE70CB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8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9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5665F3-8373-426A-BD21-83F51039F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4B9F48-8E29-4B49-B6DA-3ACAB1DBE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45B55B-4057-42DE-BD82-85E1CE1F7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A5B46E-3A48-4CF3-B1F8-10A6F6E5E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F2D5E0-3C67-43D1-85B1-BCF7C5716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69717F-A885-4C27-BAA8-C6252E48F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092374-9FA9-4B29-9651-62BD5C29D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E607B9-6B6E-445B-B399-70567F2F6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6562D3-9172-4881-A1CB-23EA206E7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27FAC4-A269-482D-9053-FBF1F0A12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71D2E-2AC8-42F8-AC88-F8D7133C2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3C4EA8-98A8-45D7-B3A5-7E5E9819D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6C5D40-C4C7-4203-9529-0DCB04C2E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96182D-0781-4643-A68D-D9811DCB9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F3A1ED-9BAE-45B5-A744-14E761D26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AE9C2B-33D8-48BA-AD1C-2404619F1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855574-7773-4142-B615-4758F203C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58C851-0A6A-4AEE-A837-50825FEC1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21AE43-DA49-41B7-A818-E991E7A32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08A8A4-0ACF-4AFE-AF12-7B85CC1BE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AD33DD-B4CB-4427-9EA0-EEC145B20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C4D37-CAD6-408E-959B-85308A73D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96D302-E00A-4D04-BCE1-5C34EFC88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7216B9-28E8-4868-8A44-F850EB57B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11F38E-B50A-445D-8B43-1C87B2EEF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EEB670-0CD8-43D3-9494-BC60DDA21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26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27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9DA398-0A67-4DFD-BF3D-AFB39B9EB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81B4EDF-5378-4274-8DB1-4737B8FC1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2BBF293-0882-4001-BC9A-AB748CD2C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7B6987F-7C9C-4500-A696-7A13250BB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CE84753-556E-4855-8A90-09C0FED86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D3AB056-7542-4895-8ED2-5CBBAB43C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45DDF-406F-403A-89F4-05B88650B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BD0EFC0-9D30-4DDF-A16A-7CDE73472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2B48C06-6BC3-4945-B9D2-A0B66AFA9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E327AEB-3447-41D9-B746-AC63A7EEB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BC1A645-6F3E-451A-B1D6-4811B87FE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57D18BD-5016-41F5-B869-0762E1254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447D791-9121-4701-BBFD-0AF56A798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70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71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B9952A1-25EF-4FC0-87B6-4AE33334D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8ED9A17-B877-4241-82D0-17C2B9349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34D8A1E-098B-49B1-9B37-EDA416C75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99D464D-3A9D-4187-9DE8-C1AE8F4D6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5C89D-8407-428A-80DE-75EB25313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BF04897-4FF2-4A84-8B24-A08BE64FF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3A8835F-F7A3-4297-A5DF-829B805B8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3F593A5-E7B4-497E-9B49-2D82598ED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0F018AD-B76C-4BFC-A7A4-7CBFEA36C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3632F8C-F66A-4776-AD0B-B06F37FAC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91C6464-4021-41DC-B1EF-F3CC6AD0B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22A53E0-DFA5-4FD5-94A8-74C22377A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0A5C85A-A3D5-481C-8697-1421B6146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14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15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20EC7EB-6F9B-4337-B649-345D49167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2A1930F-B70D-445C-8A63-80BB6DC1F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250CC-CA32-455C-B8C6-945760864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CA27F06-F484-48BC-A1D3-7E89E0D75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08C35C9-CBD7-48A1-8E83-0EE02B816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C7BB565-E3E7-4508-9047-5C6F2E739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8D2EE12-FA55-4969-BAC3-88B4B4F2E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5596C19-DE20-4F29-B136-C268320C6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C2B8F57-162D-47CD-96C8-62CA2BB7C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4A494A1-74F7-4F11-9F1C-B121EA43B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034C54A-D764-4C9C-9B9A-6A1246FCB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CD35B0C-9CF1-436E-90D2-598CAAB0E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E5C3A9F-9F18-47E0-AE8F-3B98CDDD5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539A0-91D7-4CC9-AA80-3B554875B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57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58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59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BDAA023-AAFE-4C7B-8B49-3728D92C8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5419E00-C7FA-40AE-80B3-869E3F800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53B001C-06C5-4105-88FB-BA7A6B55D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4068A27-E4D8-4314-B973-DFE31E5BB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FE4187E-AE8F-4445-A332-68F2835C1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15B286A-6766-41FC-8BE4-880FEFC06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8760EB1-BBB0-4A67-AA9A-2486ACFA6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16EFA94-8C28-45D8-BCE2-C247B6B44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D707043-CAD9-4092-BF43-B18749BB2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DB6CEE1-D329-41E9-AA24-9F0D64E88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FCC7E-9444-4811-B118-B5595E9C6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9C020DE-2245-4DDE-8FD6-1ADCBB1D0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96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A3DD978-FC82-4C6F-B9F8-1DFA2B363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02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03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A47DE70-B623-490F-8063-3F26EBC6F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27C7A04-861B-4573-AF05-DBA634757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D20CCCC-078E-4DF9-8F25-96D9D6CF4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D9A36CD-6F9A-4491-B688-6F5DD40E6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6CDED5A-4AF9-4B42-8B90-FAB0F0E9A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744485C-F23F-4805-853C-385474ADA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2E12A63-9113-44C2-97C9-A549451A3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AA172EE-6AC5-40F5-8B8B-3B6E9B7F2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B5823-7021-4BA3-AE6F-EEBC55529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705FB-4AD6-4413-ABB0-54C5ED6F7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7D42B6D-7659-46B7-B515-654E53877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884A67C-B4CC-4CD8-B8EE-DA4E0D919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032A79C-7C83-463A-A1B0-2636CA42B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40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9FEC2C1-A5C4-44D3-85B2-C7D78ABB3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45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46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47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0083A82-74B3-49CC-800C-C76446AD2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8CD8EEB-BA89-4848-B0D6-88FA90E59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40EB230-A87B-4BA5-B602-2BBC27E5B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1BB5C6F-4D2D-48C9-BEE9-C65D0226F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4B54A02-641F-4E91-B426-D0E6021E6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5DA824F-817C-4728-8C1D-9ABD2F938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1B87F-E2A0-4C36-A80D-18A246267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5741066-0930-47B4-8528-175430179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8A212FA-2FC4-41EC-AFBE-4EAE70B89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870A20A-9F49-4047-BD42-D900969C9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8D60D48-D18A-4476-BE1E-A81AA5DA7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0615B3D-00CB-43FD-B2BE-6812E3F13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84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59D0481-3360-410F-8E5A-C62BEB696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89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90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91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A7E2850-9D42-4789-A8BA-D2F3552A2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CDC1A0D-8E40-41E6-8738-EF9152538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B4272C6-E1CA-41C9-8E0D-80112C36F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C271BEF-0E4E-4A62-983D-C0345A584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32139-F4C7-4CE0-8C91-235AAC2AC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C74E6F3-6573-4BC5-B5AD-CDAE0FB4C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7E0DD51-0C9E-4379-A1A5-2A6FDD5EA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D1B653A-311E-4386-A8E2-F90D491F2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12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E6B8D8E-EE7F-496C-9AF8-AC85C19DE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E2E3778-849A-4C12-9F8D-98BBC2C98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585A2C1-C8D7-48CA-8141-5EF71C320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B83FE16-4571-4EE5-936D-EDE580111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F84BF00-A09B-4B63-A016-151E167F7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33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34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35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5B4F551-0614-4116-A6E5-7D649FA1F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866C0CF-227E-493A-A364-FA31220F5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47C27-874D-4086-83F8-D75BFA2ED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634D67C-D1D6-436E-8D8A-C1E7DA01C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ADC06C5-3833-4CC9-806D-9F3EAA436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EA72478-C4D5-48EC-9E77-E1F540514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E28BA40-322B-43DA-B394-D7C67F9F4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9168FD9-58E6-4BB7-AC61-3F564609B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4C27E21-F2C8-44C8-916D-013864D9B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A3D5047-14AA-493D-B05D-BEDB93D06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B3CEBD5-7297-4A66-8F43-60A35206C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361583B-917F-4E94-9AC1-966B3F098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71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72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9D5F275-5672-40DC-AB07-9A1950C48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D8304-8597-4050-A0D8-44E3322E0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76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77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78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79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DA81D15-0A52-4093-ACB0-107D39C16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A53BE56-EA21-45F2-88B0-9A02718AA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35F9B8A-93BC-421C-AE49-F3BABFF89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21B2414-240D-41B5-909B-68C513226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0E43DB4-0EFE-4928-B307-5D15193C7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9A227A7-4E8C-4354-930C-CE69149DC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D944597-9503-437E-B934-DFE99EBE7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B7231D6-36C3-4492-ABBE-94DC12159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04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E32CCA1-FD96-4599-ACFF-3896890AA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A423226-5570-45D4-8FBD-A57CCF6FB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4AD014-40A9-4072-848B-1FEAB8868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D3CC6AB-A7F5-4A1E-A69A-E493DA43C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15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16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C215B5D-137D-4136-80C3-ADBB60C9C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21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22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23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8527907-36E6-446F-960E-7723214E0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C6B850F-4308-4773-989D-BEE2DF4B5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65F3A9E-13ED-41A4-8028-A0C92E064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7EE90DA-3FE6-47A2-BBBB-2CFC358BD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8695DAA-50AD-4BA1-8620-84543C06A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1433573-D7D6-450C-8281-59C7DAA33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7CFCC8E-8A7F-4382-B13C-AC6462BC2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4CDC0F9-0BC9-4A3B-902F-CBF7DAE9F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0A3960-5923-4275-AA0A-69DC00ACC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0B0D114-1E67-471E-A0DD-12D2D91A2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88B8890-92A8-4679-9896-47ACD4996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81F3350-2FD9-4B2A-A18F-0F6B6B519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60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9D83985-AA27-45EF-82A0-E73F5713E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65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66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67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FA6FBB7-71DB-4C27-B745-65E734792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21F4766-BD1A-494C-A41D-592B57688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6BB92E8-2EEA-4B2E-AFC2-DEACC1286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1CA1659-8C1F-4910-8D47-28ECB5859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8F8B4F1-E01C-4C20-B7ED-5F4D551F7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6F3B0B0-C77F-4742-907E-B256DB853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61E962-6020-47A6-B61A-021AAE325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9D92907-25D9-4824-8EB1-B42164D72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88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FBC52C9-C981-47C5-A61D-A0FA8B64F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92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76CC0CD-2EEE-4B24-9AF7-6C9A00AC2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96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3F6F62D-685F-40C9-8DC4-707B24FC1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79E6AEE-AC24-4C9F-9847-8F8D15590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03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04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407C8CF-59BD-4A3E-850D-27BE74469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09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10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11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A2AA141-E601-4624-B079-E69ED0BA0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6D803CD-30D1-432F-845E-F17D30586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E044780-67A0-45F8-A39A-AFA5A5A5F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AAFC901-10BA-4ED4-BF15-27E356C5B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C3C945-5049-4D45-93DB-4315EA228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26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D3690D1-BA4F-44D6-B95C-D1992D91B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9432549-14F9-4359-8425-B22E5FAF3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EC14B2E-895C-4B72-B7A0-9507DA671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31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32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684C274-4A43-4756-8A3D-71D945A28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35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36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1BBAABF-4621-449E-88E5-EF8C45E96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1C6D8E0-11EB-456A-AE11-0F8903A81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79A2A02-3677-4302-859A-E5F73467F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46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47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48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3330168-7A41-48E1-B4C0-7F33A3655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52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53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54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55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E0C1B58-6E35-483D-A360-B5AE7F9A9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CA8CA1B-DB91-4F50-BB06-6A570E14B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1B0838-DBDB-4363-A2C0-DD4A09868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D346104-0401-4EF9-9CD3-CDCF39170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9AB4BDA-8F44-42AB-923D-A58806CCA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69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70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713D247-F832-4837-A4BA-805A0E8AC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B95FBDC-FE18-48F7-8087-8ACF8B37A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683B496-6053-4151-8B1F-0D3F46660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75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76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69716C1-38C2-4338-9E89-2486CA8E8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79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80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DE0A41D-88D0-458B-9953-142B6F66F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8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84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221994A-7BAA-4E58-8A89-7BD1E0531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87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889FCF7-CBFA-4178-8D6A-D85B5976F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92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2A44715-F480-4F9F-AE98-31BC69032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958E7-FB7B-41B2-B751-2682C2CAC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207075-C877-480A-B8C7-F7CBF3867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97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98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99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BE3E747-04EB-44EA-9068-DF7EFDA39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757880D-E048-459C-9BFB-A9F4ED0B2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9E83E30-347F-4FDE-B5DA-88DB5D4D1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5EB052D-BD21-489B-8E50-9B93032ED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1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25CDC40-5826-482F-B38C-E3ED06964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823987E-5F23-4E5C-916B-4B77896C0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A59A4D1-4946-4FD6-B583-0C97B2EE5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1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19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20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EF952DC-1C15-416B-9234-9EF6E3805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2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24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E9ACA0A-9298-4814-BD17-4F19287C1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27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28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F1AE2BD-8F72-4197-A9A5-4E231A464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EE7739-4885-47ED-AB84-ACD025D04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31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7AF0321-1DEC-410E-91AA-FF66E0B64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3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35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36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8A01A34-62CF-43F4-83D2-A65FDCABD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3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39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40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41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42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43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7BCB26C-5DC5-46A6-BAA4-95B7616C8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DF09C23-F385-4F01-9277-D07E8819A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53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747DAC4-5D4C-4D6F-9750-4A352CCF6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874E9E8-C820-443F-A571-3AAE44B03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5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2AD9E57-FF8D-4286-83D6-8A30247E2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B91DD09-F746-42AC-A42D-6A6E16E7C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CB2474D-BB34-4617-9490-BBE45609C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64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737EE5D-7AAF-4F6B-A94F-1ADD62677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5FF0FC-7864-48C9-8C11-562C66741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6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67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68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C2BEB44-3535-41D6-87C9-4D9C8CC57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35CA29C-C997-4693-A6E9-4F27F3DE3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75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F05A5DA-DD8B-4363-8353-6B17F862F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7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7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79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80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91B4C75-CF17-4FA7-BD65-B68603EDF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8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83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84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85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86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87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D00D08D-E6F1-4B66-AA6A-528A57445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A0CB046-A73A-4934-8C2F-90EEFBD38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48520DE-8663-470B-8670-42792936D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AB9F6EB-9A92-4E74-8A5B-67E1CDC57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02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9AAB56A-21AD-44F7-9913-3DB86A9F2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F686595-E521-454A-A50D-3E489262E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4ED3F9-7717-48AE-A30F-AEE7CEFDE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A3DC1B1-2853-406B-822E-AE0290EE2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0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07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08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36F3F98-E494-40C5-A47E-3801498A3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1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11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12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B784085-08F1-44D4-86A3-3724F5FE3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15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16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4EF0A1F-6FB8-4ECC-AE84-DDF4C9A93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19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0145B3B-7C7D-4251-B15E-C95B1163A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21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22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23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24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9A24B92-AFBD-4272-A356-F7ADCF704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2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27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28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29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30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31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A2B02EE-0A1B-488C-A4C9-D0C760079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D68333-F838-49BA-A50D-BC6D1F30C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4226ED-28C0-4A33-8FF6-450BBE001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B5E101-315F-441C-80B5-CA12E6E8B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5FE2FA-8594-46D7-8AB3-71E5B474A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72D0D5-EDEF-4C16-972E-B55DC3D15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BDF558-539A-4DBD-AB70-61271C738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F37EB-FD65-4881-AC46-ADB80C88C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40E618-3A7C-4490-B131-AFDA3E960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54AC6B-D56F-47E3-A7B3-A4331FF90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341800-F531-4505-B359-B68AD168C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EEF199-7A85-48F3-B254-434480E3C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3C8E6F-EC9C-4603-AD75-C91963EB5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68A517-42FA-490D-8A68-C36C73DD0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F94DFA-3E2F-4E5A-9215-2268B0799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1ADB14-B363-4BBB-B39B-BBA078C6C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0B98B7-ABDB-490B-8B73-EEE695E2C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646AFD-ED8E-439B-9EC2-60F933C39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85D10-034E-42B6-824C-8B4BA705E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4826C4-6BB8-425D-BB10-4509FA1DB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88DCCF-7001-4F69-9200-314A7B5D4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2556E3-7925-4A17-8FFC-D3300F9B6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1AD7DA-8411-4D5C-B5D7-46160707C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0F47A5-A4E5-4050-8DB2-8CE9D6E1C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4A3BE5-DACF-462E-83EB-7279561C9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45DEAF-6536-43AB-A1D8-8A295A26B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48C5D0-426F-4A6F-819A-15825C260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CCB3A9-75FA-42EB-B93E-4E9372E09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DAB65E-320F-449F-85FC-7C0D40785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EBA0C-9ED3-4919-8E59-0F117F591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65C98A-B93B-4D26-8839-6F3B623A3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4FFB88-456C-4633-9227-6D0E8852C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BA4EA7-9D68-488B-849A-E362F24BB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21D129-F92D-44C4-8206-931E87E35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F801BD-676B-493C-A9D2-E20FE3DF3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E766CD-424E-41C3-A13E-0E1BB4C46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C39C34-BA9B-4262-88B7-A2D5D559D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84840D-AB1C-48D4-BFDA-6E5E478BB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A3459C-274A-4B7F-B23F-2F093025C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9E9658-0718-4DD8-BCC1-1D2A12965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68E8D-7592-4055-BE51-7A142BC3A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C42425-D630-4835-9E6C-C5BDF56E1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70CDCD-22C6-4F3B-87BF-2B129BCF2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5016A9-9421-4035-BD90-6163F5EA2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C2D829-2A53-44F2-81FF-6094FD5B4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599EA8-CDDF-44F2-86F0-8CCE2418F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D6E360-94C0-4739-ADB3-7DF86E575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6C7A18-2338-413E-B133-1B2F76A24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40097E-8628-40BC-AFA6-A9A78363C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F3FE37-4719-4FC3-BA38-757944EFC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145EE9-163C-4817-8C60-7500C0173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1747D-7708-4D55-A71F-CFA91FF77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2DA611-65A0-4AF7-A761-66A233EB6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5E468C-1148-4D98-B603-B9E13346E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3952AB-B5B1-4330-A6CE-EB970943A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D2F849-58E8-49B3-B593-4DC1CA85C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0EB69A-B24F-437C-BF95-904FFFA48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35C0A7-9312-414D-910B-1C294CAE9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F7E19D-DD8A-4932-9055-3FA139B63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E59A04-FD2A-41A7-A2B5-8DA52B5A9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368588-2270-4606-9D61-0A071F82D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34B66F-A3EA-4FE8-B11F-0A8101761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0ADFC-E67A-48C4-8042-C6704A1D6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75B7DE-693D-4527-9CC0-7C3CBEAD5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7EE2EF-900F-415A-A3D4-4DCAC043A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62C730-8FDE-478E-8818-0EE88FB70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D8A816-9FE0-4C81-8873-2461CDE82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9B57F0-EF4F-4460-B0C1-4970CE1E4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598596-287A-44D4-A5D0-C6944F023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864343-7E18-4F8C-A012-5894AC150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E4FCC9-E75F-43ED-9E20-A9059E974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F68240-F264-402E-A50F-23B6A147A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977E58-D526-4D43-B6DD-BD3A2A4F3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13.xml"/><Relationship Id="rId4" Type="http://schemas.openxmlformats.org/officeDocument/2006/relationships/slideLayout" Target="../slideLayouts/slideLayout314.xml"/><Relationship Id="rId5" Type="http://schemas.openxmlformats.org/officeDocument/2006/relationships/slideLayout" Target="../slideLayouts/slideLayout315.xml"/><Relationship Id="rId6" Type="http://schemas.openxmlformats.org/officeDocument/2006/relationships/slideLayout" Target="../slideLayouts/slideLayout316.xml"/><Relationship Id="rId7" Type="http://schemas.openxmlformats.org/officeDocument/2006/relationships/slideLayout" Target="../slideLayouts/slideLayout317.xml"/><Relationship Id="rId8" Type="http://schemas.openxmlformats.org/officeDocument/2006/relationships/slideLayout" Target="../slideLayouts/slideLayout318.xml"/><Relationship Id="rId9" Type="http://schemas.openxmlformats.org/officeDocument/2006/relationships/slideLayout" Target="../slideLayouts/slideLayout319.xml"/><Relationship Id="rId10" Type="http://schemas.openxmlformats.org/officeDocument/2006/relationships/slideLayout" Target="../slideLayouts/slideLayout320.xml"/><Relationship Id="rId11" Type="http://schemas.openxmlformats.org/officeDocument/2006/relationships/slideLayout" Target="../slideLayouts/slideLayout321.xml"/><Relationship Id="rId12" Type="http://schemas.openxmlformats.org/officeDocument/2006/relationships/slideLayout" Target="../slideLayouts/slideLayout322.xml"/><Relationship Id="rId13" Type="http://schemas.openxmlformats.org/officeDocument/2006/relationships/slideLayout" Target="../slideLayouts/slideLayout323.xml"/><Relationship Id="rId14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46CC1-00CF-44B5-929D-1AE33FF159B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4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Rectangle 6"/>
          <p:cNvSpPr/>
          <p:nvPr/>
        </p:nvSpPr>
        <p:spPr>
          <a:xfrm>
            <a:off x="4262400" y="6659640"/>
            <a:ext cx="611280" cy="19836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7" name="Picture 17" descr="LOGO CE_Vertical_EN_NEG_quadri_HR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1004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1E5FF-213B-4E90-892A-7CEFFCAAEBA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Rectangle 14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2" name="Rectangle 6"/>
          <p:cNvSpPr/>
          <p:nvPr/>
        </p:nvSpPr>
        <p:spPr>
          <a:xfrm>
            <a:off x="4262400" y="6659640"/>
            <a:ext cx="611280" cy="19836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403" name="Picture 17" descr="LOGO CE_Vertical_EN_NEG_quadri_HR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1004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91AF6-82D0-460A-95EB-2B3E2FB1665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Rectangle 14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46" name="Rectangle 6"/>
          <p:cNvSpPr/>
          <p:nvPr/>
        </p:nvSpPr>
        <p:spPr>
          <a:xfrm>
            <a:off x="4262400" y="6659640"/>
            <a:ext cx="611280" cy="19836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447" name="Picture 17" descr="LOGO CE_Vertical_EN_NEG_quadri_HR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1004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A3B4F-03C7-439F-868B-5F2C3898034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Rectangle 14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0" name="Rectangle 6"/>
          <p:cNvSpPr/>
          <p:nvPr/>
        </p:nvSpPr>
        <p:spPr>
          <a:xfrm>
            <a:off x="4262400" y="6659640"/>
            <a:ext cx="611280" cy="19836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491" name="Picture 17" descr="LOGO CE_Vertical_EN_NEG_quadri_HR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1004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CCED2-C294-492D-919D-63B88552DF1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Rectangle 14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34" name="Rectangle 6"/>
          <p:cNvSpPr/>
          <p:nvPr/>
        </p:nvSpPr>
        <p:spPr>
          <a:xfrm>
            <a:off x="4262400" y="6659640"/>
            <a:ext cx="611280" cy="19836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535" name="Picture 17" descr="LOGO CE_Vertical_EN_NEG_quadri_HR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1004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76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B455E-37E4-409A-9E6E-DD504845AD5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Rectangle 14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78" name="Rectangle 6"/>
          <p:cNvSpPr/>
          <p:nvPr/>
        </p:nvSpPr>
        <p:spPr>
          <a:xfrm>
            <a:off x="4262400" y="6659640"/>
            <a:ext cx="611280" cy="19836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579" name="Picture 17" descr="LOGO CE_Vertical_EN_NEG_quadri_HR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1004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Rectangle 9"/>
          <p:cNvSpPr/>
          <p:nvPr/>
        </p:nvSpPr>
        <p:spPr>
          <a:xfrm>
            <a:off x="0" y="981000"/>
            <a:ext cx="9180360" cy="5877000"/>
          </a:xfrm>
          <a:prstGeom prst="rect">
            <a:avLst/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617" name="Picture 6" descr="LOGO CE-EN-quadri.eps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998640"/>
          </a:xfrm>
          <a:prstGeom prst="rect">
            <a:avLst/>
          </a:prstGeom>
          <a:ln w="0">
            <a:noFill/>
          </a:ln>
        </p:spPr>
      </p:pic>
      <p:sp>
        <p:nvSpPr>
          <p:cNvPr id="618" name="Rectangle 11"/>
          <p:cNvSpPr/>
          <p:nvPr/>
        </p:nvSpPr>
        <p:spPr>
          <a:xfrm>
            <a:off x="4267080" y="6659640"/>
            <a:ext cx="611280" cy="21600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23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B06A1-4CE6-4F10-AFB1-5BB371BB3509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Rectangle 9"/>
          <p:cNvSpPr/>
          <p:nvPr/>
        </p:nvSpPr>
        <p:spPr>
          <a:xfrm>
            <a:off x="0" y="981000"/>
            <a:ext cx="9180360" cy="5877000"/>
          </a:xfrm>
          <a:prstGeom prst="rect">
            <a:avLst/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661" name="Picture 6" descr="LOGO CE-EN-quadri.eps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998640"/>
          </a:xfrm>
          <a:prstGeom prst="rect">
            <a:avLst/>
          </a:prstGeom>
          <a:ln w="0">
            <a:noFill/>
          </a:ln>
        </p:spPr>
      </p:pic>
      <p:sp>
        <p:nvSpPr>
          <p:cNvPr id="662" name="Rectangle 11"/>
          <p:cNvSpPr/>
          <p:nvPr/>
        </p:nvSpPr>
        <p:spPr>
          <a:xfrm>
            <a:off x="4267080" y="6659640"/>
            <a:ext cx="611280" cy="21600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 type="dt" idx="4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67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C1C66-4454-4907-AB2F-17A6AC7AB545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Rectangle 9"/>
          <p:cNvSpPr/>
          <p:nvPr/>
        </p:nvSpPr>
        <p:spPr>
          <a:xfrm>
            <a:off x="0" y="981000"/>
            <a:ext cx="9180360" cy="5877000"/>
          </a:xfrm>
          <a:prstGeom prst="rect">
            <a:avLst/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705" name="Picture 6" descr="LOGO CE-EN-quadri.eps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998640"/>
          </a:xfrm>
          <a:prstGeom prst="rect">
            <a:avLst/>
          </a:prstGeom>
          <a:ln w="0">
            <a:noFill/>
          </a:ln>
        </p:spPr>
      </p:pic>
      <p:sp>
        <p:nvSpPr>
          <p:cNvPr id="706" name="Rectangle 11"/>
          <p:cNvSpPr/>
          <p:nvPr/>
        </p:nvSpPr>
        <p:spPr>
          <a:xfrm>
            <a:off x="4267080" y="6659640"/>
            <a:ext cx="611280" cy="21600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 type="dt" idx="4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 type="ftr" idx="5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DD0A6-24C3-4B83-9002-77045AD8DE71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Rectangle 9"/>
          <p:cNvSpPr/>
          <p:nvPr/>
        </p:nvSpPr>
        <p:spPr>
          <a:xfrm>
            <a:off x="0" y="981000"/>
            <a:ext cx="9180360" cy="5877000"/>
          </a:xfrm>
          <a:prstGeom prst="rect">
            <a:avLst/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749" name="Picture 6" descr="LOGO CE-EN-quadri.eps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998640"/>
          </a:xfrm>
          <a:prstGeom prst="rect">
            <a:avLst/>
          </a:prstGeom>
          <a:ln w="0">
            <a:noFill/>
          </a:ln>
        </p:spPr>
      </p:pic>
      <p:sp>
        <p:nvSpPr>
          <p:cNvPr id="750" name="Rectangle 11"/>
          <p:cNvSpPr/>
          <p:nvPr/>
        </p:nvSpPr>
        <p:spPr>
          <a:xfrm>
            <a:off x="4267080" y="6659640"/>
            <a:ext cx="611280" cy="21600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 type="dt" idx="5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 type="ftr" idx="5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827C2-D33C-4E2A-AC16-5A487905CC60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Rectangle 9"/>
          <p:cNvSpPr/>
          <p:nvPr/>
        </p:nvSpPr>
        <p:spPr>
          <a:xfrm>
            <a:off x="0" y="981000"/>
            <a:ext cx="9180360" cy="5877000"/>
          </a:xfrm>
          <a:prstGeom prst="rect">
            <a:avLst/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793" name="Picture 6" descr="LOGO CE-EN-quadri.eps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998640"/>
          </a:xfrm>
          <a:prstGeom prst="rect">
            <a:avLst/>
          </a:prstGeom>
          <a:ln w="0">
            <a:noFill/>
          </a:ln>
        </p:spPr>
      </p:pic>
      <p:sp>
        <p:nvSpPr>
          <p:cNvPr id="794" name="Rectangle 11"/>
          <p:cNvSpPr/>
          <p:nvPr/>
        </p:nvSpPr>
        <p:spPr>
          <a:xfrm>
            <a:off x="4267080" y="6659640"/>
            <a:ext cx="611280" cy="21600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 type="dt" idx="5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 type="ftr" idx="5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8A7A9-56EA-4E2C-B1D3-B837F6E71A4C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0EDD6-BAE3-4D8A-B741-B9D36475DD5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14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0" name="Rectangle 6"/>
          <p:cNvSpPr/>
          <p:nvPr/>
        </p:nvSpPr>
        <p:spPr>
          <a:xfrm>
            <a:off x="4262400" y="6659640"/>
            <a:ext cx="611280" cy="19836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51" name="Picture 17" descr="LOGO CE_Vertical_EN_NEG_quadri_HR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1004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Rectangle 9"/>
          <p:cNvSpPr/>
          <p:nvPr/>
        </p:nvSpPr>
        <p:spPr>
          <a:xfrm>
            <a:off x="0" y="981000"/>
            <a:ext cx="9180360" cy="5877000"/>
          </a:xfrm>
          <a:prstGeom prst="rect">
            <a:avLst/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837" name="Picture 6" descr="LOGO CE-EN-quadri.eps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998640"/>
          </a:xfrm>
          <a:prstGeom prst="rect">
            <a:avLst/>
          </a:prstGeom>
          <a:ln w="0">
            <a:noFill/>
          </a:ln>
        </p:spPr>
      </p:pic>
      <p:sp>
        <p:nvSpPr>
          <p:cNvPr id="838" name="Rectangle 11"/>
          <p:cNvSpPr/>
          <p:nvPr/>
        </p:nvSpPr>
        <p:spPr>
          <a:xfrm>
            <a:off x="4267080" y="6659640"/>
            <a:ext cx="611280" cy="21600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 type="dt" idx="5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42" name="PlaceHolder 4"/>
          <p:cNvSpPr>
            <a:spLocks noGrp="1"/>
          </p:cNvSpPr>
          <p:nvPr>
            <p:ph type="ftr" idx="5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43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64923-0413-4193-BA89-F0F52F5D0ECA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Rectangle 9"/>
          <p:cNvSpPr/>
          <p:nvPr/>
        </p:nvSpPr>
        <p:spPr>
          <a:xfrm>
            <a:off x="0" y="981000"/>
            <a:ext cx="9180360" cy="5877000"/>
          </a:xfrm>
          <a:prstGeom prst="rect">
            <a:avLst/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881" name="Picture 6" descr="LOGO CE-EN-quadri.eps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998640"/>
          </a:xfrm>
          <a:prstGeom prst="rect">
            <a:avLst/>
          </a:prstGeom>
          <a:ln w="0">
            <a:noFill/>
          </a:ln>
        </p:spPr>
      </p:pic>
      <p:sp>
        <p:nvSpPr>
          <p:cNvPr id="882" name="Rectangle 11"/>
          <p:cNvSpPr/>
          <p:nvPr/>
        </p:nvSpPr>
        <p:spPr>
          <a:xfrm>
            <a:off x="4267080" y="6659640"/>
            <a:ext cx="611280" cy="21600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 type="dt" idx="6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 type="ftr" idx="6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87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13D56-C477-4657-BBBE-7DB39AE0A53A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Rectangle 9"/>
          <p:cNvSpPr/>
          <p:nvPr/>
        </p:nvSpPr>
        <p:spPr>
          <a:xfrm>
            <a:off x="0" y="981000"/>
            <a:ext cx="9180360" cy="5877000"/>
          </a:xfrm>
          <a:prstGeom prst="rect">
            <a:avLst/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925" name="Picture 6" descr="LOGO CE-EN-quadri.eps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998640"/>
          </a:xfrm>
          <a:prstGeom prst="rect">
            <a:avLst/>
          </a:prstGeom>
          <a:ln w="0">
            <a:noFill/>
          </a:ln>
        </p:spPr>
      </p:pic>
      <p:sp>
        <p:nvSpPr>
          <p:cNvPr id="926" name="Rectangle 11"/>
          <p:cNvSpPr/>
          <p:nvPr/>
        </p:nvSpPr>
        <p:spPr>
          <a:xfrm>
            <a:off x="4267080" y="6659640"/>
            <a:ext cx="611280" cy="21600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 type="dt" idx="6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 type="ftr" idx="6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31" name="PlaceHolder 5"/>
          <p:cNvSpPr>
            <a:spLocks noGrp="1"/>
          </p:cNvSpPr>
          <p:nvPr>
            <p:ph type="sldNum" idx="6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59EAB-844E-4B88-808A-2D61DAF65C6E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Rectangle 9"/>
          <p:cNvSpPr/>
          <p:nvPr/>
        </p:nvSpPr>
        <p:spPr>
          <a:xfrm>
            <a:off x="0" y="981000"/>
            <a:ext cx="9180360" cy="5877000"/>
          </a:xfrm>
          <a:prstGeom prst="rect">
            <a:avLst/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969" name="Picture 6" descr="LOGO CE-EN-quadri.eps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998640"/>
          </a:xfrm>
          <a:prstGeom prst="rect">
            <a:avLst/>
          </a:prstGeom>
          <a:ln w="0">
            <a:noFill/>
          </a:ln>
        </p:spPr>
      </p:pic>
      <p:sp>
        <p:nvSpPr>
          <p:cNvPr id="970" name="Rectangle 11"/>
          <p:cNvSpPr/>
          <p:nvPr/>
        </p:nvSpPr>
        <p:spPr>
          <a:xfrm>
            <a:off x="4267080" y="6659640"/>
            <a:ext cx="611280" cy="21600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 type="dt" idx="6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74" name="PlaceHolder 4"/>
          <p:cNvSpPr>
            <a:spLocks noGrp="1"/>
          </p:cNvSpPr>
          <p:nvPr>
            <p:ph type="ftr" idx="6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75" name="PlaceHolder 5"/>
          <p:cNvSpPr>
            <a:spLocks noGrp="1"/>
          </p:cNvSpPr>
          <p:nvPr>
            <p:ph type="sldNum" idx="6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66EB2-18D1-40B4-BE75-562488D1DC78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Rectangle 9"/>
          <p:cNvSpPr/>
          <p:nvPr/>
        </p:nvSpPr>
        <p:spPr>
          <a:xfrm>
            <a:off x="0" y="981000"/>
            <a:ext cx="9180360" cy="5877000"/>
          </a:xfrm>
          <a:prstGeom prst="rect">
            <a:avLst/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013" name="Picture 6" descr="LOGO CE-EN-quadri.eps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998640"/>
          </a:xfrm>
          <a:prstGeom prst="rect">
            <a:avLst/>
          </a:prstGeom>
          <a:ln w="0">
            <a:noFill/>
          </a:ln>
        </p:spPr>
      </p:pic>
      <p:sp>
        <p:nvSpPr>
          <p:cNvPr id="1014" name="Rectangle 11"/>
          <p:cNvSpPr/>
          <p:nvPr/>
        </p:nvSpPr>
        <p:spPr>
          <a:xfrm>
            <a:off x="4267080" y="6659640"/>
            <a:ext cx="611280" cy="21600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 type="dt" idx="7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 type="ftr" idx="7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 type="sldNum" idx="7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3FF3E-384E-4EE1-B22C-CB61FCF1CE37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Rectangle 9"/>
          <p:cNvSpPr/>
          <p:nvPr/>
        </p:nvSpPr>
        <p:spPr>
          <a:xfrm>
            <a:off x="0" y="981000"/>
            <a:ext cx="9180360" cy="5877000"/>
          </a:xfrm>
          <a:prstGeom prst="rect">
            <a:avLst/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057" name="Picture 6" descr="LOGO CE-EN-quadri.eps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998640"/>
          </a:xfrm>
          <a:prstGeom prst="rect">
            <a:avLst/>
          </a:prstGeom>
          <a:ln w="0">
            <a:noFill/>
          </a:ln>
        </p:spPr>
      </p:pic>
      <p:sp>
        <p:nvSpPr>
          <p:cNvPr id="1058" name="Rectangle 11"/>
          <p:cNvSpPr/>
          <p:nvPr/>
        </p:nvSpPr>
        <p:spPr>
          <a:xfrm>
            <a:off x="4267080" y="6659640"/>
            <a:ext cx="611280" cy="21600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 type="dt" idx="7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 type="ftr" idx="7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63" name="PlaceHolder 5"/>
          <p:cNvSpPr>
            <a:spLocks noGrp="1"/>
          </p:cNvSpPr>
          <p:nvPr>
            <p:ph type="sldNum" idx="7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9BECF-4A2D-4C55-8B29-8EE341CA2306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Rectangle 9"/>
          <p:cNvSpPr/>
          <p:nvPr/>
        </p:nvSpPr>
        <p:spPr>
          <a:xfrm>
            <a:off x="0" y="981000"/>
            <a:ext cx="9180360" cy="5877000"/>
          </a:xfrm>
          <a:prstGeom prst="rect">
            <a:avLst/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101" name="Picture 6" descr="LOGO CE-EN-quadri.eps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998640"/>
          </a:xfrm>
          <a:prstGeom prst="rect">
            <a:avLst/>
          </a:prstGeom>
          <a:ln w="0">
            <a:noFill/>
          </a:ln>
        </p:spPr>
      </p:pic>
      <p:sp>
        <p:nvSpPr>
          <p:cNvPr id="1102" name="Rectangle 11"/>
          <p:cNvSpPr/>
          <p:nvPr/>
        </p:nvSpPr>
        <p:spPr>
          <a:xfrm>
            <a:off x="4267080" y="6659640"/>
            <a:ext cx="611280" cy="21600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05" name="PlaceHolder 3"/>
          <p:cNvSpPr>
            <a:spLocks noGrp="1"/>
          </p:cNvSpPr>
          <p:nvPr>
            <p:ph type="dt" idx="7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06" name="PlaceHolder 4"/>
          <p:cNvSpPr>
            <a:spLocks noGrp="1"/>
          </p:cNvSpPr>
          <p:nvPr>
            <p:ph type="ftr" idx="7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07" name="PlaceHolder 5"/>
          <p:cNvSpPr>
            <a:spLocks noGrp="1"/>
          </p:cNvSpPr>
          <p:nvPr>
            <p:ph type="sldNum" idx="7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2B0B7-B855-421B-848F-E494AEC6B078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Rectangle 9"/>
          <p:cNvSpPr/>
          <p:nvPr/>
        </p:nvSpPr>
        <p:spPr>
          <a:xfrm>
            <a:off x="0" y="981000"/>
            <a:ext cx="9180360" cy="5877000"/>
          </a:xfrm>
          <a:prstGeom prst="rect">
            <a:avLst/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145" name="Picture 6" descr="LOGO CE-EN-quadri.eps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998640"/>
          </a:xfrm>
          <a:prstGeom prst="rect">
            <a:avLst/>
          </a:prstGeom>
          <a:ln w="0">
            <a:noFill/>
          </a:ln>
        </p:spPr>
      </p:pic>
      <p:sp>
        <p:nvSpPr>
          <p:cNvPr id="1146" name="Rectangle 11"/>
          <p:cNvSpPr/>
          <p:nvPr/>
        </p:nvSpPr>
        <p:spPr>
          <a:xfrm>
            <a:off x="4267080" y="6659640"/>
            <a:ext cx="611280" cy="21600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48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49" name="PlaceHolder 3"/>
          <p:cNvSpPr>
            <a:spLocks noGrp="1"/>
          </p:cNvSpPr>
          <p:nvPr>
            <p:ph type="dt" idx="7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50" name="PlaceHolder 4"/>
          <p:cNvSpPr>
            <a:spLocks noGrp="1"/>
          </p:cNvSpPr>
          <p:nvPr>
            <p:ph type="ftr" idx="8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51" name="PlaceHolder 5"/>
          <p:cNvSpPr>
            <a:spLocks noGrp="1"/>
          </p:cNvSpPr>
          <p:nvPr>
            <p:ph type="sldNum" idx="8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DDED1-EAA4-4DCB-8B52-D837467B59E0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3"/>
    <p:sldLayoutId id="2147483988" r:id="rId4"/>
    <p:sldLayoutId id="2147483989" r:id="rId5"/>
    <p:sldLayoutId id="2147483990" r:id="rId6"/>
    <p:sldLayoutId id="2147483991" r:id="rId7"/>
    <p:sldLayoutId id="2147483992" r:id="rId8"/>
    <p:sldLayoutId id="2147483993" r:id="rId9"/>
    <p:sldLayoutId id="2147483994" r:id="rId10"/>
    <p:sldLayoutId id="2147483995" r:id="rId11"/>
    <p:sldLayoutId id="2147483996" r:id="rId12"/>
    <p:sldLayoutId id="2147483997" r:id="rId13"/>
    <p:sldLayoutId id="2147483998" r:id="rId14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Rectangle 9"/>
          <p:cNvSpPr/>
          <p:nvPr/>
        </p:nvSpPr>
        <p:spPr>
          <a:xfrm>
            <a:off x="0" y="981000"/>
            <a:ext cx="9180360" cy="5877000"/>
          </a:xfrm>
          <a:prstGeom prst="rect">
            <a:avLst/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189" name="Picture 6" descr="LOGO CE-EN-quadri.eps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998640"/>
          </a:xfrm>
          <a:prstGeom prst="rect">
            <a:avLst/>
          </a:prstGeom>
          <a:ln w="0">
            <a:noFill/>
          </a:ln>
        </p:spPr>
      </p:pic>
      <p:sp>
        <p:nvSpPr>
          <p:cNvPr id="1190" name="Rectangle 11"/>
          <p:cNvSpPr/>
          <p:nvPr/>
        </p:nvSpPr>
        <p:spPr>
          <a:xfrm>
            <a:off x="4267080" y="6659640"/>
            <a:ext cx="611280" cy="21600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92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93" name="PlaceHolder 3"/>
          <p:cNvSpPr>
            <a:spLocks noGrp="1"/>
          </p:cNvSpPr>
          <p:nvPr>
            <p:ph type="dt" idx="8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94" name="PlaceHolder 4"/>
          <p:cNvSpPr>
            <a:spLocks noGrp="1"/>
          </p:cNvSpPr>
          <p:nvPr>
            <p:ph type="ftr" idx="8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95" name="PlaceHolder 5"/>
          <p:cNvSpPr>
            <a:spLocks noGrp="1"/>
          </p:cNvSpPr>
          <p:nvPr>
            <p:ph type="sldNum" idx="8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CFE0F-FF8C-44B4-9193-49DED5FA8F8C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8772F-3524-454F-87EC-A09B7C04A7E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14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4" name="Rectangle 6"/>
          <p:cNvSpPr/>
          <p:nvPr/>
        </p:nvSpPr>
        <p:spPr>
          <a:xfrm>
            <a:off x="4262400" y="6659640"/>
            <a:ext cx="611280" cy="19836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95" name="Picture 17" descr="LOGO CE_Vertical_EN_NEG_quadri_HR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1004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95273-8B66-433D-A5D7-0E6CDFDDFE4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14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8" name="Rectangle 6"/>
          <p:cNvSpPr/>
          <p:nvPr/>
        </p:nvSpPr>
        <p:spPr>
          <a:xfrm>
            <a:off x="4262400" y="6659640"/>
            <a:ext cx="611280" cy="19836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39" name="Picture 17" descr="LOGO CE_Vertical_EN_NEG_quadri_HR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1004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6CCB1-22A8-4EAD-939E-E9951561941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ectangle 14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2" name="Rectangle 6"/>
          <p:cNvSpPr/>
          <p:nvPr/>
        </p:nvSpPr>
        <p:spPr>
          <a:xfrm>
            <a:off x="4262400" y="6659640"/>
            <a:ext cx="611280" cy="19836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83" name="Picture 17" descr="LOGO CE_Vertical_EN_NEG_quadri_HR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1004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97CDB-8EBB-4790-8D71-B0CC4C5E08D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Rectangle 14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6" name="Rectangle 6"/>
          <p:cNvSpPr/>
          <p:nvPr/>
        </p:nvSpPr>
        <p:spPr>
          <a:xfrm>
            <a:off x="4262400" y="6659640"/>
            <a:ext cx="611280" cy="19836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227" name="Picture 17" descr="LOGO CE_Vertical_EN_NEG_quadri_HR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1004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866E5-9E0F-47F1-8998-791FE9B16A9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Rectangle 14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0" name="Rectangle 6"/>
          <p:cNvSpPr/>
          <p:nvPr/>
        </p:nvSpPr>
        <p:spPr>
          <a:xfrm>
            <a:off x="4262400" y="6659640"/>
            <a:ext cx="611280" cy="19836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271" name="Picture 17" descr="LOGO CE_Vertical_EN_NEG_quadri_HR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1004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BA3BD-B941-428E-ACFC-6D2A23E5353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Rectangle 14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4" name="Rectangle 6"/>
          <p:cNvSpPr/>
          <p:nvPr/>
        </p:nvSpPr>
        <p:spPr>
          <a:xfrm>
            <a:off x="4262400" y="6659640"/>
            <a:ext cx="611280" cy="19836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315" name="Picture 17" descr="LOGO CE_Vertical_EN_NEG_quadri_HR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1004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37E25-45FF-4009-A9AA-637381A75BD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Rectangle 14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8" name="Rectangle 6"/>
          <p:cNvSpPr/>
          <p:nvPr/>
        </p:nvSpPr>
        <p:spPr>
          <a:xfrm>
            <a:off x="4262400" y="6659640"/>
            <a:ext cx="611280" cy="19836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359" name="Picture 17" descr="LOGO CE_Vertical_EN_NEG_quadri_HR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1004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468000" y="1412640"/>
            <a:ext cx="8567640" cy="388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d624"/>
                </a:solidFill>
                <a:latin typeface="Verdana"/>
              </a:rPr>
              <a:t>Commission Delegated Regulation (EU) No 932/2014 laying down exceptional support measures for producers of certain fruit and vegetables and amending Delegated Regulation (EU) No 913/2014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 type="subTitle"/>
          </p:nvPr>
        </p:nvSpPr>
        <p:spPr>
          <a:xfrm>
            <a:off x="395280" y="4982760"/>
            <a:ext cx="8532720" cy="16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Meeting of the Civil Dialogue Group Horticulture, Olives and Spirit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f5494"/>
              </a:solidFill>
              <a:latin typeface="Verdana"/>
            </a:endParaRPr>
          </a:p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400" spc="-1" strike="noStrike">
                <a:solidFill>
                  <a:srgbClr val="ffffff"/>
                </a:solidFill>
                <a:latin typeface="Verdana"/>
              </a:rPr>
              <a:t>1 October 2014</a:t>
            </a:r>
            <a:endParaRPr b="0" i="1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"/>
          <p:cNvSpPr txBox="1"/>
          <p:nvPr/>
        </p:nvSpPr>
        <p:spPr>
          <a:xfrm>
            <a:off x="179280" y="1557360"/>
            <a:ext cx="885672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499"/>
              </a:spcBef>
              <a:spcAft>
                <a:spcPts val="1199"/>
              </a:spcAft>
              <a:buClr>
                <a:srgbClr val="009fba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Members of POs without an operational programme are considered non-members and are subject to the same procedures and control rules as non-members.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343080" indent="-343080">
              <a:spcBef>
                <a:spcPts val="499"/>
              </a:spcBef>
              <a:spcAft>
                <a:spcPts val="1800"/>
              </a:spcAft>
              <a:buClr>
                <a:srgbClr val="009fba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Members of POs whose recognition has been suspended are considered non-members and are subject to the same procedures and control rules as non-members.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343080" indent="-343080">
              <a:spcBef>
                <a:spcPts val="499"/>
              </a:spcBef>
              <a:buClr>
                <a:srgbClr val="009fba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Members of POs which are not recognised for the products they intend to withdraw, non-harvest or green harvest are considered non-members and are subject to the same procedures and control rules as non-members.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343080" indent="-343080">
              <a:spcBef>
                <a:spcPts val="499"/>
              </a:spcBef>
              <a:buClr>
                <a:srgbClr val="009fba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59" name="Slide Number Placeholder 3"/>
          <p:cNvSpPr/>
          <p:nvPr/>
        </p:nvSpPr>
        <p:spPr>
          <a:xfrm>
            <a:off x="8101080" y="6381720"/>
            <a:ext cx="907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06806-4230-4382-A6F3-507FB020217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60" name="TextBox 4"/>
          <p:cNvSpPr/>
          <p:nvPr/>
        </p:nvSpPr>
        <p:spPr>
          <a:xfrm>
            <a:off x="5796000" y="404640"/>
            <a:ext cx="29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b050"/>
                </a:solidFill>
                <a:latin typeface="Verdana"/>
              </a:rPr>
              <a:t>I – certain F&amp;V</a:t>
            </a: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"/>
          <p:cNvSpPr txBox="1"/>
          <p:nvPr/>
        </p:nvSpPr>
        <p:spPr>
          <a:xfrm>
            <a:off x="179280" y="1700280"/>
            <a:ext cx="885672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7840" indent="-17784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177840" indent="-17784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EU financial assistance: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1079640" indent="-355680">
              <a:spcBef>
                <a:spcPts val="601"/>
              </a:spcBef>
              <a:spcAft>
                <a:spcPts val="601"/>
              </a:spcAft>
              <a:buClr>
                <a:srgbClr val="009fba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(current) maximum amounts set in Annex XI to R 543/2011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1079640" indent="-355680">
              <a:spcBef>
                <a:spcPts val="601"/>
              </a:spcBef>
              <a:spcAft>
                <a:spcPts val="601"/>
              </a:spcAft>
              <a:buClr>
                <a:srgbClr val="009fba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(new) maximum amounts for the products that are not included in Annex XI are set in Annex I to Regulation 932/2014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1079640" indent="-355680">
              <a:spcBef>
                <a:spcPts val="601"/>
              </a:spcBef>
              <a:spcAft>
                <a:spcPts val="601"/>
              </a:spcAft>
              <a:buClr>
                <a:srgbClr val="009fba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new EU co-financing rates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6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4D136-F554-435F-86AF-E438DF8CA7B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63" name="TextBox 4"/>
          <p:cNvSpPr/>
          <p:nvPr/>
        </p:nvSpPr>
        <p:spPr>
          <a:xfrm>
            <a:off x="5796000" y="404640"/>
            <a:ext cx="29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b050"/>
                </a:solidFill>
                <a:latin typeface="Verdana"/>
              </a:rPr>
              <a:t>I – certain F&amp;V</a:t>
            </a: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395280" y="1339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EU financial assistance:</a:t>
            </a:r>
            <a:br>
              <a:rPr sz="3000"/>
            </a:b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65" name=""/>
          <p:cNvSpPr txBox="1"/>
          <p:nvPr/>
        </p:nvSpPr>
        <p:spPr>
          <a:xfrm>
            <a:off x="395280" y="2204640"/>
            <a:ext cx="82296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166c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Withdrawals for free distribution: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1162080" indent="-447840">
              <a:spcBef>
                <a:spcPts val="601"/>
              </a:spcBef>
              <a:buClr>
                <a:srgbClr val="3166c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100% POs; 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1162080" indent="-447840">
              <a:spcBef>
                <a:spcPts val="601"/>
              </a:spcBef>
              <a:buClr>
                <a:srgbClr val="3166c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100% for non-members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201"/>
              </a:spcBef>
              <a:buClr>
                <a:srgbClr val="3166c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Withdrawals for other destinations: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1162080" indent="-447840">
              <a:spcBef>
                <a:spcPts val="601"/>
              </a:spcBef>
              <a:buClr>
                <a:srgbClr val="3166c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75% POs; 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1162080" indent="-447840">
              <a:spcBef>
                <a:spcPts val="601"/>
              </a:spcBef>
              <a:buClr>
                <a:srgbClr val="3166c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50% for non-members of the amount set out for withdrawals for other destinations 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6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A4B4E-6F8A-47AB-97F9-722B5627FE6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67" name="TextBox 5"/>
          <p:cNvSpPr/>
          <p:nvPr/>
        </p:nvSpPr>
        <p:spPr>
          <a:xfrm>
            <a:off x="5796000" y="404640"/>
            <a:ext cx="29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b050"/>
                </a:solidFill>
                <a:latin typeface="Verdana"/>
              </a:rPr>
              <a:t>I – certain F&amp;V</a:t>
            </a: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PlaceHolder 1"/>
          <p:cNvSpPr>
            <a:spLocks noGrp="1"/>
          </p:cNvSpPr>
          <p:nvPr>
            <p:ph type="title"/>
          </p:nvPr>
        </p:nvSpPr>
        <p:spPr>
          <a:xfrm>
            <a:off x="395280" y="1339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EU financial assistance:</a:t>
            </a:r>
            <a:br>
              <a:rPr sz="3000"/>
            </a:b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69" name=""/>
          <p:cNvSpPr txBox="1"/>
          <p:nvPr/>
        </p:nvSpPr>
        <p:spPr>
          <a:xfrm>
            <a:off x="457200" y="177336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buClr>
                <a:srgbClr val="3166c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Green harvesting and non-harvesting (yields kg/ha established by MS):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200240" indent="-343080">
              <a:spcBef>
                <a:spcPts val="1800"/>
              </a:spcBef>
              <a:buClr>
                <a:srgbClr val="3166cf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75% of the support [EU+PO] set out per ha by MS at a level to cover not more than 90% of the support for withdrawals for other destinations – P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343080">
              <a:spcBef>
                <a:spcPts val="2401"/>
              </a:spcBef>
              <a:buClr>
                <a:srgbClr val="3166cf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50% of the support [EU+PO] set out per ha by MS at a level to cover not more than 90% of the support for withdrawals for other destinations – non-mem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760C3-7F06-4F3D-B8BB-BD3F07A5D69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71" name="TextBox 5"/>
          <p:cNvSpPr/>
          <p:nvPr/>
        </p:nvSpPr>
        <p:spPr>
          <a:xfrm>
            <a:off x="5796000" y="404640"/>
            <a:ext cx="29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b050"/>
                </a:solidFill>
                <a:latin typeface="Verdana"/>
              </a:rPr>
              <a:t>I – certain F&amp;V</a:t>
            </a: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"/>
          <p:cNvSpPr txBox="1"/>
          <p:nvPr/>
        </p:nvSpPr>
        <p:spPr>
          <a:xfrm>
            <a:off x="287280" y="1267920"/>
            <a:ext cx="84614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This exceptional support is not taken into account for: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812880" indent="-457200">
              <a:spcBef>
                <a:spcPts val="601"/>
              </a:spcBef>
              <a:spcAft>
                <a:spcPts val="601"/>
              </a:spcAft>
              <a:buClr>
                <a:srgbClr val="009fb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4.1% - 4.6% ceilings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(art 34(2) R 1308/2013)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812880" indent="-457200">
              <a:spcBef>
                <a:spcPts val="601"/>
              </a:spcBef>
              <a:buClr>
                <a:srgbClr val="009fb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1/3 limit Crisis Prevention and Management measures 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812880" indent="-45720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166cf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(art 33(3)4</a:t>
            </a:r>
            <a:r>
              <a:rPr b="0" lang="en-GB" sz="2400" spc="-1" strike="noStrike" baseline="30000">
                <a:solidFill>
                  <a:srgbClr val="000000"/>
                </a:solidFill>
                <a:latin typeface="Verdana"/>
              </a:rPr>
              <a:t>th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subparagraph R 1308/2013)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812880" indent="-457200">
              <a:spcBef>
                <a:spcPts val="601"/>
              </a:spcBef>
              <a:buClr>
                <a:srgbClr val="009fb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25% ceiling increase operational fund during the year 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812880" indent="-457200"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166cf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(art 66(3)(c) R 543/2011)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81288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Expenditure incurred under this measure shall form part of the operational fund.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7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823F8-4EB8-4884-A607-D739FA40735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74" name="TextBox 4"/>
          <p:cNvSpPr/>
          <p:nvPr/>
        </p:nvSpPr>
        <p:spPr>
          <a:xfrm>
            <a:off x="5796000" y="404640"/>
            <a:ext cx="29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b050"/>
                </a:solidFill>
                <a:latin typeface="Verdana"/>
              </a:rPr>
              <a:t>I – certain F&amp;V</a:t>
            </a: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Slide Number Placeholder 3"/>
          <p:cNvSpPr/>
          <p:nvPr/>
        </p:nvSpPr>
        <p:spPr>
          <a:xfrm>
            <a:off x="8604360" y="6381720"/>
            <a:ext cx="4316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07F9E-28E7-42CE-83CF-6268A76C75E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276" name="Picture 2" descr=""/>
          <p:cNvPicPr/>
          <p:nvPr/>
        </p:nvPicPr>
        <p:blipFill>
          <a:blip r:embed="rId1"/>
          <a:stretch/>
        </p:blipFill>
        <p:spPr>
          <a:xfrm>
            <a:off x="4114800" y="3325680"/>
            <a:ext cx="912960" cy="206640"/>
          </a:xfrm>
          <a:prstGeom prst="rect">
            <a:avLst/>
          </a:prstGeom>
          <a:ln w="0">
            <a:noFill/>
          </a:ln>
        </p:spPr>
      </p:pic>
      <p:sp>
        <p:nvSpPr>
          <p:cNvPr id="1277" name="TextBox 1"/>
          <p:cNvSpPr/>
          <p:nvPr/>
        </p:nvSpPr>
        <p:spPr>
          <a:xfrm>
            <a:off x="395280" y="1197000"/>
            <a:ext cx="864072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According to article 9, the Commission informed Member States on </a:t>
            </a: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10 September 2014 </a:t>
            </a: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that it would receive no further notifications  (the allocated amount had been exceeded for both groups of products).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Art 11 – Producer organisations and producer non-members shall apply for the payment of the Union financial assistance by a date fixed by the Member State, the latest </a:t>
            </a: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by 15 October 2014.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Art 12 – Member Sates shall notify the Commission </a:t>
            </a: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by 22 October 2014 </a:t>
            </a: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(six weeks from 10 September) of the information on the total quantities withdrawn, the total areas on which non-harvesting or green harvesting operations have been undertaken and the total amounts of Union financial assistance for the corresponding withdrawal, non-harvesting and green harvesting operations, based to the notifications made to the Commission on the 4 and 8 September. 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78" name="TextBox 4"/>
          <p:cNvSpPr/>
          <p:nvPr/>
        </p:nvSpPr>
        <p:spPr>
          <a:xfrm>
            <a:off x="5796000" y="404640"/>
            <a:ext cx="29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b050"/>
                </a:solidFill>
                <a:latin typeface="Verdana"/>
              </a:rPr>
              <a:t>I – certain F&amp;V</a:t>
            </a: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Slide Number Placeholder 3"/>
          <p:cNvSpPr/>
          <p:nvPr/>
        </p:nvSpPr>
        <p:spPr>
          <a:xfrm>
            <a:off x="8604360" y="6381720"/>
            <a:ext cx="4316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AE6A0-F60D-48A6-9A73-F8E55403426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280" name="Picture 2" descr=""/>
          <p:cNvPicPr/>
          <p:nvPr/>
        </p:nvPicPr>
        <p:blipFill>
          <a:blip r:embed="rId1"/>
          <a:stretch/>
        </p:blipFill>
        <p:spPr>
          <a:xfrm>
            <a:off x="4114800" y="3325680"/>
            <a:ext cx="912960" cy="206640"/>
          </a:xfrm>
          <a:prstGeom prst="rect">
            <a:avLst/>
          </a:prstGeom>
          <a:ln w="0">
            <a:noFill/>
          </a:ln>
        </p:spPr>
      </p:pic>
      <p:sp>
        <p:nvSpPr>
          <p:cNvPr id="1281" name="TextBox 2"/>
          <p:cNvSpPr/>
          <p:nvPr/>
        </p:nvSpPr>
        <p:spPr>
          <a:xfrm>
            <a:off x="611280" y="1484280"/>
            <a:ext cx="8208720" cy="41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Art 12 – where those amounts notified by Member States by 22 October 2014 exceed: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EUR 82 Million for apples and pears; and / or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EUR 43 million for other products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The Commission shall fix one or two allocation coefficients for the grant of Union financial assistance, limiting total Union expenditure to those amounts.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Member Sates shall apply uniformly the allocation coefficient(s) to all applications for payment </a:t>
            </a: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(same allocation coefficient for all applications of the group of products concerned)</a:t>
            </a: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82" name="Right Arrow 4"/>
          <p:cNvSpPr/>
          <p:nvPr/>
        </p:nvSpPr>
        <p:spPr>
          <a:xfrm>
            <a:off x="3635280" y="5373720"/>
            <a:ext cx="979560" cy="484200"/>
          </a:xfrm>
          <a:prstGeom prst="rightArrow">
            <a:avLst>
              <a:gd name="adj1" fmla="val 50000"/>
              <a:gd name="adj2" fmla="val 5010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83" name="TextBox 4"/>
          <p:cNvSpPr/>
          <p:nvPr/>
        </p:nvSpPr>
        <p:spPr>
          <a:xfrm>
            <a:off x="5796000" y="404640"/>
            <a:ext cx="29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b050"/>
                </a:solidFill>
                <a:latin typeface="Verdana"/>
              </a:rPr>
              <a:t>I – certain F&amp;V</a:t>
            </a: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6A936-E226-430A-A4E5-08A9C62BEB2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85" name="TextBox 2"/>
          <p:cNvSpPr/>
          <p:nvPr/>
        </p:nvSpPr>
        <p:spPr>
          <a:xfrm>
            <a:off x="324000" y="1484280"/>
            <a:ext cx="806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Requests received in euros on 4 &amp; 8 September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286" name="Picture 4" descr=""/>
          <p:cNvPicPr/>
          <p:nvPr/>
        </p:nvPicPr>
        <p:blipFill>
          <a:blip r:embed="rId1"/>
          <a:stretch/>
        </p:blipFill>
        <p:spPr>
          <a:xfrm>
            <a:off x="1332000" y="2066760"/>
            <a:ext cx="6316560" cy="4141800"/>
          </a:xfrm>
          <a:prstGeom prst="rect">
            <a:avLst/>
          </a:prstGeom>
          <a:ln w="0">
            <a:noFill/>
          </a:ln>
        </p:spPr>
      </p:pic>
      <p:sp>
        <p:nvSpPr>
          <p:cNvPr id="1287" name="TextBox 4"/>
          <p:cNvSpPr/>
          <p:nvPr/>
        </p:nvSpPr>
        <p:spPr>
          <a:xfrm>
            <a:off x="5796000" y="404640"/>
            <a:ext cx="29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b050"/>
                </a:solidFill>
                <a:latin typeface="Verdana"/>
              </a:rPr>
              <a:t>I – certain F&amp;V</a:t>
            </a: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047B9-946D-4AED-8BC1-75592C934C7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89" name="TextBox 2"/>
          <p:cNvSpPr/>
          <p:nvPr/>
        </p:nvSpPr>
        <p:spPr>
          <a:xfrm>
            <a:off x="324000" y="1484280"/>
            <a:ext cx="806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Requests received in euros on 4 &amp; 8 September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290" name="Picture 3" descr=""/>
          <p:cNvPicPr/>
          <p:nvPr/>
        </p:nvPicPr>
        <p:blipFill>
          <a:blip r:embed="rId1"/>
          <a:stretch/>
        </p:blipFill>
        <p:spPr>
          <a:xfrm>
            <a:off x="1547640" y="2276640"/>
            <a:ext cx="5999400" cy="3392280"/>
          </a:xfrm>
          <a:prstGeom prst="rect">
            <a:avLst/>
          </a:prstGeom>
          <a:ln w="0">
            <a:noFill/>
          </a:ln>
        </p:spPr>
      </p:pic>
      <p:sp>
        <p:nvSpPr>
          <p:cNvPr id="1291" name="TextBox 4"/>
          <p:cNvSpPr/>
          <p:nvPr/>
        </p:nvSpPr>
        <p:spPr>
          <a:xfrm>
            <a:off x="5796000" y="404640"/>
            <a:ext cx="29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b050"/>
                </a:solidFill>
                <a:latin typeface="Verdana"/>
              </a:rPr>
              <a:t>I – certain F&amp;V</a:t>
            </a: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EE8DF-0701-4B14-88DA-1418117EEE4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93" name="TextBox 2"/>
          <p:cNvSpPr/>
          <p:nvPr/>
        </p:nvSpPr>
        <p:spPr>
          <a:xfrm>
            <a:off x="324000" y="1484280"/>
            <a:ext cx="806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Requests received in euros on 4 &amp; 8 September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f5494"/>
                </a:solidFill>
                <a:latin typeface="Verdana"/>
              </a:rPr>
              <a:t>By Product and Measure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294" name="Picture 2" descr=""/>
          <p:cNvPicPr/>
          <p:nvPr/>
        </p:nvPicPr>
        <p:blipFill>
          <a:blip r:embed="rId1"/>
          <a:stretch/>
        </p:blipFill>
        <p:spPr>
          <a:xfrm>
            <a:off x="1187280" y="2192400"/>
            <a:ext cx="6697800" cy="3933720"/>
          </a:xfrm>
          <a:prstGeom prst="rect">
            <a:avLst/>
          </a:prstGeom>
          <a:ln w="0">
            <a:noFill/>
          </a:ln>
        </p:spPr>
      </p:pic>
      <p:sp>
        <p:nvSpPr>
          <p:cNvPr id="1295" name="TextBox 4"/>
          <p:cNvSpPr/>
          <p:nvPr/>
        </p:nvSpPr>
        <p:spPr>
          <a:xfrm>
            <a:off x="5796000" y="404640"/>
            <a:ext cx="29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b050"/>
                </a:solidFill>
                <a:latin typeface="Verdana"/>
              </a:rPr>
              <a:t>I – certain F&amp;V</a:t>
            </a: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"/>
          <p:cNvSpPr txBox="1"/>
          <p:nvPr/>
        </p:nvSpPr>
        <p:spPr>
          <a:xfrm>
            <a:off x="457200" y="1483920"/>
            <a:ext cx="82296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f5494"/>
                </a:solidFill>
                <a:latin typeface="Verdana"/>
              </a:rPr>
              <a:t>I - Exceptional support measures for producers of certain fruit and vegetables</a:t>
            </a:r>
            <a:endParaRPr b="0" i="1" lang="en-US" sz="32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36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f5494"/>
                </a:solidFill>
                <a:latin typeface="Verdana"/>
              </a:rPr>
              <a:t>II – Amendment to Delegated Regulation (EU) No 913/2014 </a:t>
            </a: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[temporary exceptional support measures for producers of peaches and nectarines]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3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9808A-312F-4218-A69A-2E1E3DCBA05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49DC8-A0EE-45FD-96C6-19F8340723B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97" name="TextBox 2"/>
          <p:cNvSpPr/>
          <p:nvPr/>
        </p:nvSpPr>
        <p:spPr>
          <a:xfrm>
            <a:off x="324000" y="1484280"/>
            <a:ext cx="806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Requests received in euros on 4 &amp; 8 September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f5494"/>
                </a:solidFill>
                <a:latin typeface="Verdana"/>
              </a:rPr>
              <a:t>By Measure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298" name="Picture 2" descr=""/>
          <p:cNvPicPr/>
          <p:nvPr/>
        </p:nvPicPr>
        <p:blipFill>
          <a:blip r:embed="rId1"/>
          <a:stretch/>
        </p:blipFill>
        <p:spPr>
          <a:xfrm>
            <a:off x="1692360" y="2276640"/>
            <a:ext cx="6305400" cy="3600360"/>
          </a:xfrm>
          <a:prstGeom prst="rect">
            <a:avLst/>
          </a:prstGeom>
          <a:ln w="0">
            <a:noFill/>
          </a:ln>
        </p:spPr>
      </p:pic>
      <p:sp>
        <p:nvSpPr>
          <p:cNvPr id="1299" name="TextBox 4"/>
          <p:cNvSpPr/>
          <p:nvPr/>
        </p:nvSpPr>
        <p:spPr>
          <a:xfrm>
            <a:off x="5796000" y="404640"/>
            <a:ext cx="29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b050"/>
                </a:solidFill>
                <a:latin typeface="Verdana"/>
              </a:rPr>
              <a:t>I – certain F&amp;V</a:t>
            </a: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37F21-01A4-4CA3-90AC-541C8A6563F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01" name="TextBox 2"/>
          <p:cNvSpPr/>
          <p:nvPr/>
        </p:nvSpPr>
        <p:spPr>
          <a:xfrm>
            <a:off x="324000" y="1484280"/>
            <a:ext cx="806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Requests received in euros on 4 &amp; 8 September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f5494"/>
                </a:solidFill>
                <a:latin typeface="Verdana"/>
              </a:rPr>
              <a:t>By Product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302" name="Picture 2" descr=""/>
          <p:cNvPicPr/>
          <p:nvPr/>
        </p:nvPicPr>
        <p:blipFill>
          <a:blip r:embed="rId1"/>
          <a:stretch/>
        </p:blipFill>
        <p:spPr>
          <a:xfrm>
            <a:off x="1403280" y="2276640"/>
            <a:ext cx="6337440" cy="3960720"/>
          </a:xfrm>
          <a:prstGeom prst="rect">
            <a:avLst/>
          </a:prstGeom>
          <a:ln w="0">
            <a:noFill/>
          </a:ln>
        </p:spPr>
      </p:pic>
      <p:sp>
        <p:nvSpPr>
          <p:cNvPr id="1303" name="TextBox 4"/>
          <p:cNvSpPr/>
          <p:nvPr/>
        </p:nvSpPr>
        <p:spPr>
          <a:xfrm>
            <a:off x="5796000" y="404640"/>
            <a:ext cx="29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b050"/>
                </a:solidFill>
                <a:latin typeface="Verdana"/>
              </a:rPr>
              <a:t>I – certain F&amp;V</a:t>
            </a: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"/>
          <p:cNvSpPr txBox="1"/>
          <p:nvPr/>
        </p:nvSpPr>
        <p:spPr>
          <a:xfrm>
            <a:off x="611280" y="2565000"/>
            <a:ext cx="820872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000" spc="-1" strike="noStrike">
                <a:solidFill>
                  <a:srgbClr val="0f5494"/>
                </a:solidFill>
                <a:latin typeface="Verdana"/>
              </a:rPr>
              <a:t>Thank you for your attention</a:t>
            </a:r>
            <a:endParaRPr b="0" i="1" lang="en-US" sz="4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0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8C5AA-ACF8-4A72-AFD5-6A249434D61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"/>
          <p:cNvSpPr txBox="1"/>
          <p:nvPr/>
        </p:nvSpPr>
        <p:spPr>
          <a:xfrm>
            <a:off x="323640" y="1341000"/>
            <a:ext cx="8569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f5494"/>
                </a:solidFill>
                <a:latin typeface="Verdana"/>
              </a:rPr>
              <a:t>Legal Basis</a:t>
            </a:r>
            <a:endParaRPr b="0" i="1" lang="en-US" sz="32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Art 219 R 1308/2013 – Measures against market disturbance: </a:t>
            </a:r>
            <a:r>
              <a:rPr b="0" i="1" lang="en-GB" sz="2000" spc="-1" strike="noStrike">
                <a:solidFill>
                  <a:srgbClr val="0f5494"/>
                </a:solidFill>
                <a:latin typeface="Verdana"/>
              </a:rPr>
              <a:t>"The Commission shall be empowered to adopt delegated acts (…) to take (…) immediate action to address or prevent market disturbance…". </a:t>
            </a: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[Russian ban]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Art 228 R 1308/2013 – Urgency procedure: </a:t>
            </a:r>
            <a:r>
              <a:rPr b="0" i="1" lang="en-GB" sz="2000" spc="-1" strike="noStrike">
                <a:solidFill>
                  <a:srgbClr val="0f5494"/>
                </a:solidFill>
                <a:latin typeface="Verdana"/>
              </a:rPr>
              <a:t>"Delegated acts (..) shall enter into force without delay and shall apply as long as no objection is expressed (…) [by the] European Parliament or the Council(…) In such a case, the Commission shall repeal the act without delay following the notification of the decision to object by the European Parliament or the Council".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2B54C-333F-4E5B-908C-BDA131A07BA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3480" y="981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Products (for fresh consumption):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39" name=""/>
          <p:cNvSpPr txBox="1"/>
          <p:nvPr/>
        </p:nvSpPr>
        <p:spPr>
          <a:xfrm>
            <a:off x="468360" y="1699920"/>
            <a:ext cx="7848720" cy="49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735480" indent="-282960">
              <a:spcBef>
                <a:spcPts val="300"/>
              </a:spcBef>
              <a:buClr>
                <a:srgbClr val="009fb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Tomatoe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35480" indent="-282960">
              <a:spcBef>
                <a:spcPts val="300"/>
              </a:spcBef>
              <a:buClr>
                <a:srgbClr val="009fb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Carrot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35480" indent="-282960">
              <a:spcBef>
                <a:spcPts val="300"/>
              </a:spcBef>
              <a:buClr>
                <a:srgbClr val="009fb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Cabbage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35480" indent="-282960">
              <a:spcBef>
                <a:spcPts val="300"/>
              </a:spcBef>
              <a:buClr>
                <a:srgbClr val="009fb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Sweet pepper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35480" indent="-282960">
              <a:spcBef>
                <a:spcPts val="300"/>
              </a:spcBef>
              <a:buClr>
                <a:srgbClr val="009fb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Cauliflowers and headed broccoli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35480" indent="-282960">
              <a:spcBef>
                <a:spcPts val="300"/>
              </a:spcBef>
              <a:buClr>
                <a:srgbClr val="009fb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Cucumbers and gherkin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35480" indent="-282960">
              <a:spcBef>
                <a:spcPts val="300"/>
              </a:spcBef>
              <a:buClr>
                <a:srgbClr val="009fb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Mushroom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35480" indent="-282960">
              <a:spcBef>
                <a:spcPts val="300"/>
              </a:spcBef>
              <a:buClr>
                <a:srgbClr val="009fb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Apple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35480" indent="-282960">
              <a:spcBef>
                <a:spcPts val="300"/>
              </a:spcBef>
              <a:buClr>
                <a:srgbClr val="009fb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Pear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35480" indent="-282960">
              <a:spcBef>
                <a:spcPts val="300"/>
              </a:spcBef>
              <a:buClr>
                <a:srgbClr val="009fb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Plum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35480" indent="-282960">
              <a:spcBef>
                <a:spcPts val="300"/>
              </a:spcBef>
              <a:buClr>
                <a:srgbClr val="009fb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Soft fruit </a:t>
            </a: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(fresh raspberries, blackberries, mulberries, loganberries, fresh black-, white-, or redcurrants and gooseberries, fresh cranberries, bilberries and other fruits of the </a:t>
            </a:r>
            <a:r>
              <a:rPr b="0" i="1" lang="en-GB" sz="1400" spc="-1" strike="noStrike">
                <a:solidFill>
                  <a:srgbClr val="0f5494"/>
                </a:solidFill>
                <a:latin typeface="Verdana"/>
              </a:rPr>
              <a:t>genus Vaccinium</a:t>
            </a: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)</a:t>
            </a:r>
            <a:endParaRPr b="1" lang="en-US" sz="1400" spc="-1" strike="noStrike">
              <a:solidFill>
                <a:srgbClr val="0f5494"/>
              </a:solidFill>
              <a:latin typeface="Verdana"/>
            </a:endParaRPr>
          </a:p>
          <a:p>
            <a:pPr lvl="1" marL="735480" indent="-282960">
              <a:spcBef>
                <a:spcPts val="300"/>
              </a:spcBef>
              <a:buClr>
                <a:srgbClr val="009fb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Fresh table grape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35480" indent="-282960">
              <a:spcBef>
                <a:spcPts val="300"/>
              </a:spcBef>
              <a:buClr>
                <a:srgbClr val="009fb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Kiwifruit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35480" indent="-282960">
              <a:spcBef>
                <a:spcPts val="499"/>
              </a:spcBef>
              <a:buClr>
                <a:srgbClr val="009fb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4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190A2-21B6-4AFC-8A28-084842A40BC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41" name="TextBox 1"/>
          <p:cNvSpPr/>
          <p:nvPr/>
        </p:nvSpPr>
        <p:spPr>
          <a:xfrm>
            <a:off x="5796000" y="404640"/>
            <a:ext cx="29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b050"/>
                </a:solidFill>
                <a:latin typeface="Verdana"/>
              </a:rPr>
              <a:t>I – certain F&amp;V</a:t>
            </a: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"/>
          <p:cNvSpPr txBox="1"/>
          <p:nvPr/>
        </p:nvSpPr>
        <p:spPr>
          <a:xfrm>
            <a:off x="539640" y="1844280"/>
            <a:ext cx="8229600" cy="37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A total budget of </a:t>
            </a:r>
            <a:r>
              <a:rPr b="1" lang="en-GB" sz="2400" spc="-1" strike="noStrike">
                <a:solidFill>
                  <a:srgbClr val="0f5494"/>
                </a:solidFill>
                <a:latin typeface="Verdana"/>
              </a:rPr>
              <a:t>EUR 125 million</a:t>
            </a: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, allocated as follows: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spcAft>
                <a:spcPts val="1199"/>
              </a:spcAft>
              <a:buClr>
                <a:srgbClr val="009fb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EUR 43 million: tomatoes, carrots, cabbages, sweet peppers, cauliflowers, headed broccoli, cucumbers, gherkins, mushrooms, plums, soft fruit, fresh table grapes and kiwifruit.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spcAft>
                <a:spcPts val="1199"/>
              </a:spcAft>
              <a:buClr>
                <a:srgbClr val="009fb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EUR 82 million: apples and pears.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4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B2413-1217-42CA-A485-532E709004E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44" name="TextBox 4"/>
          <p:cNvSpPr/>
          <p:nvPr/>
        </p:nvSpPr>
        <p:spPr>
          <a:xfrm>
            <a:off x="5796000" y="404640"/>
            <a:ext cx="29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b050"/>
                </a:solidFill>
                <a:latin typeface="Verdana"/>
              </a:rPr>
              <a:t>I – certain F&amp;V</a:t>
            </a: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title"/>
          </p:nvPr>
        </p:nvSpPr>
        <p:spPr>
          <a:xfrm>
            <a:off x="33480" y="981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Products (for fresh consumption)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46" name=""/>
          <p:cNvSpPr txBox="1"/>
          <p:nvPr/>
        </p:nvSpPr>
        <p:spPr>
          <a:xfrm>
            <a:off x="468360" y="2349360"/>
            <a:ext cx="7848720" cy="429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1800"/>
              </a:spcBef>
              <a:spcAft>
                <a:spcPts val="1199"/>
              </a:spcAft>
              <a:buClr>
                <a:srgbClr val="3166c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Regulation 932/2014 covers ONLY products intended for fresh consumption.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343080" indent="-343080">
              <a:spcBef>
                <a:spcPts val="499"/>
              </a:spcBef>
              <a:spcAft>
                <a:spcPts val="1199"/>
              </a:spcAft>
              <a:buClr>
                <a:srgbClr val="3166c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Products intended for processing cannot benefit from support under Regulation 932/2014. 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343080" indent="-343080">
              <a:spcBef>
                <a:spcPts val="499"/>
              </a:spcBef>
              <a:buClr>
                <a:srgbClr val="3166c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Member States need to ensure (control) that only products intended for fresh consumption are withdrawn from the market (withdrawals for free distribution, withdrawals for other destinations, green harvesting and non-harvesting operations) in the framework of this Regulation.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4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1997B-0B5A-45B8-8921-74D171E4496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48" name="TextBox 1"/>
          <p:cNvSpPr/>
          <p:nvPr/>
        </p:nvSpPr>
        <p:spPr>
          <a:xfrm>
            <a:off x="5796000" y="404640"/>
            <a:ext cx="29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b050"/>
                </a:solidFill>
                <a:latin typeface="Verdana"/>
              </a:rPr>
              <a:t>I – certain F&amp;V</a:t>
            </a: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"/>
          <p:cNvSpPr txBox="1"/>
          <p:nvPr/>
        </p:nvSpPr>
        <p:spPr>
          <a:xfrm>
            <a:off x="468360" y="148428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Temporary exceptional support for: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>
              <a:spcBef>
                <a:spcPts val="601"/>
              </a:spcBef>
              <a:buClr>
                <a:srgbClr val="009fb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withdrawals (free distribution and other destinations);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>
              <a:spcBef>
                <a:spcPts val="601"/>
              </a:spcBef>
              <a:buClr>
                <a:srgbClr val="009fb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green harvesting; and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>
              <a:spcBef>
                <a:spcPts val="601"/>
              </a:spcBef>
              <a:buClr>
                <a:srgbClr val="009fb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non-harvesting operations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- For operations carried out between 18 August and 30 November 2014 (or until the budget runs out per group of products)</a:t>
            </a: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	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5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A9632-0424-447B-92B3-2D4E474C5B9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51" name="TextBox 4"/>
          <p:cNvSpPr/>
          <p:nvPr/>
        </p:nvSpPr>
        <p:spPr>
          <a:xfrm>
            <a:off x="5796000" y="404640"/>
            <a:ext cx="29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b050"/>
                </a:solidFill>
                <a:latin typeface="Verdana"/>
              </a:rPr>
              <a:t>I – certain F&amp;V</a:t>
            </a: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"/>
          <p:cNvSpPr txBox="1"/>
          <p:nvPr/>
        </p:nvSpPr>
        <p:spPr>
          <a:xfrm>
            <a:off x="611280" y="126792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266760" indent="-2667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- Beneficiaries of this temporary exceptional support: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266760" indent="-266760">
              <a:spcBef>
                <a:spcPts val="601"/>
              </a:spcBef>
              <a:buClr>
                <a:srgbClr val="009fb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Producer Organisations (POs) and their members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266760" indent="-266760">
              <a:spcBef>
                <a:spcPts val="601"/>
              </a:spcBef>
              <a:spcAft>
                <a:spcPts val="601"/>
              </a:spcAft>
              <a:buClr>
                <a:srgbClr val="009fb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Non-members of POs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266760" indent="-26676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- Except for derogations identified in this Regulation, all conditions for market withdrawals, including marketing standards, controls, sanctions and penalties, apply for POs, PO members and producer non-members of POs.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266760" indent="-266760"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- Even if withdrawals, green harvesting and non-harvesting operations are not included in operational programmes.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266760" indent="-266760">
              <a:spcBef>
                <a:spcPts val="601"/>
              </a:spcBef>
              <a:spcAft>
                <a:spcPts val="1199"/>
              </a:spcAft>
              <a:buClr>
                <a:srgbClr val="ffffff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53" name="Slide Number Placeholder 3"/>
          <p:cNvSpPr/>
          <p:nvPr/>
        </p:nvSpPr>
        <p:spPr>
          <a:xfrm>
            <a:off x="8101080" y="6381720"/>
            <a:ext cx="907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1E285-6040-4BF0-9491-073012B8B72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54" name="TextBox 4"/>
          <p:cNvSpPr/>
          <p:nvPr/>
        </p:nvSpPr>
        <p:spPr>
          <a:xfrm>
            <a:off x="5796000" y="404640"/>
            <a:ext cx="29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b050"/>
                </a:solidFill>
                <a:latin typeface="Verdana"/>
              </a:rPr>
              <a:t>I – certain F&amp;V</a:t>
            </a: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"/>
          <p:cNvSpPr txBox="1"/>
          <p:nvPr/>
        </p:nvSpPr>
        <p:spPr>
          <a:xfrm>
            <a:off x="179280" y="1915920"/>
            <a:ext cx="885672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601"/>
              </a:spcBef>
              <a:spcAft>
                <a:spcPts val="1199"/>
              </a:spcAft>
              <a:buClr>
                <a:srgbClr val="009fba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Expenditure incurred in the framework of Regulation 932/2014 shall form part of the operational fund of the PO.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343080" indent="-343080">
              <a:spcBef>
                <a:spcPts val="601"/>
              </a:spcBef>
              <a:spcAft>
                <a:spcPts val="1199"/>
              </a:spcAft>
              <a:buClr>
                <a:srgbClr val="009fba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Recognised POs with an operational programme do not need to modify the operational programme in order to carry out activities in the framework of Regulation 932/2014. 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343080" indent="-343080">
              <a:spcBef>
                <a:spcPts val="601"/>
              </a:spcBef>
              <a:buClr>
                <a:srgbClr val="009fba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POs (and Member States) need to keep records of the activities carried out under Regulation 932/2014.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56" name="Slide Number Placeholder 3"/>
          <p:cNvSpPr/>
          <p:nvPr/>
        </p:nvSpPr>
        <p:spPr>
          <a:xfrm>
            <a:off x="8101080" y="6381720"/>
            <a:ext cx="907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6951E-0EAF-4CCE-9DF6-7B39754E935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57" name="TextBox 4"/>
          <p:cNvSpPr/>
          <p:nvPr/>
        </p:nvSpPr>
        <p:spPr>
          <a:xfrm>
            <a:off x="5796000" y="404640"/>
            <a:ext cx="29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b050"/>
                </a:solidFill>
                <a:latin typeface="Verdana"/>
              </a:rPr>
              <a:t>I – certain F&amp;V</a:t>
            </a: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8-21T18:51:48Z</dcterms:created>
  <dc:creator>MARQUES Teresa (AGRI)</dc:creator>
  <dc:description/>
  <dc:language>en-US</dc:language>
  <cp:lastModifiedBy>MARQUES Teresa (AGRI)</cp:lastModifiedBy>
  <cp:lastPrinted>2014-09-30T14:58:15Z</cp:lastPrinted>
  <dcterms:modified xsi:type="dcterms:W3CDTF">2014-09-30T14:58:17Z</dcterms:modified>
  <cp:revision>209</cp:revision>
  <dc:subject/>
  <dc:title>Commission Delegated Regulation laying down exceptional support measures for producers of certain fruits and vegetables</dc:title>
</cp:coreProperties>
</file>