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183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5C9-C22C-42BA-8BCC-A19A7291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DEC-F002-4573-9D4E-A5EAB5F8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5AA-DB29-4D17-9253-B6C7A488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A06-0718-4E0E-9B4B-DAA609A9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7B12-9D4E-4212-85AC-92EF0C7C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7294-8D5C-4C2A-8D58-A99CA203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250A-E8EE-408A-9D2B-A23DA67F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602E-37C1-4CAD-B53E-E58B64EB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337F-2259-4934-82FE-4DC9DD82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2DA1-A31A-411E-9723-CC0DC0FC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6615-EBFE-4967-A654-D59854E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A92-6B19-40D9-9897-C9403B08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052C-F63D-4376-910C-22C05CFD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5190-6F23-412F-BEAA-653A924C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C2BE-3837-4C7B-946D-E4031E6D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0B2C-A7B6-4721-9B6D-FFCECBCC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4901-A9B6-4F0A-B401-7715AA9E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C33AF-23C7-479C-A889-4822C55E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1127-5083-4100-A08B-76BA063A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D3E45-D059-40FA-AE9F-8955E612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1D2C-E9B0-4595-B95F-F4A21116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2463-5D62-4043-B66B-5D6BA4F0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0B8-4C34-458C-A2EF-99D92DDA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A0D1-2A6F-4EC7-9607-619EB434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DCE6-A8A8-4FAE-972B-49BA59E2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557B-D193-4677-AD88-8C38DE38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949B-0FAC-446A-9AE9-EEDD36CB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FB35-2299-4D49-B59D-0C06580E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BD39-274E-44FF-8386-942AEF68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9F08-B052-4122-87AC-B1D9F058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FDEC-C5E8-4874-8003-F8D579A3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978A7-E341-4B81-8559-9C340D3B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C0A0-5B32-4533-8C7F-49B415CF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2B9-7A54-4900-85C0-A780E2D4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78BB-0E7D-41D5-B68F-A749F78D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206F-4EB7-4A1A-89D9-572CF1D8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DF9B-8AC4-47F7-B5A7-BFF3D594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8D4EA-5B22-4BD9-87BD-157F35A2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DDB5-AF9C-434C-9546-3B7437DC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486BD-B708-4553-806D-ED3FEF81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213F-539A-47DC-AD54-B7837BE9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FEB84-0D06-4381-9DEC-49C22662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F7BA6-877B-4092-B5EB-E2A9F697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97D-F65C-444F-979D-363A6040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B75-B539-4C86-93B6-C263BDFD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007-DC26-48C0-9F7B-2BBB9119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3B7-BD33-4806-868A-9F81B1A6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1EC-1542-4E19-8580-AE7EC7B9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F6AE-81B3-45E1-BFFF-E024F3173B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582C-EC6C-4138-A70C-926F0AB1AD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985F-3D52-4214-ADB2-44424EA576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93C2-3A2F-4BA3-85C3-2EB6B4F7DB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85676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624"/>
                </a:solidFill>
                <a:latin typeface="Verdana"/>
              </a:rPr>
              <a:t>Commission Delegated Regulation laying down exceptional support measures for producers of </a:t>
            </a:r>
            <a:br>
              <a:rPr sz="3600"/>
            </a:br>
            <a:r>
              <a:rPr b="1" lang="en-GB" sz="3600" spc="-1" strike="noStrike">
                <a:solidFill>
                  <a:srgbClr val="ffd624"/>
                </a:solidFill>
                <a:latin typeface="Verdana"/>
              </a:rPr>
              <a:t>peaches and nectarines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95280" y="4581360"/>
            <a:ext cx="853272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Meeting of the Civil Dialogue Group Horticulture, Olives and Spir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1 October 2014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48BA-F8A3-4BB6-B114-F9F775D870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331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F2CE-98A1-4C72-9989-375BF45E7C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09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341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Legal Basi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219 R 1308/2013 – Measures against market disturbance: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"The Commission shall be empowered to adopt delegated acts (…) to take (…) immediate action to address or prevent market disturbance…"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t 228 R 1308/2013 – Urgency procedure: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"Delegated acts (..) shall enter into force without delay and shall apply as long as no objection is expressed (…) [by the] European Parliament or the Council(…) In such a case, the Commission shall repeal the act without delay following the notification of the decision to object by the European Parliament or the Council"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14F2-26DD-48E9-879A-4719FC9928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66760" indent="0">
              <a:spcBef>
                <a:spcPts val="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ommission Delegated Regulation (EU) No 913/2014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21 August 2014 (OJ L 248 of 22.8.2014), amended by Reg 932/2014 of 29 August 2014 (OJ L 259 of 30.8.2014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emporary exceptional support for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eaches and nectarines for fresh consumption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1) Withdrawals (carried out from 11 August until 30 September 201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2) Promotion activities (carried out from 11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ugust until 31 December 201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ED9F-EC91-45FE-AE75-01F5685383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ithdrawals for free distribution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-362160">
              <a:spcBef>
                <a:spcPts val="11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O: 100% EU financi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-36216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on-members: 100% EU financi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ithdrawals for other destinations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-362160">
              <a:spcBef>
                <a:spcPts val="11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O: 75% EU financi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-36216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on-members: 50% EU financi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6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EDB7-1851-40C3-86C7-F9D9E05B36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5651640" y="260280"/>
            <a:ext cx="1857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640" y="1125360"/>
            <a:ext cx="905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349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ithdrawals – Producer Organisations (PO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2133720"/>
            <a:ext cx="8856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from 11 August until 30 September 2014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U suppor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Free distribution: EUR 26.9/100 Kg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spcAft>
                <a:spcPts val="1800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Other destinations: EUR 20,175 / 100 Kg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up to a maximum of 10% of the volume of marketed productio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even if withdrawals are not included in operational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F13E-1DFD-4383-8A66-7239FBE02F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640" y="1125360"/>
            <a:ext cx="905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349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ithdrawals – Producer Organisations (PO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79280" y="2204640"/>
            <a:ext cx="885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This exceptional support is not taken into account for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spcAft>
                <a:spcPts val="601"/>
              </a:spcAft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4.1% - 4.6% ceiling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34(2) R 1308/2013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/3 limit Crisis Prevention and Management measur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33(3)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ubparagraph R 1308/2013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25% ceiling increase operational fund during the year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66(3)(c) R 543/2011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xpenditure incurred under this measure shall form part of the operational fund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3330-2335-4C1F-8C3E-374BCCB078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ithdrawals – producers non members of PO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9280" y="1700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from 11 August until 30 September 2014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non members sign a contract with a Producer Organisation or apply to the competent authorities designated by the M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U suppor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Free distribution: EUR 26.9/100 Kg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Other destinations: EUR 13,45 / 100 Kg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 algn="just">
              <a:spcBef>
                <a:spcPts val="499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If applicable, Producer Organisations pay the non members the EU support minus the real costs incurred by the PO for withdrawing the produ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Except for derogations identified in this Regulation, all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conditions for market withdrawals, including marketing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standards, controls, sanctions and penalties, apply for POs, PO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members and producer non members of PO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79640" indent="-355680">
              <a:spcBef>
                <a:spcPts val="499"/>
              </a:spcBef>
              <a:buClr>
                <a:srgbClr val="009fba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8675640" y="6350040"/>
            <a:ext cx="4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386C-5EBF-4C45-92B6-0551BBEC2F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ithdrawals – producers non members of PO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9280" y="1628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7840"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Producer Organisations / MS need to check that the quantity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delivered by the producer non member does not exceed the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lower of the following ceilings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20880" indent="-343080">
              <a:spcBef>
                <a:spcPts val="499"/>
              </a:spcBef>
              <a:spcAft>
                <a:spcPts val="1199"/>
              </a:spcAft>
              <a:buClr>
                <a:srgbClr val="3166cf"/>
              </a:buClr>
              <a:buFont typeface="Wingdings" charset="2"/>
              <a:buChar char=""/>
              <a:tabLst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0% of the producer's total production in 2012;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20880" indent="-343080" algn="just">
              <a:spcBef>
                <a:spcPts val="499"/>
              </a:spcBef>
              <a:spcAft>
                <a:spcPts val="2401"/>
              </a:spcAft>
              <a:buClr>
                <a:srgbClr val="3166cf"/>
              </a:buClr>
              <a:buFont typeface="Wingdings" charset="2"/>
              <a:buChar char=""/>
              <a:tabLst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the PO's average production yield per hectare for peaches and nectarines in 2012, multiplied by 10% of the area used by the producer for peaches and nectarines in 2014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77840" algn="just">
              <a:spcBef>
                <a:spcPts val="499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MS shall establish a production yield to be used by MS and by POs which did not market peaches and/or nectarines in 2012.</a:t>
            </a:r>
            <a:r>
              <a:rPr b="0" lang="en-GB" sz="1600" spc="-1" strike="noStrike">
                <a:solidFill>
                  <a:srgbClr val="3166c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If MS establish regional yields, the regions shall be the ones defined unde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rt 91(4) R 543/2011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National Financial Assistance – if applicable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8675640" y="6350040"/>
            <a:ext cx="40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7939-BD55-42FB-B0E1-E923028D0E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ithdrawals for free distribution – Chec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9280" y="1699920"/>
            <a:ext cx="885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If a PO has the recognition suspend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114(2) R 543/2011)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its members shall be considered producers non members of POs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Withdrawal operations for POs, its members and producer non members shall be subject to first level check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108 R 543/2011)</a:t>
            </a:r>
            <a:r>
              <a:rPr b="0" lang="en-GB" sz="1600" spc="-1" strike="noStrike">
                <a:solidFill>
                  <a:srgbClr val="3166cf"/>
                </a:solidFill>
                <a:latin typeface="Verdana"/>
              </a:rPr>
              <a:t>,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covering at leas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7800" indent="-177840" algn="just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0% of the quantity withdrawn; an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7800" indent="-177840" algn="just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0% of producer organisations (and their members); an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7800" indent="-177840" algn="just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0% of producers non members of P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ADD1-A2BA-4829-A5F4-83664F3B78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1341360"/>
            <a:ext cx="8569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11 June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Meeting of the Expert Group "Peaches &amp; nectarines": a good harvest year reported. No problems in sigh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id-July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– information from Member States and stakeholders starts arriving to the European Commission, mentioning a significant drop in producer prices for peaches and nectarines and requesting immediate action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6 August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Technical meeting – invitation sent via CIRCABC - with main producer Member States (more than 96% of total EU peaches and nectarines' production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oncentration of production in the beginning of the summer, influence of weather conditions, decrease in consumption, mainly in IT.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mpact of fruit stocks and current situation in Russia and Ukraine.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ices are stabilising (at low values). Extra support is requested.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21 August 2014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– Adoption of Regulation 913/2014, applicable from 11 Augus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459640" y="630864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7D48-A88F-4DC3-BA1C-77F4EC3C7E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7280" y="2133360"/>
            <a:ext cx="8856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Promotion activities as referred to in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rt 33(3)(c) R 1308/2013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(Crisis Prevention and Management measur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in 4 Member States (more than 96% of the EU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peaches and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nectarines' production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carried out by POs from 11 August until 31 December 2014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POs must submit requests to MS by 15 October 2014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8459640" y="6381720"/>
            <a:ext cx="505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C5A5-94D7-483F-8AE5-BD80F043EF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3132000" y="361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640" y="1125360"/>
            <a:ext cx="8785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7280" y="1557360"/>
            <a:ext cx="853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ven if promotion is not included in operational programm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this exceptional support is not taken into account for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4.1% - 4.6% ceiling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34(2) R 1308/2013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1/3 limit Crisis Prevention and Management measur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33(3)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ubparagraph R 1308/2013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1168560" indent="-311400">
              <a:spcBef>
                <a:spcPts val="499"/>
              </a:spcBef>
              <a:buClr>
                <a:srgbClr val="009fb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25% ceiling increase operational fund during the year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166c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art 66(3)(c) R 543/2011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168560" indent="-31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xpenditure incurred under this measure shall form part of the operational fund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459640" y="6381720"/>
            <a:ext cx="505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3339-B354-40F7-B290-63026C06D9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3132000" y="361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7280" y="1699920"/>
            <a:ext cx="885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U support: total EUR 3 mill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50% EU co-financing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- Except for derogations identified in this Regulation, all provisions regarding promotion in R 1308/2013 and R 543/2011 apply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rt 86 R 543/2011 </a:t>
            </a:r>
            <a:r>
              <a:rPr b="0" lang="en-GB" sz="2000" spc="-1" strike="noStrike">
                <a:solidFill>
                  <a:srgbClr val="3166cf"/>
                </a:solidFill>
                <a:latin typeface="Verdana"/>
              </a:rPr>
              <a:t>– Member States adopt detailed provisions on the implementation of the measure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DAD-2C34-4B50-86EA-0BF42D412A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84360" y="2492280"/>
          <a:ext cx="3816360" cy="2448000"/>
        </p:xfrm>
        <a:graphic>
          <a:graphicData uri="http://schemas.openxmlformats.org/drawingml/2006/table">
            <a:tbl>
              <a:tblPr/>
              <a:tblGrid>
                <a:gridCol w="1551240"/>
                <a:gridCol w="2265120"/>
              </a:tblGrid>
              <a:tr h="673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ber State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imum support (EUR)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7 215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6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132 495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8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2 089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6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288 201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000 000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42" name="Rectangle 1"/>
          <p:cNvSpPr/>
          <p:nvPr/>
        </p:nvSpPr>
        <p:spPr>
          <a:xfrm>
            <a:off x="3132000" y="361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50A4-FD94-4D81-8071-BC576100B9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116000" y="16257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EACHES – WEEKLY PRICES (EUR / 100 kg) from 16 June to 21 September 2014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395280" y="2409840"/>
            <a:ext cx="84916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ECTARINES – WEEKLY PRICES (EUR / 100 kg) from 16 June to 21 September 2014</a:t>
            </a:r>
            <a:br>
              <a:rPr sz="32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6541-626E-4C08-92F8-B96722A676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7296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3A06-DAB2-4A91-8F36-19121C4801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77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9280" y="2565000"/>
            <a:ext cx="8209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8FF4-40A8-49FA-95E2-071B873570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1339560"/>
            <a:ext cx="8928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2012 EU peaches and nectarines' production</a:t>
            </a:r>
            <a:br>
              <a:rPr sz="2400"/>
            </a:br>
            <a:br>
              <a:rPr sz="2400"/>
            </a:b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ember States – in thousand tonne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EA40-0CDB-4D93-8C11-0394197892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8220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U peaches and nectarines production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(% production per MS - 2012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C90A-D980-44AA-B53C-DAA38A79F0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3132000" y="4365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1619280" y="2457360"/>
            <a:ext cx="59054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5726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8920" indent="0"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ithdrawals of Peaches and Nectarines (2009 to 2012)</a:t>
            </a:r>
            <a:br>
              <a:rPr sz="2000"/>
            </a:br>
            <a:br>
              <a:rPr sz="2000"/>
            </a:b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Peaches and nectarines withdrawn between 2009 and 2012 represented between 11% and 32% of the total volume of Fruit &amp; Vegetables withdrawn. 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The withdrawals of these 2 products received between 13% and 23% of the EU support for all withdrawals.</a:t>
            </a:r>
            <a:br>
              <a:rPr sz="1400"/>
            </a:br>
            <a:br>
              <a:rPr sz="1400"/>
            </a:b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Source: Annual reports </a:t>
            </a:r>
            <a:endParaRPr b="1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EDCF-8FB0-40C2-A7C5-179448AB54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08000" y="4092480"/>
            <a:ext cx="2825640" cy="1785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2"/>
          <a:stretch/>
        </p:blipFill>
        <p:spPr>
          <a:xfrm>
            <a:off x="6084720" y="4092480"/>
            <a:ext cx="2953080" cy="1774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3"/>
          <a:stretch/>
        </p:blipFill>
        <p:spPr>
          <a:xfrm>
            <a:off x="2987640" y="4092480"/>
            <a:ext cx="292896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PEACHES – WEEKLY PRICES (EUR / 100 kg) BY MEMBER STATE 2011-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66C0-3485-42AA-980F-3293CADA6C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448000" y="2276640"/>
            <a:ext cx="6729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PEACHES – WEEKLY PRICES (EUR / 100 kg) BY MEMBER STATE 2011-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4D80-C268-4E3C-9A3B-38501835D7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2327400" y="2492280"/>
            <a:ext cx="6832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PEACHES – WEEKLY PRICES (EUR / 100 kg) BY MEMBER STATE 2011-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D5F2-1EE0-4977-AE57-14827FF81F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276640" y="2492280"/>
            <a:ext cx="6832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PEACHES – WEEKLY PRICES (EUR / 100 kg) BY MEMBER STATE 2011-2014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9262-ECED-41DB-B9CC-945E705A79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297160" y="2492280"/>
            <a:ext cx="68342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9T06:05:35Z</dcterms:created>
  <dc:creator>MARQUES Teresa (AGRI)</dc:creator>
  <dc:description/>
  <dc:language>en-US</dc:language>
  <cp:lastModifiedBy>MARQUES Teresa (AGRI)</cp:lastModifiedBy>
  <cp:lastPrinted>2014-08-23T08:39:46Z</cp:lastPrinted>
  <dcterms:modified xsi:type="dcterms:W3CDTF">2014-09-30T14:17:57Z</dcterms:modified>
  <cp:revision>81</cp:revision>
  <dc:subject/>
  <dc:title>Commission Delegated Regulation laying down exceptional support measures for producers of  peaches and nectarines</dc:title>
</cp:coreProperties>
</file>