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1028-9758-436D-BF8F-E7D4EAF873C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8AF5-457D-4F3E-BC4A-6D917BDDCE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6520-4074-4A81-BF6F-8910DF9660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842E-ABDE-4BDC-BDE3-2E7C26FD6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B510-E320-4CEA-BEA5-927BDCE318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C58D-DE53-45A1-8026-273651913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FC2D-615B-49C0-9842-E6D15CC2B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D80E-2A0C-413C-839D-A8E22B3D8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AE6-4171-40B0-B105-798B145436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D298-F57E-4D01-B436-9332D9B45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593E-CFA7-47E1-ADDC-54AE99AC0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D4F-AC85-433D-8D5F-831403CC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0D2-19B8-4E96-8C87-C060D6AD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9EC-C322-4483-BBF8-B2251569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AA3-0BAF-463A-B449-D72A01D8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2645-26F2-4FE7-B0A9-C9806253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FA6D-8D64-4606-AAA0-F76BD151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E19A-CFEA-4486-B9A5-04CAA922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1E38-AD6B-4154-9667-54E39CB1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1649-406B-4D34-8732-3249EE26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7B29-ECCC-4F0E-940E-577A59B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1024-0309-4031-98FA-C4B47EB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C2E-04BB-47C4-8278-4D3182A1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D51-2C2B-4AB7-B566-C9E0FF3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F40E-88E1-416B-96D7-3C348B6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A7EE-8CB3-4B22-8F6C-5716670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F066-67B1-47E9-9063-6AB06658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77D4-22BE-43AD-92B8-AEA2B0D8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6C1-EBCC-47B8-A926-54D56AFE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4C5-558F-4920-B13B-1690F744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A03-14ED-4ACE-B190-12B0E112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AF2-336A-404B-8ACA-9FA5A642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36C-F6C2-4D08-810E-C6E33AA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4C8-6929-4FA4-80EC-C8FADB3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FB7-35E3-4CAF-A3BA-07DD40E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6DA9-5EF2-4B70-9C48-2D7E14F755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8BDF-0767-4AD0-B0E4-BE14E4E051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lant_protection_products/legislation/" TargetMode="External"/><Relationship Id="rId2" Type="http://schemas.openxmlformats.org/officeDocument/2006/relationships/hyperlink" Target="http://ec.europa.eu/food/plant/plant_protection_products/legislatio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9800" y="2568240"/>
            <a:ext cx="853128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Report on Minor Uses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87280" y="3527280"/>
            <a:ext cx="6840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225440" y="534996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Jeroen Meeusse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DG SANC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06360" y="1400040"/>
            <a:ext cx="8531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DG AGRI – Advisory Group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IPM ERANE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RANETs are research coordination instruments whereby Member States can coordinate their national research activ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o find EU-viable solutions with a focus on IPM-practices, low risk substances and biopesticid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PM ERANET has started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early 2014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nd involves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32 partners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G RT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urrent statu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204640"/>
            <a:ext cx="8435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Adoption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of the report by COM on 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;</a:t>
            </a:r>
            <a:r>
              <a:rPr b="0" i="1" lang="fr-BE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 </a:t>
            </a:r>
            <a:r>
              <a:rPr b="0" i="1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food/plant/plant_protection_products/legislation/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has been presented to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GRI-Council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 May 2014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doption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n October 2014 (?);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Proposal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from interested party: October 2014 (?)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Start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technical secretariat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early 2015 (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589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  <a:ea typeface="MS PGothic"/>
              </a:rPr>
              <a:t>ANY QUES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0" name="Picture 2" descr="C:\Users\meeusje\Pictures\imagesCAKL7UM2.jpg"/>
          <p:cNvPicPr/>
          <p:nvPr/>
        </p:nvPicPr>
        <p:blipFill>
          <a:blip r:embed="rId1"/>
          <a:stretch/>
        </p:blipFill>
        <p:spPr>
          <a:xfrm>
            <a:off x="4500720" y="278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meeusje\Pictures\imagesCAE1GUOP.jpg"/>
          <p:cNvPicPr/>
          <p:nvPr/>
        </p:nvPicPr>
        <p:blipFill>
          <a:blip r:embed="rId2"/>
          <a:stretch/>
        </p:blipFill>
        <p:spPr>
          <a:xfrm>
            <a:off x="2268360" y="256536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 (definition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Use of a plant protection product in a particular Member State on plants or plant products which ar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a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not 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in that Member State,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o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b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to meet an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exceptional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plant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 protection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 need</a:t>
            </a: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0000"/>
                </a:solidFill>
                <a:latin typeface="Verdana"/>
              </a:rPr>
              <a:t>Representing 22% of the value of EU total agricultural production; 3% of the cultivated are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ack of sufficient market potential can lead to: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Illegal uses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consequences for human health and the environment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Loss of crop produc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its economic impact on agricultu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rticle 51(9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14 December 2011, the Commission shall present a report to the European Parliament and the Council on the establishment of a European fund for minor uses, accompanied, if appropriate, by a legislative proposal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was adopted on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Key-message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creation of an independent coordination facility ("Technical Secretariat") on minor uses which is co-funded by the Commiss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support an ERANET on Integrated Pest Management with specific reference to minor us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port was presented to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AGRI-Council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on 19 May 2014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trong support for the Report was expresse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majority supported COM in identifying 'option 3' as the better solut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details of the secretariat should be further discussed at technical level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xpert-meeting with MS and stakeholders was organised on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1 July 2014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to discuss a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draft outline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of the Coordination Facilit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perational issues: organisation and structure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inancial arrangement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ocation and facil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-funded by the Commission: grant o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€350,000/year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DG SANCO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Budget will be allocated in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for 2014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(to be adopted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asks of 'technical secretariat'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haring of inform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experience gaine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t national level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oordin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of minor use work between Member States and stakeholder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re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maintenance of a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ata bas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minor use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timulation of harmonis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(e.g. crop group and pest group definitions, development of guidance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7:49:02Z</dcterms:created>
  <dc:creator>MEEUSSEN Jeroen (SANCO)</dc:creator>
  <dc:description/>
  <dc:language>en-US</dc:language>
  <cp:lastModifiedBy>BUTTINI-PROVENZANO Roberta (AGRI)</cp:lastModifiedBy>
  <cp:lastPrinted>2014-09-29T14:54:08Z</cp:lastPrinted>
  <dcterms:modified xsi:type="dcterms:W3CDTF">2014-09-30T05:44:12Z</dcterms:modified>
  <cp:revision>35</cp:revision>
  <dc:subject/>
  <dc:title>Utilisations mineures</dc:title>
</cp:coreProperties>
</file>