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B4E-E633-4107-AE9A-517E4314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E06-0236-40D3-93D2-FBC9665A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12A3F-DF0C-451D-8DFC-338CA086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6FAE6-6815-418A-9F2D-A0D55FE0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4B9F3-BEE7-4B63-BA62-89DDF5D3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4FED6-1A68-4A91-AC72-0E56DC3B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C0BC4-F66D-482A-BDDD-228FD052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6BE4C-0490-4402-ABBA-7A3F0F5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F9447-F37E-47D2-ADD8-30C2000A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19119-85A8-40DA-8D8B-9F5DC217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A64AA-A130-4D81-8B6C-074DF98B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B0ADE-33FE-4229-9D83-FA87D3D6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416-422B-4D32-BAAD-F352F9C0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B2657-C5EC-40B3-8563-36270CEF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D1941-1A99-4B4B-A21B-3CBA46A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2F181-4B17-4AEF-8C4A-235B01B0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18C05-639E-4FAA-9775-377E0284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5B729-611B-4361-9502-5811A198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415F8-E81C-4C4E-AEF5-2642DA70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8AD96-A453-4D4B-876F-ED1B592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19B89-3288-43FC-9533-7258DAF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60991-D446-40AE-A8E5-C8434B32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8AEE6-632B-490C-A7F9-660566AD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1F8-3182-4023-A824-FBD0D3BA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13775-71C1-40EF-A8C9-F191EAA0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C49E0-ABBD-4483-92D2-A168E12D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0060F-F1A0-48F2-994C-626A4985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62417-CE52-43E5-AB99-8EB3BFEE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65235-F612-4881-9C83-664C473A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6829-D9F2-4A87-BF71-E1E32542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7D8E2-E87E-42F6-A7D4-CD18248E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DC64C-7F2F-4E76-ABF6-EAFF1C8E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8C07F-D8BA-48C2-9FD9-D4E25F4E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0F366-7366-4892-B19B-DF3C157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4070-2765-4CE2-A07A-2BA735D9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4AB4C-57ED-4C23-9DFB-3F51B169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2B174-6F6C-434F-A280-6AB7F04E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23740-F485-4934-A554-A18E933F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90E9B-5AC7-45D2-B26F-1FB6306F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035E1-CC5A-450B-94E0-11908784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3235F-BBCB-4F00-BB4A-B13D081E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9761F-2C05-40C3-B5C5-78C3C5F9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03A42-6EF8-40F8-A474-B40C467D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483FF-AE5D-4576-8105-166030FD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57F7E-CF5D-4B48-8623-F03D497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12EC-5830-46B7-96CF-46DB077D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CB0DE-0A1A-4717-9A57-8EA2F4AE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B0CF8-7290-4874-BE86-07EF1C5C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931AA-43FD-455E-81CA-0E3186D9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A7242-4376-40E2-9870-B0A5F1A7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D8C51-556E-4043-9890-76A9F228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B8305-4D15-4178-B862-9A3E39CE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719F9-3588-4FA3-B88D-AA69AAE2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491CD-0810-4850-864A-904842DE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C1FF6-3C3D-4704-9FBB-83F98A7D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67925-F4CA-4DF6-ADE4-A61C2022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D343-FDFD-4E82-BCFA-B73DA749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B897F-0B4A-40AC-BC39-4E03F2B4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8FA8C-062C-4CFC-95D0-D453CBB5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06D2D-2A39-42AC-BB43-0CA3A33E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B1E0C-3C44-48C7-9858-0FAFCC98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619DE-3E8B-4164-B2F9-FCFAC689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E2569-177E-4210-AF4B-F8053EEC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63955-3E61-4315-8BB5-2C12AD1F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12670-EB9B-4E23-ABA5-9B3C2212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255B1-F74E-4064-A78B-720ABA39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3232D-58EF-4B94-BCC5-F0B1FF09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779E-2578-494F-AF1D-17264A3C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51326-E084-4C7D-A21E-A117DBB0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BCB24-CECA-4DB3-964E-D246403D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F596E-B5C4-45C7-A9A2-77D041F0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7E41B-FF03-4817-B6CC-1769E9A6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52B39-F967-4E87-BA43-A1E02642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A6AB9-F714-4355-B75D-BC4A4E08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3B418-82F8-44AA-A778-E276FDA1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F222F-7029-4CFC-AABF-D9C589B8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BE353-95F8-45FC-8D80-1CD94545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48B4F-1BAD-4500-A503-979D16FB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5630-A3EE-4F2B-AD57-906943AC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87952F-9FD3-41D5-A292-16B3E555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0597A-FBD8-46E4-8D8C-BEACB6D1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98204-D1B7-42ED-B446-AFB0D8D8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362E8-AF3C-43F9-B337-86212231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A3401-27FB-4789-BA84-351DDB75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05EA0-2436-4A0F-9601-08DAA967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CC43A-7DD7-4D0C-A6AB-CB2C8959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7EBF84-C7D0-4EAA-8333-69E4E9B9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0969B-2640-4915-A006-07F88986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DD478-CDCA-464C-87B0-433C4FBE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B44C-AD80-4BBA-9192-2D187F86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1F687-FC3A-4617-9D39-5D899431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D9A77D-76B5-45AD-9E5C-45DA6113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A22DC-B7AF-4FBD-83C0-83C4CCBD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DA770-7769-4C4A-B633-7E7ED9FF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5EA5D-9309-488B-B107-A70B05D6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3B2F9-6F93-471D-BEDA-BF493EC1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4D22C-B3AF-4EF1-8942-227085AE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C9114-925C-4142-87F9-2773D00A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1D798-FB4A-43DF-B41E-2EAF3E47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9C6A7D-F824-462A-99F5-DD03DFD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7CE5-BF75-4B49-9E91-927273C9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4FE89-B0CD-404E-9373-98ADEA90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C7B40-5960-4D9B-AB8A-83092260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8B916-21F8-40D4-92C9-778D99A8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9167E-04E1-4A5B-B646-5B4DCC35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AA948-558C-4070-91DA-D160C46D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5D8147-8DCD-4C55-8D83-7A4F6C5D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67678-C12B-4801-9535-D2DB8873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9BBBD-65FB-4FCA-B3B5-62EBCBB2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1EFA0-CA88-4A07-8F37-1C95DF2D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A04A0-E7B4-4C80-9F3B-C6386E31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323-47CF-4B65-9A63-8B8B40E7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68BB-6C12-4093-AF3A-DACBE833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23D42-27B3-441C-A5CE-6C65FF30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C498C-7151-4242-BF01-C3B93297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D0022-D6ED-48E3-B8A5-28CCCA3F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78D7C-1A37-463F-A636-C2C5E76C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CD8FF-CC38-4390-B11D-6CB4B9B8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36395-35AF-4147-A609-60F22244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5D7C68-FA56-4F41-B9A6-4300852B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1F2DAB-1557-43BB-84B6-27FFFF75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19DB6F-8C76-49EF-96C5-6778EC2B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2046E-0A1F-4752-8382-F84C650A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24E5-DACD-4960-AC10-8420A16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EDA2C-67BC-4AF9-9240-EF7EFB0B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D6CC32-B8D2-4CED-965E-B27726B6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8DAEC-9CD0-468C-965B-79A90A1E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8793C-A883-469A-8385-59727B8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1FE7A2-32A4-4634-AFF7-B1EB6378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5769DA-0F64-4DD9-BE50-912CC372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24B3D-21DF-455D-9127-91A7F286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8405E-0D99-4BEC-9BC2-717526FF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6F0BA-B07B-48F2-9315-8878679D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EA8E2-7AE5-4651-BF36-8B042BD6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EFCC-D410-4A62-9422-C6ECF998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BD31E8-222E-4A98-BFFD-1415FA0E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2673C-D744-4A5A-9DB8-8AB9C5CA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BA2D7A-0C85-4D6A-B89B-283F5B8E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DD5F6-0C89-4F84-ACCB-62E6FCDE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71CD4-542D-4138-AAA9-B6EC3ED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B0415-85D5-4DAD-88F8-19155AE0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D55E40-4AA5-4885-91EE-05AFAD8D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03224-2F2E-41F0-93A8-C127A8AE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A22C40-874C-479D-A137-79F27ACD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8F7A6-2995-44C9-A02D-7EBACC57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3998-8BDB-4CF6-A286-DE37D09E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06ADC2-BC83-413D-8F41-CA9A7FE0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2AAA7B-A821-4140-9DE8-F7E780D5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02237-2743-4A9A-8CD1-7FF982D4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C287E8-05D8-44B6-BDE3-179F7F83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4FEECC-D56E-4AD6-9D46-841D13D2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6F6913-5DEE-4F01-903E-D59D3DC6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617F3-381E-4B20-8292-04347294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D1B787-DE4B-471D-9BF3-9092F92F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E32E3-7BD0-4384-BDB1-F9C33BC3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2C7E4-7415-479E-8FDF-587E8EDD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2C5E-F258-48FD-9491-A8581FFF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039B28-710B-40A7-884E-D5D7D205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D453B6-4C95-4CCC-A039-5C19D6E8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C1E908-154F-4F6A-88BF-46A57BB5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410D67-62EB-4C05-AF7A-B96363B8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DC4C5F-68D7-4FDC-81B5-97C0CE66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17EBEC-84F5-4059-B7B8-8CF1D056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26455-5376-4435-93B5-6DD72AC4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AD263E-4120-4119-B658-B0368973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C97388-D517-473A-8073-D29FDEBF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F0B51-3FEB-4F5C-BC45-1FABE867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CB55-2419-41F3-87F7-41DDDA91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280249-FE6C-4A6E-A606-03D96A36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A25A83-9B41-4C08-B808-62481BF4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B2F997-702A-4B5F-9A5A-FDB922DE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972F37-BE25-4052-8BD3-1A874AD2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FC32F2-3D37-4461-8B7A-E85853D4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3C82BE-F8EA-4426-95F4-7FEAA5B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B723C6-927B-4DD3-8B10-7552672C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7BCEB4-896F-49C9-A58D-9B0B3028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92EFF0-8D48-4413-A34A-1E1022F4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FF7AB3-3E0A-475C-8A3A-3DFE67BE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004B-F163-4C89-B9E1-4169FD2F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A9CB6F-F466-4A6A-AFB3-D856F4E5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6E5724-AEE1-4921-A4AF-7DE70FAF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6AC5F3-A488-4455-87D8-554A4792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29A411-FB43-4671-BB68-1C683D1A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446064-4B8F-4F56-93F8-53958FE4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E26E9D-3B4C-404A-9669-E53D3D48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300F00-B22A-456A-B3E2-F39C30BF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34B9B0-183B-4A1C-86A3-DB980684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A28531-3207-4703-9F50-A89B1C73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F135FC-7020-4B1B-B6DB-4D14601D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8FB9-3D4A-4071-82B0-78085312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2AF36C-0E4B-42C0-8BE5-E32C9BD7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3B8C4D-6FA4-4BD6-A85C-83783D69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ED5B21-13F0-43DA-8511-9DF2B0E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62CC73-9F54-42CA-97F0-D02FBCD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5EDD50-3313-4400-A9E6-7BBA98B2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0B8322-0CEB-47E3-8147-DE0EAFBB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B56432-C71D-41E0-8751-0BFCF724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A07FC3-AC43-4555-ACCC-F1E0E110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7BC6AF-C967-4D34-96A3-241AFC02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32B532-BE20-4062-AA24-EBA13DF4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BC8C-C365-4822-AB75-8808C66F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4EFA20-32C0-4044-8619-4F333A3D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76B929-8FB7-42A3-924D-07B7F126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34E7A8-A207-4E12-8969-9B05A16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FAA115-0814-493A-A570-93493CA1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FCC6BC-03C7-423E-9F1D-155DD14A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C65FBA-6797-4923-BBF1-EAB161F7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85537E-37CE-4FBB-B339-B7C56464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4966CF-E9BB-49F8-8C8C-B8063891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FCA5A5-223E-425C-AEBD-117A9D2E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F16E17-99F3-4A7F-908E-949ED854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BAF7-3907-47E0-8F3B-7B01593F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785B65-3586-4A54-A637-6A8E3D72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47AD55-87D7-49D8-AF1D-6D553F35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B8E727-77F9-46E2-9AE0-41B20BD2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5F5785-FB6F-4A43-8511-0DB7382D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0C3122-2874-4CE5-BAC9-580A6579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71F2AC-E72C-4187-B56A-9E53E549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FB6DAE-2550-489C-BCB8-3CF9F05C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3E2E5A-E66E-400C-B9F0-7E1B5B10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4ECF44-5B69-4F85-8802-E67DF833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5C1148-1BE8-41E5-BA33-2186D273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588-8FE1-484C-8544-421466FF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B9E20-87D1-4C3B-9978-C5B37E67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64C8DD-0ECD-43CE-B8EF-E5F4937F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0592D8-422A-4061-8DD2-AC3400DC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D3FB18-593D-41B8-93D5-9D44AE74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84BFED-1B4A-401A-813A-4DF2002C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249F01-5F03-4885-BC7F-FB3394EA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931886-3F83-4A3B-99C6-D8D3DF68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291CE9-0195-4963-9D5E-A20D1071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76AB81-DBFB-42D5-97C0-4D71FD65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A5C2EC-2A10-465C-9783-17809C9F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404414-1372-4A31-A5DD-EB057A82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0FD8-1EAA-4C2E-B380-4AEB1F23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6172F9-8F1B-4592-AD6B-702AC9FE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DDD360-4204-4284-925E-E36534C3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4B1D5B-5834-4ED6-8F26-A83FE832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C1182B-1671-4837-A6F9-0C791755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E2594F-63FF-44A9-B6CC-D84B03AF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4D612F-1456-491C-BF69-AF93CC30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11F39A-E6A7-4211-AF11-F9417075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9428A7-E7AF-42AB-B845-A51415AB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761B9F-C132-40BD-A0BB-E99B60DA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BB642E-2729-4C28-A54F-B2F20A7F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B7A7-FFAC-42A0-BEC2-02C0031C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714BEA-6F9F-4D63-9253-AA09A30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A52EA0-9D93-4998-A932-9570021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0B7F5C-4F2C-4995-8364-2DEF3835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59CFD0-7DCE-495B-AD0C-9A633A69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E780CB-4129-46F7-9FB2-4A813133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9FB1B2-38BB-439A-8483-AD7300C9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5C41F7-722E-4154-B044-5FF436EA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9C9A4B-C179-4847-A4F1-0682DBC7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C886C5-3F57-4EC2-86EA-8B79F7FD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3B6EB6-6C09-4078-89EB-4667F3C5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6E43A-06B4-4041-A0DD-11D8A3EC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FD6F51-BD2E-4E39-A998-8B2DEC42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24BBAA-1AA9-4597-B6E9-9229F58A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54CC89-8CCA-4500-BD53-4502226B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613D47-A495-4872-B577-3DFB8151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899390-0EDA-459D-A1B3-8DC07AED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AD77A9-ECC4-4C25-B875-69EB755F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E941AD-6836-4E25-9B99-2AF35C71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19A2-A7F4-4680-959B-A4895E06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3CF7B-B786-4A99-BFD0-3CB696D6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18A5-0EEC-446F-8BC2-CD643CD7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ABD0D-66B7-451A-8C22-452805A0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4765A-E4F6-4A0F-B669-78ABDFAB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4DEC0-3678-480C-B050-A20E8091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6F5-0265-47F9-9663-99BD0D31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CA3C-A85A-4D47-B63B-0B0B7269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503E-9ACB-414E-AC08-A285C279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9EC5D-E0A8-4C83-8645-1E980B85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03F9E-8C52-4D07-A8E1-5403A01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0F3A-C61E-47A5-81D1-C4FCEF9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A1D07-1A41-4AB7-9D3B-8995EE8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1E36-43CF-4C92-AD83-DFDF6138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4CCD7-E989-4EBC-81E7-358C7D91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9329C-74B2-4143-B33A-2A7560D8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AA264-972B-40EA-A14E-A8984C63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9F3-36DF-4A25-BA15-48E61452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0527-E9A8-47B9-A96A-F4BA0965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BE60D-E506-470E-873C-0593F8F3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4B8F-16C4-4FB1-8E07-09F88BD4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3C8DE-0550-4782-B198-0BDA6C44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5628A-238F-40FC-B72A-D18EB1A5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8475D-0375-442B-9C2E-73F19B9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FA604-C566-4D39-AACC-3C5FA3AE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6D818-65C5-4CA9-8C3A-5BDA9405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4975C-BC70-453D-9B0D-3799A92C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EB9C6-95B1-4FC9-B123-319B8691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0E5-95B4-4DCD-9B30-1C61CB79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0F6EC-11B7-45D6-A803-E63C70B0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C421-A825-4050-B7F0-E174E872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20468-CC1B-49B2-9399-7C23C857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48792-1FAE-4683-8D39-A5B47688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0A6C2-84D3-4604-AB35-4D4B00F2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7E6A0-FFB6-4B9B-BE8B-5FA899E7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5F4E8-3761-48D2-8B87-E9DF74C0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E382-6AB5-4477-8F5A-41C71F6E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29057-C669-48CC-8905-D78A1942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98DF6-14D1-41C5-B7E9-5568CB8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63F-9BE3-49D1-A371-23B78B1F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4DBD8-6267-49B2-AF2B-AA5BD40E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ACE63-1A18-4030-846B-018470EB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2995C-6DC9-415F-BF09-B195F6A9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D1521-9729-46EA-9044-C6BECFA5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C6710-C564-4347-8E62-22AD82A9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1E8F-01E0-4B4B-98F0-ABD72B5D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648A7-5A42-4861-AD33-CA0771EA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9B591-D576-41E3-B0AA-A0DD708D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DFB57-0DF0-4878-A13F-942537BA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6BD37-F3F7-4C8E-A256-8CBD00F1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A15-028B-4AE3-8101-5380BEE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E207-B915-48DC-A692-EC91E2EB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61C0B-AD38-4187-B2A0-D1457296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38023-F22A-4CAD-B7BD-05418225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40C54-8DBC-40C6-A923-89AC8E97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E5EF7-CDE8-4691-857F-531C40D8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22D4D-F7F2-476E-A7A9-49EF7A7A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019F0-DBB7-4853-A48E-7E2C1A8F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86C7F-EFA8-4B9B-A0D0-A8C0B803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D22FC-8774-4506-BDF4-EE8B615B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F49BA-90E2-4470-BF7B-D8F2AF43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D5B-07A7-421E-8B9E-B77BECE8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F54D6-8172-4A27-973D-E1526D71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8D6FF-09D1-43F7-96EA-3008B8AE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BA0A6-E4F3-4394-9871-261BF381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32758-2E22-4FDB-BEF5-3A78D589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02108-E9E2-43E0-93BF-60A00331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21AD8-05CB-4FB7-B8B1-55BD4580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0BF27-E986-46ED-B18F-4ADF1846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BBCD7-19C5-4824-9E6C-EA082103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C0D22-404E-499A-A94E-900B270B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145DA-6C61-4579-9728-991EE739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12C3-E8BF-4599-81BC-4E0F1A4337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89E5-7BC6-49B5-B593-54BBFFEB10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0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7554-1649-4485-8170-68D06C38FB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4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E53E-A670-4496-B66D-D6A7C6AF67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9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B73-477C-4196-A10C-8DCF4CC8A6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3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21EE-8D2C-4144-8D9E-2A3B7C9A72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7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17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D992-7B1C-48D3-B683-00A27D532A1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61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EB57-25A2-42D7-9E9B-67CEA954E5B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0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AFD8-9E6C-4C9F-BC9B-54B36C60B5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49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0244-14AD-4498-B7A2-9490A4C7091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93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08E7-42D2-43E3-BFF8-18CBDCF2C3C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3147-1C69-4542-86D9-3E3A079ECD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37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296F-0D65-4907-BB42-279F37301C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81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882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1DB9-C6C2-4B03-851B-F2DC4039851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2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8184-7915-4567-B0D5-14A7FBFB73A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9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2D45-D7EA-432F-BC74-579B3B1E0AF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13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38A2-287E-4E6A-8A8B-C640798CD43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57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058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4C13-CDEB-42F3-A7D7-249D46AAF45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01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102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12ED-7C5A-431E-91E3-D9BBEBC5696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1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C2CA-8B05-4F9E-8CEA-F1AC446B59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9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32B5-2D2F-4B32-AAD3-F6EE4F4520B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6D08-3D06-450C-B824-BEF9A89926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DC40-F6B4-419C-830C-811FAC74C0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6ECA-C15A-4028-BDD3-C0989359EA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7794-070E-4805-8948-770C4170B6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67A2-F293-40BE-8FEB-EBDA3D761F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7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841C-4E5D-4257-8020-3D2077EF1F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1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3163-942E-48CB-BB63-400D382A63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5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56764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Commission Delegated Regulation (EU) No 932/2014 laying down exceptional support measures for producers of certain fruit and vegetables and amending Delegated Regulation (EU) No 913/2014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395280" y="4982760"/>
            <a:ext cx="853272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Meeting of the Civil Dialogue Group Horticulture, Olives and Spir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1 October 2014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 txBox="1"/>
          <p:nvPr/>
        </p:nvSpPr>
        <p:spPr>
          <a:xfrm>
            <a:off x="17928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mbers of POs without an operational programme are considered non-members and are subject to the same procedures and control rules as non-member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1800"/>
              </a:spcAft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mbers of POs whose recognition has been suspended are considered non-members and are subject to the same procedures and control rules as non-member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mbers of POs which are not recognised for the products they intend to withdraw, non-harvest or green harvest are considered non-members and are subject to the same procedures and control rules as non-member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8101080" y="6381720"/>
            <a:ext cx="90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6413-B413-46C6-B6FC-420680CB2F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0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 txBox="1"/>
          <p:nvPr/>
        </p:nvSpPr>
        <p:spPr>
          <a:xfrm>
            <a:off x="179280" y="1700280"/>
            <a:ext cx="8856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 financial assistance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current) maximum amounts set in Annex XI to R 543/2011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new) maximum amounts for the products that are not included in Annex XI are set in Annex I to Regulation 932/2014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new EU co-financing rat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32C2-EB07-4286-93A7-806503C734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3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U financial assistance: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9528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ithdrawals for free distribution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162080" indent="-447840">
              <a:spcBef>
                <a:spcPts val="6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0% POs;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162080" indent="-447840">
              <a:spcBef>
                <a:spcPts val="6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0% for non-member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2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ithdrawals for other destinations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162080" indent="-447840">
              <a:spcBef>
                <a:spcPts val="6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5% POs;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162080" indent="-447840">
              <a:spcBef>
                <a:spcPts val="601"/>
              </a:spcBef>
              <a:buClr>
                <a:srgbClr val="3166c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0% for non-members of the amount set out for withdrawals for other destination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84F1-7573-4E31-981F-1ACF6D82A9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7" name="TextBox 5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U financial assistance: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Green harvesting and non-harvesting (yields kg/ha established by MS)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200240" indent="-343080">
              <a:spcBef>
                <a:spcPts val="1800"/>
              </a:spcBef>
              <a:buClr>
                <a:srgbClr val="3166c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the support [EU+PO] set out per ha by MS at a level to cover not more than 90% of the support for withdrawals for other destinations – 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2401"/>
              </a:spcBef>
              <a:buClr>
                <a:srgbClr val="3166c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the support [EU+PO] set out per ha by MS at a level to cover not more than 90% of the support for withdrawals for other destinations – non-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3051-6F48-43A1-8AF4-8E91332A24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1" name="TextBox 5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 txBox="1"/>
          <p:nvPr/>
        </p:nvSpPr>
        <p:spPr>
          <a:xfrm>
            <a:off x="287280" y="1267920"/>
            <a:ext cx="846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is exceptional support is not taken into account fo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12880" indent="-45720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4.1% - 4.6% ceiling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art 34(2) R 1308/2013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12880" indent="-45720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1/3 limit Crisis Prevention and Management measure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1288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art 33(3)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subparagraph R 1308/2013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12880" indent="-45720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25% ceiling increase operational fund during the year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812880" indent="-4572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art 66(3)(c) R 543/2011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1288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penditure incurred under this measure shall form part of the operational fund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4FA5-1CA3-4CA9-A37C-9BE6FD6E5E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4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Slide Number Placeholder 3"/>
          <p:cNvSpPr/>
          <p:nvPr/>
        </p:nvSpPr>
        <p:spPr>
          <a:xfrm>
            <a:off x="8604360" y="6381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C06F-A9FF-416C-8975-A4DE123F2D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76" name="Picture 2" descr=""/>
          <p:cNvPicPr/>
          <p:nvPr/>
        </p:nvPicPr>
        <p:blipFill>
          <a:blip r:embed="rId1"/>
          <a:stretch/>
        </p:blipFill>
        <p:spPr>
          <a:xfrm>
            <a:off x="4114800" y="3325680"/>
            <a:ext cx="912960" cy="20664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"/>
          <p:cNvSpPr/>
          <p:nvPr/>
        </p:nvSpPr>
        <p:spPr>
          <a:xfrm>
            <a:off x="395280" y="1197000"/>
            <a:ext cx="864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ccording to article 9, the Commission informed Member States on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10 September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at it would receive no further notifications  (the allocated amount had been exceeded for both groups of products)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11 – Producer organisations and producer non-members shall apply for the payment of the Union financial assistance by a date fixed by the Member State, the latest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y 15 October 2014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12 – Member Sates shall notify the Commission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y 22 October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six weeks from 10 September) of the information on the total quantities withdrawn, the total areas on which non-harvesting or green harvesting operations have been undertaken and the total amounts of Union financial assistance for the corresponding withdrawal, non-harvesting and green harvesting operations, based to the notifications made to the Commission on the 4 and 8 September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8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Slide Number Placeholder 3"/>
          <p:cNvSpPr/>
          <p:nvPr/>
        </p:nvSpPr>
        <p:spPr>
          <a:xfrm>
            <a:off x="8604360" y="6381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AE21-0D56-428E-84B9-899BA0DBCC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80" name="Picture 2" descr=""/>
          <p:cNvPicPr/>
          <p:nvPr/>
        </p:nvPicPr>
        <p:blipFill>
          <a:blip r:embed="rId1"/>
          <a:stretch/>
        </p:blipFill>
        <p:spPr>
          <a:xfrm>
            <a:off x="4114800" y="3325680"/>
            <a:ext cx="912960" cy="206640"/>
          </a:xfrm>
          <a:prstGeom prst="rect">
            <a:avLst/>
          </a:prstGeom>
          <a:ln w="0">
            <a:noFill/>
          </a:ln>
        </p:spPr>
      </p:pic>
      <p:sp>
        <p:nvSpPr>
          <p:cNvPr id="1281" name="TextBox 2"/>
          <p:cNvSpPr/>
          <p:nvPr/>
        </p:nvSpPr>
        <p:spPr>
          <a:xfrm>
            <a:off x="611280" y="1484280"/>
            <a:ext cx="820872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12 – where those amounts notified by Member States by 22 October 2014 exceed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 82 Million for apples and pears; and / 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 43 million for other produc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Commission shall fix one or two allocation coefficients for the grant of Union financial assistance, limiting total Union expenditure to those amounts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mber Sates shall apply uniformly the allocation coefficient(s) to all applications for payment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(same allocation coefficient for all applications of the group of products concerned)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2" name="Right Arrow 4"/>
          <p:cNvSpPr/>
          <p:nvPr/>
        </p:nvSpPr>
        <p:spPr>
          <a:xfrm>
            <a:off x="3635280" y="537372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3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6605-8199-4FEF-A402-EA47F4E260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5" name="TextBox 2"/>
          <p:cNvSpPr/>
          <p:nvPr/>
        </p:nvSpPr>
        <p:spPr>
          <a:xfrm>
            <a:off x="324000" y="1484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quests received in euros on 4 &amp; 8 Septemb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86" name="Picture 4" descr=""/>
          <p:cNvPicPr/>
          <p:nvPr/>
        </p:nvPicPr>
        <p:blipFill>
          <a:blip r:embed="rId1"/>
          <a:stretch/>
        </p:blipFill>
        <p:spPr>
          <a:xfrm>
            <a:off x="1332000" y="2066760"/>
            <a:ext cx="6316560" cy="4141800"/>
          </a:xfrm>
          <a:prstGeom prst="rect">
            <a:avLst/>
          </a:prstGeom>
          <a:ln w="0">
            <a:noFill/>
          </a:ln>
        </p:spPr>
      </p:pic>
      <p:sp>
        <p:nvSpPr>
          <p:cNvPr id="1287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C511-6B71-47F8-BF41-8DD2E158B9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9" name="TextBox 2"/>
          <p:cNvSpPr/>
          <p:nvPr/>
        </p:nvSpPr>
        <p:spPr>
          <a:xfrm>
            <a:off x="324000" y="1484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quests received in euros on 4 &amp; 8 Septemb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90" name="Picture 3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999400" cy="3392280"/>
          </a:xfrm>
          <a:prstGeom prst="rect">
            <a:avLst/>
          </a:prstGeom>
          <a:ln w="0">
            <a:noFill/>
          </a:ln>
        </p:spPr>
      </p:pic>
      <p:sp>
        <p:nvSpPr>
          <p:cNvPr id="1291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5E0F-8622-47E1-BF82-194D833163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3" name="TextBox 2"/>
          <p:cNvSpPr/>
          <p:nvPr/>
        </p:nvSpPr>
        <p:spPr>
          <a:xfrm>
            <a:off x="324000" y="1484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quests received in euros on 4 &amp; 8 Septemb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By Product and Measu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94" name="Picture 2" descr=""/>
          <p:cNvPicPr/>
          <p:nvPr/>
        </p:nvPicPr>
        <p:blipFill>
          <a:blip r:embed="rId1"/>
          <a:stretch/>
        </p:blipFill>
        <p:spPr>
          <a:xfrm>
            <a:off x="1187280" y="2192400"/>
            <a:ext cx="6697800" cy="3933720"/>
          </a:xfrm>
          <a:prstGeom prst="rect">
            <a:avLst/>
          </a:prstGeom>
          <a:ln w="0">
            <a:noFill/>
          </a:ln>
        </p:spPr>
      </p:pic>
      <p:sp>
        <p:nvSpPr>
          <p:cNvPr id="1295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 txBox="1"/>
          <p:nvPr/>
        </p:nvSpPr>
        <p:spPr>
          <a:xfrm>
            <a:off x="457200" y="1483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I - Exceptional support measures for producers of certain fruit and vegetable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II – Amendment to Delegated Regulation (EU) No 913/2014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[temporary exceptional support measures for producers of peaches and nectarines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74AC-63C4-4A8A-A34E-BB141C03BD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4F9B-B325-441A-9F7F-EEBE08863A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7" name="TextBox 2"/>
          <p:cNvSpPr/>
          <p:nvPr/>
        </p:nvSpPr>
        <p:spPr>
          <a:xfrm>
            <a:off x="324000" y="1484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quests received in euros on 4 &amp; 8 Septemb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By Measu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98" name="Picture 2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305400" cy="3600360"/>
          </a:xfrm>
          <a:prstGeom prst="rect">
            <a:avLst/>
          </a:prstGeom>
          <a:ln w="0">
            <a:noFill/>
          </a:ln>
        </p:spPr>
      </p:pic>
      <p:sp>
        <p:nvSpPr>
          <p:cNvPr id="1299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5FE1-CA54-4212-A0F8-EF1FD78115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1" name="TextBox 2"/>
          <p:cNvSpPr/>
          <p:nvPr/>
        </p:nvSpPr>
        <p:spPr>
          <a:xfrm>
            <a:off x="324000" y="1484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quests received in euros on 4 &amp; 8 Septemb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By Produc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02" name="Picture 2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337440" cy="3960720"/>
          </a:xfrm>
          <a:prstGeom prst="rect">
            <a:avLst/>
          </a:prstGeom>
          <a:ln w="0">
            <a:noFill/>
          </a:ln>
        </p:spPr>
      </p:pic>
      <p:sp>
        <p:nvSpPr>
          <p:cNvPr id="1303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611280" y="256500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7B62-F2FF-4F35-8622-A99DF096BB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 txBox="1"/>
          <p:nvPr/>
        </p:nvSpPr>
        <p:spPr>
          <a:xfrm>
            <a:off x="323640" y="1341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Legal Basi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219 R 1308/2013 – Measures against market disturbance: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"The Commission shall be empowered to adopt delegated acts (…) to take (…) immediate action to address or prevent market disturbance…".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[Russian ban]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228 R 1308/2013 – Urgency procedure: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"Delegated acts (..) shall enter into force without delay and shall apply as long as no objection is expressed (…) [by the] European Parliament or the Council(…) In such a case, the Commission shall repeal the act without delay following the notification of the decision to object by the European Parliament or the Council"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5964-A17D-414C-8106-A0693B6CF6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34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ducts (for fresh consumption):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468360" y="1699920"/>
            <a:ext cx="7848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omato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rro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bbag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weet peppe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uliflowers and headed broccoli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ucumbers and gherki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ushroo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p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ea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u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oft fruit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(fresh raspberries, blackberries, mulberries, loganberries, fresh black-, white-, or redcurrants and gooseberries, fresh cranberries, bilberries and other fruits of the </a:t>
            </a:r>
            <a:r>
              <a:rPr b="0" i="1" lang="en-GB" sz="1400" spc="-1" strike="noStrike">
                <a:solidFill>
                  <a:srgbClr val="0f5494"/>
                </a:solidFill>
                <a:latin typeface="Verdana"/>
              </a:rPr>
              <a:t>genus Vaccinium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resh table grap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Kiwifrui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A2A4-3DC5-485B-B458-4BC1ECF63E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1" name="TextBox 1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53964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 total budget of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UR 125 mill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, allocated as follow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 43 million: tomatoes, carrots, cabbages, sweet peppers, cauliflowers, headed broccoli, cucumbers, gherkins, mushrooms, plums, soft fruit, fresh table grapes and kiwifruit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 82 million: apples and pear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F930-4A57-4FAD-A4D8-44B15715A2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4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34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ducts (for fresh consumption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468360" y="2349360"/>
            <a:ext cx="7848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800"/>
              </a:spcBef>
              <a:spcAft>
                <a:spcPts val="1199"/>
              </a:spcAft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gulation 932/2014 covers ONLY products intended for fresh consumption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1199"/>
              </a:spcAft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ducts intended for processing cannot benefit from support under Regulation 932/2014.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166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mber States need to ensure (control) that only products intended for fresh consumption are withdrawn from the market (withdrawals for free distribution, withdrawals for other destinations, green harvesting and non-harvesting operations) in the framework of this Regulation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281-B14B-4576-A885-D37960C0B5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8" name="TextBox 1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46836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emporary exceptional support for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ithdrawals (free distribution and other destinations)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green harvesting; an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non-harvesting oper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- For operations carried out between 18 August and 30 November 2014 (or until the budget runs out per group of products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B921-CEA7-479A-A124-D809D8A5DB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1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 txBox="1"/>
          <p:nvPr/>
        </p:nvSpPr>
        <p:spPr>
          <a:xfrm>
            <a:off x="611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- Beneficiaries of this temporary exceptional support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266760" indent="-26676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ducer Organisations (POs) and their member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266760" indent="-26676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Non-members of PO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- Except for derogations identified in this Regulation, all conditions for market withdrawals, including marketing standards, controls, sanctions and penalties, apply for POs, PO members and producer non-members of PO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266760" indent="-26676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- Even if withdrawals, green harvesting and non-harvesting operations are not included in operational programme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6760" indent="-26676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8101080" y="6381720"/>
            <a:ext cx="90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1C8D-2B3E-4A6E-A499-A9E854D14F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4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 txBox="1"/>
          <p:nvPr/>
        </p:nvSpPr>
        <p:spPr>
          <a:xfrm>
            <a:off x="179280" y="191592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penditure incurred in the framework of Regulation 932/2014 shall form part of the operational fund of the PO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cognised POs with an operational programme do not need to modify the operational programme in order to carry out activities in the framework of Regulation 932/2014.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9fba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Os (and Member States) need to keep records of the activities carried out under Regulation 932/2014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6" name="Slide Number Placeholder 3"/>
          <p:cNvSpPr/>
          <p:nvPr/>
        </p:nvSpPr>
        <p:spPr>
          <a:xfrm>
            <a:off x="8101080" y="6381720"/>
            <a:ext cx="90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F6DE-9475-4405-82B9-B5EE1841FD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7" name="TextBox 4"/>
          <p:cNvSpPr/>
          <p:nvPr/>
        </p:nvSpPr>
        <p:spPr>
          <a:xfrm>
            <a:off x="5796000" y="40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 – certain F&amp;V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18:51:48Z</dcterms:created>
  <dc:creator>MARQUES Teresa (AGRI)</dc:creator>
  <dc:description/>
  <dc:language>en-US</dc:language>
  <cp:lastModifiedBy>MARQUES Teresa (AGRI)</cp:lastModifiedBy>
  <cp:lastPrinted>2014-09-30T14:58:15Z</cp:lastPrinted>
  <dcterms:modified xsi:type="dcterms:W3CDTF">2014-09-30T14:58:17Z</dcterms:modified>
  <cp:revision>209</cp:revision>
  <dc:subject/>
  <dc:title>Commission Delegated Regulation laying down exceptional support measures for producers of certain fruits and vegetables</dc:title>
</cp:coreProperties>
</file>