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72C5-2320-4E86-9AA1-626C8E0E8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792E-9A0D-4F9D-B5DC-0A9107A8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DE16-72D0-4AF3-878C-6A9323AA2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0617-3F04-4321-B4F0-DA96255F3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8AE5D-8459-4E33-B9DF-DA8F5B5FE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73F6-8C01-43DB-8972-94CFF904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4219-EB74-47E8-A293-E39978BD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0940-98BC-451B-92D1-56498D20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56C1-A42A-4576-AE17-64C773C4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0C42-04D5-4887-BF1C-53647198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82659-DF8F-4899-93D1-9518EDDE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1E00-7B3F-4FE5-81BA-36D096DD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4B4F-AE99-4934-BBDA-0146BBFA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6B31-C3E5-44AD-B929-3854A370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BC8C-4362-4073-9363-1FD4FDE5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A9FE-058E-4540-872D-BC1F280A4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1C1D-4733-4112-AD3A-E2F03FB86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66662-EC42-4481-BEE8-6CA383B7D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4C142-C51E-4028-9289-E9ABDC39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E3329-74E5-4D17-AD86-3D567E49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FE946-30BD-4F5D-80F7-A139C22D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D99BB-BC39-4BD1-94CB-BE0DA5A0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9F7A-D0A6-4945-80AD-9E1CE000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2B0F2-69B5-4A24-A8B2-CEECB759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07520-676A-41B9-A78D-1F3DC9D1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75BA7-0300-417C-9361-D2FB2FE9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AAA36-6C57-4063-8101-54505134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D2C86-84F3-4EE6-9DD5-63B3E513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6B9B5-F226-4709-854B-BA2426036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F66DA-5C3F-48E8-ADE3-ED61DCA6F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8F73-B6AE-43C8-BEEB-13E0E9E4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2D80-D52B-4D38-B5D1-6F023E90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F8F2-F112-45AB-AB29-E72349B6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3DB4-10A9-4AC6-B14B-CDB0468A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7263-9397-4354-9E14-9919B34D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D0CC-AAE9-4929-8AAF-4836B7F4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‹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#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5927-FD59-414D-AEAE-AC740DF2269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7164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‹</a:t>
            </a: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#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7A1F-CF05-41CE-8CBA-B6AE93D9420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0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9A0D-5451-40AA-9F94-9121F705C5D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C225-7190-4781-871B-94500AEF94A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03280" y="1844640"/>
            <a:ext cx="655344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d624"/>
                </a:solidFill>
                <a:latin typeface="Verdana"/>
              </a:rPr>
              <a:t>Civil Dialog Group on "Wine"</a:t>
            </a:r>
            <a:br>
              <a:rPr sz="2800"/>
            </a:br>
            <a:br>
              <a:rPr sz="2400"/>
            </a:br>
            <a:r>
              <a:rPr b="1" lang="en-GB" sz="1600" spc="-1" strike="noStrike">
                <a:solidFill>
                  <a:srgbClr val="ffd624"/>
                </a:solidFill>
                <a:latin typeface="Verdana"/>
              </a:rPr>
              <a:t>Thursday,  November 5</a:t>
            </a:r>
            <a:r>
              <a:rPr b="1" lang="en-GB" sz="1600" spc="-1" strike="noStrike" baseline="30000">
                <a:solidFill>
                  <a:srgbClr val="ffd624"/>
                </a:solidFill>
                <a:latin typeface="Verdana"/>
              </a:rPr>
              <a:t>th</a:t>
            </a:r>
            <a:r>
              <a:rPr b="1" lang="en-GB" sz="1600" spc="-1" strike="noStrike">
                <a:solidFill>
                  <a:srgbClr val="ffd624"/>
                </a:solidFill>
                <a:latin typeface="Verdana"/>
              </a:rPr>
              <a:t> 2015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4. </a:t>
            </a:r>
            <a:r>
              <a:rPr b="1" lang="en-US" sz="2400" spc="-1" strike="noStrike">
                <a:solidFill>
                  <a:srgbClr val="ffd624"/>
                </a:solidFill>
                <a:latin typeface="Verdana"/>
              </a:rPr>
              <a:t>European wine market:</a:t>
            </a:r>
            <a:br>
              <a:rPr sz="2400"/>
            </a:br>
            <a:br>
              <a:rPr sz="1600"/>
            </a:br>
            <a:r>
              <a:rPr b="1" lang="en-US" sz="1600" spc="-1" strike="noStrike">
                <a:solidFill>
                  <a:srgbClr val="ffd624"/>
                </a:solidFill>
                <a:latin typeface="Verdana"/>
              </a:rPr>
              <a:t>Latest information on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d624"/>
                </a:solidFill>
                <a:latin typeface="Verdana"/>
              </a:rPr>
              <a:t>harvest estimations</a:t>
            </a:r>
            <a:br>
              <a:rPr sz="2400"/>
            </a:b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042560" y="5516280"/>
            <a:ext cx="6913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Verdana"/>
              </a:rPr>
              <a:t>Guy Duren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Verdana"/>
              </a:rPr>
              <a:t>DG AGRI-C2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2"/>
          <p:cNvSpPr/>
          <p:nvPr/>
        </p:nvSpPr>
        <p:spPr>
          <a:xfrm>
            <a:off x="4464000" y="6404040"/>
            <a:ext cx="29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4A0F-1026-41B0-A319-A6AA4D2E034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55520" y="1019160"/>
            <a:ext cx="8831160" cy="5434200"/>
          </a:xfrm>
          <a:prstGeom prst="rect">
            <a:avLst/>
          </a:prstGeom>
          <a:ln w="0">
            <a:noFill/>
          </a:ln>
        </p:spPr>
      </p:pic>
      <p:sp>
        <p:nvSpPr>
          <p:cNvPr id="136" name="Date Placeholder 3"/>
          <p:cNvSpPr/>
          <p:nvPr/>
        </p:nvSpPr>
        <p:spPr>
          <a:xfrm>
            <a:off x="539640" y="6357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ine Civil Dialog Group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000000"/>
                </a:solidFill>
                <a:latin typeface="Arial"/>
              </a:rPr>
              <a:t>November 2015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2"/>
          <p:cNvSpPr/>
          <p:nvPr/>
        </p:nvSpPr>
        <p:spPr>
          <a:xfrm>
            <a:off x="4464000" y="6404040"/>
            <a:ext cx="29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360F-E7E9-4194-AE9C-8BE7E0ADE4D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03320" y="1052640"/>
            <a:ext cx="9040680" cy="5329080"/>
          </a:xfrm>
          <a:prstGeom prst="rect">
            <a:avLst/>
          </a:prstGeom>
          <a:ln w="0">
            <a:noFill/>
          </a:ln>
        </p:spPr>
      </p:pic>
      <p:sp>
        <p:nvSpPr>
          <p:cNvPr id="139" name="Date Placeholder 3"/>
          <p:cNvSpPr/>
          <p:nvPr/>
        </p:nvSpPr>
        <p:spPr>
          <a:xfrm>
            <a:off x="539640" y="6357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ine Civil Dialog Group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000000"/>
                </a:solidFill>
                <a:latin typeface="Arial"/>
              </a:rPr>
              <a:t>November 2015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2"/>
          <p:cNvSpPr/>
          <p:nvPr/>
        </p:nvSpPr>
        <p:spPr>
          <a:xfrm>
            <a:off x="4464000" y="6404040"/>
            <a:ext cx="29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245C-CD45-4497-BE56-E8367334F83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8785080" cy="645300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15840" y="6453360"/>
            <a:ext cx="18921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ine Civil Dialog Group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000000"/>
                </a:solidFill>
                <a:latin typeface="Arial"/>
              </a:rPr>
              <a:t>November 2015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2"/>
          <p:cNvSpPr/>
          <p:nvPr/>
        </p:nvSpPr>
        <p:spPr>
          <a:xfrm>
            <a:off x="4464000" y="6404040"/>
            <a:ext cx="29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10DC-89B9-483E-A037-305655C5A18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1290600" y="1197000"/>
            <a:ext cx="7745400" cy="5184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423720" y="2133720"/>
            <a:ext cx="943200" cy="4248000"/>
          </a:xfrm>
          <a:prstGeom prst="rect">
            <a:avLst/>
          </a:prstGeom>
          <a:ln w="0">
            <a:noFill/>
          </a:ln>
        </p:spPr>
      </p:pic>
      <p:sp>
        <p:nvSpPr>
          <p:cNvPr id="146" name="Date Placeholder 3"/>
          <p:cNvSpPr/>
          <p:nvPr/>
        </p:nvSpPr>
        <p:spPr>
          <a:xfrm>
            <a:off x="539640" y="6357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ine Civil Dialog Group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000000"/>
                </a:solidFill>
                <a:latin typeface="Arial"/>
              </a:rPr>
              <a:t>November 2015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3EAC-E533-47A6-98E8-6BD16B0EA5B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900C-0DDD-4A78-98C7-5BF56CB65C3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1449360" y="1197000"/>
            <a:ext cx="6184800" cy="4987800"/>
          </a:xfrm>
          <a:prstGeom prst="rect">
            <a:avLst/>
          </a:prstGeom>
          <a:ln w="0">
            <a:noFill/>
          </a:ln>
        </p:spPr>
      </p:pic>
      <p:sp>
        <p:nvSpPr>
          <p:cNvPr id="150" name="Date Placeholder 3"/>
          <p:cNvSpPr/>
          <p:nvPr/>
        </p:nvSpPr>
        <p:spPr>
          <a:xfrm>
            <a:off x="539640" y="6357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ine Civil Dialog Group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000000"/>
                </a:solidFill>
                <a:latin typeface="Arial"/>
              </a:rPr>
              <a:t>October 2015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Date Placeholder 3"/>
          <p:cNvSpPr/>
          <p:nvPr/>
        </p:nvSpPr>
        <p:spPr>
          <a:xfrm>
            <a:off x="539640" y="6357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ine Civil Dialog Group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000000"/>
                </a:solidFill>
                <a:latin typeface="Arial"/>
              </a:rPr>
              <a:t>November 2015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jD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330120" y="1125360"/>
            <a:ext cx="8483760" cy="52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2"/>
          <p:cNvSpPr/>
          <p:nvPr/>
        </p:nvSpPr>
        <p:spPr>
          <a:xfrm>
            <a:off x="4464000" y="6404040"/>
            <a:ext cx="29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8DA7-06BF-45D0-8467-2DB0C7AED99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28036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4T09:08:58Z</dcterms:created>
  <dc:creator>DUREN Guy (AGRI)</dc:creator>
  <dc:description/>
  <dc:language>en-US</dc:language>
  <cp:lastModifiedBy>BUTTINI-PROVENZANO Roberta (AGRI)</cp:lastModifiedBy>
  <cp:lastPrinted>2015-11-03T08:21:31Z</cp:lastPrinted>
  <dcterms:modified xsi:type="dcterms:W3CDTF">2015-11-03T08:22:14Z</dcterms:modified>
  <cp:revision>17</cp:revision>
  <dc:subject/>
  <dc:title>Title</dc:title>
</cp:coreProperties>
</file>