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4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4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9CB7-321E-4B41-B225-32E66000D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5E5-9D36-4EEC-8985-F3D354300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2F3-93B6-480E-82E7-1493C307E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1E7F-B461-41E4-A27C-85712DDF4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C46-7FBF-4F9C-AE1E-8F870153C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693-66C8-4D1F-B5C8-0EE63FB4D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5409-531E-4E41-88EB-1A818AE3C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B84-FD0B-44B9-85B4-4D82A4E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446-01FD-41B9-9CD6-9C7DA6B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C7839-654D-4027-A1CA-9DAE6A2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9FE0-B8D3-4865-B30C-E929011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BDAA-564D-41D6-9D1B-6C86F83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04B49-3379-4691-A087-137D1A1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A4276-DB6F-40D3-B5D2-F0DF86D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18AB1-A127-459C-AC22-0475845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DFF72-2DB7-4699-8180-49E2F5F7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3EFE8-5C49-4E07-8EEE-66D30AA2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30992-92EC-4DDF-AFA7-D63235A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29EE8-C2CB-4DDD-A26B-7BD802EC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195-0E9A-421A-94BE-4B2FA41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E6EF4-5847-46EA-96A9-E9722CF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A359-20F7-45AA-B387-B9B35FE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22858-320B-4BFD-96A6-332F0E9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5C5C-72BB-44EE-93B5-03C2C41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A221A-886E-4F58-BAE9-513B1E34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08526-B03E-45C5-80BD-FA1306C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C531D-CD1F-431D-9C76-4B7F2D9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A5947-DE50-492D-B765-02F1796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43C23-29BC-45A7-8651-D16D7C8C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F51B3-077E-42E3-9669-9AB9BE33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697-D05B-45B3-B4FA-B9737BF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905C7-7468-47B1-8401-EBFDF2C1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D6582-693F-46AC-9D15-74A7500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42A8-EE1B-40D2-B977-8010CC6A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BFF70-005B-46A1-A150-90F151F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4FFE-6185-4512-AD72-41B7C6E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7377A-0086-42E6-B306-A4A12FFD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A3D0-1BCD-4F76-8757-10DECC3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DCA3-43B1-4EDD-A15D-93A73BB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889BF-0125-4B96-9FA0-8FDEBC5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F992-0C6E-44C8-B7D5-BBDC546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1917-627E-42CA-B31D-B14805F5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450B-01E9-4056-9C77-BECB9B1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D9214-6E89-47BE-B906-F147B80A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D71FD-2377-4210-BD23-6D21189D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F8A47-6C1F-46C3-A7B1-1A356E64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DD780-D2F8-45D8-A454-80F0472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C98AF-0285-4672-8DAE-6A9795A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DC79-EAB3-4981-9110-2808E3E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30D50-806A-4925-A499-FECFE2B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3AF97-6A5C-4D10-AAA6-114B4343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36CF-1F64-4632-B912-5DDD1EF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557-C59E-4445-AFBB-38265EDE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B54C7-DC51-414F-851E-9081854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0B585-054E-4B00-B3F5-1444F23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22437-B06D-414A-9912-C0A1225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CC5DE-3DB5-4B64-B3C6-0C53715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BA71D-2173-4E07-8992-D364A232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C17D0-0D30-420C-9F67-9822247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3C7F9-7D20-4069-A764-19EF62F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EC24E-BA1F-4D72-93C0-943C78C3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16C15-CC08-45EB-AA98-2A4381D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2340C-AF32-42FF-9E05-B2F8B99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0A85-A1FE-4394-9F45-B8CFDEE7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040AA-3811-4CE7-B830-A9A497D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65DF6-61D2-47B3-99AE-8AA6133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B6AC3-02A0-4E67-A85E-52DB9B4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7FE42-443B-4A6C-A298-3AABD0F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D0EDF-F0BD-479F-815D-4342D933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EA685-D37F-4FF8-A866-B1CF9836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0026C-66C4-483E-A8D3-686CBDA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845EC5-C196-4337-8704-5B3368B54DF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E2765F-980A-4FF4-9BAD-1B65D43B7D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822F15-AC09-4D37-BDA4-7AA35C8D19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D14-79BF-43C7-8BC1-42D06B5F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AAC22E-F26D-4DB1-89DF-30E91F499D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1B025E-6AA9-45A2-93B9-A253E0542E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7813CB-19E8-4584-B344-3B6173D3B08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66AF12-3CC1-4066-8020-4106CC9D68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C0672F-C475-49BF-AC2E-46754C87E0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0F6245-9815-44FF-ABD4-D5D445BFDE8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359F13-0F7A-4973-BB36-7058699D58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A7513B-1D5F-4E00-B1EF-34902319FD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7DBC01-BAA6-4CAC-B7B9-C9E5A73F8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A6B8-2A4F-4727-A3C8-2148241A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CF90-107F-4804-A1D5-C7C3B70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E1D2-CCE6-43D4-B038-131CE12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8EF-0C89-48F7-9E32-2D674448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BB0A-B7B7-4EF5-9E4C-62B6A909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ABE-AC10-4814-9694-69115A0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B65-06A7-4620-8121-B761381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874-5F61-4F83-BA0F-7283C658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7F40-7C4D-4BDB-ADAE-045D42B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EEAD-2463-45FD-9DFA-A5F61E41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C8D1-A296-4D75-ADDD-61432F7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595B-22EC-4DED-8F63-625572B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C142-2C7F-4D62-AEF8-D37498E1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082F-CD61-433A-BCD9-3E66A358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086-A25E-45D8-87A6-E7A936BB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E312-BCFC-4647-B9C9-9DBA37C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FE9A-9C00-4BBC-9690-DC52ED6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2454-AE37-4FE2-BEA6-2421DCDE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20E5-35DB-4950-816C-33C2691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6501-6A4F-4A5A-9DD7-A3E4BF6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82B3-C473-4C3F-A63F-62715CE1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6DB4-2422-4D33-AE6E-6FAF850A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26B3-80A6-4DFD-99BC-67492261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A5B4-FD2B-43B7-A2FF-B5D289F5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4E6C-CEEA-42A8-9183-200F3AC4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986-0FB8-42C1-AA25-056E0AA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ECD2-A64D-452B-85A3-09A77025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5056-C086-40A5-A90D-B7EC04E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99E8-72E6-4502-970A-D72C151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1C77-2488-46FA-B741-A068515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ED35-7CF9-4B33-B608-9AE3AB2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024D-31DF-48AA-95F4-98F42F0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75E5-DF93-4900-9367-B5A0D36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042E-1189-4D0D-9FD9-EBA7C3FE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066A-A702-4F23-845F-E9230DFA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B62F-D4BA-4661-B1DB-DB079B71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987-46B6-4F9E-AA09-57BB9B6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B9B1-B1ED-42D1-B227-92F5EE1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AB94-AF89-4BE5-A613-4749510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A144-9D54-4C6B-933C-9A9DFE8E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ACF0-2BFC-4CEF-B7EE-13862751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9948-E9C6-4208-9086-E933236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3947-9BD4-40BF-A3F9-D3B101C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1C79-F3BB-4B98-9D63-6A22B21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433D-4099-4516-A90E-24AF50E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252D-7B6A-4CAC-8D9C-AE60FACB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1B4E-BA72-4746-8BB7-7C0E6D8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270-38D8-4AF8-AF1F-E3C0653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E3D0-0014-4EDD-BCD6-6CD41012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CA4C-AF43-451F-B613-96A39D7C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F750-B56A-42EB-892E-0930F7CF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3DB1-2266-4103-BD2E-A6A56759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E462-816D-41E7-86DE-81DD7A5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6C8F-20F5-437D-AB5C-26BD3835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E393-D41D-4224-9884-5E9443E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EEFF-1D91-4977-851B-2E4F06A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2C1B-7B22-4269-B4DF-56D319E8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83B9-BB91-4F53-B0E4-6DCC9F2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9A2-175E-435E-9CE7-A7AD47E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6DC6F-3EBC-4DB3-8597-6A2E542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1BF4-73C5-466E-B5A9-5E0B880C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C000-51BD-4F86-A515-996AF34C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EC46-2BA6-49AA-B1DF-A186BFF1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2810-F627-4632-B7BD-E09DC70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5D63-46B0-4E39-81B7-E2D94454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B625-5133-4E4D-A903-2411657F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FE8F-A6D6-4D82-AF97-32CBE09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13F0-A1A9-4F8A-9192-1523F42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D67A-A2DF-4F1A-AAF3-92E1FA5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58F-E639-4BA2-8F8D-362D7B6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45E2-F746-4049-8E9A-61D5DCE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D763-C483-4EAB-80BA-1C22065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412A-4342-4FC7-B6CD-EFF83C6F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092E-9208-4E2E-8689-076F1A44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30561-7F84-4FB9-A20B-0B7129B8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B5FDC-B682-4D31-95FA-85122F38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00C3-02C9-45FC-8BC2-B7D7A7B5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FEA3-6CDF-402C-88C6-AC48411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7F2A-510A-42C1-A844-4C8DF5F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94E3-1120-41A3-921F-98462F1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896-934F-42C3-9187-7632AB68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34EC9-A245-4CAB-96B1-B78A9E0B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EE8A-1A31-414C-8EC0-6FA103E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8F58-8380-40A5-90F0-CD0B10A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26E6-280B-42DB-BA74-2CA88C1E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4DA6-F827-4EBE-9CF8-A4888CA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CF469-E660-4A95-9AAB-65580CFF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7A319-FBBF-4E08-AAA0-9A22C88D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4A42-74E6-4EBB-BC91-FBB75F8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36C4-151D-4404-B187-A3C1E7B4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505A-8C63-4730-BA74-175B8DAD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12C-A7EB-4F08-B5A3-2D38F613DB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3260-49CC-4884-B463-B8C00C23D1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FD7C-11B3-4073-AE91-68009C4C3A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54C-F540-4312-B5D5-1E1B5C3DD6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87C-C656-4C04-9F92-241E61FCE7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4651200" y="1644480"/>
            <a:ext cx="3880080" cy="406116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Num" idx="40"/>
          </p:nvPr>
        </p:nvSpPr>
        <p:spPr>
          <a:xfrm>
            <a:off x="8524440" y="6283440"/>
            <a:ext cx="358920" cy="1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558-2A75-47D3-B287-90AF386827C6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4221000" y="6437160"/>
            <a:ext cx="684360" cy="455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GO-CE for Word Positive Taxation.png"/>
          <p:cNvPicPr/>
          <p:nvPr/>
        </p:nvPicPr>
        <p:blipFill>
          <a:blip r:embed="rId3"/>
          <a:stretch/>
        </p:blipFill>
        <p:spPr>
          <a:xfrm>
            <a:off x="3649680" y="324000"/>
            <a:ext cx="1812960" cy="139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4374-68E5-498F-9890-17470302B9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38d4d6"/>
          </a:solidFill>
          <a:ln w="9360">
            <a:solidFill>
              <a:srgbClr val="38d4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LOGO-CE for Word Negative Taxation.png"/>
          <p:cNvPicPr/>
          <p:nvPr/>
        </p:nvPicPr>
        <p:blipFill>
          <a:blip r:embed="rId2"/>
          <a:stretch/>
        </p:blipFill>
        <p:spPr>
          <a:xfrm>
            <a:off x="3754440" y="306360"/>
            <a:ext cx="1617840" cy="124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2720" cy="407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16C-554A-4933-86DB-51E4B15A85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~1\lenain\LOCALS~1\Temp\7zE36.tmp\LOGO-CE Landscape Positive TAXUD EN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614-3501-4F1A-8C5C-74A0CE959F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F84-B5A2-4406-9249-DF8C3E8F56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E49D-68AE-45DA-B7E6-762C5E7BD1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2BA2-98D5-484E-859A-25A93D3DFD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036-75F0-4518-911D-2AD24BE4A5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18A-2FEA-4BB3-A50A-3ACD9D072E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ommon/consultations/tax/2015_alcohol_en.htm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ivil Dialogue Group on "Wine"</a:t>
            </a: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Update on the Alcohol "Structures" study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8000" y="443664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-3427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eather Jones, Policy Offic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2 Indirect Taxes (other than VA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G TAXU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November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280" y="1628280"/>
            <a:ext cx="791388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Verdana"/>
              </a:rPr>
              <a:t>Next Steps - Progress Report - Jan 2016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 the status of the stakeholder consult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number of replies, nature of respondents, countries covered, etc.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f necessary mitigation measures for ensuring a higher participation will be proposed – e.g. leave the targeted consultation open throughout the case study perio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ill present a motivated proposal for carrying out thematic case studie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ext Steps – p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otential top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6836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otential impact of misclassification of alcoholic products on tax revenu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s and effects of an inconsistent application of exemptions for denatured alcohol on the proper functioning of the internal mark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mount and economic value of fraud linked to the exemptions of denatured alcoho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effects of various possible changes to the structure of reduced ra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aterial differences in duty terms between the ABV and Plato method for calculating excise duty on be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ology for carrying out case studies will be detail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960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oject Schedul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33" name="Diagram 3" descr=""/>
          <p:cNvPicPr/>
          <p:nvPr/>
        </p:nvPicPr>
        <p:blipFill>
          <a:blip r:embed="rId1"/>
          <a:stretch/>
        </p:blipFill>
        <p:spPr>
          <a:xfrm>
            <a:off x="311040" y="1457280"/>
            <a:ext cx="8236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016-2017 plann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nfluence of the Better Regulation guidelines re possible progress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ynopsis report of the consultations and feedback published (Q1/2016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l Report by the consultants / TAXUD (Q2/2016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nking the recommendations (Q3/2016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ort accepted by the Cabinet (Q3/2016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-Service Consultation (Q3/2016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ort to the Council, finalizing the REFIT evalu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accepted, a study with accompanying stepped Impact Assessment (Q4/2016?), covering :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the EU problem 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the objectives ar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these objectives can be reached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the impact will be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osal to amend the Directive (2017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?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72040" indent="-21996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hank you &amp; Questions?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37" name="Picture 7" descr="VETRERIA COLORE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900000" y="2565360"/>
            <a:ext cx="65516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7400" y="452160"/>
            <a:ext cx="79171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0920" y="1341000"/>
            <a:ext cx="38797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ject statu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akeholder consult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mber Stat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irectly impacted stakeholder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eneral publi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rcRect l="2232" t="0" r="2232" b="0"/>
          <a:stretch/>
        </p:blipFill>
        <p:spPr>
          <a:xfrm>
            <a:off x="4500720" y="1197000"/>
            <a:ext cx="403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troduction – "Structures" Study – Council Directive 92/83/EEC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836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rective has not been amended since 1992, apart from derogations involving the accession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jective is to provide the Commission with the economic information to adopt a policy and assess the likely impact of this future policy for revising the Directive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this respect, the evaluation should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sess the extent to which Directive 92/83/EEC meets its objectives in terms of securing the revenues of tax administrations and ensuring the proper functioning of the internal marke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mulate recommendations on how best to address identified issues.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79167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op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24000" y="1628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Retrospective evaluation of the Directive and its functioning under the existing legal framework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Key areas for evaluatio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1. The application and treatment of exemptions for denatured alcoho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2. The classification of excisable alcohol and alcoholic beverag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3. The application of reduced rates for certain groups small producers of alcoho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The exemptions applicable to private production for own consumption of certain product catego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4"/>
          <p:cNvGrpSpPr/>
          <p:nvPr/>
        </p:nvGrpSpPr>
        <p:grpSpPr>
          <a:xfrm>
            <a:off x="2698920" y="1197000"/>
            <a:ext cx="3141360" cy="828720"/>
            <a:chOff x="2698920" y="1197000"/>
            <a:chExt cx="3141360" cy="828720"/>
          </a:xfrm>
        </p:grpSpPr>
        <p:sp>
          <p:nvSpPr>
            <p:cNvPr id="597" name="Chevron 5"/>
            <p:cNvSpPr/>
            <p:nvPr/>
          </p:nvSpPr>
          <p:spPr>
            <a:xfrm>
              <a:off x="2698920" y="1197000"/>
              <a:ext cx="3141360" cy="828720"/>
            </a:xfrm>
            <a:custGeom>
              <a:avLst/>
              <a:gdLst>
                <a:gd name="textAreaLeft" fmla="*/ 0 w 3141360"/>
                <a:gd name="textAreaRight" fmla="*/ 3141720 w 31413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598" name="Chevron 4"/>
            <p:cNvSpPr/>
            <p:nvPr/>
          </p:nvSpPr>
          <p:spPr>
            <a:xfrm>
              <a:off x="3327480" y="1197000"/>
              <a:ext cx="18842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18720" tIns="18720" bIns="187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PHASE 2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Data collection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599" name="Group 10"/>
          <p:cNvGrpSpPr/>
          <p:nvPr/>
        </p:nvGrpSpPr>
        <p:grpSpPr>
          <a:xfrm>
            <a:off x="5519880" y="1197000"/>
            <a:ext cx="3298680" cy="828720"/>
            <a:chOff x="5519880" y="1197000"/>
            <a:chExt cx="3298680" cy="828720"/>
          </a:xfrm>
        </p:grpSpPr>
        <p:sp>
          <p:nvSpPr>
            <p:cNvPr id="600" name="Chevron 11"/>
            <p:cNvSpPr/>
            <p:nvPr/>
          </p:nvSpPr>
          <p:spPr>
            <a:xfrm>
              <a:off x="5519880" y="1197000"/>
              <a:ext cx="3298680" cy="828720"/>
            </a:xfrm>
            <a:custGeom>
              <a:avLst/>
              <a:gdLst>
                <a:gd name="textAreaLeft" fmla="*/ 0 w 3298680"/>
                <a:gd name="textAreaRight" fmla="*/ 3299040 w 329868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01" name="Chevron 4"/>
            <p:cNvSpPr/>
            <p:nvPr/>
          </p:nvSpPr>
          <p:spPr>
            <a:xfrm>
              <a:off x="6180120" y="1197000"/>
              <a:ext cx="19778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18720" tIns="18720" bIns="18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PHASE</a:t>
              </a: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 3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Analysis, conclusions, recommendations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602" name="Group 13"/>
          <p:cNvGrpSpPr/>
          <p:nvPr/>
        </p:nvGrpSpPr>
        <p:grpSpPr>
          <a:xfrm>
            <a:off x="249120" y="1197000"/>
            <a:ext cx="2737080" cy="792000"/>
            <a:chOff x="249120" y="1197000"/>
            <a:chExt cx="2737080" cy="792000"/>
          </a:xfrm>
        </p:grpSpPr>
        <p:sp>
          <p:nvSpPr>
            <p:cNvPr id="603" name="Chevron 14"/>
            <p:cNvSpPr/>
            <p:nvPr/>
          </p:nvSpPr>
          <p:spPr>
            <a:xfrm>
              <a:off x="249120" y="1197000"/>
              <a:ext cx="2737080" cy="792000"/>
            </a:xfrm>
            <a:custGeom>
              <a:avLst/>
              <a:gdLst>
                <a:gd name="textAreaLeft" fmla="*/ 0 w 2737080"/>
                <a:gd name="textAreaRight" fmla="*/ 2737440 w 27370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PHASE 1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Verdana"/>
                </a:rPr>
                <a:t>Inception</a:t>
              </a:r>
              <a:endParaRPr b="1" lang="en-US" sz="12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04" name="Chevron 4"/>
            <p:cNvSpPr/>
            <p:nvPr/>
          </p:nvSpPr>
          <p:spPr>
            <a:xfrm>
              <a:off x="796680" y="1197000"/>
              <a:ext cx="16416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605" name="Chevron 30"/>
          <p:cNvSpPr/>
          <p:nvPr/>
        </p:nvSpPr>
        <p:spPr>
          <a:xfrm>
            <a:off x="533520" y="2133720"/>
            <a:ext cx="2165400" cy="68724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2" y="0"/>
                </a:lnTo>
                <a:lnTo>
                  <a:pt x="21600" y="10800"/>
                </a:lnTo>
                <a:lnTo>
                  <a:pt x="18172" y="21600"/>
                </a:lnTo>
                <a:lnTo>
                  <a:pt x="0" y="21600"/>
                </a:lnTo>
                <a:lnTo>
                  <a:pt x="3428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2511360" y="2133720"/>
            <a:ext cx="1914480" cy="687240"/>
            <a:chOff x="2511360" y="2133720"/>
            <a:chExt cx="1914480" cy="687240"/>
          </a:xfrm>
        </p:grpSpPr>
        <p:sp>
          <p:nvSpPr>
            <p:cNvPr id="607" name="Chevron 28"/>
            <p:cNvSpPr/>
            <p:nvPr/>
          </p:nvSpPr>
          <p:spPr>
            <a:xfrm>
              <a:off x="2511360" y="2133720"/>
              <a:ext cx="1914480" cy="68724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08" name="Chevron 6"/>
            <p:cNvSpPr/>
            <p:nvPr/>
          </p:nvSpPr>
          <p:spPr>
            <a:xfrm>
              <a:off x="2893680" y="2133720"/>
              <a:ext cx="114948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STEP 2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Survey to Member States and Operators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609" name="Group 19"/>
          <p:cNvGrpSpPr/>
          <p:nvPr/>
        </p:nvGrpSpPr>
        <p:grpSpPr>
          <a:xfrm>
            <a:off x="4230720" y="2133720"/>
            <a:ext cx="1541520" cy="687240"/>
            <a:chOff x="4230720" y="2133720"/>
            <a:chExt cx="1541520" cy="687240"/>
          </a:xfrm>
        </p:grpSpPr>
        <p:sp>
          <p:nvSpPr>
            <p:cNvPr id="610" name="Chevron 26"/>
            <p:cNvSpPr/>
            <p:nvPr/>
          </p:nvSpPr>
          <p:spPr>
            <a:xfrm>
              <a:off x="4230720" y="2133720"/>
              <a:ext cx="1541520" cy="68724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11" name="Chevron 8"/>
            <p:cNvSpPr/>
            <p:nvPr/>
          </p:nvSpPr>
          <p:spPr>
            <a:xfrm>
              <a:off x="4538520" y="2133720"/>
              <a:ext cx="92556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STEP 3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Case studies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612" name="Group 20"/>
          <p:cNvGrpSpPr/>
          <p:nvPr/>
        </p:nvGrpSpPr>
        <p:grpSpPr>
          <a:xfrm>
            <a:off x="5557680" y="2131920"/>
            <a:ext cx="1719360" cy="689040"/>
            <a:chOff x="5557680" y="2131920"/>
            <a:chExt cx="1719360" cy="689040"/>
          </a:xfrm>
        </p:grpSpPr>
        <p:sp>
          <p:nvSpPr>
            <p:cNvPr id="613" name="Chevron 24"/>
            <p:cNvSpPr/>
            <p:nvPr/>
          </p:nvSpPr>
          <p:spPr>
            <a:xfrm>
              <a:off x="5557680" y="2131920"/>
              <a:ext cx="1719360" cy="68904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14" name="Chevron 10"/>
            <p:cNvSpPr/>
            <p:nvPr/>
          </p:nvSpPr>
          <p:spPr>
            <a:xfrm>
              <a:off x="5902200" y="2131920"/>
              <a:ext cx="1030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STEP 4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Analysis &amp; Assessment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grpSp>
        <p:nvGrpSpPr>
          <p:cNvPr id="615" name="Group 21"/>
          <p:cNvGrpSpPr/>
          <p:nvPr/>
        </p:nvGrpSpPr>
        <p:grpSpPr>
          <a:xfrm>
            <a:off x="7067520" y="2131920"/>
            <a:ext cx="1719360" cy="689040"/>
            <a:chOff x="7067520" y="2131920"/>
            <a:chExt cx="1719360" cy="689040"/>
          </a:xfrm>
        </p:grpSpPr>
        <p:sp>
          <p:nvSpPr>
            <p:cNvPr id="616" name="Chevron 22"/>
            <p:cNvSpPr/>
            <p:nvPr/>
          </p:nvSpPr>
          <p:spPr>
            <a:xfrm>
              <a:off x="7067520" y="2131920"/>
              <a:ext cx="1719360" cy="68904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0" y="0"/>
                  </a:lnTo>
                  <a:lnTo>
                    <a:pt x="21600" y="10800"/>
                  </a:lnTo>
                  <a:lnTo>
                    <a:pt x="17280" y="21600"/>
                  </a:lnTo>
                  <a:lnTo>
                    <a:pt x="0" y="21600"/>
                  </a:lnTo>
                  <a:lnTo>
                    <a:pt x="4320" y="108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617" name="Chevron 12"/>
            <p:cNvSpPr/>
            <p:nvPr/>
          </p:nvSpPr>
          <p:spPr>
            <a:xfrm>
              <a:off x="7412040" y="2131920"/>
              <a:ext cx="1030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1332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STEP 5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Verdana"/>
                </a:rPr>
                <a:t>Finalisation</a:t>
              </a:r>
              <a:endParaRPr b="1" lang="en-US" sz="1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618" name="TextBox 32"/>
          <p:cNvSpPr/>
          <p:nvPr/>
        </p:nvSpPr>
        <p:spPr>
          <a:xfrm>
            <a:off x="600120" y="2879640"/>
            <a:ext cx="1838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Kick-off meeting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Refinement of work programme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Exploratory interviews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ffd624"/>
                </a:solidFill>
                <a:latin typeface="Verdana"/>
                <a:ea typeface="Arial"/>
              </a:rPr>
              <a:t>Desk research of available material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Preliminary problem definition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Intervention logic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Evaluation Matrix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Inception Repor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SG Meeting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19" name="TextBox 35"/>
          <p:cNvSpPr/>
          <p:nvPr/>
        </p:nvSpPr>
        <p:spPr>
          <a:xfrm>
            <a:off x="2554200" y="2901960"/>
            <a:ext cx="29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Drafting  and approval of questionnaires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Fiscal Seminar (Latvia)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Consultation of excise administrations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Online survey to economic operators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Public consultation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Progress repor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SG Meeting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Planning and carrying out case studies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0" name="TextBox 37"/>
          <p:cNvSpPr/>
          <p:nvPr/>
        </p:nvSpPr>
        <p:spPr>
          <a:xfrm>
            <a:off x="7277040" y="2901960"/>
            <a:ext cx="129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Finalization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Final repor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1" name="Chevron 6"/>
          <p:cNvSpPr/>
          <p:nvPr/>
        </p:nvSpPr>
        <p:spPr>
          <a:xfrm>
            <a:off x="825480" y="2131920"/>
            <a:ext cx="1441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13320" tIns="13320" bIns="1332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Design of the study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2" name="TextBox 34"/>
          <p:cNvSpPr/>
          <p:nvPr/>
        </p:nvSpPr>
        <p:spPr>
          <a:xfrm>
            <a:off x="5729400" y="2901960"/>
            <a:ext cx="1439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Analysis  and triangulation of data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Problem Tree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Solution table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Draft final repor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3760" indent="-23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d624"/>
                </a:solidFill>
                <a:latin typeface="Verdana"/>
                <a:ea typeface="Arial"/>
              </a:rPr>
              <a:t>SG Meeting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3" name="Oval 33"/>
          <p:cNvSpPr/>
          <p:nvPr/>
        </p:nvSpPr>
        <p:spPr>
          <a:xfrm>
            <a:off x="2266920" y="3254400"/>
            <a:ext cx="3197160" cy="857160"/>
          </a:xfrm>
          <a:prstGeom prst="ellipse">
            <a:avLst/>
          </a:prstGeom>
          <a:noFill/>
          <a:ln w="1908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167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Statu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0560" y="1413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 months (28-August 2015 – 28 November 2015) - Promoted by the EU Commission / Ramboll (direct e-mail to all relevant associations + TAXUD newsletter, Twitter, Facebook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takeholder consultation webpag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taxation_customs/common/consultations/tax/2015_alcohol_en.ht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lassification of alcohol and alcoholic beverages for excise purpos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stablishing excise duty for beer – plato v ABV?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duced excise duty rates for small producers – e.g. should this be extended to cover wine so that MS who do not use the zero rate can benefit?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duced rates for alcoholic beverages below a certain alcoholic strength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xemptions and reduced rates for products intended for own consumption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rovisions only applying to specific Member States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xemptions for denatured alcohol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raud with alcohol and alcoholic beverages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xcise duty as a policy tool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611280" y="1413000"/>
            <a:ext cx="791352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dministrations in the Member Sta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naire sent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irectly by e-mail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relevant persons within national tax administr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llowed up by phone with all Member Sta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mber States consulted on all topics of the evalu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tus: All Member States confirmed receipt of the questionnair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11280" y="1483920"/>
            <a:ext cx="79135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rectly impacted stakeholders of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Producers of alcoholic beverag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Producers, importers, distributors or users of denatured alcoho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Organisations representing the abov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nline consultatio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 stakeholders consulted on aspects relevant to them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nature of respondents tailors the questionnaire in its online form (e.g. Producers of beer will not see questions dealing with the treatment of denatured alcohol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611280" y="1557360"/>
            <a:ext cx="791352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ultation of the general public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Open to anyone wishing to provide their opinion on the functioning of the Directiv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nline consultatio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rter, less technical questionnai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keholders provided with questions covering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lassification of alcohol and alcoholic beverages (experien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Reduced rates for small produc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Fraudulent alcohol (counterfeited or surrogat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Excise structure's importance for policy mak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30:39Z</dcterms:created>
  <dc:creator>Aurimas VASYLIS (TAXUD)</dc:creator>
  <dc:description/>
  <dc:language>en-US</dc:language>
  <cp:lastModifiedBy>JONES Heather (TAXUD)</cp:lastModifiedBy>
  <cp:lastPrinted>2015-02-25T09:21:26Z</cp:lastPrinted>
  <dcterms:modified xsi:type="dcterms:W3CDTF">2015-10-29T12:35:58Z</dcterms:modified>
  <cp:revision>160</cp:revision>
  <dc:subject/>
  <dc:title>Completely and Partially  Denatured Alcohol Fiscalis Project Group (093)</dc:title>
</cp:coreProperties>
</file>