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800" y="744120"/>
            <a:ext cx="6615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1753CA8-DA1A-47EC-910B-2A5BB1C6F6E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A534018-7160-4027-996B-EA29420E42C3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7F366C6-27C1-4040-82B6-0ACFD3770235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E106857-F60B-4355-B0EF-9D0793BF5317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B19813F-E1F2-4782-BB18-6940C684C1F3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E0F-5150-4713-A3B3-1C927643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A13-52A4-4EB8-A3C6-09DADF04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CC3-69A3-4CF4-B878-AC8D3BB8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340-CA94-4D5C-9B92-7B91B68F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29D2-6BE0-4989-9485-1F4B0CD6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DF35-5E7F-432A-96AE-B13EA640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5646-B8B5-4F05-8DA5-CA705888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3611-6EF3-4630-8075-EB6247B2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0181-C645-4BDF-B3BB-72023166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277920"/>
            <a:ext cx="10972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A512-08D0-4362-90C5-7C962CA2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0B38-1F3F-4C70-AF15-299C1A13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E61-9092-43E1-A867-643FB314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8DFA-1AAB-4A9D-A239-7F65AC6A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96CA-F9E7-4F32-9AFB-F2D90BE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D350-0E81-4137-988D-F7CA2206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3A92-8D2B-44AC-A62F-AF0EC66C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B9BD-117D-475E-A88C-C6ADA341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E67-A0F6-4E70-AF50-46231A7C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DCE-E277-41BD-9374-002198C9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ABB-5998-41DC-A59F-28F12DF9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7920"/>
            <a:ext cx="10972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3C4-94BD-4F6E-AD87-C9D2D96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E3E-F6E8-4810-8134-7E0C36F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6F1-771C-4E8E-9607-DBD45AEA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E2E-F79D-458C-8405-9B30B131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8d2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2a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7d52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28d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2a3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C8BE-0012-49D6-B19A-DB9C6F9B868A}" type="slidenum">
              <a:rPr b="0" lang="fr-F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04920" cy="2286000"/>
          </a:xfrm>
          <a:prstGeom prst="rect">
            <a:avLst/>
          </a:prstGeom>
          <a:solidFill>
            <a:srgbClr val="f28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609480" y="1447920"/>
            <a:ext cx="10769760" cy="0"/>
          </a:xfrm>
          <a:prstGeom prst="line">
            <a:avLst/>
          </a:prstGeom>
          <a:ln w="19080">
            <a:solidFill>
              <a:srgbClr val="962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304920" cy="2286000"/>
          </a:xfrm>
          <a:prstGeom prst="rect">
            <a:avLst/>
          </a:prstGeom>
          <a:solidFill>
            <a:srgbClr val="c7d5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304920" cy="2286000"/>
          </a:xfrm>
          <a:prstGeom prst="rect">
            <a:avLst/>
          </a:prstGeom>
          <a:solidFill>
            <a:srgbClr val="962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304920" y="2889360"/>
            <a:ext cx="11480400" cy="201600"/>
            <a:chOff x="304920" y="2889360"/>
            <a:chExt cx="11480400" cy="201600"/>
          </a:xfrm>
        </p:grpSpPr>
        <p:sp>
          <p:nvSpPr>
            <p:cNvPr id="46" name="Rectangle 8"/>
            <p:cNvSpPr/>
            <p:nvPr/>
          </p:nvSpPr>
          <p:spPr>
            <a:xfrm>
              <a:off x="304920" y="2889360"/>
              <a:ext cx="3826800" cy="201600"/>
            </a:xfrm>
            <a:prstGeom prst="rect">
              <a:avLst/>
            </a:prstGeom>
            <a:solidFill>
              <a:srgbClr val="f28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4131720" y="2889360"/>
              <a:ext cx="3826800" cy="201600"/>
            </a:xfrm>
            <a:prstGeom prst="rect">
              <a:avLst/>
            </a:prstGeom>
            <a:solidFill>
              <a:srgbClr val="c7d5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7958880" y="2889360"/>
              <a:ext cx="3826440" cy="201600"/>
            </a:xfrm>
            <a:prstGeom prst="rect">
              <a:avLst/>
            </a:prstGeom>
            <a:solidFill>
              <a:srgbClr val="962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8d2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2a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7d52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28d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2a3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23d8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0D91-6E5A-41CC-A963-0D89CFFD6D78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.simon@cevi-eciw.eu" TargetMode="External"/><Relationship Id="rId3" Type="http://schemas.openxmlformats.org/officeDocument/2006/relationships/hyperlink" Target="http://www.cevi-eciw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EVIlogo2"/>
          <p:cNvPicPr/>
          <p:nvPr/>
        </p:nvPicPr>
        <p:blipFill>
          <a:blip r:embed="rId1"/>
          <a:stretch/>
        </p:blipFill>
        <p:spPr>
          <a:xfrm>
            <a:off x="4881600" y="37400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334800" y="909720"/>
            <a:ext cx="11449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23d85"/>
                </a:solidFill>
                <a:latin typeface="Tahoma"/>
              </a:rPr>
              <a:t>Wine Market Observatory Expert Group</a:t>
            </a:r>
            <a:br>
              <a:rPr sz="4200"/>
            </a:br>
            <a:r>
              <a:rPr b="0" lang="fr-FR" sz="4200" spc="-1" strike="noStrike">
                <a:solidFill>
                  <a:srgbClr val="923d85"/>
                </a:solidFill>
                <a:latin typeface="Tahoma"/>
              </a:rPr>
              <a:t>-</a:t>
            </a:r>
            <a:endParaRPr b="0" lang="en-US" sz="42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23d85"/>
                </a:solidFill>
                <a:latin typeface="Tahoma"/>
              </a:rPr>
              <a:t>6 May 2020</a:t>
            </a:r>
            <a:endParaRPr b="0" lang="en-US" sz="20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99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3C41-6AA5-4B4F-987A-161EC1B751C0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3740040"/>
            <a:ext cx="488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3d85"/>
                </a:solidFill>
                <a:latin typeface="Tahoma"/>
              </a:rPr>
              <a:t>Matilde Poggi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310520" y="3740040"/>
            <a:ext cx="488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3d85"/>
                </a:solidFill>
                <a:latin typeface="Tahoma"/>
              </a:rPr>
              <a:t>Pierre Bernhard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23880" y="277920"/>
            <a:ext cx="11160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COVID-19 specific measures targeting HORECA and off-trade market 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(update 30 April 2020) 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3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F10F-924F-42DD-9A46-865F753AC409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pic>
        <p:nvPicPr>
          <p:cNvPr id="104" name="Image 4" descr=""/>
          <p:cNvPicPr/>
          <p:nvPr/>
        </p:nvPicPr>
        <p:blipFill>
          <a:blip r:embed="rId1"/>
          <a:srcRect l="19309" t="0" r="0" b="0"/>
          <a:stretch/>
        </p:blipFill>
        <p:spPr>
          <a:xfrm>
            <a:off x="623880" y="1603440"/>
            <a:ext cx="5789520" cy="4994280"/>
          </a:xfrm>
          <a:prstGeom prst="rect">
            <a:avLst/>
          </a:prstGeom>
          <a:ln w="9360">
            <a:solidFill>
              <a:srgbClr val="c7d52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5" name="Groupe 5"/>
          <p:cNvGrpSpPr/>
          <p:nvPr/>
        </p:nvGrpSpPr>
        <p:grpSpPr>
          <a:xfrm>
            <a:off x="6672240" y="2144880"/>
            <a:ext cx="6826320" cy="2075400"/>
            <a:chOff x="6672240" y="2144880"/>
            <a:chExt cx="6826320" cy="2075400"/>
          </a:xfrm>
        </p:grpSpPr>
        <p:sp>
          <p:nvSpPr>
            <p:cNvPr id="106" name="Rectangle 14"/>
            <p:cNvSpPr/>
            <p:nvPr/>
          </p:nvSpPr>
          <p:spPr>
            <a:xfrm>
              <a:off x="6672240" y="3394080"/>
              <a:ext cx="226800" cy="180720"/>
            </a:xfrm>
            <a:prstGeom prst="rect">
              <a:avLst/>
            </a:prstGeom>
            <a:solidFill>
              <a:srgbClr val="e31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7" name="ZoneTexte 15"/>
            <p:cNvSpPr/>
            <p:nvPr/>
          </p:nvSpPr>
          <p:spPr>
            <a:xfrm>
              <a:off x="6948000" y="3332880"/>
              <a:ext cx="513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and off-trade market entirely closed 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6672240" y="3976560"/>
              <a:ext cx="226800" cy="18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9" name="ZoneTexte 17"/>
            <p:cNvSpPr/>
            <p:nvPr/>
          </p:nvSpPr>
          <p:spPr>
            <a:xfrm>
              <a:off x="6958440" y="3913200"/>
              <a:ext cx="65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Limitation on hours, locality or for specific reasons 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6672240" y="2205000"/>
              <a:ext cx="226800" cy="179280"/>
            </a:xfrm>
            <a:prstGeom prst="rect">
              <a:avLst/>
            </a:prstGeom>
            <a:solidFill>
              <a:srgbClr val="2e9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1" name="ZoneTexte 11"/>
            <p:cNvSpPr/>
            <p:nvPr/>
          </p:nvSpPr>
          <p:spPr>
            <a:xfrm>
              <a:off x="6816240" y="2144880"/>
              <a:ext cx="43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and off-trade market open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6672240" y="2828880"/>
              <a:ext cx="226800" cy="179280"/>
            </a:xfrm>
            <a:prstGeom prst="rect">
              <a:avLst/>
            </a:prstGeom>
            <a:solidFill>
              <a:srgbClr val="fd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3" name="ZoneTexte 13"/>
            <p:cNvSpPr/>
            <p:nvPr/>
          </p:nvSpPr>
          <p:spPr>
            <a:xfrm>
              <a:off x="6816240" y="2781000"/>
              <a:ext cx="513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closed, off-trade market open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</p:grpSp>
      <p:sp>
        <p:nvSpPr>
          <p:cNvPr id="114" name="ZoneTexte 6"/>
          <p:cNvSpPr/>
          <p:nvPr/>
        </p:nvSpPr>
        <p:spPr>
          <a:xfrm>
            <a:off x="555120" y="6576840"/>
            <a:ext cx="47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23d85"/>
                </a:solidFill>
                <a:latin typeface="Arial"/>
              </a:rPr>
              <a:t>Source: Governments official reports &amp; local stakeholders</a:t>
            </a:r>
            <a:endParaRPr b="0" lang="en-US" sz="14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23880" y="277920"/>
            <a:ext cx="10728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Key figures turnover – Independant Winegrowers sector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(on average, ongoing)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16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7255-3AB5-4968-A882-942B77CB5050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pic>
        <p:nvPicPr>
          <p:cNvPr id="117" name="Image 2" descr=""/>
          <p:cNvPicPr/>
          <p:nvPr/>
        </p:nvPicPr>
        <p:blipFill>
          <a:blip r:embed="rId1"/>
          <a:srcRect l="11527" t="-2475" r="3973" b="0"/>
          <a:stretch/>
        </p:blipFill>
        <p:spPr>
          <a:xfrm>
            <a:off x="604800" y="1773360"/>
            <a:ext cx="2251080" cy="2176200"/>
          </a:xfrm>
          <a:prstGeom prst="rect">
            <a:avLst/>
          </a:prstGeom>
          <a:ln w="9360">
            <a:solidFill>
              <a:srgbClr val="c7d52f"/>
            </a:solidFill>
            <a:miter/>
          </a:ln>
        </p:spPr>
      </p:pic>
      <p:sp>
        <p:nvSpPr>
          <p:cNvPr id="118" name="Rectangle 22"/>
          <p:cNvSpPr/>
          <p:nvPr/>
        </p:nvSpPr>
        <p:spPr>
          <a:xfrm>
            <a:off x="3071880" y="1773360"/>
            <a:ext cx="2448000" cy="2171520"/>
          </a:xfrm>
          <a:prstGeom prst="rect">
            <a:avLst/>
          </a:prstGeom>
          <a:noFill/>
          <a:ln w="9360">
            <a:solidFill>
              <a:srgbClr val="c7d5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ch 2020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s March 2019: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-51%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3071880" y="4110120"/>
            <a:ext cx="2448000" cy="2170080"/>
          </a:xfrm>
          <a:prstGeom prst="rect">
            <a:avLst/>
          </a:prstGeom>
          <a:noFill/>
          <a:ln w="9360">
            <a:solidFill>
              <a:srgbClr val="c7d5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ril 2020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s April 2019 (estimation):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-71%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graphicFrame>
        <p:nvGraphicFramePr>
          <p:cNvPr id="120" name="Graphique 20"/>
          <p:cNvGraphicFramePr/>
          <p:nvPr/>
        </p:nvGraphicFramePr>
        <p:xfrm>
          <a:off x="5684760" y="1722600"/>
          <a:ext cx="6193080" cy="462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Graphiqu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84760" y="1722600"/>
                    <a:ext cx="619308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ZoneTexte 25"/>
          <p:cNvSpPr/>
          <p:nvPr/>
        </p:nvSpPr>
        <p:spPr>
          <a:xfrm>
            <a:off x="1005840" y="496404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3d85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107427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28d2c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f28d2c"/>
                </a:solidFill>
                <a:latin typeface="Tahoma"/>
              </a:rPr>
              <a:t>further</a:t>
            </a:r>
            <a:r>
              <a:rPr b="1" lang="fr-FR" sz="2800" spc="-1" strike="noStrike">
                <a:solidFill>
                  <a:srgbClr val="f28d2c"/>
                </a:solidFill>
                <a:latin typeface="Tahoma"/>
              </a:rPr>
              <a:t> information please contact:</a:t>
            </a:r>
            <a:endParaRPr b="0" lang="en-US" sz="2800" spc="-1" strike="noStrike">
              <a:solidFill>
                <a:srgbClr val="962a3b"/>
              </a:solidFill>
              <a:latin typeface="Garamond"/>
            </a:endParaRPr>
          </a:p>
        </p:txBody>
      </p:sp>
      <p:pic>
        <p:nvPicPr>
          <p:cNvPr id="124" name="Picture 3" descr="CEVIlogo2"/>
          <p:cNvPicPr/>
          <p:nvPr/>
        </p:nvPicPr>
        <p:blipFill>
          <a:blip r:embed="rId1"/>
          <a:stretch/>
        </p:blipFill>
        <p:spPr>
          <a:xfrm>
            <a:off x="5014800" y="3849840"/>
            <a:ext cx="2162160" cy="2160360"/>
          </a:xfrm>
          <a:prstGeom prst="rect">
            <a:avLst/>
          </a:prstGeom>
          <a:ln w="0">
            <a:noFill/>
          </a:ln>
        </p:spPr>
      </p:pic>
      <p:sp>
        <p:nvSpPr>
          <p:cNvPr id="125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AA64-D2D6-417F-A094-14DD58D69601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26" name="ZoneTexte 3"/>
          <p:cNvSpPr/>
          <p:nvPr/>
        </p:nvSpPr>
        <p:spPr>
          <a:xfrm>
            <a:off x="723960" y="2133720"/>
            <a:ext cx="1074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Christophe Simon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.simon@cevi-eciw.eu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cevi-eciw.eu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+33.1.53.66.32.99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+33.6.07.07.78.03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5:04:20Z</dcterms:created>
  <dc:creator>vif</dc:creator>
  <dc:description/>
  <dc:language>en-US</dc:language>
  <cp:lastModifiedBy>LARIVIERE Vincent (AGRI)</cp:lastModifiedBy>
  <cp:lastPrinted>2020-05-05T13:40:58Z</cp:lastPrinted>
  <dcterms:modified xsi:type="dcterms:W3CDTF">2020-05-06T07:36:54Z</dcterms:modified>
  <cp:revision>272</cp:revision>
  <dc:subject/>
  <dc:title>Diapositive 1</dc:title>
</cp:coreProperties>
</file>