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77AB-1C01-4305-AB9A-C240FA11F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FAE3-C40D-4F30-BD2E-E5858FA78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D73-67E7-49B9-A0F3-7051C5041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BD1D-873D-4524-B469-75FAD2217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43B4-EDF5-4338-BAAD-0C5708D02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9BB9-FE28-40D8-AD75-F1026058D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84C0-1C16-4777-BC77-BD1AE436F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D15-99CB-415D-95C5-59D174DD0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3A98-853A-4AB2-AECC-FC71252F8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0D00-2B54-446A-82E0-15AD7D2DA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F9C9-55C1-47A0-A0F3-1B13120BC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40E3-4A12-4E33-A7CA-3DBBFB6F55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248-805A-4144-8FA1-64B522ED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162-68ED-47AA-B14A-F55CFB8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1ECC1-F4EC-4504-AFD1-FBC0368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A12A2-8BB4-414D-BF09-B73898F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9237F-E234-4A65-B51B-899F05E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F4A65-43A5-455F-82BC-0D4B89C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F964F-057A-433F-8222-FF00C651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2C090-6688-454F-A499-0B911E9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0E6B8-3315-4F48-9393-A7845B00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59079-A564-41D3-BE57-7720F13E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26200-64A1-40D3-A036-8BD12198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6A29D-1E78-42B9-8490-CEC1ED8D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CA8-82A6-4E0B-ACE7-B108EABF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10989-A12B-4761-8D03-BBCF4D30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F3A11-4E74-4F75-8572-0D41935D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614AD-741A-4E37-A46F-171D38A2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E2214-2F35-4220-ACB7-C8E5E705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C1F92-DEFC-4898-AAFA-D70E8B5C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0FDB4-7EF3-4984-852D-ACD4A1D8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4B170-D79E-47C7-96B2-7A24D66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6C6F7-56F1-4ED9-B605-99F83B8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4E864-F114-405B-B5A3-69B5D22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5FD1E-3C6A-4933-95AB-7C4D3B3E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DD9-1C34-4E82-9BD6-BF7997EC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DAB99-F7AF-4B26-9310-6BEE95A1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A9269-AEF0-4B86-BB44-8464A0F3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636F3-B558-4D45-B5EA-175BE78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3424A-E9C8-4EAF-8000-357D5B9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C2D12-8580-49C2-B8C7-0E1826FE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E3A1F-CF0B-4D2D-8E51-CD461AB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1BC2D-AF0A-48E3-910D-50A237A4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C1674-9C9B-46C7-A3F7-485BEC2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397E9-EB57-4C0E-9E63-ADA0B95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8B90B-DD00-4704-947D-56764D6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4F38-9390-4F44-84AC-C766398F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4AE00-CD10-4E8C-9C16-2F0C366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7BDD-6E1B-4C96-A2D4-B9932A36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90954-4E6E-4D93-B551-B110058E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F4170-DBDB-4C95-8F19-638127DC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991D8-0C98-4B66-A513-085A1A31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F62D5-ED05-44C6-BA80-5F7CC647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7A10C-63C3-481E-91F2-7CFBAE95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89616-3A57-4180-8886-239FFCEB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4ABCA-72F2-40AC-84BD-308D2CF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1066B-F66F-4869-BE90-EE02C2EA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0F39-4A27-4615-95D0-CFCE74B3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38BFF-515D-4DFD-B644-9236565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5005A-71EA-49B7-BB62-02FA5F7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BFC91-E8AA-45C6-86CF-C637E3FC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000AE-65E6-42C1-8649-28D6536D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552E5-DCF3-4DF7-917A-B7F2FD8B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DC9E-063B-472E-890C-9008EBE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3690-C0BD-4BD0-8FBD-91638DE6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EE08-AC4E-46F5-BA02-B6577D77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14C5-88C1-48BF-BBC2-06A727B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CB6A-127A-492A-BF66-008F8EA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ACD-4DA0-4300-96CB-4C7A677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CEE9-8985-4CDE-AB11-FAA0D90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58AE-2F09-42C7-B3C2-BB692E7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50C0-3140-48C4-9C1D-F575A12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B3E8-47C3-46AB-8BBA-8122EB85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264E-1330-43D6-9E4F-28DAD4AA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0F51-D956-4646-9DC9-5F01DA98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FCD3-DEC9-4336-B43E-6749E72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51A5-89FA-48A8-8348-229EFCA1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B403-53C5-4C3A-9463-F911DE0B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E806-E6A3-46C7-8F8E-0BE5FEA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34D-0DE1-4958-A9CA-63F1F56C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AB7B-C453-4715-B8A6-CBB808A9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2970-2418-4B79-A075-4362733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1966-54B4-4FEE-9B29-DA25ECA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A8CD-78C8-4F0D-9072-21AFFEC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2935-CCC6-48C5-BE94-D27248CF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8247-ADB6-4D29-8E46-2092439D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9FF7-36FB-4C4B-896E-D1E7ADDC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2A7D-9ECE-4E23-8621-3E9F61E9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4641-3A47-4D71-94E6-7E45876D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09A0A-1BBC-4869-B4AB-5D91B6FF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9DC-D054-452A-B610-9BD73775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5580-BE64-476E-A279-D3669F0D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7342-684B-41DB-9439-1A368A0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EE55-D5BD-43D6-B04A-2D74B93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D671-B1C3-4B31-8EC9-D3B2306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402E-02C1-492F-8D33-2ADBA1CA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3442-F823-493E-9B0A-94400780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CD3C-4F51-410C-A44B-2905011C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05B54-3102-405D-9B38-2604693C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7E3A-2338-4F7F-829B-7C688DA8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5439-3180-49F8-B13D-1AA7DA46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087-7D37-4FBE-AAE3-6CE7CD0F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DDB4-B8F9-4970-BC9D-6B948BC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D318-4CD5-47B7-B7DE-E1158409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5715-3909-4539-B04C-4AFA22B1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A7AAA-8682-4BCD-BB91-03A2753C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AA8F-7D30-4C53-A528-1DCE61B4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27C9-953E-4336-8E02-DD836558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7873-357A-4904-B981-0E852B4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B413-8644-451A-92B1-409CF00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F713-D701-4FB4-89B6-0DB7B533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B658B-E7F1-4AB9-9449-B93D54E3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556-08BB-4141-A7F4-37D09E7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BC1AC-A798-4331-82E0-2B74FBB6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A3E6-CD1B-4BBA-B87E-C3DA95DF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E1AE2-9C52-4687-96D6-C1BF1C7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046C-2440-4988-BE94-FC76FBBD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1E02-D94E-413D-ABEE-35297D30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D2A5-1E30-4237-8CA5-9611D87D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069F-DFE7-46F0-829E-386B2AE6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10EB-3369-4A4A-B771-6DF2A81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095A-3489-4C89-B445-24B4244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7F0CC-F604-4257-84A5-B9F7C85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B2D-10C6-4729-8B38-F39396C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00516-FD95-40F8-8077-4AA50681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893D-1661-48AC-B99C-5A0684F0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D4902-B32F-4DF7-B073-457D0824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F088-A430-4051-9572-6B71C151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2E042-50DE-42E9-B17D-FE44BEC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169B8-533B-409F-8909-CD25F065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F200-737F-4487-AAE4-38EF2037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EDF9-D66F-4110-B415-7D9FF91C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54329-2DAB-4A91-94E9-18FB015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398AC-240E-4D3A-B849-22A4B22D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63B-D584-4932-A4F5-9DA8DD1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DE61-E2DD-4283-927C-174DBC4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E759-82DB-4FE5-A795-1CDA05E1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27CA0-E631-4516-A381-08A5E85D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85702-52E5-4E05-AC2A-B75FD74D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1BFFA-7679-441C-AC56-1B752DF4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C72F6-80B7-4566-99E4-90AEC6ED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3CE3-3C9D-44F4-9B6A-581F1711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6136-4770-4881-8922-EDE8DB23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80B93-FEB5-450E-9E13-9C7CF106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7785-0DB0-4C2B-9B44-8E98C4D6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D29-9E4A-43A8-8EEF-39C59D5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50338-092F-493C-95B0-C9A3C0FA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E9B01-2B15-48BA-8B4F-101593D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1C95-74DF-47C7-98D1-4FD45C7A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3A1E-26B6-4C29-961F-CE3ECAD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A921-FCBC-44CE-8E4D-49B2F98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D11F4-BA16-4EEE-BDD5-A8FFFE8C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5E46D-556C-4C34-A7B5-9BA26E86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C946B-359C-4B1F-9705-74848E7E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82174-0AE5-4EC6-AF31-0BF5CA2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FFC93-EFCA-4C42-8E1C-694813B6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A2BE-EE6C-416F-8355-F6DBB271F8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F29E-C8C8-4F24-A518-B89E5E1625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492-6E97-49AB-A74E-1FFA30DEB8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EC83-C846-4C20-8477-3B8A678197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20F7-649E-4516-BB7A-28DF5AEE1E4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91A1-1BAA-44EE-AB14-93EB33CE6B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6E12-B63D-4B4D-9046-AAECA94203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44EC-ECFE-48D8-B022-F59B36FF8A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BEF2-AC2E-4402-983A-9B70F8252B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568E-7CBE-4B1E-8A99-CFF0A46F6A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A5F-F047-429D-BAA6-C2C45B7991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ED6A-70F5-4CD4-B8E4-052DD39E1E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4"/>
          <p:cNvGrpSpPr/>
          <p:nvPr/>
        </p:nvGrpSpPr>
        <p:grpSpPr>
          <a:xfrm>
            <a:off x="57240" y="3357720"/>
            <a:ext cx="9043920" cy="2079360"/>
            <a:chOff x="57240" y="3357720"/>
            <a:chExt cx="9043920" cy="2079360"/>
          </a:xfrm>
        </p:grpSpPr>
        <p:pic>
          <p:nvPicPr>
            <p:cNvPr id="506" name="Picture 9" descr="U:\09. Strategy and coordination\Presentations\2014 Presentations\watermelons ec_organic_28_big.jpg"/>
            <p:cNvPicPr/>
            <p:nvPr/>
          </p:nvPicPr>
          <p:blipFill>
            <a:blip r:embed="rId1"/>
            <a:stretch/>
          </p:blipFill>
          <p:spPr>
            <a:xfrm>
              <a:off x="5724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0" descr="U:\09. Strategy and coordination\Presentations\2014 Presentations\bread ec_organic_183_big.jpg"/>
            <p:cNvPicPr/>
            <p:nvPr/>
          </p:nvPicPr>
          <p:blipFill>
            <a:blip r:embed="rId2"/>
            <a:stretch/>
          </p:blipFill>
          <p:spPr>
            <a:xfrm>
              <a:off x="307980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11" descr="C:\Users\mahylou\Desktop\EU_Organic_Logo_Colour_OuterLine_rgb.jpg"/>
            <p:cNvPicPr/>
            <p:nvPr/>
          </p:nvPicPr>
          <p:blipFill>
            <a:blip r:embed="rId3"/>
            <a:srcRect l="10326" t="4040" r="7090" b="7445"/>
            <a:stretch/>
          </p:blipFill>
          <p:spPr>
            <a:xfrm>
              <a:off x="6188040" y="3357720"/>
              <a:ext cx="2913120" cy="20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3"/>
          <p:cNvSpPr/>
          <p:nvPr/>
        </p:nvSpPr>
        <p:spPr>
          <a:xfrm>
            <a:off x="1377360" y="1484280"/>
            <a:ext cx="59886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Action Plan for the future of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organic production in the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European union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State of Play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8B7A-83A2-4E78-9A17-90B4D1C25A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5280" y="2276280"/>
            <a:ext cx="8569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Medium term process (2014-20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We are making important progr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 strategic framework for the sector, a major priority for the Commiss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vailable at : </a:t>
            </a: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http://ec.europa.eu/agriculture/organic/eu-policy/european-action-plan/index_en.htm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540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ction Plan on the future of Organic Production in Europe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(short summary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3348000" y="5381640"/>
            <a:ext cx="2160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nformation on CAP Instru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Recommendation on use of RD funds, Common Fisheries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End of 2015, adoption of 118 RD programme. All but NL included OF. NL used state ai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Unit actively involved in the analysis and future modifications. CONCLUD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Informative doc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- see leafle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Inclusion of organic farming as a specific theme in calls for tender for information meas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Done for 2014 ca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Raising awareness on promotion instr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Ongo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wareness of EU scheme and log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Periodical surveys on consumers awareness of the log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akes place every two years through the Eurobarometer; in 2017 new last survey. Publication foreseen in 2018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petition of Questions so as to see the evolution/tren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urvey on consumers awareness and confidence in and understanding of the schem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ossibly in the frame of the new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robarometer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contr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2017-2018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Revision of Green Public Procurement criteria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Revision process started already some time ago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Revised GPP criteria for food and catering planned to be adopted end of 2017 early 2018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promotion of organic products is a main point of the current criteria and, according to the current draft of the criteria revision, it will be strengthened in the futur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Recommendation to stakeholders to set up a database on availability of organic seeds.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Similar initiatives encouraged for aquaculture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Conference on research and innovation priorities - Expo Milano – May 2015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Very successful ev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ide particip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The results will fit into the H2020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Organic in Horizon 2020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Close collaboration with other Commission teams for the preparation of the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Organic is increasingly present and visibl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Work programme info week 2 wee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8000" y="2204640"/>
            <a:ext cx="885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Regular facts and figures on organic produc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During 2014 and 2015: enhanced collaboration with EUROSTAT and simplification of the questionnaire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Results: more statistics available and published on EUROSTAT's website (by November 2015, all MS provided – at least some - data).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Ongoing work: clarification of definitions in order to improve data quality and consistency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New doc already online covering till 20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Study on the added-value along the organic food supply chain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urvey on the attractiveness of the organic scheme for small farme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ncourage MS to explore synergies of the accreditation bodies and competent authorit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Discussion in RCOP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The revision of guidelines on control is ongoing and will be completed once the new regulation is approv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Liaising with Acreditation Bodies for Control Bodies in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articipate in major events with relevant partners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Integration of organic production legislation in the TARIC databas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In place since January 2017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528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lectronic certification for impor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ectronic certificate operative as from April 2017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ransitional period foreseen till October 2017 for paper and electronic version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ully enforced and compulsor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lectronic certification for internal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velopment started in 2017. Operational in 2018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Objective: to create a publicly available database on organic certificates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ocumentary evidence translated into IT tools + some new features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Targetted workshops to assist MS with fraud prevention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iaising with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SANT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(Food Fraud Network) and OLAF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HLConference on fraud controls July 2015, Mila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Conference on good practices to be held in 2018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Verdana"/>
              </a:rPr>
              <a:t>Compedia/casebook of fraud c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Follow up to the conferen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xternal dimension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Support and cooperate with trade partners from developing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Liaising with DEVCO; first results are appear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Plurilateral agreement among leading organic partners in the Worl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Long term proces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A priority to lead the agenda for convergence of standar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tatistical data on trade with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No data on trad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 certification will provide some inform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8080"/>
                </a:solidFill>
                <a:latin typeface="Verdana"/>
              </a:rPr>
              <a:t>Codex Alimentariu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Aquacultur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Organic wine ru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Verdana"/>
              </a:rPr>
              <a:t>Aim to increase protection of EU organic logo in 3rd countr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- Protection of EU logo in international agreement (Organic Trade agreement with Chile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PLANCHENSTEINER Daniela (AGRI)</dc:creator>
  <dc:description/>
  <dc:language>en-US</dc:language>
  <cp:lastModifiedBy>ROBERT Francoise (AGRI)</cp:lastModifiedBy>
  <cp:lastPrinted>2015-12-16T07:40:50Z</cp:lastPrinted>
  <dcterms:modified xsi:type="dcterms:W3CDTF">2017-12-01T10:56:30Z</dcterms:modified>
  <cp:revision>259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