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1FA-17D3-4C3E-9BF0-C5475D167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CBF1-B500-46AC-9603-E9A08653CD0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472-540F-496B-A3C2-06D97463D55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1B9-3ED3-4A1E-804A-E423285349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29B-8449-4990-80D6-E5816D4A45C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5C60-9221-4274-8A0E-DF8C72F0B13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3099-8D69-4F6F-9824-4EDE3151EF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E28-3A19-4E94-AC92-2C0E695AC6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58960"/>
            <a:ext cx="5486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9720" y="949968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6A01-A4CF-4266-B1C4-68DD2324C3E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0400" y="714240"/>
            <a:ext cx="4665600" cy="3498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243320"/>
            <a:ext cx="548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8266-4C45-438E-AC0D-CB96DCF1C7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7AF-40F6-4C8A-8D43-87A2D06634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047-DB09-4F31-BCE5-BD71BC547BC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086-4FCD-48EE-938D-07546412058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2960" y="72216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8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765-C0C0-4934-A7A6-435D09C0C5C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AE9-FB90-4A2A-A365-85CE88B21E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C5EC-AA4A-4A6D-8118-77399CDA14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B51D-C802-4903-9F74-E9C963E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BE12-4025-47EF-9F3F-34A518E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F66D-C786-4BF3-810D-48DE9C2DA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DB8A0-F018-490C-BF48-CFE74494F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47BC-193D-469C-8C6B-2BB86CC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51CF-42A4-40D7-BA36-D9E8F28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D388-7670-45E6-990E-4D1D76B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5B8B-C121-483F-BD30-457FA96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D34F0-D7D1-4BF8-85B3-C60F3673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A78F1-7BA2-43E1-A867-224133B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3047-EB17-45EB-B885-C2CB6D8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A15AA-7227-41BB-A542-80E56CBA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07A8-5CEF-4D79-AA6B-BDBAB78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3F7B-3122-4B4A-A384-7C2C544E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CC26F-B836-4627-BAB2-A9A1104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9549B-E2CA-41D9-9767-1E33EE952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264-65B2-4CA3-AE15-BE2F087C2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E78A-F8C4-45A8-A774-A15204B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A54B-6679-49FC-8FFE-70CCA34A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1690-CACE-49B8-8956-76DBA129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B12C-126A-48AB-9FE1-C43CF9B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4A80-B733-45C2-90EE-2F00CA6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9AF9-6B92-41AC-ABE1-F73064F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C2C-9AFF-43F3-B035-60F9570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D85-C6D3-482A-805C-D994C74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00B-6662-4912-8CED-9F31863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6C3D-B87A-4488-9AFD-3B071CD1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200-ED58-4768-A34A-9C46944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A071-F30C-4AD3-818B-11135B8F6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8F3B-7DEF-43DA-AA06-C8202F978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EA892-19E5-42B6-BCD6-AFBD5C2A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F430E-D410-4EAE-A659-03C5B89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7DBF-673A-4768-99A8-B889020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C7F9A-C9CA-4C38-8BE3-840B588E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F5BE0-9964-4A65-8F30-351BCFAE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141C7-4877-45B0-86A0-1AB086A4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5D8FF-036D-4303-B4FA-F267AA4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EB8F9-7A26-41F0-80D5-E9B154EF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C6361-D501-4A25-9E37-9C016D8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AC7E2-AC78-4424-A09A-E4A5078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E4BEF-D8A7-46A7-933D-44D26F3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DAD78-45BA-461C-9357-ADEB3E219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7C22-AFD1-4054-BBA6-30CABD06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8E83-FD1F-4A78-B55D-D9CCC382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0BAA-C9D8-49E7-9518-270891C6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4B51-C7A8-4F38-9E75-B1D17BC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4483-D68D-4F4B-99C1-E4C3404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11280" y="6093000"/>
            <a:ext cx="69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D54-AF9A-4B8B-A6CE-A203C2346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381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7" descr="logo_grey.eps"/>
          <p:cNvPicPr/>
          <p:nvPr/>
        </p:nvPicPr>
        <p:blipFill>
          <a:blip r:embed="rId2"/>
          <a:stretch/>
        </p:blipFill>
        <p:spPr>
          <a:xfrm>
            <a:off x="3924360" y="333360"/>
            <a:ext cx="153504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211640" y="6404040"/>
            <a:ext cx="681120" cy="453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ECF5-B7C4-456D-BC4C-F0DBE59B37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569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211640" y="6404040"/>
            <a:ext cx="681120" cy="45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logo_white.eps"/>
          <p:cNvPicPr/>
          <p:nvPr/>
        </p:nvPicPr>
        <p:blipFill>
          <a:blip r:embed="rId3"/>
          <a:stretch/>
        </p:blipFill>
        <p:spPr>
          <a:xfrm>
            <a:off x="3924360" y="333360"/>
            <a:ext cx="153504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F4EF-57DD-4651-AE64-680A20F95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logo_horizotal.eps"/>
          <p:cNvPicPr/>
          <p:nvPr/>
        </p:nvPicPr>
        <p:blipFill>
          <a:blip r:embed="rId2"/>
          <a:stretch/>
        </p:blipFill>
        <p:spPr>
          <a:xfrm>
            <a:off x="6443640" y="6021360"/>
            <a:ext cx="2305080" cy="623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4211280" y="6093000"/>
            <a:ext cx="69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126D-E9F3-4306-9FAF-FFCE49F0C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c.europa.eu/food/safety/official_controls_en" TargetMode="External"/><Relationship Id="rId2" Type="http://schemas.openxmlformats.org/officeDocument/2006/relationships/hyperlink" Target="https://ec.europa.eu/food/safety/official_controls/expert_working_groups_en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9200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v-SE" sz="3200" spc="-1" strike="noStrike">
                <a:solidFill>
                  <a:srgbClr val="ffd624"/>
                </a:solidFill>
                <a:latin typeface="Verdana"/>
              </a:rPr>
              <a:t>Official Controls Regulation: </a:t>
            </a:r>
            <a:br>
              <a:rPr sz="3200"/>
            </a:br>
            <a:r>
              <a:rPr b="1" lang="sv-SE" sz="3200" spc="-1" strike="noStrike">
                <a:solidFill>
                  <a:srgbClr val="ffd624"/>
                </a:solidFill>
                <a:latin typeface="Verdana"/>
              </a:rPr>
              <a:t>new elements and work ahead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DG SANTE - Unit G3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Official Controls and 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eradication of diseases in animal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f5494"/>
                </a:solidFill>
                <a:latin typeface="Verdana"/>
              </a:rPr>
              <a:t>Entry into the Union: 2nd half of 2017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Rounded Rectangle 3"/>
          <p:cNvSpPr/>
          <p:nvPr/>
        </p:nvSpPr>
        <p:spPr>
          <a:xfrm>
            <a:off x="108000" y="2276640"/>
            <a:ext cx="8928000" cy="4581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October 2017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47.2a (list of animals and goods, incl. CN code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2.3 (partial withdrawal of BCP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4.2 (distant BCP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4.5 (wood and unchipped logs etc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vember 2017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49.5 (training, physical checks at BCP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126.1-2 (additional import conditions)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v-SE" sz="2000" spc="-1" strike="noStrike" u="sng">
                <a:solidFill>
                  <a:srgbClr val="000000"/>
                </a:solidFill>
                <a:uFillTx/>
                <a:latin typeface="Verdana"/>
              </a:rPr>
              <a:t>December 2017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90a+e (certificate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127.2 (list of countries subject to import condition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11160" y="1412640"/>
            <a:ext cx="9191520" cy="53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sv-SE" sz="2800" spc="-1" strike="noStrike">
                <a:solidFill>
                  <a:srgbClr val="0f5494"/>
                </a:solidFill>
                <a:latin typeface="Verdana"/>
              </a:rPr>
              <a:t>Approach to consultation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1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Each empowerment will be discussed with Member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States (experts and working groups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2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Once consensus is reached on preliminary ideas, th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COM will consult the SANTE advisory group on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major initiatives (DA &amp; IA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3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COM will consolidate the draft and notify the SANT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advisory group the progresses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4)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The DA/IA is sent to EP/Council: start of th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scrutiny period (where applicable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699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f5494"/>
                </a:solidFill>
                <a:latin typeface="Verdana"/>
              </a:rPr>
              <a:t>3. Next steps</a:t>
            </a:r>
            <a:endParaRPr b="0" i="1" lang="en-US" sz="4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15 December 2017 with Member State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      </a:t>
            </a: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follow-up discussion on import contr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Provisional calendar of meetings with Member Stat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539640" y="157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6c73c"/>
                </a:solidFill>
                <a:latin typeface="Verdana"/>
              </a:rPr>
              <a:t>Visit our website for more information: 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11280" y="5286240"/>
            <a:ext cx="81374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safety/official_controls_e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s://ec.europa.eu/food/safety/official_controls/expert_working_groups_e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9" name="Picture 5" descr="C:\Users\quintka\AppData\Local\Microsoft\Windows\Temporary Internet Files\Content.Outlook\LV02IISP\OCR screen.PNG"/>
          <p:cNvPicPr/>
          <p:nvPr/>
        </p:nvPicPr>
        <p:blipFill>
          <a:blip r:embed="rId3"/>
          <a:srcRect l="0" t="29" r="0" b="29"/>
          <a:stretch/>
        </p:blipFill>
        <p:spPr>
          <a:xfrm>
            <a:off x="2556000" y="2098800"/>
            <a:ext cx="37162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263664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Entry into force and applic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539640" y="3357720"/>
            <a:ext cx="2808360" cy="1726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Entry into force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Verdana"/>
              </a:rPr>
              <a:t>29 April 2017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4067280" y="2708280"/>
            <a:ext cx="4897440" cy="2448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Main date of application: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Verdana"/>
              </a:rPr>
              <a:t>14 December 2019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Curved Up Arrow 2"/>
          <p:cNvSpPr/>
          <p:nvPr/>
        </p:nvSpPr>
        <p:spPr>
          <a:xfrm>
            <a:off x="2411280" y="5245200"/>
            <a:ext cx="2232000" cy="1019160"/>
          </a:xfrm>
          <a:custGeom>
            <a:avLst/>
            <a:gdLst>
              <a:gd name="textAreaLeft" fmla="*/ 462240 w 2232000"/>
              <a:gd name="textAreaRight" fmla="*/ 1642320 w 2232000"/>
              <a:gd name="textAreaTop" fmla="*/ 136440 h 1019160"/>
              <a:gd name="textAreaBottom" fmla="*/ 8827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0" hR="21600" stAng="10800000" swAng="-5400000"/>
                <a:lnTo>
                  <a:pt x="11417" y="21600"/>
                </a:lnTo>
                <a:arcTo wR="8950" hR="21600" stAng="5400000" swAng="-3484281"/>
                <a:lnTo>
                  <a:pt x="21316" y="5400"/>
                </a:lnTo>
                <a:lnTo>
                  <a:pt x="19134" y="0"/>
                </a:lnTo>
                <a:lnTo>
                  <a:pt x="16383" y="5400"/>
                </a:lnTo>
                <a:lnTo>
                  <a:pt x="17616" y="5400"/>
                </a:lnTo>
                <a:arcTo wR="8950" hR="21600" stAng="1915719" swAng="3286291"/>
                <a:lnTo>
                  <a:pt x="10184" y="21394"/>
                </a:lnTo>
                <a:arcTo wR="8950" hR="21600" stAng="5597990" swAng="5202010"/>
                <a:close/>
              </a:path>
              <a:path fill="darkenLess" w="21600" h="21600">
                <a:moveTo>
                  <a:pt x="0" y="0"/>
                </a:moveTo>
                <a:arcTo wR="8950" hR="21600" stAng="10800000" swAng="-5400000"/>
                <a:lnTo>
                  <a:pt x="11417" y="21600"/>
                </a:lnTo>
                <a:arcTo wR="8950" hR="21600" stAng="5400000" swAng="197990"/>
                <a:lnTo>
                  <a:pt x="10184" y="21394"/>
                </a:lnTo>
                <a:arcTo wR="8950" hR="21600" stAng="5597990" swAng="520201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Scope of the OC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Folded Corner 3"/>
          <p:cNvSpPr/>
          <p:nvPr/>
        </p:nvSpPr>
        <p:spPr>
          <a:xfrm>
            <a:off x="468360" y="2708280"/>
            <a:ext cx="1295280" cy="1368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Food and food saf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Folded Corner 6"/>
          <p:cNvSpPr/>
          <p:nvPr/>
        </p:nvSpPr>
        <p:spPr>
          <a:xfrm>
            <a:off x="1996920" y="2708280"/>
            <a:ext cx="1422720" cy="136836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Feed and feed saf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Folded Corner 7"/>
          <p:cNvSpPr/>
          <p:nvPr/>
        </p:nvSpPr>
        <p:spPr>
          <a:xfrm>
            <a:off x="3635280" y="2708280"/>
            <a:ext cx="1440000" cy="1368360"/>
          </a:xfrm>
          <a:prstGeom prst="foldedCorner">
            <a:avLst>
              <a:gd name="adj" fmla="val 1666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GMO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Folded Corner 8"/>
          <p:cNvSpPr/>
          <p:nvPr/>
        </p:nvSpPr>
        <p:spPr>
          <a:xfrm>
            <a:off x="5364000" y="2728800"/>
            <a:ext cx="1440000" cy="1347840"/>
          </a:xfrm>
          <a:prstGeom prst="foldedCorner">
            <a:avLst>
              <a:gd name="adj" fmla="val 1666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 healt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Folded Corner 9"/>
          <p:cNvSpPr/>
          <p:nvPr/>
        </p:nvSpPr>
        <p:spPr>
          <a:xfrm>
            <a:off x="7164360" y="2728800"/>
            <a:ext cx="1368360" cy="134784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 welfare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Folded Corner 10"/>
          <p:cNvSpPr/>
          <p:nvPr/>
        </p:nvSpPr>
        <p:spPr>
          <a:xfrm>
            <a:off x="468360" y="4437000"/>
            <a:ext cx="1295280" cy="1513080"/>
          </a:xfrm>
          <a:prstGeom prst="foldedCorner">
            <a:avLst>
              <a:gd name="adj" fmla="val 16666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</a:t>
            </a: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by-produc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8" name="Folded Corner 11"/>
          <p:cNvSpPr/>
          <p:nvPr/>
        </p:nvSpPr>
        <p:spPr>
          <a:xfrm>
            <a:off x="197964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c0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lant healt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Folded Corner 12"/>
          <p:cNvSpPr/>
          <p:nvPr/>
        </p:nvSpPr>
        <p:spPr>
          <a:xfrm>
            <a:off x="363528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7030a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lant protection produc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Folded Corner 13"/>
          <p:cNvSpPr/>
          <p:nvPr/>
        </p:nvSpPr>
        <p:spPr>
          <a:xfrm>
            <a:off x="536400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Organic prod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Folded Corner 14"/>
          <p:cNvSpPr/>
          <p:nvPr/>
        </p:nvSpPr>
        <p:spPr>
          <a:xfrm>
            <a:off x="7164360" y="4437000"/>
            <a:ext cx="1368360" cy="1513080"/>
          </a:xfrm>
          <a:prstGeom prst="foldedCorner">
            <a:avLst>
              <a:gd name="adj" fmla="val 16666"/>
            </a:avLst>
          </a:prstGeom>
          <a:solidFill>
            <a:srgbClr val="0070c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DOs, PGIs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TSG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forcement Responsibilitie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3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  <p:sp>
        <p:nvSpPr>
          <p:cNvPr id="194" name="Rounded Rectangle 6"/>
          <p:cNvSpPr/>
          <p:nvPr/>
        </p:nvSpPr>
        <p:spPr>
          <a:xfrm>
            <a:off x="611280" y="2205000"/>
            <a:ext cx="2665440" cy="93672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mpetent authorities: central authorities or other authorities of Member States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5513400" y="3790800"/>
            <a:ext cx="1380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Suitably qualified and experienced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7164360" y="3790800"/>
            <a:ext cx="1511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Impartial and free from conflict of interes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7" name="Down Arrow 15"/>
          <p:cNvSpPr/>
          <p:nvPr/>
        </p:nvSpPr>
        <p:spPr>
          <a:xfrm>
            <a:off x="6203880" y="3213000"/>
            <a:ext cx="317520" cy="5778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172360" y="3213000"/>
            <a:ext cx="426960" cy="6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2"/>
          <a:stretch/>
        </p:blipFill>
        <p:spPr>
          <a:xfrm>
            <a:off x="5148360" y="5178600"/>
            <a:ext cx="3382920" cy="847440"/>
          </a:xfrm>
          <a:prstGeom prst="rect">
            <a:avLst/>
          </a:prstGeom>
          <a:ln w="0">
            <a:noFill/>
          </a:ln>
        </p:spPr>
      </p:pic>
      <p:sp>
        <p:nvSpPr>
          <p:cNvPr id="200" name="Down Arrow 19"/>
          <p:cNvSpPr/>
          <p:nvPr/>
        </p:nvSpPr>
        <p:spPr>
          <a:xfrm>
            <a:off x="6894360" y="3238560"/>
            <a:ext cx="341640" cy="199080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Rounded Rectangle 21"/>
          <p:cNvSpPr/>
          <p:nvPr/>
        </p:nvSpPr>
        <p:spPr>
          <a:xfrm>
            <a:off x="5076720" y="2205000"/>
            <a:ext cx="3167280" cy="93672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Verdana"/>
              </a:rPr>
              <a:t>Delegated bodies/natural person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Verdana"/>
              </a:rPr>
              <a:t>In the organic sector = control body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780000" y="3790800"/>
            <a:ext cx="143964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Delegation in writing/accurate description of task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 rot="2289600">
            <a:off x="4551480" y="2977920"/>
            <a:ext cx="573120" cy="1011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4"/>
          <p:cNvSpPr/>
          <p:nvPr/>
        </p:nvSpPr>
        <p:spPr>
          <a:xfrm>
            <a:off x="179280" y="3716280"/>
            <a:ext cx="244800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organic sector possibility to confer OC tasks on one or more organic control authorities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bution of code number to each authori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504720" cy="649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8"/>
          <p:cNvSpPr/>
          <p:nvPr/>
        </p:nvSpPr>
        <p:spPr>
          <a:xfrm>
            <a:off x="250920" y="5229360"/>
            <a:ext cx="37447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Internal Audits or have audits carried out on themselv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Down Arrow 29"/>
          <p:cNvSpPr/>
          <p:nvPr/>
        </p:nvSpPr>
        <p:spPr>
          <a:xfrm>
            <a:off x="2627280" y="3141720"/>
            <a:ext cx="432000" cy="20876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mprovements of general rules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nti-fraud controls – Improved cooperation for  cross-border enforce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Regular unannounced official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ntrols directed at identifying fraudulent or deceptive practice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2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Enforced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dministrative assistance and coope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mong Member States to tackle cross border non-compliances (improved IT exchange of information among CAs and with the Commission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New EU Reference Centr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for th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uthenticity and integrity of the agri-food chai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2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Tougher penaltie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for fraudulent or deceptive practices </a:t>
            </a:r>
            <a:r>
              <a:rPr b="0" lang="en-GB" sz="16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fines to reflect at least the economic advantage or a percentage of the operator's turnov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0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mprovements</a:t>
            </a: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 of general rules: 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mpetent Authoritie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Make available information on organisation and  performance of official contro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ublish timely and regularl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type/number/outcome of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official contr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type/number of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ases of non-complianc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measure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tak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enaltie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imposed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ossibility to publish outcome of official controls on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individual operator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(conditions appl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ossibility to publish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rating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of individual operators (conditions appl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rovide operators with a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py of the records of official contro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3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"/>
          <p:cNvPicPr/>
          <p:nvPr/>
        </p:nvPicPr>
        <p:blipFill>
          <a:blip r:embed="rId1"/>
          <a:stretch/>
        </p:blipFill>
        <p:spPr>
          <a:xfrm>
            <a:off x="6183360" y="4808520"/>
            <a:ext cx="450720" cy="390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6183360" y="3500280"/>
            <a:ext cx="450720" cy="390600"/>
          </a:xfrm>
          <a:prstGeom prst="rect">
            <a:avLst/>
          </a:prstGeom>
          <a:ln w="0">
            <a:noFill/>
          </a:ln>
        </p:spPr>
      </p:pic>
      <p:sp>
        <p:nvSpPr>
          <p:cNvPr id="216" name="Down Arrow 1"/>
          <p:cNvSpPr/>
          <p:nvPr/>
        </p:nvSpPr>
        <p:spPr>
          <a:xfrm>
            <a:off x="2225520" y="3500280"/>
            <a:ext cx="324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2124000" y="4808520"/>
            <a:ext cx="451080" cy="390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55556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A modernised system for border control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2781360"/>
            <a:ext cx="7704000" cy="71892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common, risk based framework for border controls on all animals and goods entering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4360" y="3789360"/>
            <a:ext cx="3527280" cy="107964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order Control Posts (BCPs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ill replace the different Border Inspection Posts (BIPs) and Designated Points of Entry (DPEs)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427640" y="3789360"/>
            <a:ext cx="3960720" cy="1079640"/>
          </a:xfrm>
          <a:prstGeom prst="rect">
            <a:avLst/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 Common Health Entry Document (CHED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84360" y="5183280"/>
            <a:ext cx="3527280" cy="112536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Minimum requirements for BCP facilities, equipment and staff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427640" y="5183280"/>
            <a:ext cx="3960720" cy="1125360"/>
          </a:xfrm>
          <a:prstGeom prst="rect">
            <a:avLst/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nsmitted to the BCP through IMSOC which will allow for the integration of existing computerised systems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including Europhyt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60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try into the Union – main ru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4572000" y="2205000"/>
            <a:ext cx="4103640" cy="1871640"/>
          </a:xfrm>
          <a:prstGeom prst="rect">
            <a:avLst/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s and goods not for BCP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appropriate plac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within the customs territory of the Union (including point of entry into the EU, BCPs,place of destination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8360" y="4332240"/>
            <a:ext cx="3930480" cy="52092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lways documentary checks; risk based identity and physical check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Down Arrow 7"/>
          <p:cNvSpPr/>
          <p:nvPr/>
        </p:nvSpPr>
        <p:spPr>
          <a:xfrm>
            <a:off x="2290680" y="4086360"/>
            <a:ext cx="243000" cy="2458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Down Arrow 11"/>
          <p:cNvSpPr/>
          <p:nvPr/>
        </p:nvSpPr>
        <p:spPr>
          <a:xfrm>
            <a:off x="6502320" y="4086360"/>
            <a:ext cx="243000" cy="2458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468360" y="2205000"/>
            <a:ext cx="388764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s, products of animal origin, germinal products, animal by-products, plants, plant products and certain feed and food of non-animal origi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Designated </a:t>
            </a: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BCP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of first arrival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231" name="Straight Arrow Connector 15"/>
          <p:cNvCxnSpPr/>
          <p:nvPr/>
        </p:nvCxnSpPr>
        <p:spPr>
          <a:xfrm flipH="1">
            <a:off x="4092120" y="2173320"/>
            <a:ext cx="432720" cy="464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Straight Arrow Connector 17"/>
          <p:cNvCxnSpPr/>
          <p:nvPr/>
        </p:nvCxnSpPr>
        <p:spPr>
          <a:xfrm>
            <a:off x="4551480" y="2173320"/>
            <a:ext cx="505440" cy="4276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3" name="Rectangle 1"/>
          <p:cNvSpPr/>
          <p:nvPr/>
        </p:nvSpPr>
        <p:spPr>
          <a:xfrm>
            <a:off x="4586400" y="4332240"/>
            <a:ext cx="4089240" cy="520920"/>
          </a:xfrm>
          <a:prstGeom prst="rect">
            <a:avLst/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Regular, risk based controls with appropriate frequency (established by MS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Implementation of the OCR</a:t>
            </a:r>
            <a:br>
              <a:rPr sz="3000"/>
            </a:b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Entry into the EU: current work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Rounded Rectangle 3"/>
          <p:cNvSpPr/>
          <p:nvPr/>
        </p:nvSpPr>
        <p:spPr>
          <a:xfrm>
            <a:off x="395280" y="2492280"/>
            <a:ext cx="3456000" cy="140184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CN code list of animals and goods to be checked at BCPs (IA, Art 47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96720" y="411336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Categories to be added to the list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7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ounded Rectangle 5"/>
          <p:cNvSpPr/>
          <p:nvPr/>
        </p:nvSpPr>
        <p:spPr>
          <a:xfrm>
            <a:off x="5292720" y="5589720"/>
            <a:ext cx="3348000" cy="936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Training 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9.5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ounded Rectangle 6"/>
          <p:cNvSpPr/>
          <p:nvPr/>
        </p:nvSpPr>
        <p:spPr>
          <a:xfrm>
            <a:off x="5292720" y="2492280"/>
            <a:ext cx="3348000" cy="108108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rocedures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8,50.4 etc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9" name="Rounded Rectangle 7"/>
          <p:cNvSpPr/>
          <p:nvPr/>
        </p:nvSpPr>
        <p:spPr>
          <a:xfrm>
            <a:off x="5292720" y="3645000"/>
            <a:ext cx="3348000" cy="936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rocedures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IA, Art. 15.4, 49.4 etc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ounded Rectangle 9"/>
          <p:cNvSpPr/>
          <p:nvPr/>
        </p:nvSpPr>
        <p:spPr>
          <a:xfrm>
            <a:off x="396720" y="5445000"/>
            <a:ext cx="3454560" cy="1008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Non-compliance action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IA, Art. 65.6, 66.2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and 70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ounded Rectangle 10"/>
          <p:cNvSpPr/>
          <p:nvPr/>
        </p:nvSpPr>
        <p:spPr>
          <a:xfrm>
            <a:off x="5292720" y="4654440"/>
            <a:ext cx="3348000" cy="792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osts (DA, Art. 62.3, 64.2 and 64.5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2" name="Picture 12" descr="\\S-SANCO-REPL\common\Images publicatiion\iSTOCK\50_GENERIC\iStock_000003374582XSmall.jpg"/>
          <p:cNvPicPr/>
          <p:nvPr/>
        </p:nvPicPr>
        <p:blipFill>
          <a:blip r:embed="rId1"/>
          <a:stretch/>
        </p:blipFill>
        <p:spPr>
          <a:xfrm>
            <a:off x="4089240" y="3894120"/>
            <a:ext cx="965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ROBERT Francoise (AGRI)</cp:lastModifiedBy>
  <cp:lastPrinted>2017-11-23T16:17:35Z</cp:lastPrinted>
  <dcterms:modified xsi:type="dcterms:W3CDTF">2017-11-24T10:19:42Z</dcterms:modified>
  <cp:revision>631</cp:revision>
  <dc:subject/>
  <dc:title>PowerPoint Presentation</dc:title>
</cp:coreProperties>
</file>