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8AC0-89BE-43C0-ABC0-C09BB07792FF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3900-3749-46B7-8745-D85BE6462D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C078-F1D8-449B-A50B-E8A0B1B625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DB64-219C-4443-86B7-227258631F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1065-A90D-45E8-966D-07D1B5826A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BBF8-93D8-4C70-8F13-638C2601A7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DC6D-403D-4196-B8D5-9E197E23E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792D-595D-49DF-A44E-332A561147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86F7-1BB9-4442-811E-748F89821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DC0F-924A-4BCA-BCEB-2DF0C3F095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C4A1-B099-4FB3-A664-46BEFA630F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7E6-012C-4E95-8F6D-72B6CDA8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F2F-FBF7-4401-ADD6-615150E7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BC4-27AD-4352-B79B-9AE40C5B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6F6C-5853-4CB4-8AFD-65F20E9C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9BB6-183A-4132-8910-E92C2EA0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C6EA-96D6-4E2E-ABA2-151B5B79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07F4-8698-4294-9CD8-DAB42E2A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B190-BF65-4852-BA1B-E61F2DCD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C4C3-49FF-4EB0-81AF-CCC844CD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5EFF-6C2B-4C2E-B2BA-DF3EE891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337F-B70C-42C5-A382-A869B04C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743-BF35-4E81-8466-9169B97A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59F3-1E21-4BC2-95DF-5DC31A72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7CBE-B83E-4C44-899C-34CF3FA5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C4F9-C392-4472-8B59-7DFE8E15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A085-183C-4723-A6D1-0BB40B0D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D3F1-E6A6-4481-AD44-433EEC50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A36-A165-4289-B7BF-B2907304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378-9C30-4239-BCC0-34467AEA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097-08F7-4D75-AD58-B747729E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D17-8857-474D-B7F8-16F4FFE2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B8E-64E8-41DE-857F-BC1536EF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70C-5761-4610-A36D-8CDAD34D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4FA-C520-46E0-BC45-CCE387FE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C0FF-CA5B-45D6-9169-EE9DC7785C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765F-5280-4395-A864-7D8AE514193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lant_protection_products/legislation/" TargetMode="External"/><Relationship Id="rId2" Type="http://schemas.openxmlformats.org/officeDocument/2006/relationships/hyperlink" Target="http://ec.europa.eu/food/plant/plant_protection_products/legislatio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9440" y="2852280"/>
            <a:ext cx="853128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Minor Uses</a:t>
            </a:r>
            <a:br>
              <a:rPr sz="4000"/>
            </a:b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-</a:t>
            </a:r>
            <a:br>
              <a:rPr sz="4000"/>
            </a:b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187280" y="3527280"/>
            <a:ext cx="68407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1225440" y="5349960"/>
            <a:ext cx="6840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Jeroen Meeusse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DG SANCO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06360" y="1400040"/>
            <a:ext cx="85312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DG AGRI – Advisory Group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IPM ERANE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RANETs are research coordination instruments whereby Member States can coordinate their national research activiti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To find EU-viable solutions with a focus on IPM-practices, low risk substances and biopesticide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IPM ERANET has started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early 2014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nd involves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32 partners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is activity is led by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DG RTD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urrent statu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204640"/>
            <a:ext cx="84358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Adoption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of the report by COM on 18 February 2014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;</a:t>
            </a:r>
            <a:r>
              <a:rPr b="0" i="1" lang="fr-BE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 </a:t>
            </a:r>
            <a:r>
              <a:rPr b="0" i="1" lang="fr-BE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food/plant/plant_protection_products/legislation/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port has been presented to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GRI-Council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 May 2014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doption of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Financial Decision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in October 2014.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Proposal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from interested party: November 2014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Start of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technical secretariat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early 2015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589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  <a:ea typeface="MS PGothic"/>
              </a:rPr>
              <a:t>ANY QUES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0" name="Picture 2" descr="C:\Users\meeusje\Pictures\imagesCAKL7UM2.jpg"/>
          <p:cNvPicPr/>
          <p:nvPr/>
        </p:nvPicPr>
        <p:blipFill>
          <a:blip r:embed="rId1"/>
          <a:stretch/>
        </p:blipFill>
        <p:spPr>
          <a:xfrm>
            <a:off x="4500720" y="2781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meeusje\Pictures\imagesCAE1GUOP.jpg"/>
          <p:cNvPicPr/>
          <p:nvPr/>
        </p:nvPicPr>
        <p:blipFill>
          <a:blip r:embed="rId2"/>
          <a:stretch/>
        </p:blipFill>
        <p:spPr>
          <a:xfrm>
            <a:off x="2268360" y="256536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inor Uses (definition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Use of a plant protection product in a particular Member State on plants or plant products which are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(a)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not widely grown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in that Member State,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o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(b)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widely grown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to meet an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exceptional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plant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    protection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 need</a:t>
            </a:r>
            <a:br>
              <a:rPr sz="2000"/>
            </a:b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0f5494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ff0000"/>
                </a:solidFill>
                <a:latin typeface="Verdana"/>
              </a:rPr>
              <a:t>Representing 22% of the value of EU total agricultural production; 3% of the cultivated are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Lack of sufficient market potential can lead to: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Illegal uses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ith consequences for human health and the environment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Loss of crop produc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ith its economic impact on agriculture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rticle 51(9)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y 14 December 2011, the Commission shall present a report to the European Parliament and the Council on the establishment of a European fund for minor uses, accompanied, if appropriate, by a legislative proposal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port was adopted on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18 February 2014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Key-message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will assist in the creation of an independent coordination facility ("Technical Secretariat") on minor uses which is co-funded by the Commission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will support an ERANET on Integrated Pest Management with specific reference to minor use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435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Report was presented to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AGRI-Council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 on 19 May 2014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trong support for the Report was expressed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majority supported COM in identifying 'option 3' as the better solution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e details of the secretariat should be further discussed at technical level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Expert-meeting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435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Expert-meeting with MS and stakeholders was organised on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1 July 2014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to discuss a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draft outline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of the Coordination Facility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perational issues: organisation and structure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inancial arrangement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Location and faciliti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ordination facility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-funded by the Commission: grant of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€350,000/year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is activity is led by DG SANCO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Budget will be allocated in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Financial Decision for 2014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(to be adopted)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ordination facility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Tasks of 'technical secretariat'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haring of informa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nd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experience gained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t national level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coordination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of minor use work between Member States and stakeholder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creation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nd maintenance of a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data bas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n minor use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timulation of harmonisa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(e.g. crop group and pest group definitions, development of guidance)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7:49:02Z</dcterms:created>
  <dc:creator>MEEUSSEN Jeroen (SANCO)</dc:creator>
  <dc:description/>
  <dc:language>en-US</dc:language>
  <cp:lastModifiedBy>BUTTINI-PROVENZANO Roberta (AGRI)</cp:lastModifiedBy>
  <cp:lastPrinted>2014-10-10T06:57:14Z</cp:lastPrinted>
  <dcterms:modified xsi:type="dcterms:W3CDTF">2014-10-10T06:57:38Z</dcterms:modified>
  <cp:revision>38</cp:revision>
  <dc:subject/>
  <dc:title>Utilisations mineures</dc:title>
</cp:coreProperties>
</file>