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D53-4E63-4B83-8EC4-B4036B04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A0B-923B-4A77-80D4-D091D93A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22638-90DA-4935-B80C-00AEA91E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79FCE-BE78-43ED-B3BF-52FDA05B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3BAF0-2256-431D-815B-D004A1CB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BAC3A-FA62-4F8C-B77C-32466B58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3DEDF-2960-489C-969D-A616BE58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FA0DA-51D0-40DC-AB67-120CEC8C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E8754-1B04-4001-8555-772EB2BE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33AEA-7922-4CE2-B878-14172507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5C133-7589-468D-96C3-1275DEBD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125F9-161B-414F-8B80-9326688C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7F4-CB2C-4DD2-8C15-E268A8C1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A9A59-4AEA-49E0-A021-C5C7B469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C1472-E1B6-4B2F-9FB8-A3F98AA2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E895A-AA13-4A00-B73E-C7576AAC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4933D-94DF-4CAA-8F1F-73C8AE9F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2E6C5-B741-4C3E-A0D1-31A59473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7FF50-8808-424A-9AF4-489831C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14559-42EE-4BF7-BD3C-454A2491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C9015-C9C4-4AF7-90C3-7379322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310DD-6DEF-4153-B0B2-FA9FE375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EA3A4-4594-469F-88D0-7F575B35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1D4-7D8A-4525-A64B-2A6867D0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81AE5-0B81-43FF-BE9C-87F24AE0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5E6CF-1FAA-4803-BB9D-9A96A718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79C08-96FC-45D3-987B-B0E139CF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D4DB2-E228-49A0-8847-F258D97F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7842A-B58B-4CFB-B88F-ABCF9D6D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D887-13CE-42E2-B61A-FE0FC1EE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504D6-D0D3-4835-8E90-9B097A19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943A9-8366-47BE-9581-D2AFD925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70043-29E4-46EE-9BEC-9FC9F444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EE079-A7FB-4862-9A98-3C1577E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7833-63B9-4ED9-99AA-5BE70D8B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4CF4E-08E4-48B6-A6A8-B889A94D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1BD5F-44AF-47EB-9B3A-A5C3029F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906AF-5C65-4316-A77B-3A2970E2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DE0E3-9660-4CD6-9D8E-63CDF10E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A7D44-6266-4E24-868D-A5944081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A3808-0FA2-421E-9617-645BF496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DFE92-718F-4D79-AA5B-6AAFC856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52101-EB6B-46E4-AF97-07669EF2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85B33-8B1E-4761-A24A-5E2F3706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EA96A-DED2-4215-A753-923C9FB8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A59B-EFEF-48C9-BA6F-0E90141C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CD613-7AC2-4705-A148-DFAA4DF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9A816-3AA3-40BF-912B-879C6A30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6FA4A-4F2D-425F-BD2C-55374A85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044B7-4E89-48EB-94F2-8A920EFF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F5074-0CAB-4E38-9803-CCF5E000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7021-3D94-47B7-9F70-05733C20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D871-B075-40CD-97E2-87B86094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B5B2-423D-4F80-8F8C-F65A73CD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924C-6BC5-4D7D-8DB2-B9E1A5EE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6651-A2B3-4221-9110-C494B184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4F9-FBEC-4B12-A3B5-6CD9559A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5091-A23D-46E0-99A3-B8442AD9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D1DB-E60D-42B7-8DA2-85787024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32B2-50B1-40A4-8A03-00AC4DEB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457D-B13E-4E9A-95E2-1DF8A01A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7BC6-E3CE-434D-9B05-4FE71BCB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C3CE-F736-4FB7-8505-51A60F5B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48AD-8C05-4437-9A8D-536A9A3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8152-9887-49BB-A9F9-F2FBD4B1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6F7D-BC76-42B0-8114-B758E378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8E78B-70D4-4626-83AB-7B4D2B20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BA0-566B-49C1-9142-5CE5CADC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C00F-DE28-44FB-B05C-5EEA639F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2DA9-F89F-4C1D-8E09-0F91787A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B349-E0E2-49FC-AEAE-ECA85C24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C2E0-4E02-4372-95F7-E2454933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46B7-2998-4A17-8743-23432435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43BB-6160-4831-B432-49ACD44C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57A8-AA8F-4F2A-A579-269C57AE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6ED2B-42AF-4F64-BA84-9DB45C20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15F8D-4AD9-437F-8353-A658CDFB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573B-AF24-4F61-856D-6388CCF4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603-6C1E-4A8B-96EA-F06BA3E1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A8AF-BF50-46D7-A30E-89F1BDEA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7B08A-A6D9-4AFC-AEC9-22F18C5C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DDED-2051-41AE-8826-67FBF313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797F5-6367-4E76-8458-F551C506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1D21-7F53-43C6-95C4-4257C0A1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BFA2-9BBF-4807-80A0-B56EBDE8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1C70A-4CFD-4E3B-92FB-61EA2A7C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9A7E-5B8F-467D-8673-F971CBB2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1A970-4D91-44D1-8AB6-FA22422F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9121B-82B8-4EEE-8560-4A185F56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BE8-BA55-45E7-82E9-B01F119B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BB246-8379-489E-99FC-0562BD8D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1AC16-A59E-401C-B419-261CA7ED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701CF-5C9E-4573-ABA7-E00C4128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72A2-78AB-45E3-B218-5F3C3DE8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0D04-D939-456E-BDEE-5ED3959B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81982-D158-42E6-825A-FD1EAF2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F1A43-1B5F-4A97-9641-4B8BC78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679C-EB39-4258-9FEC-F7DCD70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FD53-B6A0-4944-9FE2-2CF52459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3AB4D-84E4-4C80-B665-7F518D77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2CE-5EFE-42AE-BDE1-69F9F7FF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DF8D9-B8A1-4A93-823C-0E688AEF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57D45-9D82-46A9-A455-8866E522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CC2A1-5DDB-4498-A474-84A2B518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A30BF-6056-4F2D-A02E-22F670DF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9027B-CD91-4F68-9032-5515842F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78584-CB29-42EF-BFA9-61AE1D26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415FA-BFF7-4466-85A1-871F2DEA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FC621-C09D-4569-AB0E-15C92BFF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709E7-DB6F-4EFB-A44F-7E53EBDE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0D6A2-9AB0-4483-B172-207206DC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7C8-F5CE-4AA2-A489-8661D93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C98EC-C569-4574-8E81-318F9DB1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9FCD2-BFB0-4A0E-BD92-338C166C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F6BBE-4FF7-4224-B66C-076D5830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6DA3A-EF8C-493A-97DE-C27FB879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52B65-0493-499C-B4AE-44F9077A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3D00-67F2-4C6E-9F6F-1D40AAB7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96279-60BF-46C7-8EE9-CCB2E99B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0CB04-C7DE-4F6F-9C2C-4F7865B5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D0F20-B39E-461C-8BB5-A5D657CD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F51D5-CD48-4875-886C-5626774C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F43-F394-4D3E-B103-E55D17FC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EE181-CFAE-44EC-9887-CACADD5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143DF-237D-4B03-97CC-B3FB3A2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21372-163F-4E42-A465-86F3B8DF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37ECE-9B5E-42DC-BAE8-8502EA2D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DCE53-FA49-4A83-A82B-281C3009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63442-32F2-41A0-9B14-2D9DC0A2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C3A92-8514-45CE-8515-ABE1589D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7B2E7-CD56-45DF-B133-D8B227C4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9F37C-EC29-451B-A1C7-ACB4C0F8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2913A-84FB-48B7-949C-F3EA4DA2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B30-0928-4D68-BC07-11043E9C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E9BC9-5414-45C4-9512-7333E963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0186C-1635-4926-8E17-39A289AB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714C-D60A-4942-BC5F-7A0A170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39C89-01A3-47B2-B8BA-CB7FC4AC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DF4CA-F85D-4C5D-974C-0AE1EC38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F5226-3C53-4A3C-A4F6-5DE9FA02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1571A-E0FE-4EA2-85CE-81A6FA7B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187EE-82A7-4531-963D-50C1C292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D01D8-22BF-410F-926F-A2DB6D5A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7E629-1223-4403-B1EF-0EF7A17D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CB23-D620-4786-BDCF-2BE3AC3316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3CA3-FB5E-47F9-820C-8A8367CC0A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EF43-E91F-422D-92FF-925A947AB8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21F4-0887-4B8B-A9C1-2C2CA4F274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3461-579D-46A3-8BAB-4DDCED76058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6A9C-3F02-42DD-AD85-6D980AED54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1FBC-EB53-4991-8255-0E4CB73B52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C4AD-1D11-49B6-9BF4-82ED5F4EE3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5A16-9CAB-406A-A814-BAEBBAD7F9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B3A3-91D4-458C-BA9F-3113EA2C9A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4F51-DABB-440E-AF44-55E95C84BB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C9E-9A98-4A0B-92F5-1728771EA3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astesofeurope.eu/video" TargetMode="External"/><Relationship Id="rId2" Type="http://schemas.openxmlformats.org/officeDocument/2006/relationships/hyperlink" Target="http://tastesofeurope.eu/video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675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High level missions 2014-2015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50920" y="2924280"/>
            <a:ext cx="86421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0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308720" y="4508640"/>
            <a:ext cx="13273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C:\Users\mecilal\Desktop\IMG_5406.JPG"/>
          <p:cNvPicPr/>
          <p:nvPr/>
        </p:nvPicPr>
        <p:blipFill>
          <a:blip r:embed="rId2"/>
          <a:stretch/>
        </p:blipFill>
        <p:spPr>
          <a:xfrm>
            <a:off x="0" y="-27000"/>
            <a:ext cx="5288040" cy="3527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C:\Users\mecilal\Desktop\IMG_4835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433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C:\Users\mecilal\Desktop\IMG_4445.JPG"/>
          <p:cNvPicPr/>
          <p:nvPr/>
        </p:nvPicPr>
        <p:blipFill>
          <a:blip r:embed="rId4"/>
          <a:stretch/>
        </p:blipFill>
        <p:spPr>
          <a:xfrm>
            <a:off x="0" y="3500280"/>
            <a:ext cx="5032440" cy="3357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C:\Users\mecilal\Desktop\IMG_5248.JPG"/>
          <p:cNvPicPr/>
          <p:nvPr/>
        </p:nvPicPr>
        <p:blipFill>
          <a:blip r:embed="rId5"/>
          <a:stretch/>
        </p:blipFill>
        <p:spPr>
          <a:xfrm>
            <a:off x="3995640" y="3422520"/>
            <a:ext cx="517212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392"/>
                </a:solidFill>
                <a:latin typeface="Verdana"/>
              </a:rPr>
              <a:t>Evaluation by stand participa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8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pic>
        <p:nvPicPr>
          <p:cNvPr id="529" name="Chart 3" descr=""/>
          <p:cNvPicPr/>
          <p:nvPr/>
        </p:nvPicPr>
        <p:blipFill>
          <a:blip r:embed="rId2"/>
          <a:stretch/>
        </p:blipFill>
        <p:spPr>
          <a:xfrm>
            <a:off x="828720" y="249408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24000" y="299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uture activ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ampaign on geographical indications in China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Negotiations on a bilateral GI agreement ongoing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Mid-term strategy for information on and promotion of EU GIs in China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First step: market survey, overview of promotion activities by individual MS to build synergie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Launch of activities foreseen for Q2 2015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ampaign on geographical indications in China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f5494"/>
                </a:solidFill>
                <a:latin typeface="Verdana"/>
              </a:rPr>
              <a:t>M</a:t>
            </a: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ain action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Information for EU producers: SPS rules, market research reports, contacts databas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Mobile GI display/tasting venue in Beijing (events for different target group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Study visits to Europe for Chinese officials and journalis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Promotion campaign in Ind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Contex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FTA negotiations launched in 2007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High potential BUT important trade barriers (complex import regulations, high import duties, SPS rules, no protection for EU GI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Additional difficulties for marketing of EU products: distribution channels, cultural aspects, …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2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Promotion campaign in Ind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Communication strategy and visual identity to be used over the next few years and integrating the "Enjoy, it's from Europe!" signat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Tools developed for future campaign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5392"/>
                </a:solidFill>
                <a:latin typeface="Verdana"/>
              </a:rPr>
              <a:t>Websit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14 short videos representing different product sectors to be used for social media campaig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5392"/>
                </a:solidFill>
                <a:latin typeface="Verdana"/>
              </a:rPr>
              <a:t>Mobile app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tastesofeurope.eu/video</a:t>
            </a:r>
            <a:r>
              <a:rPr b="0" lang="fr-BE" sz="1600" spc="-1" strike="noStrike">
                <a:solidFill>
                  <a:srgbClr val="005392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4" name="Picture 2" descr="C:\Users\THISSMA\AppData\Local\Microsoft\Windows\Temporary Internet Files\Content.Outlook\GPZ7LADV\ENJOY.jpg"/>
          <p:cNvPicPr/>
          <p:nvPr/>
        </p:nvPicPr>
        <p:blipFill>
          <a:blip r:embed="rId3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Campaign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European week in 10 Mumbai restauran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Retail week in 4 supermarkets in Mumbai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PR and social media campaig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EU pavilion at Annapoorna World of Food India trade fai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Programme of seminars for EU producers and buyers during the fai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6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C:\Users\mecilal\Desktop\IMG_2567.JPG"/>
          <p:cNvPicPr/>
          <p:nvPr/>
        </p:nvPicPr>
        <p:blipFill>
          <a:blip r:embed="rId2"/>
          <a:stretch/>
        </p:blipFill>
        <p:spPr>
          <a:xfrm>
            <a:off x="0" y="3327480"/>
            <a:ext cx="5292720" cy="3530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C:\Users\mecilal\Desktop\IMG_2483.JPG"/>
          <p:cNvPicPr/>
          <p:nvPr/>
        </p:nvPicPr>
        <p:blipFill>
          <a:blip r:embed="rId3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C:\Users\mecilal\Desktop\IMG_2293.JPG"/>
          <p:cNvPicPr/>
          <p:nvPr/>
        </p:nvPicPr>
        <p:blipFill>
          <a:blip r:embed="rId4"/>
          <a:stretch/>
        </p:blipFill>
        <p:spPr>
          <a:xfrm>
            <a:off x="0" y="0"/>
            <a:ext cx="52689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vents programme, September 23</a:t>
            </a:r>
            <a:r>
              <a:rPr b="1" lang="en-GB" sz="2000" spc="-1" strike="noStrike" baseline="30000">
                <a:solidFill>
                  <a:srgbClr val="005392"/>
                </a:solidFill>
                <a:latin typeface="Verdana"/>
              </a:rPr>
              <a:t>r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Introductory seminar for EU produc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Topic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ndian import regulations and procedur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ndian Food Safety and Standard Package and Labelling Regul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Structure and functioning of distribution channel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onsumer preferences and cultural sensitivit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ase studies: How to approach the Indian market? by Ferrero India and Metro India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Matchmaking event with Indian buy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2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vents at Annapoorna World of Food fair, 24-26 Septemb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Venue: Bombay Exhibition centr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Target group: professional visitors (importers, distributors, retailers, 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Horeca buyers, chef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539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Press conference on Sept 24</a:t>
            </a:r>
            <a:r>
              <a:rPr b="0" lang="en-GB" sz="1600" spc="-1" strike="noStrike" baseline="30000">
                <a:solidFill>
                  <a:srgbClr val="005392"/>
                </a:solidFill>
                <a:latin typeface="Verdana"/>
              </a:rPr>
              <a:t>th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539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Daily product tastings, presentations and cooking shows at the stand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539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Seminars on wine, olive oil and EU quality schem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4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U pavilion:</a:t>
            </a:r>
            <a:br>
              <a:rPr sz="2000"/>
            </a:b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participants by member state and product grou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6" name="Picture 5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7" name=""/>
          <p:cNvGraphicFramePr/>
          <p:nvPr/>
        </p:nvGraphicFramePr>
        <p:xfrm>
          <a:off x="611280" y="2276640"/>
          <a:ext cx="2603520" cy="3582720"/>
        </p:xfrm>
        <a:graphic>
          <a:graphicData uri="http://schemas.openxmlformats.org/drawingml/2006/table">
            <a:tbl>
              <a:tblPr/>
              <a:tblGrid>
                <a:gridCol w="1511280"/>
                <a:gridCol w="1092240"/>
              </a:tblGrid>
              <a:tr h="34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° of participan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gium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lgar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at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o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rman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eland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ua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nd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ug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ma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ove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16 MS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500720" y="2565360"/>
          <a:ext cx="2857320" cy="1832040"/>
        </p:xfrm>
        <a:graphic>
          <a:graphicData uri="http://schemas.openxmlformats.org/drawingml/2006/table">
            <a:tbl>
              <a:tblPr/>
              <a:tblGrid>
                <a:gridCol w="1763640"/>
                <a:gridCol w="1093680"/>
              </a:tblGrid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 Group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° of participan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and spiri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sh and processed F&amp;V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 produc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produc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ket of produc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U pavilion - participants lis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0" name="Picture 4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24000" y="2133720"/>
          <a:ext cx="8229600" cy="3747960"/>
        </p:xfrm>
        <a:graphic>
          <a:graphicData uri="http://schemas.openxmlformats.org/drawingml/2006/table">
            <a:tbl>
              <a:tblPr/>
              <a:tblGrid>
                <a:gridCol w="637920"/>
                <a:gridCol w="1656000"/>
                <a:gridCol w="1541160"/>
                <a:gridCol w="336600"/>
                <a:gridCol w="1105200"/>
                <a:gridCol w="1509480"/>
                <a:gridCol w="1443240"/>
              </a:tblGrid>
              <a:tr h="114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ny/Associatio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ny/Associatio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n Wine Marketing Boar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simeno S.p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; PDO, PGI or TSG food products; 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4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gium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cobe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ZALE S.p.A.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es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44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lgar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AL A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carrying GI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ua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MBRA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vodk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at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ociation of Istrian Cured Ham (Prosciutto) Producers+AZRRI- Agency for Rural Development of Istria Region</a:t>
                      </a:r>
                      <a:br>
                        <a:rPr sz="700"/>
                      </a:b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ed ham, Istrian autochthonous breeds' products, extra virgin olive oil  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n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ue Mountain Group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al fruit juic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gnie Médocaine des Grands Cru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n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TIMA Spółka z o.o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es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L'OLIVIER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O olive oil, infused olis, dressings, fruit vinegar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uga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tes de Cima, S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, Olive oil, Table oliv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UELL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sh or processed fruit and vegetabl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uga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OFORUM – CARMIM GROUP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, Olive olis, Table oliv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67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o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FOOD OU</a:t>
                      </a:r>
                      <a:endParaRPr b="1" lang="en-US" sz="5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 products (sour milk drink)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ma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rfatlar Romania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44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rman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ngut Fuch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ove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A ZAJC D.O.O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58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PROD-PANTELOPOULOS S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s, olive oi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EOESTEPA S.C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; PDO, PGI or TSG food products; 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olco Trading Ltd / Viannos Villag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; 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MINIO DE PUNCTUM S.L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and biodynamic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04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elan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ish Dairy Boar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 products (butter + cheese)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ofessional Organization of Table Olive (Olives from Spain)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3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ios sr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OCIACION DE PRODUCTORES EXPORTADORES DE FRUTAS,UVAS Y OTROS PRODUCTOS AGRARIO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sh&amp;processed fruits&amp;vegetabl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36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RI FRATELLI S.R.L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 - PDO + Organic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NISH FOOD&amp;DRINK INDUSTRY FEDERATIO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e range of Spanish products: olive oil, processed meat, wine, dairy products, canned food, sauces...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MECILOSEK Aleksandra (AGRI)</dc:creator>
  <dc:description/>
  <dc:language>en-US</dc:language>
  <cp:lastModifiedBy>BUTTINI-PROVENZANO Roberta (AGRI)</cp:lastModifiedBy>
  <cp:lastPrinted>2014-11-18T15:39:58Z</cp:lastPrinted>
  <dcterms:modified xsi:type="dcterms:W3CDTF">2014-11-18T15:40:30Z</dcterms:modified>
  <cp:revision>383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