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</p:sldIdLst>
  <p:sldSz cx="9144000" cy="6858000"/>
  <p:notesSz cx="6804025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0" y="0"/>
            <a:ext cx="68040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dt" idx="25"/>
          </p:nvPr>
        </p:nvSpPr>
        <p:spPr>
          <a:xfrm>
            <a:off x="3854160" y="-36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 type="sldImg"/>
          </p:nvPr>
        </p:nvSpPr>
        <p:spPr>
          <a:xfrm>
            <a:off x="917280" y="746280"/>
            <a:ext cx="4971960" cy="372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a62a"/>
                </a:solidFill>
                <a:latin typeface="Verdana"/>
              </a:rPr>
              <a:t>Click to move the slide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 type="ftr" idx="26"/>
          </p:nvPr>
        </p:nvSpPr>
        <p:spPr>
          <a:xfrm>
            <a:off x="-360" y="944352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 type="sldNum" idx="27"/>
          </p:nvPr>
        </p:nvSpPr>
        <p:spPr>
          <a:xfrm>
            <a:off x="3854160" y="944352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2E50A-25A6-499E-8508-55E34593C11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EFBC1-B8EA-4C4E-81D4-AE1BE44D5AF5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47F1C-3A70-4591-9F2B-530855C592E3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55F99-8BDF-45D7-9D7A-A2B7089627AA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D2CD0-41E0-4DDB-A5C9-6B402264B0D2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C4871-65A9-457B-A391-D960A972505D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B8480-FF22-4F62-A415-C872EB62CBFD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C4760-4F0A-4AA5-9770-E3C906ABD818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BE7A5-4D1D-4554-B138-3EA750071C98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EDBE7-1BA3-4B16-8B01-02747F8BF6E1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2DE63-56E7-48BD-B08C-8788634AEC62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E4A7B-6994-40D2-965D-3B8EC6F9F739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0C99F-D67F-4743-BAF9-35008FE560AB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BED7-B17E-4920-82BB-762908A9C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A454-EB0F-4C97-AF01-0F4006348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33C4-9F2E-42FA-B103-1D83CEE34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108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124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92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108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124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067F-3193-46F3-83E9-08C79CB45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E58C8-CB0F-44CB-BF9F-92DBFDEAB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54749-3EED-48D2-BF03-003B73CBA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BB233-A08C-4B57-AFA1-5EAB6F91F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9CAA7-D3BC-4519-95C7-843BEAB2C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EDFF5-354D-4986-BA0F-B3B1E02C4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07800" y="1052640"/>
            <a:ext cx="858528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D4859-709C-4E07-898C-3A22F28D1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972C7-E8E9-4769-BCFA-47F0AA8F5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8351-1575-4A50-897A-F57E4EDA5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91284-0819-4961-A783-94E759F52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7C7F3-66FA-4528-A26F-02109AEC6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8A615-4FF0-4CAD-85B9-D48987B6D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47FDF-5A07-498B-87B4-44E2E6D93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108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124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092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108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124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EEF95-B2AB-4413-A5D6-94C16D52B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2EE8E5-5559-4592-9215-47811AF06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041D6D-8918-4C6D-8E2A-618B62BA0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308A3C-3C3E-4AAD-9CB4-D2C95FEBD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02DD70-AD61-4716-92DD-01D9B7761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87BE5D-98E1-4365-9E01-EF94EDA4B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E18F-083A-4408-8E98-4F66A51DE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307800" y="1052640"/>
            <a:ext cx="858528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58E446-5923-4294-A3A8-779E911FC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44ABB1-2C5F-468C-9A9F-0C7770F55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5FF386-0111-417C-9A6D-1581AAF45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5E1739-B3D7-43A7-AC26-0CE4B256C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BCDC17-46D2-412E-ACF2-E3710212F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391F92-ACAD-4903-A2CA-1E2A71626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108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1124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3092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108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1124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53024C-EBA2-42A1-985F-E34EF3D6F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7F7C40-A3FF-4450-B843-B5021A537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F9959C-70AC-4D9A-BC0A-06B0E7FFB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876679-D70F-4526-928E-8EA7D09BB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BB97-2C66-49E3-9D3B-E23323D78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E4CBA2-0CC5-4246-87D2-00F0D2725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4CBAB2-2992-4532-8536-8A20223D0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307800" y="1052640"/>
            <a:ext cx="858528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F7ABDD-5571-4613-860B-DF989AFEE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EF21CA-ABCB-4B31-BEFB-63930E6DA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06AB62-0519-4872-A82C-B239B8DAE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F9C0A0-67A7-4402-A147-0E1E5A96C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24080C-6B12-4A40-86DC-1E6604307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D648B5-1965-46D1-990E-488A97BAF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108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1124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3092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108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1124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439CA5-9F02-4F40-9EF3-017177697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A0049D-7F63-48AF-B54E-77D558718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2A79-E3A0-4490-9659-2CD0839D0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70C7E6-A9BD-4E3D-8780-DECD6F7D9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259B07-91A3-4733-8D18-331AF2F70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CCE926-3607-474B-8086-5B78C0DA7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B9BD25-25E7-46CD-90E5-1AE207304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307800" y="1052640"/>
            <a:ext cx="858528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A80E13-3095-41A9-877B-03A3D92FE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6FC3B2-DD43-4AA1-A084-0E5F866E7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EAE9AC-FC1C-45A8-8D10-702D458F9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23437C-8EBA-43F3-8C28-5A82AB4A9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56CA7F-D24C-4F03-9DA1-EFC624363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CAF4D2-C17E-4960-BBA0-697C360F2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7800" y="1052640"/>
            <a:ext cx="858528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7EF6-1D2B-45F9-8E44-668700BEB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108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1124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3092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108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1124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9F36A5-43F8-4103-B336-92FE52FE8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DE1D2D-4DF0-4D5C-8A5C-06C72D96C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591950-A858-42D0-8E8A-DE1C1B363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51148C-047B-4779-92E3-E741A41B2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DB97D4-F60C-43AD-BC11-3AA0E70CB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64187F-1110-4C41-BC0A-58F6603A1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7800" y="1052640"/>
            <a:ext cx="858528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FE32A7-38AC-4F0D-846B-E956EAE4F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1A7688-5D6B-4470-B134-EED03974E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51356F-6C1E-42FE-B752-78789E3C5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652899-A203-4F5D-B2E4-EFB3D628B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7690-F132-4005-888C-6DC058208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FC0ABF-3E77-42CC-BBA8-6BA3C84BD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476E33-49A6-4A6A-AF4E-0075A3572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108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1124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92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108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1124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404AA5-983C-4E12-A11F-B049481EA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CCDDD0-986C-40C6-8B76-DD9B84865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EF7028-CE57-4CC4-8CDD-E23B25B94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2F5516-E278-4A01-AC8C-44182B3C2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9808A2-E2B4-495B-AE06-E735198D8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A9743C-FD81-4672-90D2-B40090C32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7800" y="1052640"/>
            <a:ext cx="858528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6807A9-99B4-4FE7-8484-058811CB1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4DF867-BE97-480E-943E-CBBD7A4D4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A649-055E-44B7-AF5A-983D76AF0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ED4A9A-77DC-4379-83D1-E6EFDDEBB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87400B-5FA3-4337-9527-6CD564C4B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57DE3B-3CF1-498D-981C-47AFF4591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0881FD-F643-4BD5-93CB-C28B3D9AF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108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124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92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108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124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18F66B-98FA-4709-88FD-A30397BFD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E1C8F6-FB54-44EA-A8E4-240174669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6FF048-29AC-4B2F-9BAC-FE1FE9C1B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5AA9D3-5E03-49D3-9EB8-6A1AEE6EC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0A5E02-4514-4450-AA1D-C1EAC06BC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A05E59-7538-4228-A7FF-A2DB833E9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E985-5D31-46FF-B724-6B6FDAEFD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307800" y="1052640"/>
            <a:ext cx="858528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923736-9DA3-48EF-91BB-4BDF0AC13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33B824-5988-4977-8A6D-0A51B7096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CE6826-9834-464D-A6A1-BE1607B30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2EB267-6D96-4163-9001-02B3EE821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C8A7D2-18A5-4E5E-A11C-249D456D6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C23D26-FED8-4043-A470-19C25ECD8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2108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1124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3092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2108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61124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4D7CA7-A56B-4985-833F-0B9004EB0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slideLayout" Target="../slideLayouts/slideLayout61.xml"/><Relationship Id="rId11" Type="http://schemas.openxmlformats.org/officeDocument/2006/relationships/slideLayout" Target="../slideLayouts/slideLayout62.xml"/><Relationship Id="rId12" Type="http://schemas.openxmlformats.org/officeDocument/2006/relationships/slideLayout" Target="../slideLayouts/slideLayout63.xml"/><Relationship Id="rId13" Type="http://schemas.openxmlformats.org/officeDocument/2006/relationships/slideLayout" Target="../slideLayouts/slideLayout64.xml"/><Relationship Id="rId14" Type="http://schemas.openxmlformats.org/officeDocument/2006/relationships/slideLayout" Target="../slideLayouts/slideLayout65.xml"/><Relationship Id="rId15" Type="http://schemas.openxmlformats.org/officeDocument/2006/relationships/slideLayout" Target="../slideLayouts/slideLayout66.xml"/><Relationship Id="rId16" Type="http://schemas.openxmlformats.org/officeDocument/2006/relationships/slideLayout" Target="../slideLayouts/slideLayout67.xml"/><Relationship Id="rId17" Type="http://schemas.openxmlformats.org/officeDocument/2006/relationships/slideLayout" Target="../slideLayouts/slideLayout68.xml"/><Relationship Id="rId18" Type="http://schemas.openxmlformats.org/officeDocument/2006/relationships/slideLayout" Target="../slideLayouts/slideLayout69.xml"/><Relationship Id="rId19" Type="http://schemas.openxmlformats.org/officeDocument/2006/relationships/slideLayout" Target="../slideLayouts/slideLayout70.xml"/><Relationship Id="rId20" Type="http://schemas.openxmlformats.org/officeDocument/2006/relationships/slideLayout" Target="../slideLayouts/slideLayout71.xml"/><Relationship Id="rId21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a62a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spcBef>
                <a:spcPts val="451"/>
              </a:spcBef>
              <a:buClr>
                <a:srgbClr val="0f5494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343080" indent="-343080">
              <a:spcBef>
                <a:spcPts val="45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2428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852880" y="6524280"/>
            <a:ext cx="289548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" name="Rectangle 14"/>
          <p:cNvSpPr/>
          <p:nvPr/>
        </p:nvSpPr>
        <p:spPr>
          <a:xfrm>
            <a:off x="0" y="0"/>
            <a:ext cx="9144000" cy="701640"/>
          </a:xfrm>
          <a:prstGeom prst="rect">
            <a:avLst/>
          </a:prstGeom>
          <a:solidFill>
            <a:srgbClr val="42a62a"/>
          </a:solidFill>
          <a:ln w="9360">
            <a:solidFill>
              <a:srgbClr val="42a6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4294080" y="6659640"/>
            <a:ext cx="611280" cy="198360"/>
          </a:xfrm>
          <a:prstGeom prst="rect">
            <a:avLst/>
          </a:prstGeom>
          <a:solidFill>
            <a:srgbClr val="42a62a"/>
          </a:solidFill>
          <a:ln w="9360">
            <a:solidFill>
              <a:srgbClr val="42a62a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4285800" y="6635520"/>
            <a:ext cx="628920" cy="2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4CD17-056B-42E8-BBA0-849851EBD6FE}" type="slidenum"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2" descr=""/>
          <p:cNvPicPr/>
          <p:nvPr/>
        </p:nvPicPr>
        <p:blipFill>
          <a:blip r:embed="rId2"/>
          <a:stretch/>
        </p:blipFill>
        <p:spPr>
          <a:xfrm>
            <a:off x="3743280" y="19080"/>
            <a:ext cx="1620720" cy="124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a62a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spcBef>
                <a:spcPts val="451"/>
              </a:spcBef>
              <a:buClr>
                <a:srgbClr val="0f5494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343080" indent="-343080">
              <a:spcBef>
                <a:spcPts val="45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52428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5852880" y="6524280"/>
            <a:ext cx="289548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0" y="0"/>
            <a:ext cx="9144000" cy="701640"/>
          </a:xfrm>
          <a:prstGeom prst="rect">
            <a:avLst/>
          </a:prstGeom>
          <a:solidFill>
            <a:srgbClr val="42a62a"/>
          </a:solidFill>
          <a:ln w="9360">
            <a:solidFill>
              <a:srgbClr val="42a6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4294080" y="6659640"/>
            <a:ext cx="611280" cy="198360"/>
          </a:xfrm>
          <a:prstGeom prst="rect">
            <a:avLst/>
          </a:prstGeom>
          <a:solidFill>
            <a:srgbClr val="42a62a"/>
          </a:solidFill>
          <a:ln w="9360">
            <a:solidFill>
              <a:srgbClr val="42a62a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4285800" y="6635520"/>
            <a:ext cx="628920" cy="2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FE767-03F8-46FE-8902-FD85A853439D}" type="slidenum"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2"/>
          <a:stretch/>
        </p:blipFill>
        <p:spPr>
          <a:xfrm>
            <a:off x="3743280" y="19080"/>
            <a:ext cx="1620720" cy="124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3" descr="2851026377_bf871ff1dc_o"/>
          <p:cNvPicPr/>
          <p:nvPr/>
        </p:nvPicPr>
        <p:blipFill>
          <a:blip r:embed="rId2"/>
          <a:stretch/>
        </p:blipFill>
        <p:spPr>
          <a:xfrm>
            <a:off x="0" y="965160"/>
            <a:ext cx="9144000" cy="590220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10"/>
          <p:cNvSpPr/>
          <p:nvPr/>
        </p:nvSpPr>
        <p:spPr>
          <a:xfrm>
            <a:off x="4127400" y="965160"/>
            <a:ext cx="5021280" cy="590220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90" name="Picture 3" descr=""/>
          <p:cNvPicPr/>
          <p:nvPr/>
        </p:nvPicPr>
        <p:blipFill>
          <a:blip r:embed="rId3"/>
          <a:stretch/>
        </p:blipFill>
        <p:spPr>
          <a:xfrm>
            <a:off x="4127400" y="6410160"/>
            <a:ext cx="685800" cy="4572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"/>
          <p:cNvPicPr/>
          <p:nvPr/>
        </p:nvPicPr>
        <p:blipFill>
          <a:blip r:embed="rId4"/>
          <a:stretch/>
        </p:blipFill>
        <p:spPr>
          <a:xfrm>
            <a:off x="3564000" y="189000"/>
            <a:ext cx="1814400" cy="13986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a62a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spcBef>
                <a:spcPts val="451"/>
              </a:spcBef>
              <a:buClr>
                <a:srgbClr val="0f5494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343080" indent="-343080">
              <a:spcBef>
                <a:spcPts val="45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41AFB-C3BE-486D-9A59-F29346EF52E7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3" descr="2851026377_bf871ff1dc_o"/>
          <p:cNvPicPr/>
          <p:nvPr/>
        </p:nvPicPr>
        <p:blipFill>
          <a:blip r:embed="rId2"/>
          <a:stretch/>
        </p:blipFill>
        <p:spPr>
          <a:xfrm>
            <a:off x="0" y="965160"/>
            <a:ext cx="9144000" cy="590220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10"/>
          <p:cNvSpPr/>
          <p:nvPr/>
        </p:nvSpPr>
        <p:spPr>
          <a:xfrm>
            <a:off x="0" y="965160"/>
            <a:ext cx="4813200" cy="590220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35" name="Picture 3" descr=""/>
          <p:cNvPicPr/>
          <p:nvPr/>
        </p:nvPicPr>
        <p:blipFill>
          <a:blip r:embed="rId3"/>
          <a:stretch/>
        </p:blipFill>
        <p:spPr>
          <a:xfrm>
            <a:off x="4127400" y="6410160"/>
            <a:ext cx="685800" cy="4572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" descr=""/>
          <p:cNvPicPr/>
          <p:nvPr/>
        </p:nvPicPr>
        <p:blipFill>
          <a:blip r:embed="rId4"/>
          <a:stretch/>
        </p:blipFill>
        <p:spPr>
          <a:xfrm>
            <a:off x="3564000" y="189000"/>
            <a:ext cx="1814400" cy="139860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a62a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spcBef>
                <a:spcPts val="451"/>
              </a:spcBef>
              <a:buClr>
                <a:srgbClr val="0f5494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343080" indent="-343080">
              <a:spcBef>
                <a:spcPts val="45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8346F-C0C5-46D6-9544-B940DF18D4DF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23" descr="2851026377_bf871ff1dc_o"/>
          <p:cNvPicPr/>
          <p:nvPr/>
        </p:nvPicPr>
        <p:blipFill>
          <a:blip r:embed="rId2"/>
          <a:stretch/>
        </p:blipFill>
        <p:spPr>
          <a:xfrm>
            <a:off x="-12600" y="965160"/>
            <a:ext cx="9156600" cy="59054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" descr=""/>
          <p:cNvPicPr/>
          <p:nvPr/>
        </p:nvPicPr>
        <p:blipFill>
          <a:blip r:embed="rId3"/>
          <a:stretch/>
        </p:blipFill>
        <p:spPr>
          <a:xfrm>
            <a:off x="3564000" y="189000"/>
            <a:ext cx="1814400" cy="13986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3" descr=""/>
          <p:cNvPicPr/>
          <p:nvPr/>
        </p:nvPicPr>
        <p:blipFill>
          <a:blip r:embed="rId4"/>
          <a:stretch/>
        </p:blipFill>
        <p:spPr>
          <a:xfrm>
            <a:off x="4127400" y="6410160"/>
            <a:ext cx="685800" cy="45720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a62a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spcBef>
                <a:spcPts val="451"/>
              </a:spcBef>
              <a:buClr>
                <a:srgbClr val="0f5494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343080" indent="-343080">
              <a:spcBef>
                <a:spcPts val="45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AAC14-E5CA-446C-91F1-988458466369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4" descr="G:\D_Repository\A_Workzone\10_Future of CAP (post 2013)\11_Legal Proposals\7_ppts\pictures 2013\99894606.jpg"/>
          <p:cNvPicPr/>
          <p:nvPr/>
        </p:nvPicPr>
        <p:blipFill>
          <a:blip r:embed="rId2"/>
          <a:stretch/>
        </p:blipFill>
        <p:spPr>
          <a:xfrm>
            <a:off x="1811160" y="4151160"/>
            <a:ext cx="2316240" cy="271620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10"/>
          <p:cNvSpPr/>
          <p:nvPr/>
        </p:nvSpPr>
        <p:spPr>
          <a:xfrm>
            <a:off x="4127400" y="965160"/>
            <a:ext cx="5021280" cy="590220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24" name="Picture 3" descr=""/>
          <p:cNvPicPr/>
          <p:nvPr/>
        </p:nvPicPr>
        <p:blipFill>
          <a:blip r:embed="rId3"/>
          <a:stretch/>
        </p:blipFill>
        <p:spPr>
          <a:xfrm>
            <a:off x="4127400" y="6410160"/>
            <a:ext cx="685800" cy="4572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2" descr=""/>
          <p:cNvPicPr/>
          <p:nvPr/>
        </p:nvPicPr>
        <p:blipFill>
          <a:blip r:embed="rId4"/>
          <a:stretch/>
        </p:blipFill>
        <p:spPr>
          <a:xfrm>
            <a:off x="3564000" y="189000"/>
            <a:ext cx="1814400" cy="139860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2" descr="G:\D_Repository\A_Workzone\10_Future of CAP (post 2013)\11_Legal Proposals\7_ppts\pictures 2013\93789739.jpg"/>
          <p:cNvPicPr/>
          <p:nvPr/>
        </p:nvPicPr>
        <p:blipFill>
          <a:blip r:embed="rId5"/>
          <a:stretch/>
        </p:blipFill>
        <p:spPr>
          <a:xfrm>
            <a:off x="0" y="4151160"/>
            <a:ext cx="1811160" cy="27162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6" descr="G:\D_Repository\A_Workzone\10_Future of CAP (post 2013)\11_Legal Proposals\7_ppts\pictures 2013\200392720-001.jpg"/>
          <p:cNvPicPr/>
          <p:nvPr/>
        </p:nvPicPr>
        <p:blipFill>
          <a:blip r:embed="rId6"/>
          <a:stretch/>
        </p:blipFill>
        <p:spPr>
          <a:xfrm>
            <a:off x="0" y="958680"/>
            <a:ext cx="2127240" cy="32086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7" descr="G:\D_Repository\A_Workzone\10_Future of CAP (post 2013)\11_Legal Proposals\7_ppts\pictures 2013\55843765.jpg"/>
          <p:cNvPicPr/>
          <p:nvPr/>
        </p:nvPicPr>
        <p:blipFill>
          <a:blip r:embed="rId7"/>
          <a:stretch/>
        </p:blipFill>
        <p:spPr>
          <a:xfrm>
            <a:off x="2127240" y="2766960"/>
            <a:ext cx="1001880" cy="14004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3" descr="G:\D_Repository\A_Workzone\10_Future of CAP (post 2013)\11_Legal Proposals\7_ppts\pictures 2013\95510563.jpg"/>
          <p:cNvPicPr/>
          <p:nvPr/>
        </p:nvPicPr>
        <p:blipFill>
          <a:blip r:embed="rId8"/>
          <a:stretch/>
        </p:blipFill>
        <p:spPr>
          <a:xfrm>
            <a:off x="3127320" y="2724120"/>
            <a:ext cx="1000080" cy="14400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8" descr="G:\D_Repository\A_Workzone\10_Future of CAP (post 2013)\11_Legal Proposals\7_ppts\pictures 2013\137221180_copy.jpg"/>
          <p:cNvPicPr/>
          <p:nvPr/>
        </p:nvPicPr>
        <p:blipFill>
          <a:blip r:embed="rId9"/>
          <a:stretch/>
        </p:blipFill>
        <p:spPr>
          <a:xfrm>
            <a:off x="2127240" y="958680"/>
            <a:ext cx="2000160" cy="18226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a62a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spcBef>
                <a:spcPts val="451"/>
              </a:spcBef>
              <a:buClr>
                <a:srgbClr val="0f5494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343080" indent="-343080">
              <a:spcBef>
                <a:spcPts val="45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00A11-6C95-4416-A4F6-12BF63399988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10"/>
    <p:sldLayoutId id="2147483715" r:id="rId11"/>
    <p:sldLayoutId id="2147483716" r:id="rId12"/>
    <p:sldLayoutId id="2147483717" r:id="rId13"/>
    <p:sldLayoutId id="2147483718" r:id="rId14"/>
    <p:sldLayoutId id="2147483719" r:id="rId15"/>
    <p:sldLayoutId id="2147483720" r:id="rId16"/>
    <p:sldLayoutId id="2147483721" r:id="rId17"/>
    <p:sldLayoutId id="2147483722" r:id="rId18"/>
    <p:sldLayoutId id="2147483723" r:id="rId19"/>
    <p:sldLayoutId id="2147483724" r:id="rId20"/>
    <p:sldLayoutId id="2147483725" r:id="rId21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23" descr="2851026377_bf871ff1dc_o"/>
          <p:cNvPicPr/>
          <p:nvPr/>
        </p:nvPicPr>
        <p:blipFill>
          <a:blip r:embed="rId2"/>
          <a:stretch/>
        </p:blipFill>
        <p:spPr>
          <a:xfrm>
            <a:off x="0" y="965160"/>
            <a:ext cx="9144000" cy="5902200"/>
          </a:xfrm>
          <a:prstGeom prst="rect">
            <a:avLst/>
          </a:prstGeom>
          <a:ln w="0">
            <a:noFill/>
          </a:ln>
        </p:spPr>
      </p:pic>
      <p:sp>
        <p:nvSpPr>
          <p:cNvPr id="273" name="Rectangle 10"/>
          <p:cNvSpPr/>
          <p:nvPr/>
        </p:nvSpPr>
        <p:spPr>
          <a:xfrm>
            <a:off x="0" y="965160"/>
            <a:ext cx="4813200" cy="590220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74" name="Picture 3" descr=""/>
          <p:cNvPicPr/>
          <p:nvPr/>
        </p:nvPicPr>
        <p:blipFill>
          <a:blip r:embed="rId3"/>
          <a:stretch/>
        </p:blipFill>
        <p:spPr>
          <a:xfrm>
            <a:off x="4127400" y="6410160"/>
            <a:ext cx="685800" cy="45720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2" descr=""/>
          <p:cNvPicPr/>
          <p:nvPr/>
        </p:nvPicPr>
        <p:blipFill>
          <a:blip r:embed="rId4"/>
          <a:stretch/>
        </p:blipFill>
        <p:spPr>
          <a:xfrm>
            <a:off x="3564000" y="189000"/>
            <a:ext cx="1814400" cy="1398600"/>
          </a:xfrm>
          <a:prstGeom prst="rect">
            <a:avLst/>
          </a:prstGeom>
          <a:ln w="0">
            <a:noFill/>
          </a:ln>
        </p:spPr>
      </p:pic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a62a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spcBef>
                <a:spcPts val="451"/>
              </a:spcBef>
              <a:buClr>
                <a:srgbClr val="0f5494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343080" indent="-343080">
              <a:spcBef>
                <a:spcPts val="45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A514F-887A-4C4B-A0B1-298C608CB656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Picture 23" descr="2851026377_bf871ff1dc_o"/>
          <p:cNvPicPr/>
          <p:nvPr/>
        </p:nvPicPr>
        <p:blipFill>
          <a:blip r:embed="rId2"/>
          <a:stretch/>
        </p:blipFill>
        <p:spPr>
          <a:xfrm>
            <a:off x="-12600" y="965160"/>
            <a:ext cx="9156600" cy="590544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2" descr=""/>
          <p:cNvPicPr/>
          <p:nvPr/>
        </p:nvPicPr>
        <p:blipFill>
          <a:blip r:embed="rId3"/>
          <a:stretch/>
        </p:blipFill>
        <p:spPr>
          <a:xfrm>
            <a:off x="3564000" y="189000"/>
            <a:ext cx="1814400" cy="139860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3" descr=""/>
          <p:cNvPicPr/>
          <p:nvPr/>
        </p:nvPicPr>
        <p:blipFill>
          <a:blip r:embed="rId4"/>
          <a:stretch/>
        </p:blipFill>
        <p:spPr>
          <a:xfrm>
            <a:off x="4127400" y="6410160"/>
            <a:ext cx="685800" cy="457200"/>
          </a:xfrm>
          <a:prstGeom prst="rect">
            <a:avLst/>
          </a:prstGeom>
          <a:ln w="0">
            <a:noFill/>
          </a:ln>
        </p:spPr>
      </p:pic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a62a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spcBef>
                <a:spcPts val="451"/>
              </a:spcBef>
              <a:buClr>
                <a:srgbClr val="0f5494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343080" indent="-343080">
              <a:spcBef>
                <a:spcPts val="45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0F4F6-725C-4019-AFD1-F305569B397E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ec.europa.eu/agriculture/quality/index_en.htm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716000" y="1700280"/>
            <a:ext cx="4248360" cy="24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ffff"/>
                </a:solidFill>
                <a:latin typeface="Verdana"/>
              </a:rPr>
              <a:t>Simplification of EU Quality Policy</a:t>
            </a:r>
            <a:br>
              <a:rPr sz="3200"/>
            </a:br>
            <a:br>
              <a:rPr sz="3200"/>
            </a:br>
            <a:endParaRPr b="1" lang="en-US" sz="32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4211280" y="4508280"/>
            <a:ext cx="475308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ffffff"/>
                </a:solidFill>
                <a:latin typeface="Verdana"/>
              </a:rPr>
              <a:t>Civil Dialogue Group Quality and Promotion 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ffffff"/>
                </a:solidFill>
                <a:latin typeface="Verdana"/>
              </a:rPr>
              <a:t>21 November 2014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1400" spc="-1" strike="noStrike">
                <a:solidFill>
                  <a:srgbClr val="ffffff"/>
                </a:solidFill>
                <a:latin typeface="Verdana"/>
              </a:rPr>
              <a:t>Unit AGRI B.3: Quality policy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grpSp>
        <p:nvGrpSpPr>
          <p:cNvPr id="370" name="Group 3"/>
          <p:cNvGrpSpPr/>
          <p:nvPr/>
        </p:nvGrpSpPr>
        <p:grpSpPr>
          <a:xfrm>
            <a:off x="0" y="954000"/>
            <a:ext cx="4140360" cy="5931000"/>
            <a:chOff x="0" y="954000"/>
            <a:chExt cx="4140360" cy="5931000"/>
          </a:xfrm>
        </p:grpSpPr>
        <p:pic>
          <p:nvPicPr>
            <p:cNvPr id="371" name="Picture 4" descr=""/>
            <p:cNvPicPr/>
            <p:nvPr/>
          </p:nvPicPr>
          <p:blipFill>
            <a:blip r:embed="rId1"/>
            <a:srcRect l="0" t="0" r="1461" b="0"/>
            <a:stretch/>
          </p:blipFill>
          <p:spPr>
            <a:xfrm>
              <a:off x="1688760" y="954000"/>
              <a:ext cx="2451600" cy="207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2" name="Picture 5" descr=""/>
            <p:cNvPicPr/>
            <p:nvPr/>
          </p:nvPicPr>
          <p:blipFill>
            <a:blip r:embed="rId2"/>
            <a:stretch/>
          </p:blipFill>
          <p:spPr>
            <a:xfrm>
              <a:off x="1636200" y="3012480"/>
              <a:ext cx="2504160" cy="202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3" name="Picture 6" descr=""/>
            <p:cNvPicPr/>
            <p:nvPr/>
          </p:nvPicPr>
          <p:blipFill>
            <a:blip r:embed="rId3"/>
            <a:srcRect l="1134" t="4799" r="0" b="0"/>
            <a:stretch/>
          </p:blipFill>
          <p:spPr>
            <a:xfrm>
              <a:off x="7200" y="954000"/>
              <a:ext cx="2070000" cy="161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4" name="Picture 7" descr=""/>
            <p:cNvPicPr/>
            <p:nvPr/>
          </p:nvPicPr>
          <p:blipFill>
            <a:blip r:embed="rId4"/>
            <a:srcRect l="0" t="31512" r="517" b="33497"/>
            <a:stretch/>
          </p:blipFill>
          <p:spPr>
            <a:xfrm>
              <a:off x="0" y="5040360"/>
              <a:ext cx="4140360" cy="184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5" name="Picture 8" descr=""/>
            <p:cNvPicPr/>
            <p:nvPr/>
          </p:nvPicPr>
          <p:blipFill>
            <a:blip r:embed="rId5"/>
            <a:srcRect l="0" t="1768" r="0" b="0"/>
            <a:stretch/>
          </p:blipFill>
          <p:spPr>
            <a:xfrm>
              <a:off x="7200" y="2567880"/>
              <a:ext cx="1685880" cy="2472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23640" y="1197000"/>
            <a:ext cx="858492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r>
              <a:rPr b="1" lang="fr-BE" sz="2000" spc="-1" strike="noStrike">
                <a:solidFill>
                  <a:srgbClr val="42a62a"/>
                </a:solidFill>
                <a:latin typeface="Verdana"/>
              </a:rPr>
              <a:t>The use of the Union quality symbols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graphicFrame>
        <p:nvGraphicFramePr>
          <p:cNvPr id="401" name=""/>
          <p:cNvGraphicFramePr/>
          <p:nvPr/>
        </p:nvGraphicFramePr>
        <p:xfrm>
          <a:off x="324000" y="2133720"/>
          <a:ext cx="8567640" cy="4614840"/>
        </p:xfrm>
        <a:graphic>
          <a:graphicData uri="http://schemas.openxmlformats.org/drawingml/2006/table">
            <a:tbl>
              <a:tblPr/>
              <a:tblGrid>
                <a:gridCol w="1944360"/>
                <a:gridCol w="6623280"/>
              </a:tblGrid>
              <a:tr h="14634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gricultural products and foodstuffs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til 3/1/2016: the indication PDO or PGI in words or symbol </a:t>
                      </a:r>
                      <a:r>
                        <a:rPr b="0" lang="en-GB" sz="18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</a:rPr>
                        <a:t>must appear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on labels.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 of 4/1/2016: the Union symbol </a:t>
                      </a:r>
                      <a:r>
                        <a:rPr b="0" lang="en-GB" sz="18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</a:rPr>
                        <a:t>must appear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 The indication PDO or PGI may also appear.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ine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Union symbol </a:t>
                      </a:r>
                      <a:r>
                        <a:rPr b="0" lang="en-GB" sz="18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</a:rPr>
                        <a:t>may appear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on labels. 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term PDO or PGI must appear (but exceptions).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9144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irit drinks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Union symbol </a:t>
                      </a:r>
                      <a:r>
                        <a:rPr b="0" lang="en-GB" sz="18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</a:rPr>
                        <a:t>may appear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n labels. 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0479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romatised 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ine products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provision in the Regulation.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402" name="Slide Number Placeholder 3"/>
          <p:cNvSpPr/>
          <p:nvPr/>
        </p:nvSpPr>
        <p:spPr>
          <a:xfrm>
            <a:off x="4286160" y="6635880"/>
            <a:ext cx="6289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0923A-00DB-424D-9A17-987A5C670EE7}" type="slidenum">
              <a:rPr b="1" lang="en-GB" sz="10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fr-BE" sz="2400" spc="-1" strike="noStrike">
                <a:solidFill>
                  <a:srgbClr val="42a62a"/>
                </a:solidFill>
                <a:latin typeface="Verdana"/>
              </a:rPr>
              <a:t>Previous impact assessment 2009/2010</a:t>
            </a:r>
            <a:endParaRPr b="1" lang="en-US" sz="24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 u="sng">
                <a:solidFill>
                  <a:srgbClr val="0f5494"/>
                </a:solidFill>
                <a:uFillTx/>
                <a:latin typeface="Verdana"/>
              </a:rPr>
              <a:t>Objectives</a:t>
            </a:r>
            <a:r>
              <a:rPr b="0" lang="fr-BE" sz="2000" spc="-1" strike="noStrike">
                <a:solidFill>
                  <a:srgbClr val="0f5494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provide clearer information on products characteristics; 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provide simpler and single approach at EU level;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ensure uniform respect of Intellectual Property Rights (IPRs);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enhance effectiveness, efficiency and consistency. 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The Commission was encouraged to simplify, clarify and streamline the systems, and to enhance international recognition.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4286160" y="6635880"/>
            <a:ext cx="6289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C91B2-1391-4FFA-A1C5-CE211131B0F9}" type="slidenum">
              <a:rPr b="1" lang="en-GB" sz="10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42a62a"/>
                </a:solidFill>
                <a:latin typeface="Verdana"/>
              </a:rPr>
              <a:t>The way forward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3236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f5494"/>
                </a:solidFill>
                <a:latin typeface="Verdana"/>
              </a:rPr>
              <a:t>Objectives are still valid!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f5494"/>
                </a:solidFill>
                <a:latin typeface="Verdana"/>
              </a:rPr>
              <a:t>Build on work done in the previous impact assessment proces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f5494"/>
                </a:solidFill>
                <a:latin typeface="Verdana"/>
              </a:rPr>
              <a:t>Re-launch consultation process: 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lang="fr-BE" sz="2000" spc="-1" strike="noStrike">
                <a:solidFill>
                  <a:srgbClr val="0f5494"/>
                </a:solidFill>
                <a:latin typeface="Verdana"/>
              </a:rPr>
              <a:t>Member States, stakeholders, organisations, etc.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4286160" y="6635880"/>
            <a:ext cx="6289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873E0-4696-4454-BCB7-20F699B08D0B}" type="slidenum">
              <a:rPr b="1" lang="en-GB" sz="10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fr-BE" sz="2000" spc="-1" strike="noStrike">
                <a:solidFill>
                  <a:srgbClr val="42a62a"/>
                </a:solidFill>
                <a:latin typeface="Verdana"/>
              </a:rPr>
              <a:t>The aim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f5494"/>
                </a:solidFill>
                <a:latin typeface="Verdana"/>
              </a:rPr>
              <a:t>Define scope for: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simplification of rules 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harmonisation and streamlining of procedure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subsidiarity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1" name="Slide Number Placeholder 3"/>
          <p:cNvSpPr/>
          <p:nvPr/>
        </p:nvSpPr>
        <p:spPr>
          <a:xfrm>
            <a:off x="4286160" y="6635880"/>
            <a:ext cx="6289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6D66F-8A4B-450F-9801-79B6BE82D4BF}" type="slidenum">
              <a:rPr b="1" lang="en-GB" sz="10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fr-BE" sz="2000" spc="-1" strike="noStrike">
                <a:solidFill>
                  <a:srgbClr val="42a62a"/>
                </a:solidFill>
                <a:latin typeface="Verdana"/>
              </a:rPr>
              <a:t>Timing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f5494"/>
                </a:solidFill>
                <a:latin typeface="Verdana"/>
              </a:rPr>
              <a:t>Review the potential for further simplification within 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f5494"/>
                </a:solidFill>
                <a:latin typeface="Verdana"/>
              </a:rPr>
              <a:t>first twelve months of the Commission mandate.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4286160" y="6635880"/>
            <a:ext cx="6289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27DC9-D70F-414A-B2E8-7096E9810C8F}" type="slidenum">
              <a:rPr b="1" lang="en-GB" sz="10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68000" y="1773360"/>
            <a:ext cx="8280360" cy="18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42a62a"/>
                </a:solidFill>
                <a:latin typeface="Verdana"/>
              </a:rPr>
              <a:t>Thank you for your attention and your contribution!</a:t>
            </a:r>
            <a:endParaRPr b="1" lang="en-US" sz="4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250560" y="3789360"/>
            <a:ext cx="858204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More information: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Quality policy web-page: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http://ec.europa.eu/agriculture/quality/index_en.htm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Slide Number Placeholder 1"/>
          <p:cNvSpPr/>
          <p:nvPr/>
        </p:nvSpPr>
        <p:spPr>
          <a:xfrm>
            <a:off x="4286160" y="6635880"/>
            <a:ext cx="6289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92E1D-B7B9-4EF2-B2D7-EF1E1197A8BC}" type="slidenum">
              <a:rPr b="1" lang="en-GB" sz="10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377" name="Chart 4" descr=""/>
          <p:cNvPicPr/>
          <p:nvPr/>
        </p:nvPicPr>
        <p:blipFill>
          <a:blip r:embed="rId1"/>
          <a:stretch/>
        </p:blipFill>
        <p:spPr>
          <a:xfrm>
            <a:off x="992160" y="1865160"/>
            <a:ext cx="7302600" cy="4062600"/>
          </a:xfrm>
          <a:prstGeom prst="rect">
            <a:avLst/>
          </a:prstGeom>
          <a:ln w="0">
            <a:noFill/>
          </a:ln>
        </p:spPr>
      </p:pic>
      <p:sp>
        <p:nvSpPr>
          <p:cNvPr id="378" name="TextBox 1"/>
          <p:cNvSpPr/>
          <p:nvPr/>
        </p:nvSpPr>
        <p:spPr>
          <a:xfrm>
            <a:off x="611280" y="1197000"/>
            <a:ext cx="820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Verdana"/>
                <a:ea typeface="Arial"/>
              </a:rPr>
              <a:t>3292 GIs by Type – November 2014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23640" y="1197000"/>
            <a:ext cx="858492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r>
              <a:rPr b="1" lang="en-GB" sz="2000" spc="-1" strike="noStrike">
                <a:solidFill>
                  <a:srgbClr val="42a62a"/>
                </a:solidFill>
                <a:latin typeface="Verdana"/>
              </a:rPr>
              <a:t>GI legislation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graphicFrame>
        <p:nvGraphicFramePr>
          <p:cNvPr id="380" name=""/>
          <p:cNvGraphicFramePr/>
          <p:nvPr/>
        </p:nvGraphicFramePr>
        <p:xfrm>
          <a:off x="324000" y="2060640"/>
          <a:ext cx="8567640" cy="3792600"/>
        </p:xfrm>
        <a:graphic>
          <a:graphicData uri="http://schemas.openxmlformats.org/drawingml/2006/table">
            <a:tbl>
              <a:tblPr/>
              <a:tblGrid>
                <a:gridCol w="1944360"/>
                <a:gridCol w="6623280"/>
              </a:tblGrid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gricultural products and foodstuffs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gulation (EU) 1151/2012 on quality schemes for agricultural products and foodstuffs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ine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gulation (EU) No 1308/2013 establishing a common organisation of the markets in agricultural products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irit drinks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gulation (EC) No 110/2008 on the definition, description, presentation, labelling and the protection of geographical indications of spirit drinks 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0483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romatised 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ine products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gulation (EU) No 251/2014 on the definition, description, presentation, labelling and the protection of geographical indications of aromatized wine products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381" name="Slide Number Placeholder 3"/>
          <p:cNvSpPr/>
          <p:nvPr/>
        </p:nvSpPr>
        <p:spPr>
          <a:xfrm>
            <a:off x="4286160" y="6635880"/>
            <a:ext cx="6289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16E3A-1208-4862-A3BF-EC52FD280334}" type="slidenum">
              <a:rPr b="1" lang="en-GB" sz="10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23640" y="1197000"/>
            <a:ext cx="858492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r>
              <a:rPr b="1" lang="en-GB" sz="2000" spc="-1" strike="noStrike">
                <a:solidFill>
                  <a:srgbClr val="42a62a"/>
                </a:solidFill>
                <a:latin typeface="Verdana"/>
              </a:rPr>
              <a:t>The basic concept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graphicFrame>
        <p:nvGraphicFramePr>
          <p:cNvPr id="383" name=""/>
          <p:cNvGraphicFramePr/>
          <p:nvPr/>
        </p:nvGraphicFramePr>
        <p:xfrm>
          <a:off x="324000" y="2060640"/>
          <a:ext cx="8567640" cy="3682800"/>
        </p:xfrm>
        <a:graphic>
          <a:graphicData uri="http://schemas.openxmlformats.org/drawingml/2006/table">
            <a:tbl>
              <a:tblPr/>
              <a:tblGrid>
                <a:gridCol w="1944360"/>
                <a:gridCol w="6623280"/>
              </a:tblGrid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gricultural products and foodstuffs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DO, PGI (and TSG and OQT)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ine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DO, PGI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8064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irit drinks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I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0468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romatised 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ine products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I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384" name="Slide Number Placeholder 3"/>
          <p:cNvSpPr/>
          <p:nvPr/>
        </p:nvSpPr>
        <p:spPr>
          <a:xfrm>
            <a:off x="4286160" y="6635880"/>
            <a:ext cx="6289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1AAE2-C04C-4219-AF46-4E1CC93739A9}" type="slidenum">
              <a:rPr b="1" lang="en-GB" sz="10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23640" y="1197000"/>
            <a:ext cx="858492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r>
              <a:rPr b="1" lang="en-GB" sz="2000" spc="-1" strike="noStrike">
                <a:solidFill>
                  <a:srgbClr val="42a62a"/>
                </a:solidFill>
                <a:latin typeface="Verdana"/>
              </a:rPr>
              <a:t>Scrutiny procedure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graphicFrame>
        <p:nvGraphicFramePr>
          <p:cNvPr id="386" name=""/>
          <p:cNvGraphicFramePr/>
          <p:nvPr/>
        </p:nvGraphicFramePr>
        <p:xfrm>
          <a:off x="324000" y="2060640"/>
          <a:ext cx="8567640" cy="4065480"/>
        </p:xfrm>
        <a:graphic>
          <a:graphicData uri="http://schemas.openxmlformats.org/drawingml/2006/table">
            <a:tbl>
              <a:tblPr/>
              <a:tblGrid>
                <a:gridCol w="1944360"/>
                <a:gridCol w="6623280"/>
              </a:tblGrid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gricultural products and foodstuffs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ithin </a:t>
                      </a:r>
                      <a:r>
                        <a:rPr b="0" lang="fr-BE" sz="18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</a:rPr>
                        <a:t>6 months </a:t>
                      </a: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f the date of the submission of the application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ine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deadline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irit drinks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ithin </a:t>
                      </a:r>
                      <a:r>
                        <a:rPr b="0" lang="fr-BE" sz="18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</a:rPr>
                        <a:t>12 months 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0468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romatised 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ine products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deadline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387" name="Slide Number Placeholder 3"/>
          <p:cNvSpPr/>
          <p:nvPr/>
        </p:nvSpPr>
        <p:spPr>
          <a:xfrm>
            <a:off x="4286160" y="6635880"/>
            <a:ext cx="6289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73CCF-A00F-4F6E-94AC-66F0D393E5DD}" type="slidenum">
              <a:rPr b="1" lang="en-GB" sz="10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23640" y="1197000"/>
            <a:ext cx="858492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r>
              <a:rPr b="1" lang="en-GB" sz="2000" spc="-1" strike="noStrike">
                <a:solidFill>
                  <a:srgbClr val="42a62a"/>
                </a:solidFill>
                <a:latin typeface="Verdana"/>
              </a:rPr>
              <a:t>Opposition procedure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324000" y="2060640"/>
          <a:ext cx="8567640" cy="4481280"/>
        </p:xfrm>
        <a:graphic>
          <a:graphicData uri="http://schemas.openxmlformats.org/drawingml/2006/table">
            <a:tbl>
              <a:tblPr/>
              <a:tblGrid>
                <a:gridCol w="1944360"/>
                <a:gridCol w="6623280"/>
              </a:tblGrid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gricultural products and foodstuffs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ice of opposition within </a:t>
                      </a:r>
                      <a:r>
                        <a:rPr b="0" lang="fr-BE" sz="18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</a:rPr>
                        <a:t>3 months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asoned statement of opposition within </a:t>
                      </a:r>
                      <a:r>
                        <a:rPr b="0" lang="fr-BE" sz="18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</a:rPr>
                        <a:t>2 months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ine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uly substantiated statement of objection </a:t>
                      </a:r>
                      <a:r>
                        <a:rPr b="0" lang="fr-BE" sz="18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</a:rPr>
                        <a:t>within 2 months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9144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irit drinks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uly substantiated objection within </a:t>
                      </a:r>
                      <a:r>
                        <a:rPr b="0" lang="fr-BE" sz="18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</a:rPr>
                        <a:t>6 months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188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romatised 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ine products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uly substantiated statement of objection </a:t>
                      </a:r>
                      <a:r>
                        <a:rPr b="0" lang="fr-BE" sz="18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</a:rPr>
                        <a:t>within 2 months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390" name="Slide Number Placeholder 3"/>
          <p:cNvSpPr/>
          <p:nvPr/>
        </p:nvSpPr>
        <p:spPr>
          <a:xfrm>
            <a:off x="4286160" y="6635880"/>
            <a:ext cx="6289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43E91-0A52-4BF6-88E5-024063AC1E0D}" type="slidenum">
              <a:rPr b="1" lang="en-GB" sz="10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42a62a"/>
                </a:solidFill>
                <a:latin typeface="Verdana"/>
              </a:rPr>
              <a:t>Length of procedures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25056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Average time for the registration procedure at EU level: 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    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between 18 and 36 month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Longer in case of opposition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Preceded by the national registration proces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Time needed for registration  = time needed for approval of amendment of product specification 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3" name="Slide Number Placeholder 3"/>
          <p:cNvSpPr/>
          <p:nvPr/>
        </p:nvSpPr>
        <p:spPr>
          <a:xfrm>
            <a:off x="4286160" y="6635880"/>
            <a:ext cx="6289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1EC56-962A-478B-9929-EFFAE592C201}" type="slidenum">
              <a:rPr b="1" lang="en-GB" sz="10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23640" y="1197000"/>
            <a:ext cx="858492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r>
              <a:rPr b="1" lang="en-GB" sz="2000" spc="-1" strike="noStrike">
                <a:solidFill>
                  <a:srgbClr val="42a62a"/>
                </a:solidFill>
                <a:latin typeface="Verdana"/>
              </a:rPr>
              <a:t>Cancellation of a name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graphicFrame>
        <p:nvGraphicFramePr>
          <p:cNvPr id="395" name=""/>
          <p:cNvGraphicFramePr/>
          <p:nvPr/>
        </p:nvGraphicFramePr>
        <p:xfrm>
          <a:off x="324000" y="2060640"/>
          <a:ext cx="8567640" cy="4065480"/>
        </p:xfrm>
        <a:graphic>
          <a:graphicData uri="http://schemas.openxmlformats.org/drawingml/2006/table">
            <a:tbl>
              <a:tblPr/>
              <a:tblGrid>
                <a:gridCol w="1944360"/>
                <a:gridCol w="6623280"/>
              </a:tblGrid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gricultural products and foodstuffs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ssible if non compliance or non-use over 7 years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so at the request of the producers of the product to be cancelled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ine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ssible </a:t>
                      </a:r>
                      <a:r>
                        <a:rPr b="0" lang="fr-BE" sz="18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</a:rPr>
                        <a:t>only for new GI</a:t>
                      </a: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if non-compliance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irit drinks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ssible if non-compliance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0468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romatised 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ine products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ssible if non-compliance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396" name="Slide Number Placeholder 3"/>
          <p:cNvSpPr/>
          <p:nvPr/>
        </p:nvSpPr>
        <p:spPr>
          <a:xfrm>
            <a:off x="4286160" y="6635880"/>
            <a:ext cx="6289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D7A52-B9A4-4931-A673-58786D692F3B}" type="slidenum">
              <a:rPr b="1" lang="en-GB" sz="10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23640" y="1197000"/>
            <a:ext cx="858492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r>
              <a:rPr b="1" lang="en-GB" sz="2000" spc="-1" strike="noStrike">
                <a:solidFill>
                  <a:srgbClr val="42a62a"/>
                </a:solidFill>
                <a:latin typeface="Verdana"/>
              </a:rPr>
              <a:t>Protection of GIs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graphicFrame>
        <p:nvGraphicFramePr>
          <p:cNvPr id="398" name=""/>
          <p:cNvGraphicFramePr/>
          <p:nvPr/>
        </p:nvGraphicFramePr>
        <p:xfrm>
          <a:off x="324000" y="2060640"/>
          <a:ext cx="8567640" cy="3409920"/>
        </p:xfrm>
        <a:graphic>
          <a:graphicData uri="http://schemas.openxmlformats.org/drawingml/2006/table">
            <a:tbl>
              <a:tblPr/>
              <a:tblGrid>
                <a:gridCol w="1944360"/>
                <a:gridCol w="6623280"/>
              </a:tblGrid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gricultural products and foodstuffs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so against use for services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ine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so against use for services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8074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irit drinks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</a:rPr>
                        <a:t>No mention of services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0472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romatised 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ine products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so against use for services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399" name="Slide Number Placeholder 3"/>
          <p:cNvSpPr/>
          <p:nvPr/>
        </p:nvSpPr>
        <p:spPr>
          <a:xfrm>
            <a:off x="4286160" y="6635880"/>
            <a:ext cx="6289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4A206-073C-4F3A-8B4C-A2814D8CAA84}" type="slidenum">
              <a:rPr b="1" lang="en-GB" sz="10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DELOBEL Marion (AGRI)</dc:creator>
  <dc:description/>
  <dc:language>en-US</dc:language>
  <cp:lastModifiedBy>BUTTINI-PROVENZANO Roberta (AGRI)</cp:lastModifiedBy>
  <cp:lastPrinted>2014-11-20T09:07:55Z</cp:lastPrinted>
  <dcterms:modified xsi:type="dcterms:W3CDTF">2014-11-21T06:18:07Z</dcterms:modified>
  <cp:revision>452</cp:revision>
  <dc:subject>European Commission</dc:subject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  <property fmtid="{D5CDD505-2E9C-101B-9397-08002B2CF9AE}" pid="3" name="Is Document Visible">
    <vt:lpwstr>0</vt:lpwstr>
  </property>
  <property fmtid="{D5CDD505-2E9C-101B-9397-08002B2CF9AE}" pid="4" name="PublishingExpirationDate">
    <vt:lpwstr/>
  </property>
  <property fmtid="{D5CDD505-2E9C-101B-9397-08002B2CF9AE}" pid="5" name="PublishingStartDate">
    <vt:lpwstr/>
  </property>
</Properties>
</file>