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706B-11E3-4D51-BEAB-E378B6E589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A la date limite du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16 juin 2014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, les Etats membres ont soumis aux services compétents de la Commission, unité AGRI B.5,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43 propositions de programme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d'information et de promotion des produits agricoles préalablement reçus et sélectionnés,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émanant de 20 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 from France, Greece and Italy + 6 multi MS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Total budget:    165.474.432 EUR          dont 82.933.195 EUR à cofinance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(50,12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es programmes concernent simultanément l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marché intérieur (29)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et les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Pays tiers (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7 "programmes simples"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donc présentés par des organisations proposantes issues d'un même Etat membre  +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 "programmes multis"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c’est-à-dire des propositions faites par des organisations proposantes issues de plusieurs Etat mem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uite à la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première phase d'évaluation 14 propositions ont été rejeté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à cause de défauts fondamentaux. Pour les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9 propositions restantes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l'unité B.5 a demandé aux Etats Membres de fournir 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'information supplémentaire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Deux des 29 propositions restantes ont encore été retiré par les organisations proposante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suite à l'envoie des demandes pour information supplémenta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ne proposition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slovène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après que l'état membre avait constaté finalement que l'organisation proposante ne représentait pas le secteur d'une façon suffis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ne organisation proposant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grecque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a décidé de retirer sa proposition après qu'elle avait reçu la lettre dans laquelle nos services demandaient de l'information supplémenta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Extra annex 3 with abandoned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3F8B-0D04-43D8-B4FA-1F4DE7D526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A la suite des procédures d'évaluation susmentionnées,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7 programme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parmi les 43 sont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proposés au bénéfice de l'aide européenne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2,8%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of initially received proposals                   +                       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47,9%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of total budget of 43 initial propo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es programmes portent sur un budget total 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79.264.024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dont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9.939.318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à cofin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programmes ont une durée 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 ans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 an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Average budget: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.946.816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  ranging beween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47.172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(programme estonien)         and   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.451.464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(programme multi (IE, FR et UK) sur viande d'agneau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1/27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target th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Internal Market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+ 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/27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target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Third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Budget "Internal Market"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8.893.875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           (EU co-financement: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4.754.242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Budget "Third Countries"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10.370.148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            (EU co-financement: 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5.185.076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9/27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:     program is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imited to country of origin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of the proposing organisation      (BE, DE, EE, GR, 2xFR, IT, LV, 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C937-46E1-4385-8667-AFC650F961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Fresh F&amp;V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rograms                                    32% of total approve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Milk &amp; milk products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rograms                      12% of total approve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DO, PGI &amp; TSG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programs                            14% of total approve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E118-C2CB-422A-AF43-6AA841FA25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723-1D5C-4FC3-A38E-39B93C4A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40E-C5C4-4303-918F-24916A38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D26A4-4BC6-4836-9F6B-620272BC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32106-AE17-4E5E-8F58-06EF4472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C0702-C37B-4DD1-B70F-F48B3031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8C5CC-E9CC-4D12-BE69-CE119F8D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D9CF0-75AF-4BD5-8DF6-12B050CB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54CE6-3724-4FD4-8A83-A184D6EB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8CF6E-51F7-41B8-8EEA-91D352FC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AE402-448A-43AA-9A4F-5290CF05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144FD-B352-4CE7-ACAA-3900FE10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7B1CD-1C82-46E4-B642-95D46868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A86-D145-4966-B827-6BD71BDE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E4059-52C7-40E8-93F8-4F318282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A9C4E-171D-468B-8DD8-E3D8466E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928FE-D1CE-40B7-BE49-1CFA87D1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4E329-2D32-4348-B30B-405F2161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FD815-F746-4095-BCBB-1911D2D8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B5F71-B215-4A58-8976-09724870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8F794-57EE-4816-886D-646CEE80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C753B-7514-4629-B471-A6818255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DB64B-62A3-4A4B-8C94-095C089D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AE102-A7D6-4A14-AF4C-54B4788D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57F-451A-447B-AEEB-6A4BFC3D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CE147-5FC6-4405-A2A2-C9A8CBA8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43BC2-32FD-4E8F-880F-2A71CA07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00625-268F-481B-B07D-7E568EC7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FC1D6-DBE9-4DDC-9FAD-AE85F969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8BD84-C603-43E8-B6C7-CA7E1B39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7709F-6150-49C3-8513-67CB524A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E095B-CB15-4DF6-B340-86D2059D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EB77A-7A13-4207-A1CD-BC0D0B8E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3A3FD-8C32-4AD6-9D44-ECFB6E38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2938F-B389-4043-935A-49907C94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CBA5-4E07-496D-8028-C06A3125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EAB97-29E0-46EA-AD7A-880AEA86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DE055-FC24-493E-8915-93D2416C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F2559-45D7-4AB6-A3CC-40A821D4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86F2A-149E-49FB-AD7C-E39D4BB1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F0500-FC0A-44BF-B592-19C10054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18FED-8A8D-42F0-BEC6-44F9E8D4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7902B-C97B-4E2F-8654-27B4E165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B85F2-D538-43E4-9991-AAB86912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D8F79-C322-4CC9-9F47-46ABDCFE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CB377-D720-4C21-9C22-C5783491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DF2B-7DF4-4896-99E9-7B0CD769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2B447-7164-4517-B514-64C417F4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138D7-D0D4-4FF5-ADAF-0663CE19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13177-BFA5-43EA-AF73-AA1022A8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4A56E-BD42-477F-B005-154735D8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05B7A-B317-40D8-A695-604969B8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CF8F-CA55-4FE5-9E1B-01BA574C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28BA-BB5D-4481-A4D0-69B95AC9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B194-6EEE-4630-9A03-EAF73FC7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C38C-DB08-49F4-BA06-2F531405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4D75-DB1C-4BC3-B698-7024B0C8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B05-5030-4F9D-9C39-FA629422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03EA-671D-4923-90FE-6DECADDA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AD86-7AA0-463A-ABB4-BBF00AB3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BBC6-CDBC-45A6-8974-D9B65032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E27A-094C-4421-8EBC-B24211D2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219C-AE30-4B2A-B328-1BF70B9C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4D11-2EB8-461E-8608-1F334014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18BF5-C43E-454E-967A-E6A83753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E8DF-F481-451E-BDB5-6F4C5751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A6AE3-0C1F-42E7-87AC-B1CFEE6D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672FA-FCE9-4257-A796-891BBAFE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30F-BB7B-43C2-8E6C-ACDFEBC6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F47C-B27B-43E5-A12B-2B98F49E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6075F-316B-41D5-992B-B7428ADC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36045-ED2E-4851-BE89-E03BAF48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2EC5-FB23-4054-B80B-5B65F295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9ED86-9FA8-47F4-8C4E-BF64C944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5237-7D19-48FB-BCFC-26298B55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18DF-CBB7-4CB0-BD69-21B18DF4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B8FCF-56F5-443D-89AC-C4387EFD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6022F-DA20-4ED1-99A4-1ADADDC5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56316-A750-4C7A-94EB-BAAFA805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762A-6CCD-4E56-B06C-5E437AB9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46032-CB81-46B5-93C9-73BDEC54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D4899-82C3-413F-A0B7-F80FB38A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55B5-C4A0-4B7F-A953-D51B8078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D86B3-8E84-4CEA-89DF-216B03BD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4788A-3649-4234-8A08-87FB61EB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42EC-EE9B-4651-96C7-7C4F9A00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14892-C9B0-47F4-A4C7-4F3CBBAE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50FBD-A122-48CD-81F7-F62F3F0D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946CC-487F-4F5F-9C55-21D189CB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5222F-443F-42E6-A237-2940772F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D06-9A3B-469B-8810-63354C3F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6ADE0-65A4-4B1F-AE6D-1FA71BB8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514CA-6FA4-4A03-B389-3716BA43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0AF36-C07F-4944-902E-62CE4C45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35A2C-9767-45E4-BC15-51200032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C531B-5AEF-4BA2-A545-775703BA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07572-F332-42D4-AA54-6533E15A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F5657-D64A-414B-862F-E1E7C9D0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6B16C-9729-4DCD-8CB7-BC4FFD16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2873A-5B02-43D1-AE10-A15C6E5E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DDA99-51A0-411A-96A0-2B40FB77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09D-EE7D-453F-A7E6-434F59B7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14146-D077-41A4-84E0-E58E21C4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91227-12B2-42F5-9C04-A2345964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C21DE-AF45-4DA7-A63C-472FEF7B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E9CC9-7306-49C7-B08B-FDE931A9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2287C-A823-483C-BD4B-BC509A00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1D4F8-6DE4-4A98-8C0E-290ED9FD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173FB-8CEB-4E22-B251-F4226BA2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E1DED-9ABD-4E4A-8447-545543CF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8BF72-47F9-4A2F-963D-38E8397F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17F5F-8051-43B3-B4F6-F88EA769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A7E-9B54-4CB7-BE4A-C49CEBD4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077FC-A4CA-4D8F-B0C3-BA18F15C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3A986-97C5-4FAF-806D-67696FA3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D33AA-999A-498D-9B94-87E0EAAB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7EC5A-E0EC-4955-9E88-00D3D23B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DB13D-825F-45DF-9789-269B605C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2E5EA-6A16-4CB0-B068-3F0F8D37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1BFC2-BC21-430F-B48D-B983B506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61FC3-A3F2-43DF-9A72-D0D7C329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50876-7F16-46FD-ADCC-2926F09C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526BA-D986-4410-BA21-C6B7A532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A0B-D650-49EF-9547-9F945A55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CF502-AA4A-4899-9A8C-41FA36EE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BA1D7-7F73-47F6-84D3-961F450F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680DA-A72D-4DD8-8AB0-5B77BD5C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09093-4826-4C93-836A-1613F54D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70431-7892-4A28-89F7-EF746806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1654A-8154-406E-9CBB-5B2B4415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1E9F3-14CD-4142-A5D7-5074663D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96C90-8E52-4A49-8A8D-D84FEDBF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A4AD2-C108-4BB4-A1E9-2B5F59C7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EFDA4-7642-4A31-B1A5-925FD416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FD8B-0A56-4FF1-9C0B-F5EE930C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4C9C6-985A-4BE8-B0C9-48302EF8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E28E4-FAEB-43BB-B369-7D5957E3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CFE20-E0E5-4305-9998-138862FD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87CC6-C0A1-4392-95E7-1A16C5B5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318EB-5BDC-468C-8647-1E8FE267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C4AF3-BAD2-4932-A751-2F43F4FF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16D5A-3108-425C-B28B-B71DA161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B219B-D125-4522-80F0-7F619FCA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9E8B5-C07C-437E-BED0-8C1B92F5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570F3-B5DB-42CE-8410-2DFCC958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D098-D684-45B9-B0E1-0D197EB965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D6FF-CD45-45E4-915F-A6A4915629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B409-8120-4DBE-A3A8-3151650EC4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D986-F241-40C4-BA17-0A1B455BDB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FD29-1B90-4CD6-8F32-0B9BF0207D1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DCD8-E81D-406F-A85B-57997F7EFD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BCEE-4405-4467-9712-33CBBD519C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05F5-F634-4BF6-B747-5A8C8357CE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5C7B-6B83-4D71-BDA0-27EC96147F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3352-C912-4B2E-83C8-2BB9A0A353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3108-DB20-4CB6-9794-53E8A6C5C6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9DF3-679F-4C6A-95DA-F178AC23FE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40360" y="1628280"/>
            <a:ext cx="46418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Opinion on the new promotion programmes (proposals sent to the Commission by 15 June 2014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0920" y="2924280"/>
            <a:ext cx="86421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5178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° Progr. Receiv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9" name="Content Placeholder 3" descr=""/>
          <p:cNvPicPr/>
          <p:nvPr/>
        </p:nvPicPr>
        <p:blipFill>
          <a:blip r:embed="rId1"/>
          <a:stretch/>
        </p:blipFill>
        <p:spPr>
          <a:xfrm>
            <a:off x="457200" y="2639880"/>
            <a:ext cx="8229600" cy="3382920"/>
          </a:xfrm>
          <a:prstGeom prst="rect">
            <a:avLst/>
          </a:prstGeom>
          <a:ln w="0">
            <a:noFill/>
          </a:ln>
        </p:spPr>
      </p:pic>
      <p:pic>
        <p:nvPicPr>
          <p:cNvPr id="510" name="Chart 5" descr=""/>
          <p:cNvPicPr/>
          <p:nvPr/>
        </p:nvPicPr>
        <p:blipFill>
          <a:blip r:embed="rId2"/>
          <a:stretch/>
        </p:blipFill>
        <p:spPr>
          <a:xfrm>
            <a:off x="1908000" y="2925720"/>
            <a:ext cx="55166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N° Progr. Approv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3" name="Chart 4" descr=""/>
          <p:cNvPicPr/>
          <p:nvPr/>
        </p:nvPicPr>
        <p:blipFill>
          <a:blip r:embed="rId1"/>
          <a:stretch/>
        </p:blipFill>
        <p:spPr>
          <a:xfrm>
            <a:off x="1908000" y="2346480"/>
            <a:ext cx="531036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oduct Approved Progr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5" name="Chart 3" descr=""/>
          <p:cNvPicPr/>
          <p:nvPr/>
        </p:nvPicPr>
        <p:blipFill>
          <a:blip r:embed="rId1"/>
          <a:stretch/>
        </p:blipFill>
        <p:spPr>
          <a:xfrm>
            <a:off x="1908000" y="2279520"/>
            <a:ext cx="4980240" cy="4176720"/>
          </a:xfrm>
          <a:prstGeom prst="rect">
            <a:avLst/>
          </a:prstGeom>
          <a:ln w="0">
            <a:noFill/>
          </a:ln>
        </p:spPr>
      </p:pic>
      <p:pic>
        <p:nvPicPr>
          <p:cNvPr id="516" name="Chart 4" descr=""/>
          <p:cNvPicPr/>
          <p:nvPr/>
        </p:nvPicPr>
        <p:blipFill>
          <a:blip r:embed="rId2"/>
          <a:stretch/>
        </p:blipFill>
        <p:spPr>
          <a:xfrm>
            <a:off x="1474920" y="2346480"/>
            <a:ext cx="61941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SERNEELS Michael (AGRI)</dc:creator>
  <dc:description/>
  <dc:language>en-US</dc:language>
  <cp:lastModifiedBy>BUTTINI-PROVENZANO Roberta (AGRI)</cp:lastModifiedBy>
  <cp:lastPrinted>2014-11-18T13:37:27Z</cp:lastPrinted>
  <dcterms:modified xsi:type="dcterms:W3CDTF">2014-11-18T13:38:29Z</dcterms:modified>
  <cp:revision>168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