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DEEA-3EDF-4B7B-8310-8C7ACBE82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2FD6-799D-4D10-85A6-F8BA5A7C9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9DE-0014-4939-9ACD-EB17132F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70E-CA15-4E22-9734-BF40A962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8A1-596F-4AF6-86D0-74D77659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302-B2B6-493E-A5A0-B0685450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BB19-C3D6-4E98-90A4-D16C6AD2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4127-21A2-435C-87BA-BA510F1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AE6D-4C57-4747-8131-28B79F61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158E-F67F-49F7-91B2-D0680D88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F107-E686-4869-A011-357C7D5C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09F5-90D6-48A5-9A46-A3EF2744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8CB4-5D63-433F-A6EC-803073D8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9D4-AEDA-43CA-BC69-26E6DF5F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C26C-6A83-4402-B011-19BA9CD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33A5-E74D-4891-9ADA-BFC800C8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DAC-8E73-4191-94F3-24982C0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389E-BAD0-4259-826B-54E35081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16D9-88B4-483B-B767-5184CAA7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C010-444B-42F1-A381-38E1D865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1CE3-DD70-4DB3-BB41-7EB4601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9DD3-286C-436E-B9B0-2C1E0B1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91CF-552B-487A-95D0-194039E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5DF3-5193-4660-B910-C5385B9C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D45-A8C8-4E3D-92EA-BAC942C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8D4A-6EC8-4C9B-BD60-0FA01D80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7B06-FB3E-4F3D-B517-61C72F8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8E8B-FABE-4CBA-8E4A-E9EB78E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05AE-EB03-4562-96A4-5E5C89B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4EDD-FBF8-415F-A803-7A5730C9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85B6-2F0C-495C-B24A-6381BB65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090C-9D4F-4DE1-A756-F1BF9A2B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0F3-B8AB-4ADF-96DD-10E705D7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948-0261-464D-B3B5-A4BE372B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4F9-5963-4EA9-8E10-4005FFA8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6CB-A0F2-4DBB-B3D6-02B59B3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F76-18D1-4EB0-97BF-52F4134A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ADE-DFCD-46C2-9AC5-2F8BFB6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DF7-0D39-4A90-BB93-E7A9CCE31B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DAF1-ACC8-4A7A-961C-F5296C8709C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07F-8D4B-4199-A556-55B320710C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rade.ec.europa.eu/doclib/docs/2006/december/tradoc_118238.pdf" TargetMode="External"/><Relationship Id="rId2" Type="http://schemas.openxmlformats.org/officeDocument/2006/relationships/hyperlink" Target="http://trade.ec.europa.eu/doclib/docs/2006/december/tradoc_118238.pdf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ubtitle 2"/>
          <p:cNvSpPr/>
          <p:nvPr/>
        </p:nvSpPr>
        <p:spPr>
          <a:xfrm>
            <a:off x="611280" y="4941720"/>
            <a:ext cx="8389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Diego Canga Fano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uropean Commission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culture and Rural Development – Director B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250920" y="2565360"/>
            <a:ext cx="878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Promoting alternative markets for EU agri-food exports 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ivil Dialogue Group Quality and Promotion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russels – 21 November 2014</a:t>
            </a:r>
            <a:br>
              <a:rPr sz="2000"/>
            </a:b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19080" y="1484280"/>
            <a:ext cx="91249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rade climate, retail sector, promotion aspects et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mark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900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ncouraging reaction from deleg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Availability for further suppor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ecific situation for countries and products to be kept in mind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market access activities of key importanc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cope for cooperation among Member States, chambers of commerce, promotion agenc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xport markets – new opportunities?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(non-exhaustive list)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ndonesia, Thailand, Vietna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Mexico, Colombia, Per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Morocco, Algeria, Tunisi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gypt, Saudi Arabia, Gulf Countri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Turkey, Ukraine, Uzbekist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outh Africa, Nigeria, Ethiop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rade agreements – state of play 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n-line overview:</a:t>
            </a:r>
            <a:br>
              <a:rPr sz="20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rade.ec.europa.eu/doclib/docs/2006/december/tradoc_118238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nformation by country:</a:t>
            </a:r>
            <a:br>
              <a:rPr sz="20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rade.ec.europa.eu/doclib/docs/2006/december/tradoc_118238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55556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Priority markets for SPS market access activitie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6360" y="2349360"/>
          <a:ext cx="5399280" cy="4104000"/>
        </p:xfrm>
        <a:graphic>
          <a:graphicData uri="http://schemas.openxmlformats.org/drawingml/2006/table">
            <a:tbl>
              <a:tblPr/>
              <a:tblGrid>
                <a:gridCol w="1152720"/>
                <a:gridCol w="4246560"/>
              </a:tblGrid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ority count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ctor/product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RAZI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dairy, bovin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N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pork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L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LOMBIA/PERU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poultry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D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poultry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DONES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uits and vegetables (port access)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XIC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URKE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poultry, dairy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A/CANADA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dairy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IETNAM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rade climate, retail sector, promotion aspects et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conomic prosp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Trade climate / EU position in the mark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Retail sector – availability and access to distribution chai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Promotion aspects: trade fairs, opportunities outside the capitals, possible constraint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ther comments: cooperation among chambers of commerce, role of Member States etc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CORDONNIER Vincent (AGRI)</dc:creator>
  <dc:description/>
  <dc:language>en-US</dc:language>
  <cp:lastModifiedBy>BUTTINI-PROVENZANO Roberta (AGRI)</cp:lastModifiedBy>
  <cp:lastPrinted>2014-11-19T14:25:38Z</cp:lastPrinted>
  <dcterms:modified xsi:type="dcterms:W3CDTF">2014-11-19T14:26:46Z</dcterms:modified>
  <cp:revision>294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