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255-66FF-4447-BA26-3465EA87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04A8-3D55-4577-AD0E-5F2BE9E7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69236-1D8D-4A61-98E9-867E14C6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7B922-8AA3-41D5-AB94-8A53626B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492B0-7521-45EB-8166-FF6CA2F6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08845-C7AE-48F1-821A-67B02007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BBE68-FE56-43BE-982E-6D62649D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C9E22-5F9E-4E66-ACD1-7B41042D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A247F-CA09-463F-BC98-15D0CC22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1BD2C-D583-471E-8CB0-DE95D7AD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45584-324D-46F6-9AF2-7A134440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E15BD-35A0-40E0-9D8E-2B24F5F5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0F4-36AE-4FBC-931D-EB0A332B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C6689-EED2-43F6-8702-0D18C112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B9CBA-F495-489A-88DD-D37AE3E6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4AEE7-59E5-4AD3-86D8-C4B843D6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40757-2E62-495C-99E0-743F1DE9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BD649-E166-4DA7-80B3-AAED6FF4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EEA70-B5B9-4C6E-997A-5113FCB6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79A75-F45D-416E-A380-F519AD65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A6901-ACEE-4BA2-BB4C-02E35BAE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AD4EF-C33F-4A6C-8E10-9DA08419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D992B-858D-43BF-BE07-A50AF9D7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57D-46DB-4BBF-ADB4-B89C60E4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876B6-53A3-4BC3-9A77-6EF453BF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538A8-80A0-4021-B53E-584AAEA7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8731E-2B63-424F-84EA-1C2705D8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7BBFF-C5FA-4469-A121-2ACAEA99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F8B4B-ECC8-4259-9C46-FF8116AB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CAED6-882B-4B29-88B3-08CF059B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12076-A496-4606-B528-FBDFCB73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BBFCC-93AF-4686-960A-305678FF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2D3EF-7BAB-48D6-906F-3D85CF92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56FD1-C1D7-4749-82BC-CEDCD490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740E-2D5F-40E8-840A-6BF68E27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76292-885E-43CE-9F97-89CF03BE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B4FC2-3D99-4150-8402-12AE420D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48EC3-53C0-4C47-8550-B03DDD0C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A8321-AF4D-4CA9-BCB3-DD12AB6D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0ADDE-AAED-4F0D-9FE9-7D26D0CE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B6ABA-1BF6-4629-8896-573B1BEC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DBC3D-D876-4B36-9C95-F81CA4F2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6579B-E954-4FC0-ACAD-F9C3DC45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B0EA0-156A-40B8-8063-16334914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7175E-F638-4EC1-9ECA-F3319157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CC1C-8157-4FC8-A75F-89C8B07F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EC778-C4A7-49A8-9A7F-177A42D2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D291E-AE73-4B28-82AF-3997BF8F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C0886-6E16-40DF-8F5B-50D85165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C2B63-7A49-4735-B61E-B70031B8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49ED7-E15B-4377-AE61-6DFDCBAB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8829-6804-4E8E-A46A-8E35C84E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CBB0-D15C-44A0-B1C5-F2CAA8BA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4D5C-5E22-4127-B56E-A895E5E6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739B-1343-45DE-9216-87B3B820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DB28-005B-4650-85B3-F83B0539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2B3-7B93-41A2-A9AA-BC9EE994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DC05-F059-4519-8E4E-75DC46E5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D558-FEC6-4CAD-863A-399518F4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937C-EF47-44D2-B2B8-BC94A422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D401-F4A1-4F11-B87B-438CC02D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F0BF-0ECE-4640-AAA9-B831E472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5932-4994-4B44-A815-BCA9BD8F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A9163-2100-4D75-98F8-40BBD9B3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C6A73-8CA5-479C-9F6F-193D63AF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D6474-8907-49C6-B248-CE618255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1E03-D309-457E-87E4-F56E1808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EA9-FB58-472C-B6BF-D75F6626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72217-F4B8-46FC-9C97-45882E21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7E479-4A08-4EBE-9BB4-16EF4690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DF64-314F-4D92-8F2B-1601DCE2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9FDC-B565-48D8-8B9E-8DCBB0C3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6D7A-07D0-40E8-9AF2-ACD1C6C4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0C44-AB95-4D46-978A-4BF36603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2D013-3F14-4418-97A2-EC7437BF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BF9F1-C8EA-4059-ACED-11863849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AB9C1-97E9-47D8-8B80-2CD872FD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60230-7665-4A9F-99A8-A2A98935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6C1-BC65-4676-9F77-9E4990B9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B8074-F48F-4CDF-B526-515272FF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FD800-3A87-4095-AF9A-650697DF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E8E09-31C5-4058-BA8E-0801823E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146EE-8C4A-4E06-BF17-2E4840CD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3ED04-4815-457D-B6F0-C61432AB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FD28D-E96D-43CF-BD16-55DFC4F7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388BB-0B5C-4A35-800F-33EC352A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AF5E-6D8C-4113-8688-42B312E3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B529-AD86-4B04-8923-A87F12D3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F622B-75C2-433C-B160-5C4F5DB6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F4D-A0CC-4EA7-8146-C6429522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58DC6-A794-45B9-AF22-056EAD74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B13D8-B5CD-4D07-BCCF-4E5D4EC5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2B23F-EB90-4874-A22F-35421C48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07D92-73E5-4B07-A62F-DD0756A7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8C17D-DF90-4A91-BCD3-BD319349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90B3F-088B-4BD6-AEE8-F7B2729A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4F09E-A355-402D-B3EB-9A566BCD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87798-4B60-43B3-AFD8-A80EBA72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0EA82-FDCA-4114-B20B-3B95CEDB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11561-9A97-4259-9686-7F025C33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9E9-733C-4E4E-8BBC-1BCFE2C1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6BD50-9629-4E8D-B83B-7FDD7288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BEBAA-004F-426A-94E8-950E1284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77DC7-4918-4D84-82FD-351CFA88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9B029-648F-4352-9095-251CABF2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9686B-EF40-4D73-9127-099391D3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71B1D-DA51-44D5-89D2-173CF766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CFA34-4E73-4B0A-966A-3612BECD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AFF75-9696-4A18-8833-90883C38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A98AB-CB92-4EF3-9189-4DEAC172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820BB-54B4-452F-A36E-287FDEC1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62B-06C4-486F-8DC9-36D6B4A3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52391-5A14-415A-A5B7-8BF21A20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E0DE2-CB53-421A-8EC2-089FC9B6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A9C99-0FFE-4D05-9F70-F6BA37F4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8C55F-710C-49BA-8919-842B6494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13187-AF79-4656-9F10-5BF8C5DB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D121B-D180-4159-9255-8DCEAA92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2F6AE-BC10-49F4-B4F0-52B9E7ED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7CD8D-D069-49BD-8365-D0DAF691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3C9C7-3A41-4A54-AB7F-30108C3B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65FC1-BF14-4B75-A35E-87CB461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215-E59A-4ACD-8AA2-C3E505C8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DD87C-C497-4732-9437-460DE749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34087-4077-4F78-B138-6D3B7068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8C1BB-40DB-420F-AD8F-640BF64A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B0242-9805-4CD8-87EE-1AEFF5F0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821DF-F880-4A47-8F0A-F24D11E4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4E284-6CEB-4B87-BEB7-291B177D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E9AEF-3AE5-4A98-9B1F-B6B79833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8F9CB-8994-4F56-844B-E6035A4E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5EC13-EDEF-4612-8780-655EB577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D3492-FB7D-4DB6-B78A-F8A91C72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475-1A97-42D1-9B4F-6D0936D5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769E3-8F04-4085-AFAA-DFDA9098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3CBC0-2AD1-430D-8A27-9CC11D60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4F818-4909-4EA3-8808-9B9A6EE7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977B0-C13B-4894-932D-0F1BEF3F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67A57-01FD-4F65-854E-062EE31C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2BC21-842B-4681-A731-5FAAA085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C915E-1CC6-48E5-8858-38B392CA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DDB9D-E9C0-4106-9E32-4140D06A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BC969-EAA5-422D-B907-3C5AD680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D862A-6263-4353-8A0E-91F3CA78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B835-8099-44A4-AD3B-5AE0951343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50E0-AF50-43B4-9A15-9ED54C0DB4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8965-A332-4105-A0FB-F3D68190D0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05FF-49D3-4156-8FBD-CCECEB0CB1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88B7-6C79-422D-BED3-9BA157EE538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68E3-9A48-4308-B32A-2D470434A3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49ED-4523-4EA6-91D2-8436E9A3FE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47B4-9923-4789-802E-25220B8DFD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4CC0-2530-4E62-8DDC-14B0D7C334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EBAC-EA80-40C4-A8D1-0D375EAE2B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155F-5BD5-4878-A411-B67E835FF7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F638-BCCF-4DC1-9036-E568B9DE4E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astesofeurope.eu/video" TargetMode="External"/><Relationship Id="rId2" Type="http://schemas.openxmlformats.org/officeDocument/2006/relationships/hyperlink" Target="http://tastesofeurope.eu/video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6756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High level missions 2014-2015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50920" y="2924280"/>
            <a:ext cx="86421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0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308720" y="4508640"/>
            <a:ext cx="13273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C:\Users\mecilal\Desktop\IMG_5406.JPG"/>
          <p:cNvPicPr/>
          <p:nvPr/>
        </p:nvPicPr>
        <p:blipFill>
          <a:blip r:embed="rId2"/>
          <a:stretch/>
        </p:blipFill>
        <p:spPr>
          <a:xfrm>
            <a:off x="0" y="-27000"/>
            <a:ext cx="5288040" cy="35272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C:\Users\mecilal\Desktop\IMG_4835.JPG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433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C:\Users\mecilal\Desktop\IMG_4445.JPG"/>
          <p:cNvPicPr/>
          <p:nvPr/>
        </p:nvPicPr>
        <p:blipFill>
          <a:blip r:embed="rId4"/>
          <a:stretch/>
        </p:blipFill>
        <p:spPr>
          <a:xfrm>
            <a:off x="0" y="3500280"/>
            <a:ext cx="5032440" cy="33577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C:\Users\mecilal\Desktop\IMG_5248.JPG"/>
          <p:cNvPicPr/>
          <p:nvPr/>
        </p:nvPicPr>
        <p:blipFill>
          <a:blip r:embed="rId5"/>
          <a:stretch/>
        </p:blipFill>
        <p:spPr>
          <a:xfrm>
            <a:off x="3995640" y="3422520"/>
            <a:ext cx="517212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392"/>
                </a:solidFill>
                <a:latin typeface="Verdana"/>
              </a:rPr>
              <a:t>Evaluation by stand participa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28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  <p:pic>
        <p:nvPicPr>
          <p:cNvPr id="529" name="Chart 3" descr=""/>
          <p:cNvPicPr/>
          <p:nvPr/>
        </p:nvPicPr>
        <p:blipFill>
          <a:blip r:embed="rId2"/>
          <a:stretch/>
        </p:blipFill>
        <p:spPr>
          <a:xfrm>
            <a:off x="828720" y="249408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24000" y="2997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Future activ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ampaign on geographical indications in China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Negotiations on a bilateral GI agreement ongoing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Mid-term strategy for information on and promotion of EU GIs in China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First step: market survey, overview of promotion activities by individual MS to build synergie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Launch of activities foreseen for Q2 2015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ampaign on geographical indications in China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f5494"/>
                </a:solidFill>
                <a:latin typeface="Verdana"/>
              </a:rPr>
              <a:t>M</a:t>
            </a:r>
            <a:r>
              <a:rPr b="0" i="1" lang="en-GB" sz="2000" spc="-1" strike="noStrike">
                <a:solidFill>
                  <a:srgbClr val="005392"/>
                </a:solidFill>
                <a:latin typeface="Verdana"/>
              </a:rPr>
              <a:t>ain actions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5392"/>
                </a:solidFill>
                <a:latin typeface="Verdana"/>
              </a:rPr>
              <a:t>Information for EU producers: SPS rules, market research reports, contacts databas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5392"/>
                </a:solidFill>
                <a:latin typeface="Verdana"/>
              </a:rPr>
              <a:t>Mobile GI display/tasting venue in Beijing (events for different target group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5392"/>
                </a:solidFill>
                <a:latin typeface="Verdana"/>
              </a:rPr>
              <a:t>Study visits to Europe for Chinese officials and journalis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Promotion campaign in Indi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Context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FTA negotiations launched in 2007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High potential BUT important trade barriers (complex import regulations, high import duties, SPS rules, no protection for EU GI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Additional difficulties for marketing of EU products: distribution channels, cultural aspects, …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2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Promotion campaign in Indi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Communication strategy and visual identity to be used over the next few years and integrating the "Enjoy, it's from Europe!" signatur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Tools developed for future campaigns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5392"/>
                </a:solidFill>
                <a:latin typeface="Verdana"/>
              </a:rPr>
              <a:t>Website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14 short videos representing different product sectors to be used for social media campaig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5392"/>
                </a:solidFill>
                <a:latin typeface="Verdana"/>
              </a:rPr>
              <a:t>Mobile app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tastesofeurope.eu/video</a:t>
            </a:r>
            <a:r>
              <a:rPr b="0" lang="fr-BE" sz="1600" spc="-1" strike="noStrike">
                <a:solidFill>
                  <a:srgbClr val="005392"/>
                </a:solidFill>
                <a:latin typeface="Verdana"/>
              </a:rPr>
              <a:t> 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4" name="Picture 2" descr="C:\Users\THISSMA\AppData\Local\Microsoft\Windows\Temporary Internet Files\Content.Outlook\GPZ7LADV\ENJOY.jpg"/>
          <p:cNvPicPr/>
          <p:nvPr/>
        </p:nvPicPr>
        <p:blipFill>
          <a:blip r:embed="rId3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Campaign activit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European week in 10 Mumbai restauran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Retail week in 4 supermarkets in Mumbai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PR and social media campaig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EU pavilion at Annapoorna World of Food India trade fai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Programme of seminars for EU producers and buyers during the fai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6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" descr="C:\Users\mecilal\Desktop\IMG_2567.JPG"/>
          <p:cNvPicPr/>
          <p:nvPr/>
        </p:nvPicPr>
        <p:blipFill>
          <a:blip r:embed="rId2"/>
          <a:stretch/>
        </p:blipFill>
        <p:spPr>
          <a:xfrm>
            <a:off x="0" y="3327480"/>
            <a:ext cx="5292720" cy="35305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C:\Users\mecilal\Desktop\IMG_2483.JPG"/>
          <p:cNvPicPr/>
          <p:nvPr/>
        </p:nvPicPr>
        <p:blipFill>
          <a:blip r:embed="rId3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9" descr="C:\Users\mecilal\Desktop\IMG_2293.JPG"/>
          <p:cNvPicPr/>
          <p:nvPr/>
        </p:nvPicPr>
        <p:blipFill>
          <a:blip r:embed="rId4"/>
          <a:stretch/>
        </p:blipFill>
        <p:spPr>
          <a:xfrm>
            <a:off x="0" y="0"/>
            <a:ext cx="52689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Events programme, September 23</a:t>
            </a:r>
            <a:r>
              <a:rPr b="1" lang="en-GB" sz="2000" spc="-1" strike="noStrike" baseline="30000">
                <a:solidFill>
                  <a:srgbClr val="005392"/>
                </a:solidFill>
                <a:latin typeface="Verdana"/>
              </a:rPr>
              <a:t>r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Introductory seminar for EU produce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Topic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Indian import regulations and procedur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Indian Food Safety and Standard Package and Labelling Regula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Structure and functioning of distribution channel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onsumer preferences and cultural sensitiviti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ase studies: How to approach the Indian market? by Ferrero India and Metro India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5392"/>
                </a:solidFill>
                <a:latin typeface="Verdana"/>
              </a:rPr>
              <a:t>Matchmaking event with Indian buye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2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Events at Annapoorna World of Food fair, 24-26 Septembe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Venue: Bombay Exhibition centr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Target group: professional visitors (importers, distributors, retailers, </a:t>
            </a: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Horeca buyers, chef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539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Press conference on Sept 24</a:t>
            </a:r>
            <a:r>
              <a:rPr b="0" lang="en-GB" sz="1600" spc="-1" strike="noStrike" baseline="30000">
                <a:solidFill>
                  <a:srgbClr val="005392"/>
                </a:solidFill>
                <a:latin typeface="Verdana"/>
              </a:rPr>
              <a:t>th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539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Daily product tastings, presentations and cooking shows at the stand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539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5392"/>
                </a:solidFill>
                <a:latin typeface="Verdana"/>
              </a:rPr>
              <a:t>Seminars on wine, olive oil and EU quality scheme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4" name="Picture 2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EU pavilion:</a:t>
            </a:r>
            <a:br>
              <a:rPr sz="2000"/>
            </a:b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participants by member state and product group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6" name="Picture 5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7" name=""/>
          <p:cNvGraphicFramePr/>
          <p:nvPr/>
        </p:nvGraphicFramePr>
        <p:xfrm>
          <a:off x="611280" y="2276640"/>
          <a:ext cx="2603520" cy="3582720"/>
        </p:xfrm>
        <a:graphic>
          <a:graphicData uri="http://schemas.openxmlformats.org/drawingml/2006/table">
            <a:tbl>
              <a:tblPr/>
              <a:tblGrid>
                <a:gridCol w="1511280"/>
                <a:gridCol w="1092240"/>
              </a:tblGrid>
              <a:tr h="34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r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° of participan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str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gium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lgar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at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on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rman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ec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eland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thuan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and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ug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man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oveni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16 MS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4500720" y="2565360"/>
          <a:ext cx="2857320" cy="1832040"/>
        </p:xfrm>
        <a:graphic>
          <a:graphicData uri="http://schemas.openxmlformats.org/drawingml/2006/table">
            <a:tbl>
              <a:tblPr/>
              <a:tblGrid>
                <a:gridCol w="1763640"/>
                <a:gridCol w="1093680"/>
              </a:tblGrid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 Group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° of participan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and spiri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sh and processed F&amp;V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 produc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, table olive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c produc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ket of products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392"/>
                </a:solidFill>
                <a:latin typeface="Verdana"/>
              </a:rPr>
              <a:t>EU pavilion - participants list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20" name="Picture 4" descr="C:\Users\THISSMA\AppData\Local\Microsoft\Windows\Temporary Internet Files\Content.Outlook\GPZ7LADV\ENJOY.jpg"/>
          <p:cNvPicPr/>
          <p:nvPr/>
        </p:nvPicPr>
        <p:blipFill>
          <a:blip r:embed="rId1"/>
          <a:stretch/>
        </p:blipFill>
        <p:spPr>
          <a:xfrm>
            <a:off x="7655040" y="0"/>
            <a:ext cx="1054080" cy="19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324000" y="2133720"/>
          <a:ext cx="8229600" cy="3747960"/>
        </p:xfrm>
        <a:graphic>
          <a:graphicData uri="http://schemas.openxmlformats.org/drawingml/2006/table">
            <a:tbl>
              <a:tblPr/>
              <a:tblGrid>
                <a:gridCol w="637920"/>
                <a:gridCol w="1656000"/>
                <a:gridCol w="1541160"/>
                <a:gridCol w="336600"/>
                <a:gridCol w="1105200"/>
                <a:gridCol w="1509480"/>
                <a:gridCol w="1443240"/>
              </a:tblGrid>
              <a:tr h="114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ry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ny/Associatio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ry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ny/Associatio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7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str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strian Wine Marketing Boar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simeno S.p.A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, table olives; PDO, PGI or TSG food products; Organic 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41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gium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lcobel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ZZALE S.p.A.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es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44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lgar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AL A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carrying GI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thuan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MBRA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c vodk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9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at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Association of Istrian Cured Ham (Prosciutto) Producers+AZRRI- Agency for Rural Development of Istria Region</a:t>
                      </a:r>
                      <a:br>
                        <a:rPr sz="700"/>
                      </a:b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ed ham, Istrian autochthonous breeds' products, extra virgin olive oil  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an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ue Mountain Group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al fruit juic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agnie Médocaine des Grands Cru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an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TIMA Spółka z o.o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es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L'OLIVIER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DO olive oil, infused olis, dressings, fruit vinegar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ugal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tes de Cima, S.A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, Olive oil, Table oliv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UELL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sh or processed fruit and vegetabl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ugal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OFORUM – CARMIM GROUP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, Olive olis, Table oliv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67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on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FOOD OU</a:t>
                      </a:r>
                      <a:endParaRPr b="1" lang="en-US" sz="5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 products (sour milk drink)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man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rfatlar Romania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44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rman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ingut Fuch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ovenia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A ZAJC D.O.O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wines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58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ec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NPROD-PANTELOPOULOS S.A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s, olive oil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EOESTEPA S.C.A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, table olives; PDO, PGI or TSG food products; Organic 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92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ec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olco Trading Ltd / Viannos Village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, table olives; Organic 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MINIO DE PUNCTUM S.L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c and biodynamic win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04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elan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ish Dairy Board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ry products (butter + cheese)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ofessional Organization of Table Olive (Olives from Spain)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, table olives 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3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ios srl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c product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OCIACION DE PRODUCTORES EXPORTADORES DE FRUTAS,UVAS Y OTROS PRODUCTOS AGRARIO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sh&amp;processed fruits&amp;vegetables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236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RI FRATELLI S.R.L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ive oil - PDO + Organic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i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NISH FOOD&amp;DRINK INDUSTRY FEDERATION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e range of Spanish products: olive oil, processed meat, wine, dairy products, canned food, sauces....</a:t>
                      </a:r>
                      <a:endParaRPr b="1" lang="en-US" sz="7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MECILOSEK Aleksandra (AGRI)</dc:creator>
  <dc:description/>
  <dc:language>en-US</dc:language>
  <cp:lastModifiedBy>BUTTINI-PROVENZANO Roberta (AGRI)</cp:lastModifiedBy>
  <cp:lastPrinted>2014-11-18T15:39:58Z</cp:lastPrinted>
  <dcterms:modified xsi:type="dcterms:W3CDTF">2014-11-18T15:40:30Z</dcterms:modified>
  <cp:revision>383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