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ftr" idx="2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 type="sldNum" idx="2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F867-058B-41AA-9BF6-BC069B699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EB2-A0E1-4AF1-96EE-D791D011218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AA77-6BB4-4A87-8EB3-EBAB58850F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FEC-8FE6-475D-B8CD-AB285BE51E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A57-7F8A-4A91-B1FB-E96D4EF762D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AE9-AF5B-46C3-A6C4-A8ACE6BC1A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D4F1-8125-41D7-9A85-7A14AF03221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04D2-D7CE-4A69-963E-ECD73A0EBD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096A-7B41-4BFF-B747-8DD1BC254B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03C1-E9E0-4C9C-9C6C-716D989D16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13F-128D-4B45-8C57-C66AF9C80F5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344-808D-4D8F-A52A-52C908E705C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373F-129A-4F8C-BE90-1C338A1B75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FBC-4931-49AF-A94E-E7EB1825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DC4-BF12-426B-904D-8679D49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41E-1BA9-474E-8D12-A18DBFB6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5D6-C05D-4AA0-A0C0-D4B6F5F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7D2C-5AB6-485A-8380-D4ED332F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7BE0-5F46-4D92-9238-FA5F86FC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FE17-AD24-414E-80CF-BACF3EC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F74-3714-4663-BBB3-A7AB2C1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E977-3971-4406-B97F-61D5FC66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31C8-0803-4F8E-9D90-82350F3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8293-94B9-4A76-98F3-739E873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BD0-9DE0-4215-A749-BDF2D4A9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C8C0-02F4-4EB5-A979-7F322B7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227-1A55-4F81-A447-007AA0C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C57-C22A-4B23-A136-14A25C84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A56-8194-4F8B-B43A-A325266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51FD-802D-4916-BB5A-6EC706D4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9E76-1A55-4F2A-8E65-8D3338D1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A727-C4BC-4D43-BD44-FF3C0DE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9656-7405-4921-ADB4-4BF127D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977E-19D5-43E8-8A09-6E87D51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7645-EBB0-44D6-A1F5-4735B2E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1F9-12E6-40A5-903D-D917125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1D50-2BA1-427E-A356-E5A088B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23ED-AF3B-4285-B9AC-FC65A5F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2FCA-4691-4EC6-9DA0-28F54C2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30A6-6DBC-4EE4-9001-242148A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9278-064A-4493-B1A0-06ED8278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AC6F-5575-40D0-AEA4-1C0B37A5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98C4-B054-4D7D-ACF0-E627509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27A0-F671-468F-9649-22B80502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AFFB-3FCD-415B-9A32-E9FD883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7901-5F63-48D5-9F99-D2DC08A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2D8-01E1-451B-9EEC-1B81107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BF2A-E68E-4BAC-A983-25B46695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93E9-133B-4588-8486-FDA7F6F5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474A-D049-4DBD-986E-64CFFCC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679E-E163-4DA1-A8C5-0907A8F3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8034-022F-4A07-AEF0-5821F8C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B3B0-2D4D-4B30-97A7-CDAC5F1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3D08-CD4B-4D6F-8014-F16406FD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7B1A-6957-48B6-99ED-4BFD79AB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92FA-AFEF-4A4F-BE6E-1967BB1C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327FF-8B52-4D11-A260-0DA35C3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2DF-611F-4DD2-8CA7-E1B6B5F4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59D68-5208-4F31-838E-347BF1CD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1CB4-8872-486B-8214-6ECFF96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4DF53-83EF-4CC1-B756-28D916E6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E776-7B98-4F16-AB64-DDE5099C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71ABC-134D-4635-BFF5-365C052A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B353-C72F-44F4-887C-A5FE0D8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FA52-B7E0-4727-BC83-A94778AC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B3B4-3D6B-48E8-BFE0-FB412D3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3B95-ABD5-4C44-AA81-3FDED26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6743-14B4-4EC2-96DB-47A5DD80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D39-881B-4266-9C99-340B9B44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DF45-EBC2-4AB0-A27F-AE61F5AA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6B5D-66F7-4525-B0E6-156AC93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37A6-3105-40ED-999E-17D266D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9101-8D81-41DC-A877-EE8B2C38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8B537-EA3E-4235-8242-A986D2B9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CD0B-66D9-41BE-9238-657D075C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08DB-629E-45D3-A763-6CEE2EB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6F5E-336C-4153-89A8-897E24A0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C01B-65AF-47E8-990C-C5AD9441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5CA3-0148-4CFD-A941-44DF8F3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93B-C324-43C9-B7B3-2CFE425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00347-15F4-49D0-9D12-56424DC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F21B-2811-40CC-BF1C-B73EE7EF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6F03-50B9-47B4-AE37-40D55142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7DE7-3293-4635-AD46-80E0A59E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4B757-70B3-4C0A-91DD-E32DEF22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17AD-3464-49F9-A25D-0233B241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CA27-6637-44D4-B673-A441E90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EC14-ED7B-40D6-A7BA-7D77DFD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3F6C-C8F4-4F0F-8B45-224E0EF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C53A-CA67-4C6D-97B0-2E114D7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33D-6A80-4998-9143-8FF80A2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7FB47-EC7F-43DF-8479-B3D7F16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38BF-1E9E-4439-8F92-44253D70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BC011-E43A-46CC-B14A-2D64761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29F9C-040F-44AA-8D9A-CC4CFF2A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A786-5A72-4D2D-B228-1F59380B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E3951-4AC6-4D68-AFEE-0BCA816B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9728-3227-4CDF-A5AB-E905DEE1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DEA0-098D-4B26-BAFE-BF43F481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3035-4E9F-4E14-83F3-2DD65FE9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A33A-0651-4996-81E0-0AAC1F1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8A9-E26D-4111-ADAE-49A1DFC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6F44-BF43-42EC-AC93-B6190F6A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C7538-336F-4641-AF33-6029EBE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8BDB-6219-49CC-BCA9-7E147E7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50BE-DAFF-4A31-A8BF-96A9C71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6C29-79B2-492E-97DA-20A8EF3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B12A7-BDC9-47E2-B774-B37B6478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17DB-C789-469E-8044-94094B6F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69F4-CF93-40BE-9B11-0EF50AFD4D8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8CE-5219-4EBC-8F5A-3EB9CA76E08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3A1-A226-40E9-A41B-934B8B3E49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A28-C6F4-40EE-820C-26E1DE4A2C9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87F4-0ACB-4C6C-83CD-5E2C14FE43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B16-99DD-464F-B621-235520F117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05B4-8749-4B0B-858B-D1286239F1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69A-5AC3-4511-8A85-A533E44440F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quality/index_e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716000" y="1700280"/>
            <a:ext cx="4248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implification of EU Quality Policy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211280" y="4508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Civil Dialogue Group Quality and Promotion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21 November 2014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ffffff"/>
                </a:solidFill>
                <a:latin typeface="Verdana"/>
              </a:rPr>
              <a:t>Unit AGRI B.3: Quality polic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0" y="954000"/>
            <a:ext cx="4140360" cy="5931000"/>
            <a:chOff x="0" y="954000"/>
            <a:chExt cx="4140360" cy="5931000"/>
          </a:xfrm>
        </p:grpSpPr>
        <p:pic>
          <p:nvPicPr>
            <p:cNvPr id="371" name="Picture 4" descr=""/>
            <p:cNvPicPr/>
            <p:nvPr/>
          </p:nvPicPr>
          <p:blipFill>
            <a:blip r:embed="rId1"/>
            <a:srcRect l="0" t="0" r="1461" b="0"/>
            <a:stretch/>
          </p:blipFill>
          <p:spPr>
            <a:xfrm>
              <a:off x="1688760" y="954000"/>
              <a:ext cx="245160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5" descr=""/>
            <p:cNvPicPr/>
            <p:nvPr/>
          </p:nvPicPr>
          <p:blipFill>
            <a:blip r:embed="rId2"/>
            <a:stretch/>
          </p:blipFill>
          <p:spPr>
            <a:xfrm>
              <a:off x="1636200" y="3012480"/>
              <a:ext cx="250416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6" descr=""/>
            <p:cNvPicPr/>
            <p:nvPr/>
          </p:nvPicPr>
          <p:blipFill>
            <a:blip r:embed="rId3"/>
            <a:srcRect l="1134" t="4799" r="0" b="0"/>
            <a:stretch/>
          </p:blipFill>
          <p:spPr>
            <a:xfrm>
              <a:off x="7200" y="954000"/>
              <a:ext cx="2070000" cy="16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7" descr=""/>
            <p:cNvPicPr/>
            <p:nvPr/>
          </p:nvPicPr>
          <p:blipFill>
            <a:blip r:embed="rId4"/>
            <a:srcRect l="0" t="31512" r="517" b="33497"/>
            <a:stretch/>
          </p:blipFill>
          <p:spPr>
            <a:xfrm>
              <a:off x="0" y="5040360"/>
              <a:ext cx="41403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8" descr=""/>
            <p:cNvPicPr/>
            <p:nvPr/>
          </p:nvPicPr>
          <p:blipFill>
            <a:blip r:embed="rId5"/>
            <a:srcRect l="0" t="1768" r="0" b="0"/>
            <a:stretch/>
          </p:blipFill>
          <p:spPr>
            <a:xfrm>
              <a:off x="7200" y="2567880"/>
              <a:ext cx="1685880" cy="247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use of the Union quality symbol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24000" y="2133720"/>
          <a:ext cx="8567640" cy="461484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il 3/1/2016: the indication PDO or PGI in words or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4/1/2016: 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ust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The indication PDO or PGI may also appear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term PDO or PGI must appear (but exceptions)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Union symbol </a:t>
                      </a: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ay appear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 labels.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vision in the Regulation.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0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87DC-7E87-48E9-86C0-E0334891EE07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400" spc="-1" strike="noStrike">
                <a:solidFill>
                  <a:srgbClr val="42a62a"/>
                </a:solidFill>
                <a:latin typeface="Verdana"/>
              </a:rPr>
              <a:t>Previous impact assessment 2009/2010</a:t>
            </a:r>
            <a:endParaRPr b="1" lang="en-US" sz="24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Objectiv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clearer information on products characteristics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vide simpler and single approach at EU leve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sure uniform respect of Intellectual Property Rights (IPRs)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hance effectiveness, efficiency and consistency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Commission was encouraged to simplify, clarify and streamline the systems, and to enhance international recognition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881-A03A-4951-B4F3-A7841C957D28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way forward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236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Objectives are still valid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Build on work done in the previous impact assessment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-launch consultation process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ember States, stakeholders, organisations, etc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759-8527-4772-AA99-00713BC12B99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he aim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efine scope fo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implification of ru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rmonisation and streamlining of procedu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bsidiar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E38-B730-46AC-87B4-8AA67FECAEDE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Timing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view the potential for further simplification withi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first twelve months of the Commission mandate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79E9-A609-4110-85E4-44D7FE27160E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2a62a"/>
                </a:solidFill>
                <a:latin typeface="Verdana"/>
              </a:rPr>
              <a:t>Thank you for your attention and your contribution!</a:t>
            </a:r>
            <a:endParaRPr b="1" lang="en-US" sz="4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560" y="3789360"/>
            <a:ext cx="85820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re information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Quality policy web-page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agriculture/quality/index_en.htm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2A6-D0B8-4BEF-96AB-B97C17990273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77" name="Chart 4" descr=""/>
          <p:cNvPicPr/>
          <p:nvPr/>
        </p:nvPicPr>
        <p:blipFill>
          <a:blip r:embed="rId1"/>
          <a:stretch/>
        </p:blipFill>
        <p:spPr>
          <a:xfrm>
            <a:off x="992160" y="1865160"/>
            <a:ext cx="7302600" cy="40626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"/>
          <p:cNvSpPr/>
          <p:nvPr/>
        </p:nvSpPr>
        <p:spPr>
          <a:xfrm>
            <a:off x="611280" y="1197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  <a:ea typeface="Arial"/>
              </a:rPr>
              <a:t>3292 GIs by Type – November 2014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GI legislation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24000" y="2060640"/>
          <a:ext cx="8567640" cy="37926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1151/2012 on quality schemes for 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1308/2013 establishing a common organisation of the markets in agricultural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C) No 110/2008 on the definition, description, presentation, labelling and the protection of geographical indications of spirit drink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tion (EU) No 251/2014 on the definition, description, presentation, labelling and the protection of geographical indications of aromatized 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1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AD9A-4665-4E32-8384-97959F10DFA1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The basic concep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24000" y="2060640"/>
          <a:ext cx="8567640" cy="368280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 (and TSG and OQT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O, P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AD9-C2E6-4AB3-8287-4ED8486527DE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Scrutiny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the date of the submission of the applica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12 months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adl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1EE-53CA-4B6A-B7F1-CFEC51B2AAEC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Opposition procedur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2060640"/>
          <a:ext cx="8567640" cy="44812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ce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3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ed statement of opposi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objection withi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6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ly substantiated statement of objection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within 2 month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4E8A-B1D4-4C27-B6B5-F696FF2FFDC9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Length of procedure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56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verage time for the registration procedure at EU level: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etween 18 and 36 month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onger in case of opposition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eceded by the national registration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ime needed for registration  = time needed for approval of amendment of product specific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741-92B1-479B-828E-5895632985A2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Cancellation of a nam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324000" y="2060640"/>
          <a:ext cx="8567640" cy="406548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 compliance or non-use over 7 year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t the request of the producers of the product to be cancelled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</a:t>
                      </a: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only for new GI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6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sible if non-complianc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E4A8-AFFC-4CE5-BC93-E242DC0552B3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584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Protection of GI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24000" y="2060640"/>
          <a:ext cx="8567640" cy="3409920"/>
        </p:xfrm>
        <a:graphic>
          <a:graphicData uri="http://schemas.openxmlformats.org/drawingml/2006/table">
            <a:tbl>
              <a:tblPr/>
              <a:tblGrid>
                <a:gridCol w="1944360"/>
                <a:gridCol w="6623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icultural products and foodstuff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7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irit drink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No mention of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4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omatised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e product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so against use for service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99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50FB-E369-4662-8751-2DE24C75063E}" type="slidenum">
              <a:rPr b="1" lang="en-GB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LOBEL Marion (AGRI)</dc:creator>
  <dc:description/>
  <dc:language>en-US</dc:language>
  <cp:lastModifiedBy>BUTTINI-PROVENZANO Roberta (AGRI)</cp:lastModifiedBy>
  <cp:lastPrinted>2014-11-20T09:07:55Z</cp:lastPrinted>
  <dcterms:modified xsi:type="dcterms:W3CDTF">2014-11-21T06:18:07Z</dcterms:modified>
  <cp:revision>45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