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3AF-09E0-4D09-94E6-333ADEB7C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date limite du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6 juin 2014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, les Etats membres ont soumis aux services compétents de la Commission, unité AGRI B.5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3 propositions de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'information et de promotion des produits agricoles préalablement reçus et sélectionné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émanant de 20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from France, Greece and Italy + 6 multi MS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otal budget:    165.474.432 EUR          dont 82.933.195 EUR à cofinance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50,12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concernent simultanément l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marché intérieur (29)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et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ays tiers (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7 "programmes simple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c présentés par des organisations proposantes issues d'un même Etat membre  +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 "programmes multis"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c’est-à-dire des propositions faites par des organisations proposantes issues de plusieurs Etat me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uite à la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emière phase d'évaluation 14 propositions ont été rejeté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ause de défauts fondamentaux. Pour le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9 propositions restante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'unité B.5 a demandé aux Etats Membres de fournir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'information supplémentair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Deux des 29 propositions restantes ont encore été retiré par les organisations proposant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suite à l'envoie des demandes pour 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proposition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slovè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après que l'état membre avait constaté finalement que l'organisation proposante ne représentait pas le secteur d'une façon suffis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ne organisation proposant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grecqu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décidé de retirer sa proposition après qu'elle avait reçu la lettre dans laquelle nos services demandaient de l'information supplément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Extra annex 3 with abandoned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1D6B-DEEF-41A3-A7C7-366CFFD72C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 la suite des procédures d'évaluation susmentionnées,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7 programme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armi les 43 s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proposés au bénéfice de l'aide européenne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2,8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initially received proposals                   +                    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7,9%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otal budget of 43 initial propo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es programmes portent sur un budget total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79.264.02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don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9.939.31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à cofin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mes ont une durée 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 ans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 ans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Average budget: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.946.81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ranging beween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7.17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estonien)         and  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.451.464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(programme multi (IE, FR et UK) sur viande d'agnea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21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target the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Internal Market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+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target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Third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Internal Market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68.893.875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(EU co-financement: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4.754.242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dget "Third Countries"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10.370.148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               (EU co-financement:     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5.185.076 EUR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9/27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:     program is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imited to country of origin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of the proposing organisation      (BE, DE, EE, GR, 2xFR, IT, LV, 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5BB-03E5-41F0-B2FF-00524ADD84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Fresh F&amp;V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              3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ilk &amp; milk products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grams                      12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DO, PGI &amp; TSG: 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programs                            14% of total approve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0E3-5D31-46C3-848D-2DFD1BA91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41B-174A-4D6E-BA1C-4EE1E874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9FE-9803-48D5-9698-0DC0307B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B2104-5EB3-4D86-9BB8-6B2E5E1D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0DAFA-1AD6-4777-AD5E-2D4261C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B5C1-1E03-4420-8C20-EA28F90F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E5574-4BCB-4C3E-892A-8256197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00E21-3AD7-4C18-8426-4FEDF30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2A95A-838E-4169-AF1A-DDB7D89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64604-1BD7-45F6-8364-DE9E5F02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2BDAC-64AA-4B2A-8367-707CEF5C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525EB-7D3D-4173-B1F2-DC526C6C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4A08-99E4-4CE8-9975-5A5DB132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611-4E13-41ED-9D7C-9F2087FD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DE250-034F-4BBF-9BD5-5147E0DD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E785C-DD62-466F-89C5-A667544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1C060-254F-43AC-A0D4-C5D75AB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1016-8F3B-4A8D-9FA5-57131DB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FD9D3-95BB-40B7-B690-171577B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FAD72-54D7-451C-800E-B756B5C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4B0DB-7A7F-4912-BB30-DC526E5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6880-9CBF-43F1-8369-50202DE3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C5F3B-82B7-4FB2-9BAA-B703F019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B66FE-8901-48D7-BE17-5C270082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F77-F7DD-4B1D-BBFA-FC285D0C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E2054-C0B3-4B65-A154-681178EF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17AC-1C5F-4D32-8F4D-1B9E1F35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E1265-E20F-4F1F-89F8-0F3F4466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2B7AE-7A61-472C-9EA1-FA92285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E077E-594F-44AB-A7EE-81D864A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BEA79-8CC5-49F1-8A3A-7C3B8F4B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B2A1-9E4E-4FC9-88A4-16E850C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A984-C96E-4D21-83E9-A4B9BCC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C528B-7103-490C-9677-8035522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6472-13ED-427B-B3BA-AD2481D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3E79-2A7B-4A8D-9843-6639FDD0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453C7-7EE8-41C6-8ED0-3222A84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0D961-1A9E-4768-9F2B-0B45F7A6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EBEAC-742A-4C39-A6F6-E0C31397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FCDFE-C3DC-4D6D-8697-4196264A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45AB5-C57C-4FF2-A5BA-2B15713D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E636-AF67-4059-8010-1201FCC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B343E-FAD7-4084-B939-1D0F1A8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E62D3-8CF7-491D-9D78-208809E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7869C-DD9D-48E4-8B7F-765E0F6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E9BC7-1B6D-4FB8-AA2B-401DFEB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222C-78E0-4D7F-86F9-C8A315C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1BE5D-15B2-457C-A0EA-C168DCE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FC88F-0069-48E8-B66B-49B06F9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7CBD0-B648-445A-97D6-10684154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545BF-115D-420D-86B6-2E1F36B5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982BB-2B1E-4EE5-9780-5F5BE398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0B2F-7F75-434B-BDCA-2997189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ACA9-21DF-41BB-A0FE-58536F6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378D-2E67-4CE2-941B-C7E619F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4493-145D-4442-B3A3-C4099909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0A05-8E33-49B6-9690-8B7CAA13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CF9-4B02-4561-B174-47CD7D41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C98D-077B-4F70-ADF3-04BB497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929F-FEA9-49EF-B978-8FE3603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02A9-4869-4A96-A44D-23A13A33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CE50-75C3-4F6E-A13E-7D4EEE35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1527-BA7D-4EDF-A166-5022399E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F817-3AF5-4EC3-85B2-8AD330CE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92F3-5902-490E-8F19-7B34CDE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0823-2C12-4509-88B7-6D21776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F35E-C118-465B-A8C2-F1F78B11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C199-4F35-4F7E-B145-205E1B1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DB3-8F34-4215-AF98-DD04BCA1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D04FB-CB3F-49E2-A7E7-09FFAF6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21F7-C4DB-4938-8B5B-5AE10C6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1B77-528B-4B9D-BAFE-7BD8DA4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16C6-88DF-49D2-BE9C-CF53F24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DDB8-34B6-401C-8F7C-242B6B4D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00A1-7015-41D2-A7DD-584DD20C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77FE-350B-4E15-9018-5582A9AB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306D-894C-4018-824C-6FAFDEC9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CBD4-2B2A-4D8B-891F-31836E56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0F80-4211-47F8-A979-AE2B377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178-B1CD-474F-BBF0-3ECFDF5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410C4-FE42-44DA-ACAD-6CE7BE59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0E7B-B2C4-4D44-8863-F0502A53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D44A-E686-4CD5-82DE-3F5D7C3A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8654-273D-41DD-BEF3-3144C56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8DED-09F0-4422-8640-825AAEE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0A54-088E-475A-A76B-A2B4A13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95FD-B6A6-4606-830A-AD3DFB48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1BE2-0430-420F-A6AB-BB9689EE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3C18-8035-40BD-A2CB-04777F83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1ECD-0DDA-4E5B-BDAD-9B199585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1D2-F640-4364-B6B6-872D476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E712-A3F2-4404-9FDC-42DBA76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E184-C1B6-4D3A-A50B-516228F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2C95-9CEE-4B97-A841-EA548F85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E5D43-3753-4C05-9068-BC12FA4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10CC-3C77-4861-A955-F24674B7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85FB-79FF-4DDE-9FA7-C977988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C6CE-9D8A-43A4-A25B-A2AB9C5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9D2A-E82B-42A9-8F45-29FC56F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24AD-B1CF-428F-8716-F9210EA8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15688-D3FE-4E38-B142-18ED8894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0B2-889D-4A1F-9895-1B9392BA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00860-18A4-4E46-A8DB-F2A61220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BD69-3615-4592-B391-CF4B797B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1057-8C0C-4359-BC14-10A293E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F1090-188E-4FC6-9A91-609F3B5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327B-3312-47ED-BFDE-CF0EA246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4754-1064-4D14-ABA4-52D0DD0D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FE6BB-8B22-4C6F-8839-60A9614B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79E1-6553-4E48-8FD9-4BD9550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C4E7-922F-4C55-A835-61715FA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04B5-9C78-4AD2-866D-7C07050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39A-29AF-410C-9738-B7DB29C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14A4-FC7C-4BCD-A00D-18EA229C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24AC-5B6D-454F-93F7-5E836528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D609-C774-4D3F-B190-096714DF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C050-058D-45E1-9AFE-67505470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83A2-96F6-4804-B6F4-D0E7D96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563A-F810-4A1A-ACDA-0211E869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3847F-6D2A-4789-813F-8E751AFF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6180-EEB1-453B-A7EF-D08C53D7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5AF7A-0839-46B0-99F4-8634FD55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141A-E809-4CD9-AB86-899835ED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D27-EFBB-4E5F-9ECF-2124097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BBC13-F48C-4DDC-B73A-347500B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E2008-65D8-4E9A-9151-1622AE5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7295-8892-442A-A125-B90AB0D1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4DBB-EF13-483A-81CF-F8E20011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D9A0-FD11-4EBF-B4E5-B0765426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C5A7-99FE-4A0C-B2B2-28B89026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5185-3BFE-4576-A1AD-7D2B8D1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A003-EDB7-406E-B79D-610ACF79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DAAF1-90FE-4B71-A93A-28DD49A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DB32B-64AC-4C05-B902-C90B95D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924-48BF-4D98-A303-C870378D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4949-433C-403F-BF23-FADCCA2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E2290-C225-4839-B950-3DD4731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13EFD-BD7B-4B41-BE40-A20A9F6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F1358-B81F-45C6-934E-FC93E13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1FD3-A9AB-4C54-8B6F-1C70A04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DEFE-9564-40C4-BAC1-43AADBF9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3415-B3B0-4EA2-BC00-42C54A2B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2C35-7E99-402B-9B80-6B1FEBB5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B8DF1-F76E-4779-BABB-75F65549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59037-7F01-4A83-8625-F78C081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820-C17A-4E0B-944C-0F6FF345E5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B17-0735-4FA4-8451-A62DC3EB5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FD5-5FA6-4CB3-92B9-8473BB3DFB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C26-9199-45A6-A71C-FE54FE3612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379B-2FFB-4E02-AB6B-7707B2EAD4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4983-F2A9-4B32-8644-BB33208053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769-6EB5-4947-A255-EBB05E6A3B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FF1-71DF-4139-B62E-7A4C6DE2A7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64B-3ABB-4C64-A801-AF03CE5BA8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124-1226-49AE-86FC-77C1B068ED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963F-B665-44F8-BA32-72883A8B67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5C66-857B-4FC2-856D-C6BDB17E26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40360" y="1628280"/>
            <a:ext cx="4641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Opinion on the new promotion programmes (proposals sent to the Commission by 15 June 2014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2924280"/>
            <a:ext cx="86421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517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N° Progr. Recei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9" name="Content Placeholder 3" descr=""/>
          <p:cNvPicPr/>
          <p:nvPr/>
        </p:nvPicPr>
        <p:blipFill>
          <a:blip r:embed="rId1"/>
          <a:stretch/>
        </p:blipFill>
        <p:spPr>
          <a:xfrm>
            <a:off x="457200" y="2639880"/>
            <a:ext cx="8229600" cy="3382920"/>
          </a:xfrm>
          <a:prstGeom prst="rect">
            <a:avLst/>
          </a:prstGeom>
          <a:ln w="0">
            <a:noFill/>
          </a:ln>
        </p:spPr>
      </p:pic>
      <p:pic>
        <p:nvPicPr>
          <p:cNvPr id="510" name="Chart 5" descr=""/>
          <p:cNvPicPr/>
          <p:nvPr/>
        </p:nvPicPr>
        <p:blipFill>
          <a:blip r:embed="rId2"/>
          <a:stretch/>
        </p:blipFill>
        <p:spPr>
          <a:xfrm>
            <a:off x="1908000" y="2925720"/>
            <a:ext cx="5516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N° Progr. Approve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3" name="Chart 4" descr=""/>
          <p:cNvPicPr/>
          <p:nvPr/>
        </p:nvPicPr>
        <p:blipFill>
          <a:blip r:embed="rId1"/>
          <a:stretch/>
        </p:blipFill>
        <p:spPr>
          <a:xfrm>
            <a:off x="1908000" y="2346480"/>
            <a:ext cx="531036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oduct Approved Progr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5" name="Chart 3" descr=""/>
          <p:cNvPicPr/>
          <p:nvPr/>
        </p:nvPicPr>
        <p:blipFill>
          <a:blip r:embed="rId1"/>
          <a:stretch/>
        </p:blipFill>
        <p:spPr>
          <a:xfrm>
            <a:off x="1908000" y="2279520"/>
            <a:ext cx="4980240" cy="4176720"/>
          </a:xfrm>
          <a:prstGeom prst="rect">
            <a:avLst/>
          </a:prstGeom>
          <a:ln w="0">
            <a:noFill/>
          </a:ln>
        </p:spPr>
      </p:pic>
      <p:pic>
        <p:nvPicPr>
          <p:cNvPr id="516" name="Chart 4" descr=""/>
          <p:cNvPicPr/>
          <p:nvPr/>
        </p:nvPicPr>
        <p:blipFill>
          <a:blip r:embed="rId2"/>
          <a:stretch/>
        </p:blipFill>
        <p:spPr>
          <a:xfrm>
            <a:off x="1474920" y="2346480"/>
            <a:ext cx="6194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SERNEELS Michael (AGRI)</dc:creator>
  <dc:description/>
  <dc:language>en-US</dc:language>
  <cp:lastModifiedBy>BUTTINI-PROVENZANO Roberta (AGRI)</cp:lastModifiedBy>
  <cp:lastPrinted>2014-11-18T13:37:27Z</cp:lastPrinted>
  <dcterms:modified xsi:type="dcterms:W3CDTF">2014-11-18T13:38:29Z</dcterms:modified>
  <cp:revision>168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