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386B-6DCE-47E2-A350-6D0578279A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E6BE-A00F-4E88-BB4E-0D1045BA0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1E0-75F7-4739-8AB8-3AAE717A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FE5-8175-4BFF-BF24-0AADDBE3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456-2397-4344-801D-F7D68231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BB1-665F-44EA-8D60-E873A4BB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3D67-5555-4FDE-A4ED-9F6E1A2C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3B91-8D63-4EA7-AADA-B15CF9D1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D5E3-4664-497C-A328-C4E22A4B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B45B-F3A7-48E8-AB9A-1A87E1F2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97FB-3419-48B0-824C-E2A49353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9BF3-84ED-47FB-8C89-EB6EE6F4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7844-19EE-443B-86D2-D6AD6F3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D3E-033D-447F-832F-FF5EFDD1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EFE8-A355-4DB3-A9AE-ED7AC96D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AA51-9554-420B-A7A9-622DE9F1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F243-3E6E-4282-8937-B25D5ED2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FD00-A293-44A8-9D13-00B5CFBF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F593-197C-4970-8AC2-870161B3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911E-6A2F-4D79-B331-B2AB1ACA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BECA-5254-4CA6-803B-76C5E24E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A432-C851-40D5-A754-5A52B8D4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1DFB-1A71-40D3-8676-B7DA5FC8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73FE-82F2-4D7D-AECF-86ECD900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541-8285-4003-9225-A33459FE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ED9A-99CD-4C81-86ED-3205D063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36804-456F-43C2-B492-F822EAC6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3436-BD41-4A4B-B18B-186EE774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BF77-B189-4320-90BD-61E54715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886F1-EBE9-434E-B39A-A5CD4FE5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A89A-41E1-423C-8C9F-DBE7BE82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29BD-BEDA-43DB-A9EE-42A8B1A4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7C7-C79B-48D3-82A6-C6273847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D2D-D843-4A6B-8218-E019C592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8E9-7091-40F3-840A-731D5B6A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450-31DE-4290-A47B-DED620A7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672-3680-48E5-97DF-067EBAC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6CC-382A-4ECA-B656-219271CA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7C56-EAB2-402D-A0EC-68D29F68C6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0AA1-6867-4F3C-88C3-4C65B223F94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0F1B-606D-4776-BC01-B5BC99C4F5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rade.ec.europa.eu/doclib/docs/2006/december/tradoc_118238.pdf" TargetMode="External"/><Relationship Id="rId2" Type="http://schemas.openxmlformats.org/officeDocument/2006/relationships/hyperlink" Target="http://trade.ec.europa.eu/doclib/docs/2006/december/tradoc_118238.pdf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ubtitle 2"/>
          <p:cNvSpPr/>
          <p:nvPr/>
        </p:nvSpPr>
        <p:spPr>
          <a:xfrm>
            <a:off x="611280" y="4941720"/>
            <a:ext cx="83898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Diego Canga Fano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</a:rPr>
              <a:t>European Commission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culture and Rural Development – Director B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250920" y="2565360"/>
            <a:ext cx="8785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Promoting alternative markets for EU agri-food exports 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Civil Dialogue Group Quality and Promotion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Brussels – 21 November 2014</a:t>
            </a:r>
            <a:br>
              <a:rPr sz="2000"/>
            </a:b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19080" y="1484280"/>
            <a:ext cx="91249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0404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barriers frequently mention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0404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SPS Market Access Working Group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mments by topic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0404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Trade climate, retail sector, promotion aspects etc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68560" indent="-26856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mments by mark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900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Encouraging reaction from deleg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Availability for further suppor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ecific situation for countries and products to be kept in mind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market access activities of key importanc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cope for cooperation among Member States, chambers of commerce, promotion agenc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xport markets – new opportunities?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(non-exhaustive list)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ndonesia, Thailand, Vietna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Mexico, Colombia, Peru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Morocco, Algeria, Tunisi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Egypt, Saudi Arabia, Gulf Countri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Turkey, Ukraine, Uzbekista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outh Africa, Nigeria, Ethiop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rade agreements – state of play 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n-line overview:</a:t>
            </a:r>
            <a:br>
              <a:rPr sz="20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trade.ec.europa.eu/doclib/docs/2006/december/tradoc_118238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nformation by country:</a:t>
            </a:r>
            <a:br>
              <a:rPr sz="20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trade.ec.europa.eu/doclib/docs/2006/december/tradoc_118238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barriers frequently mention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SPS Market Access Working Group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555560"/>
            <a:ext cx="8569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Priority markets for SPS market access activitie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76360" y="2349360"/>
          <a:ext cx="5399280" cy="4104000"/>
        </p:xfrm>
        <a:graphic>
          <a:graphicData uri="http://schemas.openxmlformats.org/drawingml/2006/table">
            <a:tbl>
              <a:tblPr/>
              <a:tblGrid>
                <a:gridCol w="1152720"/>
                <a:gridCol w="4246560"/>
              </a:tblGrid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iority count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ector/product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RAZI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dairy, bovin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IN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vine, pork, dai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IL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LOMBIA/PERU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poultry, dai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D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poultry, dai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DONES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uits and vegetables (port access)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XICO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rk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URKE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vine, poultry, dairy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SA/CANADA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vine, dairy, 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IETNAM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uits and vegetabl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ummary of replies from EU deleg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verall potential for increasing EU exp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Import tariffs – economic obstacle for so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Free trade negotiat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SPS barriers frequently mention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f5494"/>
                </a:solidFill>
                <a:latin typeface="Verdana"/>
              </a:rPr>
              <a:t>SPS Market Access Working Group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mments by topic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14480" indent="-27144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Trade climate, retail sector, promotion aspects etc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mments by topic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Economic prospec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Trade climate / EU position in the mark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Retail sector – availability and access to distribution chai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Promotion aspects: trade fairs, opportunities outside the capitals, possible constraint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1440" indent="-271440">
              <a:spcBef>
                <a:spcPts val="601"/>
              </a:spcBef>
              <a:spcAft>
                <a:spcPts val="1199"/>
              </a:spcAft>
              <a:buClr>
                <a:srgbClr val="3333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f5494"/>
                </a:solidFill>
                <a:latin typeface="Verdana"/>
              </a:rPr>
              <a:t>Other comments: cooperation among chambers of commerce, role of Member States etc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CORDONNIER Vincent (AGRI)</dc:creator>
  <dc:description/>
  <dc:language>en-US</dc:language>
  <cp:lastModifiedBy>BUTTINI-PROVENZANO Roberta (AGRI)</cp:lastModifiedBy>
  <cp:lastPrinted>2014-11-19T14:25:38Z</cp:lastPrinted>
  <dcterms:modified xsi:type="dcterms:W3CDTF">2014-11-19T14:26:46Z</dcterms:modified>
  <cp:revision>294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