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BDE-EC38-4D48-939D-A81DF19C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8B6-6EB9-455F-8D7B-BDBEDCA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D4A9A-FF08-47B8-BA89-2F68F164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5EC79-DC24-4017-B4FB-989C0AE4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7321D-F936-4DC1-B277-0E38F403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3C786-9AD0-40A9-BF27-7088481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DD879-B276-427B-9FEF-0586E764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EA080-7A5C-486F-872F-7B341A3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5B025-D1F0-49B5-A65C-948F7389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DAAE0-D2A8-4018-923B-0FA87964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24608-759A-4EB4-863F-A6C4CC32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33D99-1451-4C3B-8C6C-BCB74E3C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0F4-AF13-43DE-9ABC-13015CA3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C1B9F-3789-487C-8F3D-A1E57E7A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7F483-8431-4553-9C4C-C1636CAC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0EDC7-5FE9-430B-B262-81296592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A1FF2-134C-4D39-B4C8-CC2890C3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B2227-2F6C-4C52-BE61-93629F0F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255E7-E81B-4AEC-94A2-56190F3F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C4C64-AA69-4459-8CF9-5E9BA4A0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22318-E4F5-4F92-A7B9-990D3A70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5DB7D-272E-405C-8518-F16E9CB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A9210-35BC-4390-A227-14455382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C3B-218D-4B64-B720-222CE32B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F796D-FFA1-4A5B-B06E-459743AA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EBEC9-1D90-4883-915B-FD7B0E61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DFB07-BD34-46B7-B38C-F792B77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EB5F8-E56D-44C3-9119-D5B4CBCA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18165-48AC-468A-B93C-B247229D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48383-C065-43B0-B319-8C3E1161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C8333-DD65-478F-9AB0-FEE46A03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58ABD-53E9-4B77-BE50-05C7C39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62AB0-EC6E-42F2-8A5D-88C94365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56660-9CDB-41E6-9313-00600D34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38BC-F435-403E-9E4C-B2B42641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1D42D-614A-4106-A7B6-B61B3010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22DAD-69B6-49DD-963E-DAED90AE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67AEE-0AB7-4855-A828-C2772730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BCC27-8419-4D99-9CD0-C862090F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B960D-A53A-47BA-BE0F-28E4C716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1A8BB-C8A9-4474-9380-14C5DE38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6D880-7A66-4F6B-AF16-A5D6C0A8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4B9AE-731C-41DC-9D01-AD39E630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E964E-D4FC-4067-A844-AA73DD9A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26FBE-EEC2-412B-B85E-10B8ABA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C011-8B64-45BD-AD27-025DA838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E7A04-4B5A-4F43-90AF-D5CCE022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C3853-14A0-415B-BC5E-ABF50C5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5D20E-8BFD-470B-972A-E484E8F7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3E945-D5B3-4D0F-B1FB-4B58901B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EED67-F5D4-41C2-AD84-FEA1D307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B412-F59A-4418-A94C-BE62526E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1412-E900-4AA5-A122-37871A71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38E5-713A-4CF0-AEA7-E71839D1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6D0A-2AE5-4DE9-8232-6E593520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D6CD-6D90-4002-893F-1D7DB2D2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0A4-AEF5-4435-AAC4-A46AF511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5C36-CA9A-4A14-8CCB-1CB717D2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E078-E5C0-47FE-BC85-9BD4DD61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24AE-43BA-4A10-93EC-7A1FEA66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D8FF-0828-4BB4-A6A6-6194E96B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7D1C-EDB1-4E5E-8B2A-DEE82398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6E17-4837-4744-859B-7C80F181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4FECC-38C2-4921-8F72-D33DC47A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7D33-55FA-439A-A009-8909754F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359F-5DAC-4CCA-A4AE-3DC739C6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862D-EF3A-442D-B33A-F0BC3E88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AB5-E949-451A-85F8-8DECF95F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42452-2CDC-43C1-954D-97D8A3E8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C59F-6B2C-4C1A-9A82-26CF778C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FA59-64A7-4B18-BC01-7A630ECD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9418-DC97-476E-ADC5-A5F9B3EB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48A0-BE35-4DBD-8FD3-D2A0B59C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811F4-878D-4EDC-A002-2C15E0FB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2CAB-7986-4D6E-94D4-A8311052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07CDD-6120-4A95-A6D9-8B98221E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D0AEE-E40F-441C-A699-6F9B2326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82412-CFE1-4443-ABF3-85377352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67B-3575-4377-A74C-E14FEFC4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5AD4-1B85-4D48-92FF-C8936CD4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C8A0E-2CB8-40D4-8980-50471515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04837-1D42-467F-B516-127D01D0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0DB7-6D47-4C12-8645-6E5923BC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6579-7907-42CE-844D-1AC4DAF7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45654-2BD3-471F-82BF-AA79DB90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E718-4117-4CF9-AEA3-B7E9024B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0F435-4EF0-4157-9746-AB936166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BC2E8-8E4E-40C5-9D2D-604E06E9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DC68D-C54E-466B-9AA5-17A7DB06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BB5-E254-4A12-A562-DD406D39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715F1-4E5E-45FF-ADC3-31F8C52A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1E41D-416B-45B7-8365-47B366DA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4DCF-3C65-433F-BAA1-30FF8568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6F7CD-36A8-4CDC-B768-975BAB89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2B5AF-ACE3-428A-8A1A-89953E6C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0EB18-7414-4F67-B887-1CB87369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CF112-7DAA-45D6-AE87-C60B0CD8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F7B1E-48AD-421D-B910-708DCA91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68FE8-3856-46CF-A433-CB9B3611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7076-B57B-44B5-92B3-5670D5BE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98F-3001-46B6-AF29-40F9FBCE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6CD3-993F-443E-93EE-60E9DC1E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6A843-780C-4F1C-981B-9556FBAA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8F423-5050-4386-BF32-0877C2B8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0641-1784-48E6-AC74-917E9222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F5E80-4FEA-403A-A358-0B689987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9E464-8DF3-4B13-8AAA-99B64E55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23578-1D01-4E32-A9D0-DCD1F8B1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B1A84-9EC3-4A25-946F-8833D993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41AE6-FABC-426C-86B0-F6D86D4E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7C0CB-AF67-4BCA-A4DA-1C3E5E48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B6F-C0F2-40D4-843A-118D4B0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E95E9-E9F4-49A3-942F-57B914E8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05BEB-37CE-408B-854D-229E9C25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C295B-6AEA-401A-904E-6259A6FE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F2A94-B417-4BDC-B549-85A95466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51BEB-F63D-4891-97C8-39BE2820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7C799-3E74-4DD2-83A4-3CE2E828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ACEE4-0440-4D68-A018-7AA2E910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0C6E4-9BFA-4B29-B56F-19000A79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EA92A-EDC2-4022-92B1-0D761538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7C54E-62A3-49F9-907F-6FB6F388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55C-C2E6-4D17-B0A6-004189A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31AE6-2CBF-46BD-AB86-37B323F5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F9F25-7E66-4D50-A04A-930DA35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3C873-207D-40FD-A71E-E16AE02D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30DFA-DC6A-4143-B226-02B8CF44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6A43E-570A-4059-B197-C62E1B5E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192CE-6769-497B-9F7D-F490F75B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8809F-7D46-4FB3-A68A-51C560FC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8D46B-8D3C-491C-AF5A-CA99B59E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13226-105C-4C4C-A886-1667E15D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79670-741C-4989-8499-771FDD3D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C94-0175-45DB-A15A-40DECA23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DEFB7-1B63-4D9D-95C2-6A61CAD6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92925-15F5-471F-BACB-17242E3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A202A-F814-4672-A60F-AAAEFFAA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E0A56-1F02-413F-9B39-1256E18B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E7650-CE70-4DEC-B746-930555FB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8F3C9-C3F8-48AF-9AC0-3AE06696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32EC3-EB3A-496D-999C-A338C7F8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919E6-F667-4536-9BDA-76B251CB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443F8-969C-4737-B4C0-110701E1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C7E69-85E0-4C84-B3C3-43B59EC3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7F00-29D0-459C-A908-4C9A1FCF6D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23CD-F032-49A7-9CB8-048AC37F81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3258-55B6-4EA8-A512-84E776D86D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56C-194D-4BD5-845C-C60CE16F3E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E114-209D-4FC8-914A-1BE16348DF1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2402-149A-4C90-A24C-6DD59E5956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D35A-E373-4C72-9E21-0F5C0E62EB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9D3F-3FC6-47C6-81E0-F235970C99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4E1E-2B92-4754-A834-145F15C455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E3C0-7F7B-455A-9DC9-0BE542DB05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8359-DC4E-4F90-A5FE-6E1BA54393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10F3-EA6D-4E3D-91D2-884C887093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astesofeurope.eu/video" TargetMode="External"/><Relationship Id="rId2" Type="http://schemas.openxmlformats.org/officeDocument/2006/relationships/hyperlink" Target="http://tastesofeurope.eu/video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675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High level missions 2014-2015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50920" y="2924280"/>
            <a:ext cx="86421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0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308720" y="4508640"/>
            <a:ext cx="13273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C:\Users\mecilal\Desktop\IMG_5406.JPG"/>
          <p:cNvPicPr/>
          <p:nvPr/>
        </p:nvPicPr>
        <p:blipFill>
          <a:blip r:embed="rId2"/>
          <a:stretch/>
        </p:blipFill>
        <p:spPr>
          <a:xfrm>
            <a:off x="0" y="-27000"/>
            <a:ext cx="5288040" cy="35272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C:\Users\mecilal\Desktop\IMG_4835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433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C:\Users\mecilal\Desktop\IMG_4445.JPG"/>
          <p:cNvPicPr/>
          <p:nvPr/>
        </p:nvPicPr>
        <p:blipFill>
          <a:blip r:embed="rId4"/>
          <a:stretch/>
        </p:blipFill>
        <p:spPr>
          <a:xfrm>
            <a:off x="0" y="3500280"/>
            <a:ext cx="5032440" cy="3357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C:\Users\mecilal\Desktop\IMG_5248.JPG"/>
          <p:cNvPicPr/>
          <p:nvPr/>
        </p:nvPicPr>
        <p:blipFill>
          <a:blip r:embed="rId5"/>
          <a:stretch/>
        </p:blipFill>
        <p:spPr>
          <a:xfrm>
            <a:off x="3995640" y="3422520"/>
            <a:ext cx="517212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392"/>
                </a:solidFill>
                <a:latin typeface="Verdana"/>
              </a:rPr>
              <a:t>Evaluation by stand participa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8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pic>
        <p:nvPicPr>
          <p:cNvPr id="529" name="Chart 3" descr=""/>
          <p:cNvPicPr/>
          <p:nvPr/>
        </p:nvPicPr>
        <p:blipFill>
          <a:blip r:embed="rId2"/>
          <a:stretch/>
        </p:blipFill>
        <p:spPr>
          <a:xfrm>
            <a:off x="828720" y="249408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24000" y="2997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uture activ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ampaign on geographical indications in China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Negotiations on a bilateral GI agreement ongoing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Mid-term strategy for information on and promotion of EU GIs in China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First step: market survey, overview of promotion activities by individual MS to build synergie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Launch of activities foreseen for Q2 2015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ampaign on geographical indications in China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f5494"/>
                </a:solidFill>
                <a:latin typeface="Verdana"/>
              </a:rPr>
              <a:t>M</a:t>
            </a: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ain action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Information for EU producers: SPS rules, market research reports, contacts databas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Mobile GI display/tasting venue in Beijing (events for different target group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Study visits to Europe for Chinese officials and journalis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Promotion campaign in Ind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Contex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FTA negotiations launched in 2007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High potential BUT important trade barriers (complex import regulations, high import duties, SPS rules, no protection for EU GI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Additional difficulties for marketing of EU products: distribution channels, cultural aspects, …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2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Promotion campaign in Ind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Communication strategy and visual identity to be used over the next few years and integrating the "Enjoy, it's from Europe!" signat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Tools developed for future campaign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5392"/>
                </a:solidFill>
                <a:latin typeface="Verdana"/>
              </a:rPr>
              <a:t>Websit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14 short videos representing different product sectors to be used for social media campaig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5392"/>
                </a:solidFill>
                <a:latin typeface="Verdana"/>
              </a:rPr>
              <a:t>Mobile app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tastesofeurope.eu/video</a:t>
            </a:r>
            <a:r>
              <a:rPr b="0" lang="fr-BE" sz="1600" spc="-1" strike="noStrike">
                <a:solidFill>
                  <a:srgbClr val="005392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4" name="Picture 2" descr="C:\Users\THISSMA\AppData\Local\Microsoft\Windows\Temporary Internet Files\Content.Outlook\GPZ7LADV\ENJOY.jpg"/>
          <p:cNvPicPr/>
          <p:nvPr/>
        </p:nvPicPr>
        <p:blipFill>
          <a:blip r:embed="rId3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Campaign activ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European week in 10 Mumbai restauran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Retail week in 4 supermarkets in Mumbai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PR and social media campaig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EU pavilion at Annapoorna World of Food India trade fai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Programme of seminars for EU producers and buyers during the fai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6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C:\Users\mecilal\Desktop\IMG_2567.JPG"/>
          <p:cNvPicPr/>
          <p:nvPr/>
        </p:nvPicPr>
        <p:blipFill>
          <a:blip r:embed="rId2"/>
          <a:stretch/>
        </p:blipFill>
        <p:spPr>
          <a:xfrm>
            <a:off x="0" y="3327480"/>
            <a:ext cx="5292720" cy="35305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C:\Users\mecilal\Desktop\IMG_2483.JPG"/>
          <p:cNvPicPr/>
          <p:nvPr/>
        </p:nvPicPr>
        <p:blipFill>
          <a:blip r:embed="rId3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" descr="C:\Users\mecilal\Desktop\IMG_2293.JPG"/>
          <p:cNvPicPr/>
          <p:nvPr/>
        </p:nvPicPr>
        <p:blipFill>
          <a:blip r:embed="rId4"/>
          <a:stretch/>
        </p:blipFill>
        <p:spPr>
          <a:xfrm>
            <a:off x="0" y="0"/>
            <a:ext cx="52689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vents programme, September 23</a:t>
            </a:r>
            <a:r>
              <a:rPr b="1" lang="en-GB" sz="2000" spc="-1" strike="noStrike" baseline="30000">
                <a:solidFill>
                  <a:srgbClr val="005392"/>
                </a:solidFill>
                <a:latin typeface="Verdana"/>
              </a:rPr>
              <a:t>r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Introductory seminar for EU produce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Topic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ndian import regulations and procedur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ndian Food Safety and Standard Package and Labelling Regul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Structure and functioning of distribution channel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onsumer preferences and cultural sensitiviti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ase studies: How to approach the Indian market? by Ferrero India and Metro India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Matchmaking event with Indian buye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2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vents at Annapoorna World of Food fair, 24-26 Septembe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Venue: Bombay Exhibition centr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Target group: professional visitors (importers, distributors, retailers, 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Horeca buyers, chef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539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Press conference on Sept 24</a:t>
            </a:r>
            <a:r>
              <a:rPr b="0" lang="en-GB" sz="1600" spc="-1" strike="noStrike" baseline="30000">
                <a:solidFill>
                  <a:srgbClr val="005392"/>
                </a:solidFill>
                <a:latin typeface="Verdana"/>
              </a:rPr>
              <a:t>th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539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Daily product tastings, presentations and cooking shows at the stand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539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Seminars on wine, olive oil and EU quality schem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4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U pavilion:</a:t>
            </a:r>
            <a:br>
              <a:rPr sz="2000"/>
            </a:b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participants by member state and product grou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6" name="Picture 5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7" name=""/>
          <p:cNvGraphicFramePr/>
          <p:nvPr/>
        </p:nvGraphicFramePr>
        <p:xfrm>
          <a:off x="611280" y="2276640"/>
          <a:ext cx="2603520" cy="3582720"/>
        </p:xfrm>
        <a:graphic>
          <a:graphicData uri="http://schemas.openxmlformats.org/drawingml/2006/table">
            <a:tbl>
              <a:tblPr/>
              <a:tblGrid>
                <a:gridCol w="1511280"/>
                <a:gridCol w="1092240"/>
              </a:tblGrid>
              <a:tr h="34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° of participan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gium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lgar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at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o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rman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eland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hua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and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ug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ma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ove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16 MS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500720" y="2565360"/>
          <a:ext cx="2857320" cy="1832040"/>
        </p:xfrm>
        <a:graphic>
          <a:graphicData uri="http://schemas.openxmlformats.org/drawingml/2006/table">
            <a:tbl>
              <a:tblPr/>
              <a:tblGrid>
                <a:gridCol w="1763640"/>
                <a:gridCol w="1093680"/>
              </a:tblGrid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 Group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° of participan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and spiri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sh and processed F&amp;V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 produc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produc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ket of produc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U pavilion - participants lis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0" name="Picture 4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324000" y="2133720"/>
          <a:ext cx="8229600" cy="3747960"/>
        </p:xfrm>
        <a:graphic>
          <a:graphicData uri="http://schemas.openxmlformats.org/drawingml/2006/table">
            <a:tbl>
              <a:tblPr/>
              <a:tblGrid>
                <a:gridCol w="637920"/>
                <a:gridCol w="1656000"/>
                <a:gridCol w="1541160"/>
                <a:gridCol w="336600"/>
                <a:gridCol w="1105200"/>
                <a:gridCol w="1509480"/>
                <a:gridCol w="1443240"/>
              </a:tblGrid>
              <a:tr h="114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ny/Associatio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ny/Associatio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ian Wine Marketing Boar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simeno S.p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; PDO, PGI or TSG food products; 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4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gium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cobe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ZALE S.p.A.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es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44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lgar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AL A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carrying GI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hua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MBRA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vodk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at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Association of Istrian Cured Ham (Prosciutto) Producers+AZRRI- Agency for Rural Development of Istria Region</a:t>
                      </a:r>
                      <a:br>
                        <a:rPr sz="700"/>
                      </a:b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ed ham, Istrian autochthonous breeds' products, extra virgin olive oil  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an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ue Mountain Group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al fruit juic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gnie Médocaine des Grands Cru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an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TIMA Spółka z o.o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es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L'OLIVIER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O olive oil, infused olis, dressings, fruit vinegar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uga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tes de Cima, S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, Olive oil, Table oliv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UELL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sh or processed fruit and vegetabl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uga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OFORUM – CARMIM GROUP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, Olive olis, Table oliv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67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o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FOOD OU</a:t>
                      </a:r>
                      <a:endParaRPr b="1" lang="en-US" sz="5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 products (sour milk drink)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ma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rfatlar Romania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44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rman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ngut Fuch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ove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A ZAJC D.O.O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58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PROD-PANTELOPOULOS S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s, olive oi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EOESTEPA S.C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; PDO, PGI or TSG food products; 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olco Trading Ltd / Viannos Villag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; 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MINIO DE PUNCTUM S.L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and biodynamic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04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elan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ish Dairy Boar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 products (butter + cheese)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ofessional Organization of Table Olive (Olives from Spain)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3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ios sr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OCIACION DE PRODUCTORES EXPORTADORES DE FRUTAS,UVAS Y OTROS PRODUCTOS AGRARIO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sh&amp;processed fruits&amp;vegetabl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36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RI FRATELLI S.R.L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 - PDO + Organic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NISH FOOD&amp;DRINK INDUSTRY FEDERATIO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e range of Spanish products: olive oil, processed meat, wine, dairy products, canned food, sauces...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MECILOSEK Aleksandra (AGRI)</dc:creator>
  <dc:description/>
  <dc:language>en-US</dc:language>
  <cp:lastModifiedBy>BUTTINI-PROVENZANO Roberta (AGRI)</cp:lastModifiedBy>
  <cp:lastPrinted>2014-11-18T15:39:58Z</cp:lastPrinted>
  <dcterms:modified xsi:type="dcterms:W3CDTF">2014-11-18T15:40:30Z</dcterms:modified>
  <cp:revision>383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