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75BE-1359-4353-A1CF-F9DF17E0B19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madb.europa.eu/madb/indexPubli.htm"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ebgate.ec.europa.eu/smeip/"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Market Access Database</a:t>
            </a:r>
            <a:r>
              <a:rPr b="0" lang="en-GB" sz="1200" spc="-1" strike="noStrike">
                <a:solidFill>
                  <a:srgbClr val="000000"/>
                </a:solidFill>
                <a:latin typeface="Arial"/>
              </a:rPr>
              <a:t> contains detailed information on third country tariffs, import procedures, trade barriers, SPS issues, rules of origin, as well as trade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information on specific products, using product codes up to 6 dig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E842-BDCA-4B39-9219-0561C76D7A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SME portal on internationalization</a:t>
            </a:r>
            <a:r>
              <a:rPr b="0" lang="en-GB" sz="1200" spc="-1" strike="noStrike">
                <a:solidFill>
                  <a:srgbClr val="000000"/>
                </a:solidFill>
                <a:latin typeface="Arial"/>
              </a:rPr>
              <a:t> is a database of support services destined to EU SMEs and offered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te offers practical help for European companies seeking to do business </a:t>
            </a:r>
            <a:r>
              <a:rPr b="1" lang="en-GB" sz="1200" spc="-1" strike="noStrike">
                <a:solidFill>
                  <a:srgbClr val="000000"/>
                </a:solidFill>
                <a:latin typeface="Arial"/>
              </a:rPr>
              <a:t>outside the EU</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database</a:t>
            </a:r>
            <a:r>
              <a:rPr b="0" lang="en-GB" sz="1200" spc="-1" strike="noStrike">
                <a:solidFill>
                  <a:srgbClr val="000000"/>
                </a:solidFill>
                <a:latin typeface="Arial"/>
              </a:rPr>
              <a:t> of support services (e.g. local chambers of commerce) who can help you start doing business with the country you are targ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nks</a:t>
            </a:r>
            <a:r>
              <a:rPr b="0" lang="en-GB" sz="1200" spc="-1" strike="noStrike">
                <a:solidFill>
                  <a:srgbClr val="000000"/>
                </a:solidFill>
                <a:latin typeface="Arial"/>
              </a:rPr>
              <a:t> to other EU-backed sources of help/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services from specific EU MS to specific export destinations. Agriculture is one the three sectors for which specific services can b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BCBA-C2B8-4A49-9BB9-68E2309369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Enterprise Europe Network is a key instrument in the EU's strategy to boost growth and jobs. Bringing together close to 600 business support organisations from more than 50 countries, we help small companies seize the unparalleled business opportunities in the EU Singl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e more at: http://een.ec.europa.eu/about/about#sthash.b9PBUt1c.dpuf</a:t>
            </a:r>
            <a:endParaRPr b="0" lang="en-US" sz="1200" spc="-1" strike="noStrike">
              <a:solidFill>
                <a:srgbClr val="000000"/>
              </a:solidFill>
              <a:latin typeface="Arial"/>
            </a:endParaRPr>
          </a:p>
        </p:txBody>
      </p:sp>
      <p:sp>
        <p:nvSpPr>
          <p:cNvPr id="1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A419-B92D-42BA-9797-AE4A2EFFB4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ollaborate with the SME centers in the respectiv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830D-1367-4F77-8BF4-0525EA4883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9CCA9-83C3-4D90-90DD-0EACC8A73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4BA02-3376-4A6A-8083-3B6306AAE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5B582-D88F-4C42-BA92-4A0BA3772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F78E6-AFBD-46CD-ABA3-B9DD3192B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802AE-93D7-48E1-AB6F-D4340261C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74641-7CEA-4DF2-9CAF-D7E28F5E9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6154C-A0C7-411A-BF40-E1F3EF00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4C9C8-A724-41E2-B659-E99D58C8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341D9-B7C0-44C9-B1CB-3E1E7B1E6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BB66-3EF4-43D9-8D18-F2731D158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01D5D-7274-4477-BA6D-FE030CE97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92D0-7D0F-43A3-9C37-9D1C3609A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DACA-9A1B-45E5-A6D7-E487FB00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71B6-67CB-4702-BC92-252C81164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3B0BA-967E-4136-9873-4BCAEDDC9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1D06F-9511-48D8-B07E-4F100B0FA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A7521-BFDD-4312-9986-487A3BD23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C9ED0-27E0-48E1-895F-1222EFE0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54B4-B0D6-41AC-B50C-2115C0075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123CB-1787-4C5C-BF6E-A7FD659AB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5354-AEE6-421E-B2F6-897213D39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84E3-04DA-42E8-9360-1B39164D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3BB3-7918-4F66-992F-89F01D95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CF59-3C53-4944-A74E-FE7668FC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DA3E-266A-4861-9DF8-42475658C78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8AE9-0094-4C87-9F50-B7E8953373B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7417080" cy="790560"/>
          </a:xfrm>
          <a:prstGeom prst="rect">
            <a:avLst/>
          </a:prstGeom>
          <a:noFill/>
          <a:ln w="0">
            <a:noFill/>
          </a:ln>
        </p:spPr>
        <p:txBody>
          <a:bodyPr anchor="ctr">
            <a:noAutofit/>
          </a:bodyPr>
          <a:p>
            <a:pPr marL="32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Useful information for exporters</a:t>
            </a:r>
            <a:br>
              <a:rPr sz="7000"/>
            </a:br>
            <a:endParaRPr b="1" lang="en-US" sz="4000" spc="-1" strike="noStrike">
              <a:solidFill>
                <a:srgbClr val="0f5494"/>
              </a:solidFill>
              <a:latin typeface="Verdana"/>
            </a:endParaRPr>
          </a:p>
        </p:txBody>
      </p:sp>
      <p:sp>
        <p:nvSpPr>
          <p:cNvPr id="96" name="PlaceHolder 2"/>
          <p:cNvSpPr>
            <a:spLocks noGrp="1"/>
          </p:cNvSpPr>
          <p:nvPr>
            <p:ph type="subTitle"/>
          </p:nvPr>
        </p:nvSpPr>
        <p:spPr>
          <a:xfrm>
            <a:off x="468000" y="3573360"/>
            <a:ext cx="7559640" cy="172872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C.Europa.eu – Update</a:t>
            </a:r>
            <a:endParaRPr b="0" i="1" lang="en-US" sz="30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Louis Mahy</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Useful information for exporters</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xport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EU</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Other M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Information portals &amp; services by the E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First step – Agen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4" descr=""/>
          <p:cNvPicPr/>
          <p:nvPr/>
        </p:nvPicPr>
        <p:blipFill>
          <a:blip r:embed="rId1"/>
          <a:srcRect l="0" t="23855" r="0" b="5112"/>
          <a:stretch/>
        </p:blipFill>
        <p:spPr>
          <a:xfrm>
            <a:off x="0" y="1409760"/>
            <a:ext cx="9155160" cy="5448240"/>
          </a:xfrm>
          <a:prstGeom prst="rect">
            <a:avLst/>
          </a:prstGeom>
          <a:ln w="0">
            <a:noFill/>
          </a:ln>
        </p:spPr>
      </p:pic>
      <p:sp>
        <p:nvSpPr>
          <p:cNvPr id="101" name="Oval 1"/>
          <p:cNvSpPr/>
          <p:nvPr/>
        </p:nvSpPr>
        <p:spPr>
          <a:xfrm>
            <a:off x="6659640" y="4581360"/>
            <a:ext cx="2305080" cy="1079640"/>
          </a:xfrm>
          <a:prstGeom prst="ellipse">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 name="Oval 5"/>
          <p:cNvSpPr/>
          <p:nvPr/>
        </p:nvSpPr>
        <p:spPr>
          <a:xfrm>
            <a:off x="6908760" y="5130720"/>
            <a:ext cx="2067120" cy="91440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5" name="Picture 2"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2031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ME portal on internationalization</a:t>
            </a:r>
            <a:endParaRPr b="1" lang="en-US" sz="3000" spc="-1" strike="noStrike">
              <a:solidFill>
                <a:srgbClr val="0f5494"/>
              </a:solidFill>
              <a:latin typeface="Verdana"/>
            </a:endParaRPr>
          </a:p>
        </p:txBody>
      </p:sp>
      <p:sp>
        <p:nvSpPr>
          <p:cNvPr id="1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8" name="Picture 2" descr=""/>
          <p:cNvPicPr/>
          <p:nvPr/>
        </p:nvPicPr>
        <p:blipFill>
          <a:blip r:embed="rId1"/>
          <a:stretch/>
        </p:blipFill>
        <p:spPr>
          <a:xfrm>
            <a:off x="69840" y="2119320"/>
            <a:ext cx="907416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Enterprise Europe Network</a:t>
            </a:r>
            <a:endParaRPr b="1" lang="en-US" sz="3000" spc="-1" strike="noStrike">
              <a:solidFill>
                <a:srgbClr val="0f5494"/>
              </a:solidFill>
              <a:latin typeface="Verdana"/>
            </a:endParaRPr>
          </a:p>
        </p:txBody>
      </p:sp>
      <p:sp>
        <p:nvSpPr>
          <p:cNvPr id="110"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Targets small companies</a:t>
            </a:r>
            <a:endParaRPr b="0" i="1" lang="en-US" sz="2400" spc="-1" strike="noStrike">
              <a:solidFill>
                <a:srgbClr val="0f5494"/>
              </a:solidFill>
              <a:latin typeface="Verdana"/>
            </a:endParaRPr>
          </a:p>
          <a:p>
            <a:pPr marL="332640" indent="-3326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Bundles +600 service providers </a:t>
            </a:r>
            <a:endParaRPr b="0" i="1" lang="en-US" sz="24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echnology transfer</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cess to finance</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dvice on EU law and standard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tellectual Property Rights (IPR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peak up on EU law</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earch funding</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ing international</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IPR</a:t>
            </a:r>
            <a:endParaRPr b="1" lang="en-US" sz="3000" spc="-1" strike="noStrike">
              <a:solidFill>
                <a:srgbClr val="0f5494"/>
              </a:solidFill>
              <a:latin typeface="Verdana"/>
            </a:endParaRPr>
          </a:p>
        </p:txBody>
      </p:sp>
      <p:sp>
        <p:nvSpPr>
          <p:cNvPr id="11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U IPR Helpdesk</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PR SME helpdesk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hina</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ercosur </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other S-Am.)</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sean countries </a:t>
            </a:r>
            <a:r>
              <a:rPr b="1" lang="en-GB" sz="2000" spc="-1" strike="noStrike">
                <a:solidFill>
                  <a:srgbClr val="0f5494"/>
                </a:solidFill>
                <a:latin typeface="Verdana"/>
              </a:rPr>
              <a:t>	</a:t>
            </a:r>
            <a:r>
              <a:rPr b="1" lang="en-GB" sz="2000" spc="-1" strike="noStrike">
                <a:solidFill>
                  <a:srgbClr val="0f5494"/>
                </a:solidFill>
                <a:latin typeface="Verdana"/>
              </a:rPr>
              <a:t>(10)</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3" name="Picture 2" descr=""/>
          <p:cNvPicPr/>
          <p:nvPr/>
        </p:nvPicPr>
        <p:blipFill>
          <a:blip r:embed="rId1"/>
          <a:stretch/>
        </p:blipFill>
        <p:spPr>
          <a:xfrm>
            <a:off x="957240" y="2997360"/>
            <a:ext cx="7229520" cy="127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ther</a:t>
            </a:r>
            <a:endParaRPr b="1" lang="en-US" sz="3000" spc="-1" strike="noStrike">
              <a:solidFill>
                <a:srgbClr val="0f5494"/>
              </a:solidFill>
              <a:latin typeface="Verdana"/>
            </a:endParaRPr>
          </a:p>
        </p:txBody>
      </p:sp>
      <p:sp>
        <p:nvSpPr>
          <p:cNvPr id="115" name=""/>
          <p:cNvSpPr txBox="1"/>
          <p:nvPr/>
        </p:nvSpPr>
        <p:spPr>
          <a:xfrm>
            <a:off x="457200" y="1988640"/>
            <a:ext cx="8229600" cy="4032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usiness in Europ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Your Europ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ints of single contact</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C work on taxation and the customs union;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he European Small Business portal</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Outside Europe – country specific</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 centre for SME in China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Japan Centre for Industrial Cooperation</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Business and Technology Centre (EBTC), Ind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ASEAN Business Centre (EABC), Thailand</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lgn="ctr">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0f5494"/>
                </a:solidFill>
                <a:latin typeface="Verdana"/>
              </a:rPr>
              <a:t>Suggestions ?</a:t>
            </a:r>
            <a:endParaRPr b="0" i="1" lang="en-US" sz="3600" spc="-1" strike="noStrike">
              <a:solidFill>
                <a:srgbClr val="0f5494"/>
              </a:solidFill>
              <a:latin typeface="Verdana"/>
            </a:endParaRPr>
          </a:p>
        </p:txBody>
      </p:sp>
      <p:pic>
        <p:nvPicPr>
          <p:cNvPr id="118" name="Picture 2" descr="C:\Users\mahylou\Desktop\images.jpg"/>
          <p:cNvPicPr/>
          <p:nvPr/>
        </p:nvPicPr>
        <p:blipFill>
          <a:blip r:embed="rId1"/>
          <a:stretch/>
        </p:blipFill>
        <p:spPr>
          <a:xfrm>
            <a:off x="5292720" y="3860640"/>
            <a:ext cx="261000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0:04:21Z</dcterms:created>
  <dc:creator>MAHY Louis (AGRI-EXT)</dc:creator>
  <dc:description/>
  <dc:language>en-US</dc:language>
  <cp:lastModifiedBy>BUTTINI-PROVENZANO Roberta (AGRI)</cp:lastModifiedBy>
  <dcterms:modified xsi:type="dcterms:W3CDTF">2014-11-20T15:43:50Z</dcterms:modified>
  <cp:revision>5</cp:revision>
  <dc:subject/>
  <dc:title>Useful information for exporters</dc:title>
</cp:coreProperties>
</file>