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18A0-19CF-4F40-99B1-087D58045E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A la date limite du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16 juin 2014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, les Etats membres ont soumis aux services compétents de la Commission, unité AGRI B.5,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43 propositions de programme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d'information et de promotion des produits agricoles préalablement reçus et sélectionnés,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émanant de 20 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 from France, Greece and Italy + 6 multi MS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Total budget:    165.474.432 EUR          dont 82.933.195 EUR à cofinance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(50,12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es programmes concernent simultanément l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marché intérieur (29)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et les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Pays tiers (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7 "programmes simples"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donc présentés par des organisations proposantes issues d'un même Etat membre  +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 "programmes multis"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c’est-à-dire des propositions faites par des organisations proposantes issues de plusieurs Etat mem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uite à la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première phase d'évaluation 14 propositions ont été rejeté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à cause de défauts fondamentaux. Pour les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9 propositions restantes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l'unité B.5 a demandé aux Etats Membres de fournir 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'information supplémentaire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Deux des 29 propositions restantes ont encore été retiré par les organisations proposante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suite à l'envoie des demandes pour information supplémenta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ne proposition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slovène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après que l'état membre avait constaté finalement que l'organisation proposante ne représentait pas le secteur d'une façon suffis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ne organisation proposant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grecque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a décidé de retirer sa proposition après qu'elle avait reçu la lettre dans laquelle nos services demandaient de l'information supplémenta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Extra annex 3 with abandoned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6BF7-421A-4110-AB26-5594DBF8C5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A la suite des procédures d'évaluation susmentionnées,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7 programme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parmi les 43 sont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proposés au bénéfice de l'aide européenne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2,8%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of initially received proposals                   +                       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47,9%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of total budget of 43 initial propo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es programmes portent sur un budget total 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79.264.024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dont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9.939.318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à cofin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programmes ont une durée 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 ans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 an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Average budget: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.946.816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  ranging beween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47.172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(programme estonien)         and   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.451.464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(programme multi (IE, FR et UK) sur viande d'agneau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1/27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target th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Internal Market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+ 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/27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target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Third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Budget "Internal Market"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8.893.875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           (EU co-financement: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4.754.242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Budget "Third Countries"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10.370.148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            (EU co-financement: 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5.185.076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9/27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:     program is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imited to country of origin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of the proposing organisation      (BE, DE, EE, GR, 2xFR, IT, LV, 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44E6-59C2-42DA-B850-3C3D678805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Fresh F&amp;V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rograms                                    32% of total approve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Milk &amp; milk products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rograms                      12% of total approve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DO, PGI &amp; TSG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programs                            14% of total approve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39F9-CE05-4BF5-A5A2-ABAF32E980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7A0-1F59-4B52-9736-4C1011B3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745-6CB5-47EB-8A4F-0EE9BFFA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DA46F-D57F-4F55-8857-2E2CDD2D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C20DC-87A5-4189-B81E-10632254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6BD58-B2F7-4534-B30D-59CEBFD2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9E96E-26C0-42FE-A7DC-5B9423A7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B1EC4-1FD1-4128-8B3C-A4B6389F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43A67-EBF5-4922-AD19-FACC9536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AE589-5ABA-4FD9-AD22-62A370A9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5C70F-AA81-4B33-AE0B-BB9CF7C3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ED639-7355-48BE-9306-5F469EE0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12345-C76F-4D0A-B00D-87083C18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E2F-76FA-4A85-9907-59748C98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65D3F-EB2D-4C41-8720-68444000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5A329-90D9-41E0-8608-43D1DC2A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FC80E-1B70-4748-AC27-B596ECC5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AB00E-3FE0-475C-86E9-4AC10767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7EEA6-768D-40BE-B8E2-837D90A4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38011-6D0D-4949-9F9A-5D2570FF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875A2-AF7E-4583-8161-679B769A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9431F-1144-47B1-B43D-220F97EA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70187-ED09-4DDC-AFF5-1F13CA17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E1153-0113-4DEF-B73D-EE8FE7A9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4BF-FAD1-4C1D-A316-EEBC9C04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FE22B-2D5D-468A-A65F-A631A575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BFD93-4327-48A8-8AF5-F742DC4B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DC18A-C289-4ADE-8E9F-AC1CAEF9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19A19-D18D-4315-B0F7-193493D9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2E9C7-575F-4392-B171-810F2A07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FB1D5-28A2-4260-84B7-FE8B8EA7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00E9F-BC80-4E43-9E22-6FA217AC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498F3-D413-436E-A328-BC5CBBE6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9D5A1-8B89-4CC1-98BB-1B9DC07C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B4A1F-1A0A-4BC2-B0E8-87212AB4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412D-FAAF-4F6E-AEDF-99DE6BFB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8244B-51FA-4DE3-8069-E93A1F34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78E9D-3B30-464B-A469-BAAC28D8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D543C-24AE-40AD-BC72-31E997B2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32384-1971-4791-AA2F-F954B58E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FC56F-049D-4190-AC6F-971ECE04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99361-E5E2-4505-8C2C-48CCE1E9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EBDD5-E802-4DCD-886F-6CB83DDF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EBA85-6381-465B-A609-741E8D42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2C26E-54F6-4CF8-84D9-7970623F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9B0A4-06CB-41A1-9E85-2D436B72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148F-BD8D-44C8-BF84-E1C1181C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95A5F-8CD3-4EBB-BF98-D7FA90AF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B1844-3927-47F3-877F-B6EFD257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76D84-860B-46BD-8B31-C2192C1B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C8462-BB1D-487C-8184-78ADEC2F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C5FDB-CA1C-46B3-95AF-51CB62D7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6179-39C9-46ED-8A53-DD3C527F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145B-BEF9-4631-9292-69A35A6A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DE0A-43FB-416B-A945-160702F9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3BE5-A5BB-4D34-9CCF-9538262E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42ED-3BC1-4E0E-9957-5E4E75EB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31F-4EFF-447A-B48F-7531BFBA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1720-553F-4337-BED6-74AFA877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F837-323C-4751-9125-F1929110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5DD7-647E-4827-A9DB-7F4AE047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FBE4-2178-48B9-B531-E93EB336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F690-62F8-4ABF-A20F-E4E956FB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18A2-D738-4506-BD4D-950B104C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EE998-7072-4233-9D16-EBC90853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97CBD-D13B-459A-94EC-1C719456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36AFA-2376-4118-AE2B-0A5E5F73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75880-3E15-4FCE-BF01-B6836B7F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5C7-4F6B-48DE-9550-CBE0C93A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ADAF3-6D0A-4A85-9DE5-7515E525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74321-DD2E-41F4-BB5D-FCBB3CD9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60AF-707F-42F7-BD38-89678358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BDE75-2A1A-484F-9D96-446CC026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58E64-99A8-45F3-86C8-8A745DB0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B78AD-CEA4-45B5-A8C9-DF5DAB55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71724-783E-44C7-B248-A74EE226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43388-A059-4A95-B2F0-BB7E6B85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6D769-520E-49B5-9DED-76576CA7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66F12-624B-4887-A51B-28E762B5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B1C-0427-43E0-8592-21B1E349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CF8ED-B395-4552-8D51-1D3A631D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FA6BC-7CAA-40A0-B890-4867CB46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2A6E4-B02D-4E51-B736-029413FC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712C2-61CD-4F7C-9C3F-012C9F96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A53E-6D3F-4356-8A62-B998847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A2B4D-0ACD-461E-ACB6-B01BDEB6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6DFAC-61D9-451E-92ED-ADC027DE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8B0D7-CD44-4CBC-8658-4AABAC0C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3A9E9-9523-4C08-BED7-1E1E1689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5028D-C4C8-4B03-A930-CEC98CFC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46A-6EB6-4FAA-844F-424FED35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631DF-94EB-4907-9467-D6BAC613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318E7-5558-41CD-851B-F94BDFC0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EE758-8DE6-48AE-A4DF-506248EB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553C9-13A8-4EDE-A41F-4F9A51C8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F6FE0-FE89-47DE-8B8E-D98EDF9A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DB240-1151-4DFE-B919-747932D1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23E0A-C5A4-42AD-96F1-6968C91D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C8594-0537-44CA-B549-4D5831B8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0A37F-0A81-4C12-8D92-4592A7CF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474C5-7E9F-41DE-96A3-ECB0CD35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49E-FB04-45BE-A287-DF803473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40215-F522-494A-95C4-BFBBF382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7CA6E-0A6F-49E1-9EA9-283989C3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1D06E-78F6-4BA6-9AC3-6DE85B33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D6584-43E1-4D33-A74B-8044D1FC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C744F-96D1-4BB1-85C8-67068960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77332-AC59-4302-9E7D-5880C0DA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210A6-A79D-4BE8-86AA-4286CEAA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45943-8CF5-4EE5-8A35-462F221E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AC6C0-3A8A-42D6-A60A-83AEC6CC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234EE-83BA-427C-96D1-E0796602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EB4-4D42-402F-A6CD-22CE86FD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16132-E056-4706-B43C-D479147A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DABA4-877F-4B55-834F-934E2928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47317-F480-4C6C-9E4D-6981AAC4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8AF1F-91FF-4D0B-8FC4-B1D3AD71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BEB1E-45DC-4CB8-91B3-FCF29698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3ABE3-BF2B-475C-80F4-273E7589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0C287-C2B6-4274-BA75-30F124BA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6FAD4-2C04-4B5F-896A-65DA3043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9D260-1A89-4F14-BF55-B50999D9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61988-B775-45B7-8F70-C5465C7E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7E6-CD8B-43E7-9170-FA52E661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FF772-2807-4D53-A076-5A516346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F458A-14F2-440E-B2B7-DD39D457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E44B5-B49A-4982-9FA9-5E314B7C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8E06A-C3BE-411F-88A0-9D8E033F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906BB-F5A3-4703-A79A-2FA8E490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BD330-9A0A-4045-A2E1-39386B09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6E820-223A-41F9-A643-BB363910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60E5D-E1F9-43CA-BB61-E5081871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6A30B-38EB-422A-9EA1-8378B240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FD9D6-759E-4821-AC23-9C0990DE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8CC-AA32-4299-9C95-12452225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62143-5E94-4889-A60C-48C004FC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E504E-2302-417A-8180-8F276F26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8521A-ABE6-4B98-97C6-D14F63B3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D0D72-5393-4FCF-9A4D-08EED3DA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2B1FA-426B-479E-9892-AD15E322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6BE8F-9DDC-4C34-AFC8-DE79E911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A185C-E133-4530-8B64-40E6CBE6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F8796-4230-4D84-BABE-5A9F6D57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7BFF7-599C-408F-B915-4E8919BC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61770-1487-4824-9CFA-C9F9716B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5E06-8BC3-478F-B19E-64A09A6269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F3BF-D316-4432-AEE6-CC369C0461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53AA-40FA-4DEC-A849-3B42D1C597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99DF-5AE6-4522-8A1B-53AE8C5286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8E75-423D-4374-87CE-A7CE1F1F762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677D-919B-4DB0-A78B-FDFFCC9D51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1E3A-20DC-4878-8EA1-EFAD9F445B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FD28-8C34-4E3E-98D4-51CFD18B9A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D53B-70C8-4CB4-92CB-74AE59A2B4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12E8-CD2D-4951-82D4-55979D9D57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1351-E5E6-48F2-B394-B2EDD549A5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3B77-FF35-43AE-BCA2-B9E3C95E96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40360" y="1628280"/>
            <a:ext cx="46418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Opinion on the new promotion programmes (proposals sent to the Commission by 15 June 2014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0920" y="2924280"/>
            <a:ext cx="86421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5178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° Progr. Receiv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9" name="Content Placeholder 3" descr=""/>
          <p:cNvPicPr/>
          <p:nvPr/>
        </p:nvPicPr>
        <p:blipFill>
          <a:blip r:embed="rId1"/>
          <a:stretch/>
        </p:blipFill>
        <p:spPr>
          <a:xfrm>
            <a:off x="457200" y="2639880"/>
            <a:ext cx="8229600" cy="3382920"/>
          </a:xfrm>
          <a:prstGeom prst="rect">
            <a:avLst/>
          </a:prstGeom>
          <a:ln w="0">
            <a:noFill/>
          </a:ln>
        </p:spPr>
      </p:pic>
      <p:pic>
        <p:nvPicPr>
          <p:cNvPr id="510" name="Chart 5" descr=""/>
          <p:cNvPicPr/>
          <p:nvPr/>
        </p:nvPicPr>
        <p:blipFill>
          <a:blip r:embed="rId2"/>
          <a:stretch/>
        </p:blipFill>
        <p:spPr>
          <a:xfrm>
            <a:off x="1908000" y="2925720"/>
            <a:ext cx="55166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N° Progr. Approv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3" name="Chart 4" descr=""/>
          <p:cNvPicPr/>
          <p:nvPr/>
        </p:nvPicPr>
        <p:blipFill>
          <a:blip r:embed="rId1"/>
          <a:stretch/>
        </p:blipFill>
        <p:spPr>
          <a:xfrm>
            <a:off x="1908000" y="2346480"/>
            <a:ext cx="531036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oduct Approved Progr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5" name="Chart 3" descr=""/>
          <p:cNvPicPr/>
          <p:nvPr/>
        </p:nvPicPr>
        <p:blipFill>
          <a:blip r:embed="rId1"/>
          <a:stretch/>
        </p:blipFill>
        <p:spPr>
          <a:xfrm>
            <a:off x="1908000" y="2279520"/>
            <a:ext cx="4980240" cy="4176720"/>
          </a:xfrm>
          <a:prstGeom prst="rect">
            <a:avLst/>
          </a:prstGeom>
          <a:ln w="0">
            <a:noFill/>
          </a:ln>
        </p:spPr>
      </p:pic>
      <p:pic>
        <p:nvPicPr>
          <p:cNvPr id="516" name="Chart 4" descr=""/>
          <p:cNvPicPr/>
          <p:nvPr/>
        </p:nvPicPr>
        <p:blipFill>
          <a:blip r:embed="rId2"/>
          <a:stretch/>
        </p:blipFill>
        <p:spPr>
          <a:xfrm>
            <a:off x="1474920" y="2346480"/>
            <a:ext cx="61941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SERNEELS Michael (AGRI)</dc:creator>
  <dc:description/>
  <dc:language>en-US</dc:language>
  <cp:lastModifiedBy>BUTTINI-PROVENZANO Roberta (AGRI)</cp:lastModifiedBy>
  <cp:lastPrinted>2014-11-18T13:37:27Z</cp:lastPrinted>
  <dcterms:modified xsi:type="dcterms:W3CDTF">2014-11-18T13:38:29Z</dcterms:modified>
  <cp:revision>168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