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FD6-C880-4CD9-9340-D9A3700F0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81E-404C-4223-8A3D-A7F9C1C7DE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A2AF-8D1A-41AA-95E0-072716D21BD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482F-219E-4230-B9B8-EA464B8ED45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4B89-3CB6-4F80-B069-FE5AD2BC0D4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CF91-FB12-42E8-8B4D-A534AB5AB1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AE5-F707-4F39-B7E3-9350B7B923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A51-42BE-4D4B-A8BF-39304E7CFA6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B76-05B4-43D5-99EA-F37BC9CE5A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4B7-AAA4-4192-895E-F40B281C8B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934-07D8-4780-B1D3-352DDDDF772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C0F-6281-4E3F-9D33-8FB45AA73F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E93C-1B70-4627-9C18-08FC87C1B7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D25-72DC-4495-A551-CD6DE316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72C-B241-473B-A2EB-C430024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5C2-4D38-4FAD-BAE1-470AFBF8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70B-74BB-431F-9FAA-3E6F9E2D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D44B-43B7-4F8E-A9E1-52916AF5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524-C0F7-4529-A137-6DDD0E6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A15-778E-468E-B390-BC5F94FA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DF9-2C25-434B-8E48-276113E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25E-B499-4272-BFA6-555800B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E8D-F01B-45F0-A9B1-38B31070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A03-1C12-483B-8DFB-272D835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02C-3E78-4386-880B-5CDC58E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B1C5-A569-4712-99D8-81861E68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AF98-1F5F-4EA2-BDE7-3C97A02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C507-9676-401C-B252-DC6930A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25C7-9604-470C-8D4D-FAE3ED8E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F066-FFFA-4303-ABA2-95F37A61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D32E-7E66-4E99-8559-094D6110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302D-338C-4E6B-98AF-B10EFAD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B406-6A7F-4F6C-BF60-6E35A34A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968B-DBB7-427F-B3C8-FCB584CB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8729-1901-41F6-98BD-5B26EE98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A72-1663-408E-BFC1-F29D061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1A45-3C85-4169-9B51-BF56ECA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F53D-0BA9-4658-88AB-3CECFFE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F6D7-6823-46F1-A871-ECED7E8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CD6C-ABAD-4499-B639-E93F2B2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3BB4-263A-491F-8645-64A3ABD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C6C3-6F8D-45BA-808D-98DB5153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8A3C-C0B6-4803-B96B-9113B18A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3A32-BCD1-413B-9A0D-4C5542D2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02D2-6300-4A7A-BB35-77EBFC5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9B9A-9F8F-401C-96E7-D39B893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29C-948D-4009-A568-F9B076A5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EE1A-C0D2-44F5-B82A-167EF040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2D8A-9667-4C6A-8EE1-35A82DEF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0049-4F7A-4AEE-80DD-9907289C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5B7A-65FE-4EA7-82DE-D581559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079F-DCAC-42E8-8258-DACB28A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4A9B-33E3-4F78-A018-27FE722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68DA-D3ED-4B7C-9108-0E5D6C6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E252-5553-4BD7-B350-C978F8DA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51CC-A4C1-48F3-BBE8-C4DA8D9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E689-AE09-4875-BB75-D93770F4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FBD-CC60-45E5-97E8-B86EA85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44BC-4961-4D26-9AAE-A0ED871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3B3D-37D5-4FDA-A9EF-4C7A1A0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66837-32A6-4275-9643-3CE5497E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0A11-5755-4C5D-8B19-C89B8E3D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90C3-8285-4A3D-B442-C35C136C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B9FF-DC76-4CF2-AF9A-FE3577B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D848-8FB4-406B-B919-97BE1F9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47A1-8B4D-4D2E-A24B-B88991F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52A6-A293-4A38-A897-E3A4577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B1A2-C676-473D-B5A7-1A5820F1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C97-032D-4D7E-9D96-7CE1E6F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56E0-2D94-460F-BE17-4EDB9C90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9931-F7B1-4B40-8ECB-BEA4098F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139C-42DA-4E15-B92B-04933DF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E2B4-8BB0-4587-9BE8-60C67F5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D531-B16B-427D-971F-7A1576D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E39D-DDBD-4B4D-923D-2EA53F0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A034-4043-4D91-BBC9-5E459DB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3CEB-8F06-420B-AF0F-8CC3D94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9201-1110-4564-8D37-A6858E9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E3B7-8F67-4011-992B-64CAA6D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A55-7721-4F8B-BB88-B1FD46D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509D-1CD9-4844-9C1E-CB82CB6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BFE0-8F9A-4357-868F-B73056E1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F896-F88E-4EAC-8542-32BC26DC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1127-0698-4E7F-B110-D912EA97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DE64-27C5-42A5-9384-41EBBD5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E118-F7E8-44C0-AEAC-14D0915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D3F1C-686D-4AC2-AF6A-54CC98D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A383-41A0-492B-922E-0F1ED54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95C1-5770-4CB9-B8E3-F7355A8A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01BC-CC4E-46FD-A309-58A0A93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57E-5EC1-4D55-B58B-731DFF1F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D895-5323-4177-A68D-E398283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3D2F-8B59-4D5A-8364-BEB5B2C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06CF-D500-4FDF-B06F-C8CD76B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7631-86AF-4A6D-BE24-06235E69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5AF6-18A5-4A53-9B8F-BE9D8CBD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55F0-1D05-45C5-AD85-8D5B307C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120C1-A2BD-4421-BDAD-0307212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3AE1C-2421-44B5-8EF2-F0CDF2E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1B33-1829-48E8-AF9E-D9745F0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74BD-B264-40B5-977F-49F5168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9BF-898F-40C6-9EBC-E56FDE4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1FF8-9073-4A21-A755-7E9D21D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162A-A206-44BA-A030-49124FB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A40C-4A2F-4480-8CAE-686A184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1800-D5A2-47C7-AB6F-02992E5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91F8-126E-4E14-A856-27E6B0F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79DFF-CFE3-4559-8436-4DFA3A80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3BC47-71B7-4320-8860-150FE9BB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4A10-6A0F-4BF3-B9E0-5F4ACA93829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ECF-4D2D-425A-A43E-A3C29AFD924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A71-B5C3-470E-9230-F1821C7F21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DC0-5756-4D73-B395-A96E4A09A49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5A5-FAB7-4649-B84E-1542E281B5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39C3-1A05-409F-9C19-1810DDB55C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F925-4F56-4ECA-A57C-42436E3C06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0EC4-88DB-440B-A876-F5E49C7662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quality/index_e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716000" y="1700280"/>
            <a:ext cx="4248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implification of EU Quality Policy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211280" y="4508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21 November 2014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ffffff"/>
                </a:solidFill>
                <a:latin typeface="Verdana"/>
              </a:rPr>
              <a:t>Unit AGRI B.3: Quality polic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0" y="954000"/>
            <a:ext cx="4140360" cy="5931000"/>
            <a:chOff x="0" y="954000"/>
            <a:chExt cx="4140360" cy="5931000"/>
          </a:xfrm>
        </p:grpSpPr>
        <p:pic>
          <p:nvPicPr>
            <p:cNvPr id="371" name="Picture 4" descr=""/>
            <p:cNvPicPr/>
            <p:nvPr/>
          </p:nvPicPr>
          <p:blipFill>
            <a:blip r:embed="rId1"/>
            <a:srcRect l="0" t="0" r="1461" b="0"/>
            <a:stretch/>
          </p:blipFill>
          <p:spPr>
            <a:xfrm>
              <a:off x="1688760" y="954000"/>
              <a:ext cx="245160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5" descr=""/>
            <p:cNvPicPr/>
            <p:nvPr/>
          </p:nvPicPr>
          <p:blipFill>
            <a:blip r:embed="rId2"/>
            <a:stretch/>
          </p:blipFill>
          <p:spPr>
            <a:xfrm>
              <a:off x="1636200" y="3012480"/>
              <a:ext cx="250416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6" descr=""/>
            <p:cNvPicPr/>
            <p:nvPr/>
          </p:nvPicPr>
          <p:blipFill>
            <a:blip r:embed="rId3"/>
            <a:srcRect l="1134" t="4799" r="0" b="0"/>
            <a:stretch/>
          </p:blipFill>
          <p:spPr>
            <a:xfrm>
              <a:off x="7200" y="954000"/>
              <a:ext cx="2070000" cy="16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7" descr=""/>
            <p:cNvPicPr/>
            <p:nvPr/>
          </p:nvPicPr>
          <p:blipFill>
            <a:blip r:embed="rId4"/>
            <a:srcRect l="0" t="31512" r="517" b="33497"/>
            <a:stretch/>
          </p:blipFill>
          <p:spPr>
            <a:xfrm>
              <a:off x="0" y="5040360"/>
              <a:ext cx="41403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8" descr=""/>
            <p:cNvPicPr/>
            <p:nvPr/>
          </p:nvPicPr>
          <p:blipFill>
            <a:blip r:embed="rId5"/>
            <a:srcRect l="0" t="1768" r="0" b="0"/>
            <a:stretch/>
          </p:blipFill>
          <p:spPr>
            <a:xfrm>
              <a:off x="7200" y="2567880"/>
              <a:ext cx="1685880" cy="247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use of the Union quality symbol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24000" y="2133720"/>
          <a:ext cx="8567640" cy="461484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 3/1/2016: the indication PDO or PGI in words or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4/1/2016: 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The indication PDO or PGI may also appear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term PDO or PGI must appear (but exceptions)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vision in the Regulation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0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8C4-83E2-41CD-B0A7-E8FF3D4530A0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400" spc="-1" strike="noStrike">
                <a:solidFill>
                  <a:srgbClr val="42a62a"/>
                </a:solidFill>
                <a:latin typeface="Verdana"/>
              </a:rPr>
              <a:t>Previous impact assessment 2009/2010</a:t>
            </a:r>
            <a:endParaRPr b="1" lang="en-US" sz="24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Objectiv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clearer information on products characteristics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simpler and single approach at EU leve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sure uniform respect of Intellectual Property Rights (IPRs)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hance effectiveness, efficiency and consistency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Commission was encouraged to simplify, clarify and streamline the systems, and to enhance international recognition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91F-9D10-416F-AEAA-AF3C06E927A1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way forward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36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Objectives are still valid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uild on work done in the previous impact assessment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-launch consultation process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ember States, stakeholders, organisations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BFBA-A8EA-4592-9763-B83A773E57A7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aim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efine scope fo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implification of ru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rmonisation and streamlining of procedu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sidiar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CFF-5C83-432F-B252-E291207A4B23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iming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view the potential for further simplification withi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first twelve months of the Commission mandate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B12-51B3-467B-A7C9-3ADD973203FF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2a62a"/>
                </a:solidFill>
                <a:latin typeface="Verdana"/>
              </a:rPr>
              <a:t>Thank you for your attention and your contribution!</a:t>
            </a:r>
            <a:endParaRPr b="1" lang="en-US" sz="4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560" y="3789360"/>
            <a:ext cx="8582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re information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Quality policy web-page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agriculture/quality/index_en.htm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9526-8ADC-403B-BB5C-C88BE5C04598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7" name="Chart 4" descr=""/>
          <p:cNvPicPr/>
          <p:nvPr/>
        </p:nvPicPr>
        <p:blipFill>
          <a:blip r:embed="rId1"/>
          <a:stretch/>
        </p:blipFill>
        <p:spPr>
          <a:xfrm>
            <a:off x="992160" y="1865160"/>
            <a:ext cx="7302600" cy="40626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"/>
          <p:cNvSpPr/>
          <p:nvPr/>
        </p:nvSpPr>
        <p:spPr>
          <a:xfrm>
            <a:off x="611280" y="1197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  <a:ea typeface="Arial"/>
              </a:rPr>
              <a:t>3292 GIs by Type – November 2014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GI legislation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24000" y="2060640"/>
          <a:ext cx="8567640" cy="37926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1151/2012 on quality schemes for 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1308/2013 establishing a common organisation of the markets in agricultural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C) No 110/2008 on the definition, description, presentation, labelling and the protection of geographical indications of spirit drink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251/2014 on the definition, description, presentation, labelling and the protection of geographical indications of aromatized 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8DA0-6332-4D9A-8039-B698042D96D7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The basic concep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24000" y="2060640"/>
          <a:ext cx="8567640" cy="36828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 (and TSG and OQT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FAE6-AD5B-434B-8B60-A84136D79FC3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Scrutiny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the date of the submission of the applica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12 month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2B8-EDE1-4BAA-8C9B-2874946EB85D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Opposition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2060640"/>
          <a:ext cx="8567640" cy="44812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ce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3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ed statement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objec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0A2-7F94-4091-BF4B-E406F03D183F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Length of procedure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verage time for the registration procedure at EU level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etween 18 and 36 month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onger in case of opposition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eceded by the national registration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ime needed for registration  = time needed for approval of amendment of product specific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24C-2E39-40A7-81CE-F41465020868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Cancellation of a nam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 compliance or non-use over 7 year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t the request of the producers of the product to be cancelled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only for new GI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252-CEE2-4EB2-BB46-595029450338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Protection of GI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24000" y="2060640"/>
          <a:ext cx="8567640" cy="340992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No mention of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9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6BA-0AB7-41F8-8C21-A191A81C6A29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LOBEL Marion (AGRI)</dc:creator>
  <dc:description/>
  <dc:language>en-US</dc:language>
  <cp:lastModifiedBy>BUTTINI-PROVENZANO Roberta (AGRI)</cp:lastModifiedBy>
  <cp:lastPrinted>2014-11-20T09:07:55Z</cp:lastPrinted>
  <dcterms:modified xsi:type="dcterms:W3CDTF">2014-11-21T06:18:07Z</dcterms:modified>
  <cp:revision>45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