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09C2-C54A-4D86-886E-C50191E59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1DC-412F-4BC4-A48E-D3C129D77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F85-989B-4074-BC3A-24D9139E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7FC-AF29-415F-9511-9A7BB4C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320-8826-4AEE-9B0A-7938E290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85E-1482-4194-948A-19F7667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EC25-6DE1-4837-9A95-97BFD721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A4B-362B-42A0-B202-A6F5C172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9BBB-3CCA-4F80-B52C-8E2D5910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E5A-F380-4AC9-B417-6E3AD87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1511-FFA9-4EC6-ABBD-97C50E24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2A01-BC6C-4CAB-8F8B-997276BF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192-6F96-499E-B58C-EB1B70D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04A-CF6B-436A-A1B2-54088747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939-FD84-4274-BB33-FF105DF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F1AE-C283-497B-81A3-E01AD7D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7873-D2D5-49FD-8583-CEA10E0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484-514F-4ADD-AE6B-2DEDF9EE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952F-EEFE-4EA2-8002-66C6FB53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C7AC-EC9E-4844-B962-011E52FD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DAA8-57AF-46A4-8062-0DC1B950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356C-0272-4CCD-A4F8-830E45B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E340-B19A-483D-BDAA-916D4241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9040-1F07-4129-B6DC-C9765A7B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C3D-8BDD-4DA3-931A-232EBB8F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FFB4-0835-4681-A5B4-00A37254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F262-E451-4DBA-BB32-86ACFA5B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EA81-6A44-48EB-92D6-7336B4D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3DEB-A2AA-481E-B91B-91E19F5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2733-6774-4AFF-AA26-A1616D2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EE10-1A26-44F8-B979-AAA3556A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A2B1-4C2C-4E37-BDCB-6DF703F9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FD6-98C7-40EC-AC04-B9081C49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0F6-B9C2-42E7-BB09-168554E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068-C1C9-4826-A380-85860791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5ED-B738-4BB4-8134-A433E16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FA5-8ABE-4B29-ABD6-23E627DE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B95-C335-46C9-87C5-F74AC759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0C4-F2B4-4DAC-8FE1-D66C47A4D1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295-28F0-47E4-ABE1-9E383246884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85D-5F0D-4499-8241-C410BD91D6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de.ec.europa.eu/doclib/docs/2006/december/tradoc_118238.pdf" TargetMode="External"/><Relationship Id="rId2" Type="http://schemas.openxmlformats.org/officeDocument/2006/relationships/hyperlink" Target="http://trade.ec.europa.eu/doclib/docs/2006/december/tradoc_118238.pdf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btitle 2"/>
          <p:cNvSpPr/>
          <p:nvPr/>
        </p:nvSpPr>
        <p:spPr>
          <a:xfrm>
            <a:off x="611280" y="4941720"/>
            <a:ext cx="8389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iego Canga Fano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uropean Commission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culture and Rural Development – Director B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250920" y="2565360"/>
            <a:ext cx="87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Promoting alternative markets for EU agri-food exports 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ivil Dialogue Group Quality and Promotion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russels – 21 November 2014</a:t>
            </a:r>
            <a:br>
              <a:rPr sz="2000"/>
            </a:b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19080" y="1484280"/>
            <a:ext cx="9124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rade climate, retail sector, promotion aspects et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mark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900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ncouraging reaction from deleg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Availability for further suppor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ecific situation for countries and products to be kept in min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market access activities of key import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cope for cooperation among Member States, chambers of commerce, promotion agenc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xport markets – new opportunities?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(non-exhaustive list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ndonesia, Thailand, Vietna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Mexico, Colombia, Per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Morocco, Algeria, Tunisi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gypt, Saudi Arabia, Gulf Countri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Turkey, Ukraine, Uzbekist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outh Africa, Nigeria, Ethiop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rade agreements – state of play 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n-line overview:</a:t>
            </a:r>
            <a:br>
              <a:rPr sz="20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rade.ec.europa.eu/doclib/docs/2006/december/tradoc_118238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nformation by country:</a:t>
            </a:r>
            <a:br>
              <a:rPr sz="20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rade.ec.europa.eu/doclib/docs/2006/december/tradoc_118238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55556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Priority markets for SPS market access activitie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2349360"/>
          <a:ext cx="5399280" cy="4104000"/>
        </p:xfrm>
        <a:graphic>
          <a:graphicData uri="http://schemas.openxmlformats.org/drawingml/2006/table">
            <a:tbl>
              <a:tblPr/>
              <a:tblGrid>
                <a:gridCol w="1152720"/>
                <a:gridCol w="4246560"/>
              </a:tblGrid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ority count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ctor/produc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RAZI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dairy, bovin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N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pork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L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LOMBIA/PERU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poultry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D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poultry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DONES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uits and vegetables (port access)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XIC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URKE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poultry, dairy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A/CANADA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dairy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IETNAM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rade climate, retail sector, promotion aspects et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conomic prosp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Trade climate / EU position in the mark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Retail sector – availability and access to distribution chai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Promotion aspects: trade fairs, opportunities outside the capitals, possible constraint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ther comments: cooperation among chambers of commerce, role of Member States etc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ORDONNIER Vincent (AGRI)</dc:creator>
  <dc:description/>
  <dc:language>en-US</dc:language>
  <cp:lastModifiedBy>BUTTINI-PROVENZANO Roberta (AGRI)</cp:lastModifiedBy>
  <cp:lastPrinted>2014-11-19T14:25:38Z</cp:lastPrinted>
  <dcterms:modified xsi:type="dcterms:W3CDTF">2014-11-19T14:26:46Z</dcterms:modified>
  <cp:revision>294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